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FC0-199D-4C04-A851-2A7268DF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409-9557-4A50-BE61-D5EB0EB4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BDA-54DE-46D8-903F-A2D3A5ED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347-EAC9-4A97-ABDD-C62711DA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52B-3735-4F0C-9730-B7C0661F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D4D-7884-439E-BCAB-F10E922C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7B9-85E8-4EF6-9450-4CF2F623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2B4-39D2-43C6-9B2A-F69E21C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ECC-D3E0-43FB-8798-02F0BAF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EE8-33F4-4038-AA92-0D2F921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A57-CB2A-4993-981A-EA4A54E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4BB-A44D-491E-88DA-AD00BA7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28FA-B544-4EF1-B955-BD423D3341B0}" type="slidenum">
              <a:rPr b="0" lang="zh-CN" sz="1200" spc="-1" strike="noStrike">
                <a:solidFill>
                  <a:srgbClr val="898989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3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77" name="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78" name="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79" name="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81" name="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85" name="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Dotum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Dotum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dur="indefinite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5-01-06T15:1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