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1E7-FCD4-4B2E-8B83-80705846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65E-1D81-43BA-BD1B-62AF4AC3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820-CA2F-4954-B9DB-FA635D72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3C9-56E8-4B68-A748-C9DB6CAC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3726-857D-4A02-AD9F-7FF46321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0A17-26B7-4620-A099-B0DD72E3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3D6-99FC-43F2-82C8-F5A195C5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A2B9-8BAC-435E-8A2F-C11027B2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830-A6A0-4AC6-817B-4E34E258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1B2-9ED4-495E-A23E-E70B5AD1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802-E345-4F5D-BB4E-953F7B43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505-5073-43D4-96D1-E894C6E9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37F1-F789-4EA5-AFF5-51EDF77704C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F705-9722-44FD-AB7B-DEECA9ED14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玩转大学   </a:t>
            </a: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BST-WLZ</cp:lastModifiedBy>
  <dcterms:modified xsi:type="dcterms:W3CDTF">2015-05-14T06:25:45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