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C631-7DA9-470D-A235-DC533D7B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29F0-CC5A-4B0C-A1C7-5801FD56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9A2C-E76E-449D-9DA4-3C670890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F16-7D4F-4018-A2A0-E184AA13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AA3B-59D0-44B5-AEFD-A2ECD230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4420-6CCA-4606-8CB5-07CDF0FF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7715-05B1-4FBA-8954-DB427FF6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EA3-EBF7-4A40-901B-72D915A6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F0D-3193-49A2-A9AC-9E4D6169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DF1-F989-4E7D-A6AD-3A28121B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C11-82E2-447E-9193-FE01FC32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C6BF-A630-4359-B769-0FFD04CD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E2F9-5993-4892-BC9A-5AC85A1F08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000240" y="143352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286080" y="22147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514800" y="428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4000680" y="22147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5712120" y="5214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497920" y="342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211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6627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61408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926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283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711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497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99788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7736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071880" y="2071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4569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6783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997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24976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3711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22"/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4-06-23T07:56:29Z</dcterms:modified>
  <cp:revision>36</cp:revision>
  <dc:subject/>
  <dc:title>幻灯片 1</dc:title>
</cp:coreProperties>
</file>