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DED-570E-41A1-B8E0-DD715A82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F4B-DC8C-4ECA-91F7-B7BDDDA4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18C-2464-4031-AEA2-BBC8A754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081-2089-40D5-9D0E-12750763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40E-EECE-481A-823C-2899F26F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73F-78D1-4A4C-99B3-E67EA482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0FC-37CE-456F-98A2-69BD09A0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E41-4081-484E-940F-80A04356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30F-B4AE-4982-8E54-9A6EB8EA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31D-0ACC-4614-AFFC-2606948E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5FF-7C13-440C-97C4-B5E90775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E74-6903-445A-86F3-AB900BA2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62B1-B597-4850-8E26-9AB533A17B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286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514800" y="428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712120" y="521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49792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614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97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99788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071880" y="2071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497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711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4-06-23T07:56:29Z</dcterms:modified>
  <cp:revision>36</cp:revision>
  <dc:subject/>
  <dc:title>幻灯片 1</dc:title>
</cp:coreProperties>
</file>