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450-A37F-4416-9080-49D9FC48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213-1165-4436-8431-E09E126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1BC-991F-4610-9395-D94A4A10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BFE-AF99-4D83-BCFE-29436417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902D-D8B5-4041-BD9C-4D4DC917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F709-9336-40FE-9638-58AB5062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9E7F-2DD1-4844-9B04-B3417B18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E7D8-8142-4EB8-8C2A-F296BF65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5583-6142-4504-8B14-21345CB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6821-5ED4-4C74-AD96-545092E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ABE9-2957-404F-9F78-9E3948D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514-27F6-4C56-8FEF-1CA94701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ABB9-8A45-4DB4-8088-3DA3675C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D909-73C5-4261-ACAB-3005AE5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D52-5280-4FFA-962E-5714588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F614-9FF9-4A96-8E18-2905C9FD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2701-ED7B-4534-A048-67B1E94C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295-36AE-4737-A6B8-7477215A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A5A-E83B-4DE2-80DF-E8FDF34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52B-3F84-475F-B129-46A8476C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CAB-8C40-43DF-8020-189D016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A0D-7FF1-407B-A2D5-29F2F1D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B02-1E4A-41F1-8BB7-E17F7C8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D60-4B03-41A1-81DB-0FBD372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A94-1F79-47A4-AED2-30E8A75EEE4D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7C0-17B5-4D1D-A007-E1C826A1B787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adc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a1df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afe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ba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2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3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4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番茄花园</cp:lastModifiedBy>
  <dcterms:modified xsi:type="dcterms:W3CDTF">2011-08-20T04:20:39Z</dcterms:modified>
  <cp:revision>129</cp:revision>
  <dc:subject/>
  <dc:title>锐得PPT模板</dc:title>
</cp:coreProperties>
</file>