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CE8-578A-4059-8610-EA718045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948-3398-433D-A543-4BEA5F66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F9F-2EE5-4378-BD96-CCF92A12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5DA-BC47-4FA2-835E-4E2B0A65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EB5-A04C-42B1-B52B-E44F3D14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6796-A3D8-4F16-B5A5-5B993958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4B6-D009-4980-AC61-D240099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676-1AEB-4334-A01F-A9C3D5A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FB59-6DCE-4AE8-BB52-CE529C2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654D-661E-4C78-A91A-186429FD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C5AF-0CF5-41A4-98C6-E363C24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6A6-49B4-450D-AB99-52B37324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0B01-3FC1-43DB-A225-4731EB6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744F-6E61-42C1-948D-0E4A3F3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3A46-D05C-431B-B5E7-F05DA81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D066-5851-4E4D-A076-DF4BA055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BF17-2C66-48D4-8C77-47A94557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95F-8749-4E81-9DB7-0A5669F2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244-F3C5-4613-B86D-3A0DE21F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039-8F17-40AA-8F02-F4C2D9E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D54-B706-4A2B-A766-527FC90E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D7A-EC5E-4D95-AE0A-6603228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815-4AB6-4FC7-9983-02E55F1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A32-9650-4D47-B46C-EF18665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542E-6D1E-4AA8-8C29-66CBA0BA5A1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0317-7171-4DB9-8CAA-6F9269A356A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adc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a1df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afe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ba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2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3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4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番茄花园</cp:lastModifiedBy>
  <dcterms:modified xsi:type="dcterms:W3CDTF">2011-08-20T04:20:39Z</dcterms:modified>
  <cp:revision>129</cp:revision>
  <dc:subject/>
  <dc:title>锐得PPT模板</dc:title>
</cp:coreProperties>
</file>