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CD4-F351-4336-B0F3-E53E43A6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CA1-EA74-4466-A7E7-5AC0A656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FAE-4241-4252-B79A-1854DF8E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9CB-1B27-48E2-956A-CA0267E7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C06-0A19-41F3-B892-6924AF6D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476-2F57-4F28-94BE-5922765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433-05C7-41DF-88E8-E20890BE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79B-62BB-42A4-8463-BB5207E6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292-C97A-467C-A2E4-D86DF7B3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E98-1826-4B52-AEA4-834C21F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491-6691-46CF-89AA-1AC6DB2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857-1C06-46C6-99E0-EAFED9F2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63AB-A5B7-4857-A0E1-2349E87C97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563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达人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模板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6200" y="1821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3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4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03360" y="4883040"/>
            <a:ext cx="731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7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011320" y="1836720"/>
            <a:ext cx="33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202716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202716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7337520" y="183348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733752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733752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4520" y="52956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6960" y="4718160"/>
            <a:ext cx="6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"/>
          <p:cNvPicPr/>
          <p:nvPr/>
        </p:nvPicPr>
        <p:blipFill>
          <a:blip r:embed="rId2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3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4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8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1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4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7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25"/>
          <p:cNvSpPr/>
          <p:nvPr/>
        </p:nvSpPr>
        <p:spPr>
          <a:xfrm>
            <a:off x="94608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369252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34680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907560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8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2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7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3135240" y="1770120"/>
            <a:ext cx="7234200" cy="929520"/>
            <a:chOff x="3135240" y="1770120"/>
            <a:chExt cx="7234200" cy="929520"/>
          </a:xfrm>
        </p:grpSpPr>
        <p:sp>
          <p:nvSpPr>
            <p:cNvPr id="111" name="文本框 20"/>
            <p:cNvSpPr/>
            <p:nvPr/>
          </p:nvSpPr>
          <p:spPr>
            <a:xfrm>
              <a:off x="3337920" y="217944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3144960" y="4290840"/>
            <a:ext cx="7234200" cy="929520"/>
            <a:chOff x="3144960" y="4290840"/>
            <a:chExt cx="7234200" cy="929520"/>
          </a:xfrm>
        </p:grpSpPr>
        <p:sp>
          <p:nvSpPr>
            <p:cNvPr id="114" name="文本框 23"/>
            <p:cNvSpPr/>
            <p:nvPr/>
          </p:nvSpPr>
          <p:spPr>
            <a:xfrm>
              <a:off x="3347640" y="470016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1623960" y="4114800"/>
            <a:ext cx="2048040" cy="1107000"/>
            <a:chOff x="1623960" y="4114800"/>
            <a:chExt cx="2048040" cy="1107000"/>
          </a:xfrm>
        </p:grpSpPr>
        <p:sp>
          <p:nvSpPr>
            <p:cNvPr id="126" name="TextBox 11"/>
            <p:cNvSpPr/>
            <p:nvPr/>
          </p:nvSpPr>
          <p:spPr>
            <a:xfrm>
              <a:off x="1623960" y="448848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5067360" y="4106880"/>
            <a:ext cx="2047680" cy="1106640"/>
            <a:chOff x="5067360" y="4106880"/>
            <a:chExt cx="2047680" cy="1106640"/>
          </a:xfrm>
        </p:grpSpPr>
        <p:sp>
          <p:nvSpPr>
            <p:cNvPr id="129" name="TextBox 11"/>
            <p:cNvSpPr/>
            <p:nvPr/>
          </p:nvSpPr>
          <p:spPr>
            <a:xfrm>
              <a:off x="5067360" y="4480200"/>
              <a:ext cx="204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5"/>
          <p:cNvGrpSpPr/>
          <p:nvPr/>
        </p:nvGrpSpPr>
        <p:grpSpPr>
          <a:xfrm>
            <a:off x="8485200" y="4106880"/>
            <a:ext cx="2048040" cy="1106640"/>
            <a:chOff x="8485200" y="4106880"/>
            <a:chExt cx="2048040" cy="1106640"/>
          </a:xfrm>
        </p:grpSpPr>
        <p:sp>
          <p:nvSpPr>
            <p:cNvPr id="132" name="TextBox 11"/>
            <p:cNvSpPr/>
            <p:nvPr/>
          </p:nvSpPr>
          <p:spPr>
            <a:xfrm>
              <a:off x="8485200" y="448020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8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173520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50088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FCE5-1646-4566-A7B8-474B704A7290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8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1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4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7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3"/>
          <p:cNvGrpSpPr/>
          <p:nvPr/>
        </p:nvGrpSpPr>
        <p:grpSpPr>
          <a:xfrm>
            <a:off x="469800" y="3726000"/>
            <a:ext cx="2301840" cy="1059120"/>
            <a:chOff x="469800" y="3726000"/>
            <a:chExt cx="2301840" cy="1059120"/>
          </a:xfrm>
        </p:grpSpPr>
        <p:sp>
          <p:nvSpPr>
            <p:cNvPr id="170" name="TextBox 51"/>
            <p:cNvSpPr/>
            <p:nvPr/>
          </p:nvSpPr>
          <p:spPr>
            <a:xfrm>
              <a:off x="46980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6"/>
          <p:cNvGrpSpPr/>
          <p:nvPr/>
        </p:nvGrpSpPr>
        <p:grpSpPr>
          <a:xfrm>
            <a:off x="3498840" y="3726000"/>
            <a:ext cx="2301840" cy="1059120"/>
            <a:chOff x="3498840" y="3726000"/>
            <a:chExt cx="2301840" cy="1059120"/>
          </a:xfrm>
        </p:grpSpPr>
        <p:sp>
          <p:nvSpPr>
            <p:cNvPr id="173" name="TextBox 51"/>
            <p:cNvSpPr/>
            <p:nvPr/>
          </p:nvSpPr>
          <p:spPr>
            <a:xfrm>
              <a:off x="349884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6478560" y="3726000"/>
            <a:ext cx="2301840" cy="1059120"/>
            <a:chOff x="6478560" y="3726000"/>
            <a:chExt cx="2301840" cy="1059120"/>
          </a:xfrm>
        </p:grpSpPr>
        <p:sp>
          <p:nvSpPr>
            <p:cNvPr id="176" name="TextBox 51"/>
            <p:cNvSpPr/>
            <p:nvPr/>
          </p:nvSpPr>
          <p:spPr>
            <a:xfrm>
              <a:off x="647856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2"/>
          <p:cNvGrpSpPr/>
          <p:nvPr/>
        </p:nvGrpSpPr>
        <p:grpSpPr>
          <a:xfrm>
            <a:off x="9505800" y="3726000"/>
            <a:ext cx="2303640" cy="1059120"/>
            <a:chOff x="9505800" y="3726000"/>
            <a:chExt cx="2303640" cy="1059120"/>
          </a:xfrm>
        </p:grpSpPr>
        <p:sp>
          <p:nvSpPr>
            <p:cNvPr id="179" name="TextBox 51"/>
            <p:cNvSpPr/>
            <p:nvPr/>
          </p:nvSpPr>
          <p:spPr>
            <a:xfrm>
              <a:off x="9505800" y="405180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2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0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193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196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199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7:58:13Z</dcterms:created>
  <dc:creator>哎呀小小草</dc:creator>
  <dc:description/>
  <dc:language>en-US</dc:language>
  <cp:lastModifiedBy>Administrator</cp:lastModifiedBy>
  <dcterms:modified xsi:type="dcterms:W3CDTF">2016-08-02T07:58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