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8548-F24F-4609-A62F-8EB3087935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方正黄草简体，汉仪星宇体简（小诗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3D67-F6FC-494D-9AC5-4D36080085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3DF-B689-4D5C-93F5-0F358521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45B-06BE-4C98-80CB-31ED93B5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040-697C-424A-B9CB-A15D82D0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C80-8410-4B58-9D8A-0F20BEF7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DFA-BE27-4C6C-BEFD-066D450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623-C902-411B-A29D-454BDC0F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355-E777-4515-B8CF-678DF696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66D-7F66-4700-8D90-8306DB09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08B-37AB-4B37-ACB6-A35975A7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4AB-8D86-48E3-BCAC-89AF9D57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D5E-5E2C-4F7E-B782-38C233D3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CF4-3D0B-4ED9-9947-F8576DD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618B-8EF7-4814-B06C-D580955F56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2" descr=""/>
          <p:cNvPicPr/>
          <p:nvPr/>
        </p:nvPicPr>
        <p:blipFill>
          <a:blip r:embed="rId1"/>
          <a:srcRect l="4348" t="0" r="0" b="20988"/>
          <a:stretch/>
        </p:blipFill>
        <p:spPr>
          <a:xfrm>
            <a:off x="773280" y="2854440"/>
            <a:ext cx="529920" cy="22683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1" descr=""/>
          <p:cNvPicPr/>
          <p:nvPr/>
        </p:nvPicPr>
        <p:blipFill>
          <a:blip r:embed="rId2"/>
          <a:srcRect l="31541" t="12719" r="29766" b="25165"/>
          <a:stretch/>
        </p:blipFill>
        <p:spPr>
          <a:xfrm>
            <a:off x="1623960" y="2830680"/>
            <a:ext cx="1798560" cy="351756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" descr=""/>
          <p:cNvPicPr/>
          <p:nvPr/>
        </p:nvPicPr>
        <p:blipFill>
          <a:blip r:embed="rId3"/>
          <a:stretch/>
        </p:blipFill>
        <p:spPr>
          <a:xfrm>
            <a:off x="6670800" y="0"/>
            <a:ext cx="5521320" cy="590544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"/>
          <p:cNvPicPr/>
          <p:nvPr/>
        </p:nvPicPr>
        <p:blipFill>
          <a:blip r:embed="rId4"/>
          <a:stretch/>
        </p:blipFill>
        <p:spPr>
          <a:xfrm>
            <a:off x="2841480" y="4699080"/>
            <a:ext cx="1254240" cy="64764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7"/>
          <p:cNvSpPr/>
          <p:nvPr/>
        </p:nvSpPr>
        <p:spPr>
          <a:xfrm>
            <a:off x="935280" y="2922480"/>
            <a:ext cx="7902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筑于形    贵于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图片 8" descr=""/>
          <p:cNvPicPr/>
          <p:nvPr/>
        </p:nvPicPr>
        <p:blipFill>
          <a:blip r:embed="rId5"/>
          <a:stretch/>
        </p:blipFill>
        <p:spPr>
          <a:xfrm>
            <a:off x="1339920" y="4871880"/>
            <a:ext cx="326880" cy="33192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9"/>
          <p:cNvSpPr/>
          <p:nvPr/>
        </p:nvSpPr>
        <p:spPr>
          <a:xfrm>
            <a:off x="1321560" y="4913280"/>
            <a:ext cx="36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汉仪星宇体简"/>
                <a:ea typeface="汉仪星宇体简"/>
              </a:rPr>
              <a:t>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traight Connector 16"/>
          <p:cNvSpPr/>
          <p:nvPr/>
        </p:nvSpPr>
        <p:spPr>
          <a:xfrm flipH="1">
            <a:off x="3744720" y="297036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ounded Rectangle 17"/>
          <p:cNvSpPr/>
          <p:nvPr/>
        </p:nvSpPr>
        <p:spPr>
          <a:xfrm>
            <a:off x="4052880" y="251784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traight Connector 19"/>
          <p:cNvSpPr/>
          <p:nvPr/>
        </p:nvSpPr>
        <p:spPr>
          <a:xfrm flipH="1">
            <a:off x="3744720" y="449748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ounded Rectangle 20"/>
          <p:cNvSpPr/>
          <p:nvPr/>
        </p:nvSpPr>
        <p:spPr>
          <a:xfrm>
            <a:off x="4052880" y="4019400"/>
            <a:ext cx="2238480" cy="938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44"/>
          <p:cNvSpPr/>
          <p:nvPr/>
        </p:nvSpPr>
        <p:spPr>
          <a:xfrm>
            <a:off x="700200" y="2333520"/>
            <a:ext cx="1387440" cy="2743200"/>
          </a:xfrm>
          <a:custGeom>
            <a:avLst/>
            <a:gdLst/>
            <a:ahLst/>
            <a:rect l="l" t="t" r="r" b="b"/>
            <a:pathLst>
              <a:path w="2743466" h="1676548">
                <a:moveTo>
                  <a:pt x="1" y="1505756"/>
                </a:moveTo>
                <a:lnTo>
                  <a:pt x="1" y="170792"/>
                </a:lnTo>
                <a:cubicBezTo>
                  <a:pt x="1" y="76466"/>
                  <a:pt x="204757" y="0"/>
                  <a:pt x="457337" y="0"/>
                </a:cubicBezTo>
                <a:lnTo>
                  <a:pt x="2743465" y="0"/>
                </a:lnTo>
                <a:lnTo>
                  <a:pt x="2743465" y="1676548"/>
                </a:lnTo>
                <a:lnTo>
                  <a:pt x="457337" y="1676548"/>
                </a:lnTo>
                <a:cubicBezTo>
                  <a:pt x="204757" y="1676548"/>
                  <a:pt x="1" y="1600082"/>
                  <a:pt x="1" y="15057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234000" tIns="342000" bIns="34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45"/>
          <p:cNvSpPr/>
          <p:nvPr/>
        </p:nvSpPr>
        <p:spPr>
          <a:xfrm>
            <a:off x="2163600" y="2333520"/>
            <a:ext cx="1386000" cy="2743200"/>
          </a:xfrm>
          <a:custGeom>
            <a:avLst/>
            <a:gdLst/>
            <a:ahLst/>
            <a:rect l="l" t="t" r="r" b="b"/>
            <a:pathLst>
              <a:path w="2743466" h="1676548">
                <a:moveTo>
                  <a:pt x="2743466" y="170792"/>
                </a:moveTo>
                <a:lnTo>
                  <a:pt x="2743466" y="1505756"/>
                </a:lnTo>
                <a:cubicBezTo>
                  <a:pt x="2743466" y="1600082"/>
                  <a:pt x="2538709" y="1676548"/>
                  <a:pt x="2286129" y="1676548"/>
                </a:cubicBezTo>
                <a:lnTo>
                  <a:pt x="0" y="1676548"/>
                </a:lnTo>
                <a:lnTo>
                  <a:pt x="0" y="0"/>
                </a:lnTo>
                <a:lnTo>
                  <a:pt x="2286129" y="0"/>
                </a:lnTo>
                <a:cubicBezTo>
                  <a:pt x="2538709" y="0"/>
                  <a:pt x="2743466" y="76466"/>
                  <a:pt x="2743466" y="17079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7960" tIns="342000" bIns="34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Block Arc 46"/>
          <p:cNvSpPr/>
          <p:nvPr/>
        </p:nvSpPr>
        <p:spPr>
          <a:xfrm>
            <a:off x="1765440" y="2050920"/>
            <a:ext cx="718920" cy="540000"/>
          </a:xfrm>
          <a:custGeom>
            <a:avLst/>
            <a:gdLst/>
            <a:ahLst/>
            <a:rect l="l" t="t" r="r" b="b"/>
            <a:pathLst>
              <a:path w="719999" h="539991">
                <a:moveTo>
                  <a:pt x="0" y="269996"/>
                </a:moveTo>
                <a:cubicBezTo>
                  <a:pt x="0" y="120881"/>
                  <a:pt x="161177" y="0"/>
                  <a:pt x="360000" y="0"/>
                </a:cubicBezTo>
                <a:cubicBezTo>
                  <a:pt x="558823" y="0"/>
                  <a:pt x="720000" y="120881"/>
                  <a:pt x="720000" y="269996"/>
                </a:cubicBezTo>
                <a:lnTo>
                  <a:pt x="585001" y="269996"/>
                </a:lnTo>
                <a:cubicBezTo>
                  <a:pt x="585001" y="195439"/>
                  <a:pt x="484264" y="134998"/>
                  <a:pt x="359999" y="134998"/>
                </a:cubicBezTo>
                <a:cubicBezTo>
                  <a:pt x="235734" y="134998"/>
                  <a:pt x="134997" y="195439"/>
                  <a:pt x="134997" y="269996"/>
                </a:cubicBezTo>
                <a:lnTo>
                  <a:pt x="0" y="269996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Block Arc 47"/>
          <p:cNvSpPr/>
          <p:nvPr/>
        </p:nvSpPr>
        <p:spPr>
          <a:xfrm rot="10800000">
            <a:off x="1765080" y="4817880"/>
            <a:ext cx="718920" cy="541080"/>
          </a:xfrm>
          <a:custGeom>
            <a:avLst/>
            <a:gdLst/>
            <a:ahLst/>
            <a:rect l="l" t="t" r="r" b="b"/>
            <a:pathLst>
              <a:path w="719999" h="539991">
                <a:moveTo>
                  <a:pt x="0" y="269996"/>
                </a:moveTo>
                <a:cubicBezTo>
                  <a:pt x="0" y="120881"/>
                  <a:pt x="161177" y="0"/>
                  <a:pt x="360000" y="0"/>
                </a:cubicBezTo>
                <a:cubicBezTo>
                  <a:pt x="558823" y="0"/>
                  <a:pt x="720000" y="120881"/>
                  <a:pt x="720000" y="269996"/>
                </a:cubicBezTo>
                <a:lnTo>
                  <a:pt x="585001" y="269996"/>
                </a:lnTo>
                <a:cubicBezTo>
                  <a:pt x="585001" y="195439"/>
                  <a:pt x="484264" y="134998"/>
                  <a:pt x="359999" y="134998"/>
                </a:cubicBezTo>
                <a:cubicBezTo>
                  <a:pt x="235734" y="134998"/>
                  <a:pt x="134997" y="195439"/>
                  <a:pt x="134997" y="269996"/>
                </a:cubicBezTo>
                <a:lnTo>
                  <a:pt x="0" y="269996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traight Connector 55"/>
          <p:cNvSpPr/>
          <p:nvPr/>
        </p:nvSpPr>
        <p:spPr>
          <a:xfrm>
            <a:off x="1444680" y="482760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traight Connector 56"/>
          <p:cNvSpPr/>
          <p:nvPr/>
        </p:nvSpPr>
        <p:spPr>
          <a:xfrm>
            <a:off x="2403360" y="482760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traight Connector 68"/>
          <p:cNvSpPr/>
          <p:nvPr/>
        </p:nvSpPr>
        <p:spPr>
          <a:xfrm flipH="1">
            <a:off x="6313320" y="2965320"/>
            <a:ext cx="3081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Rounded Rectangle 69"/>
          <p:cNvSpPr/>
          <p:nvPr/>
        </p:nvSpPr>
        <p:spPr>
          <a:xfrm>
            <a:off x="6621480" y="251316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traight Connector 71"/>
          <p:cNvSpPr/>
          <p:nvPr/>
        </p:nvSpPr>
        <p:spPr>
          <a:xfrm flipH="1">
            <a:off x="6313320" y="4494240"/>
            <a:ext cx="3081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ounded Rectangle 72"/>
          <p:cNvSpPr/>
          <p:nvPr/>
        </p:nvSpPr>
        <p:spPr>
          <a:xfrm>
            <a:off x="6621480" y="401472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traight Connector 78"/>
          <p:cNvSpPr/>
          <p:nvPr/>
        </p:nvSpPr>
        <p:spPr>
          <a:xfrm flipH="1">
            <a:off x="8859600" y="296532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ounded Rectangle 79"/>
          <p:cNvSpPr/>
          <p:nvPr/>
        </p:nvSpPr>
        <p:spPr>
          <a:xfrm>
            <a:off x="9167760" y="2513160"/>
            <a:ext cx="223992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81"/>
          <p:cNvSpPr/>
          <p:nvPr/>
        </p:nvSpPr>
        <p:spPr>
          <a:xfrm flipH="1">
            <a:off x="8859600" y="449424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ounded Rectangle 82"/>
          <p:cNvSpPr/>
          <p:nvPr/>
        </p:nvSpPr>
        <p:spPr>
          <a:xfrm>
            <a:off x="9167760" y="4014720"/>
            <a:ext cx="223992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36"/>
          <p:cNvSpPr/>
          <p:nvPr/>
        </p:nvSpPr>
        <p:spPr>
          <a:xfrm>
            <a:off x="9307440" y="2892600"/>
            <a:ext cx="411120" cy="230040"/>
          </a:xfrm>
          <a:custGeom>
            <a:avLst/>
            <a:gdLst/>
            <a:ahLst/>
            <a:rect l="l" t="t" r="r" b="b"/>
            <a:pathLst>
              <a:path w="400" h="224">
                <a:moveTo>
                  <a:pt x="200" y="0"/>
                </a:moveTo>
                <a:cubicBezTo>
                  <a:pt x="69" y="0"/>
                  <a:pt x="0" y="97"/>
                  <a:pt x="0" y="112"/>
                </a:cubicBezTo>
                <a:cubicBezTo>
                  <a:pt x="0" y="127"/>
                  <a:pt x="69" y="224"/>
                  <a:pt x="200" y="224"/>
                </a:cubicBezTo>
                <a:cubicBezTo>
                  <a:pt x="331" y="224"/>
                  <a:pt x="400" y="127"/>
                  <a:pt x="400" y="112"/>
                </a:cubicBezTo>
                <a:cubicBezTo>
                  <a:pt x="400" y="97"/>
                  <a:pt x="331" y="0"/>
                  <a:pt x="200" y="0"/>
                </a:cubicBezTo>
                <a:close/>
                <a:moveTo>
                  <a:pt x="200" y="198"/>
                </a:moveTo>
                <a:cubicBezTo>
                  <a:pt x="151" y="198"/>
                  <a:pt x="111" y="159"/>
                  <a:pt x="111" y="112"/>
                </a:cubicBezTo>
                <a:cubicBezTo>
                  <a:pt x="111" y="64"/>
                  <a:pt x="151" y="26"/>
                  <a:pt x="200" y="26"/>
                </a:cubicBezTo>
                <a:cubicBezTo>
                  <a:pt x="249" y="26"/>
                  <a:pt x="289" y="64"/>
                  <a:pt x="289" y="112"/>
                </a:cubicBezTo>
                <a:cubicBezTo>
                  <a:pt x="289" y="159"/>
                  <a:pt x="249" y="198"/>
                  <a:pt x="200" y="198"/>
                </a:cubicBezTo>
                <a:close/>
                <a:moveTo>
                  <a:pt x="200" y="112"/>
                </a:moveTo>
                <a:cubicBezTo>
                  <a:pt x="192" y="103"/>
                  <a:pt x="213" y="69"/>
                  <a:pt x="200" y="69"/>
                </a:cubicBezTo>
                <a:cubicBezTo>
                  <a:pt x="175" y="69"/>
                  <a:pt x="155" y="88"/>
                  <a:pt x="155" y="112"/>
                </a:cubicBezTo>
                <a:cubicBezTo>
                  <a:pt x="155" y="136"/>
                  <a:pt x="175" y="155"/>
                  <a:pt x="200" y="155"/>
                </a:cubicBezTo>
                <a:cubicBezTo>
                  <a:pt x="224" y="155"/>
                  <a:pt x="244" y="136"/>
                  <a:pt x="244" y="112"/>
                </a:cubicBezTo>
                <a:cubicBezTo>
                  <a:pt x="244" y="101"/>
                  <a:pt x="207" y="119"/>
                  <a:pt x="200" y="112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6"/>
          <p:cNvSpPr/>
          <p:nvPr/>
        </p:nvSpPr>
        <p:spPr>
          <a:xfrm>
            <a:off x="4313160" y="2852640"/>
            <a:ext cx="343080" cy="301680"/>
          </a:xfrm>
          <a:custGeom>
            <a:avLst/>
            <a:gdLst/>
            <a:ahLst/>
            <a:rect l="l" t="t" r="r" b="b"/>
            <a:pathLst>
              <a:path w="400" h="352">
                <a:moveTo>
                  <a:pt x="400" y="352"/>
                </a:moveTo>
                <a:cubicBezTo>
                  <a:pt x="400" y="352"/>
                  <a:pt x="399" y="276"/>
                  <a:pt x="394" y="268"/>
                </a:cubicBezTo>
                <a:cubicBezTo>
                  <a:pt x="387" y="257"/>
                  <a:pt x="371" y="249"/>
                  <a:pt x="342" y="236"/>
                </a:cubicBezTo>
                <a:cubicBezTo>
                  <a:pt x="312" y="224"/>
                  <a:pt x="303" y="213"/>
                  <a:pt x="303" y="191"/>
                </a:cubicBezTo>
                <a:cubicBezTo>
                  <a:pt x="303" y="177"/>
                  <a:pt x="312" y="182"/>
                  <a:pt x="316" y="157"/>
                </a:cubicBezTo>
                <a:cubicBezTo>
                  <a:pt x="317" y="147"/>
                  <a:pt x="325" y="157"/>
                  <a:pt x="327" y="134"/>
                </a:cubicBezTo>
                <a:cubicBezTo>
                  <a:pt x="327" y="124"/>
                  <a:pt x="322" y="122"/>
                  <a:pt x="322" y="122"/>
                </a:cubicBezTo>
                <a:cubicBezTo>
                  <a:pt x="322" y="122"/>
                  <a:pt x="325" y="108"/>
                  <a:pt x="325" y="98"/>
                </a:cubicBezTo>
                <a:cubicBezTo>
                  <a:pt x="327" y="85"/>
                  <a:pt x="319" y="51"/>
                  <a:pt x="278" y="51"/>
                </a:cubicBezTo>
                <a:cubicBezTo>
                  <a:pt x="236" y="51"/>
                  <a:pt x="229" y="85"/>
                  <a:pt x="230" y="98"/>
                </a:cubicBezTo>
                <a:cubicBezTo>
                  <a:pt x="231" y="108"/>
                  <a:pt x="233" y="122"/>
                  <a:pt x="233" y="122"/>
                </a:cubicBezTo>
                <a:cubicBezTo>
                  <a:pt x="233" y="122"/>
                  <a:pt x="229" y="124"/>
                  <a:pt x="229" y="134"/>
                </a:cubicBezTo>
                <a:cubicBezTo>
                  <a:pt x="230" y="157"/>
                  <a:pt x="238" y="147"/>
                  <a:pt x="240" y="157"/>
                </a:cubicBezTo>
                <a:cubicBezTo>
                  <a:pt x="244" y="182"/>
                  <a:pt x="253" y="177"/>
                  <a:pt x="253" y="191"/>
                </a:cubicBezTo>
                <a:cubicBezTo>
                  <a:pt x="253" y="206"/>
                  <a:pt x="248" y="216"/>
                  <a:pt x="236" y="224"/>
                </a:cubicBezTo>
                <a:cubicBezTo>
                  <a:pt x="301" y="257"/>
                  <a:pt x="310" y="263"/>
                  <a:pt x="310" y="292"/>
                </a:cubicBezTo>
                <a:cubicBezTo>
                  <a:pt x="310" y="352"/>
                  <a:pt x="310" y="352"/>
                  <a:pt x="310" y="352"/>
                </a:cubicBezTo>
                <a:lnTo>
                  <a:pt x="400" y="352"/>
                </a:lnTo>
                <a:close/>
                <a:moveTo>
                  <a:pt x="204" y="247"/>
                </a:moveTo>
                <a:cubicBezTo>
                  <a:pt x="165" y="231"/>
                  <a:pt x="152" y="217"/>
                  <a:pt x="152" y="187"/>
                </a:cubicBezTo>
                <a:cubicBezTo>
                  <a:pt x="152" y="169"/>
                  <a:pt x="164" y="175"/>
                  <a:pt x="169" y="142"/>
                </a:cubicBezTo>
                <a:cubicBezTo>
                  <a:pt x="172" y="129"/>
                  <a:pt x="182" y="142"/>
                  <a:pt x="184" y="111"/>
                </a:cubicBezTo>
                <a:cubicBezTo>
                  <a:pt x="184" y="98"/>
                  <a:pt x="179" y="95"/>
                  <a:pt x="179" y="95"/>
                </a:cubicBezTo>
                <a:cubicBezTo>
                  <a:pt x="179" y="95"/>
                  <a:pt x="181" y="77"/>
                  <a:pt x="183" y="63"/>
                </a:cubicBezTo>
                <a:cubicBezTo>
                  <a:pt x="184" y="45"/>
                  <a:pt x="174" y="0"/>
                  <a:pt x="119" y="0"/>
                </a:cubicBezTo>
                <a:cubicBezTo>
                  <a:pt x="64" y="0"/>
                  <a:pt x="54" y="45"/>
                  <a:pt x="55" y="63"/>
                </a:cubicBezTo>
                <a:cubicBezTo>
                  <a:pt x="56" y="77"/>
                  <a:pt x="59" y="95"/>
                  <a:pt x="59" y="95"/>
                </a:cubicBezTo>
                <a:cubicBezTo>
                  <a:pt x="59" y="95"/>
                  <a:pt x="53" y="98"/>
                  <a:pt x="53" y="111"/>
                </a:cubicBezTo>
                <a:cubicBezTo>
                  <a:pt x="55" y="142"/>
                  <a:pt x="66" y="129"/>
                  <a:pt x="68" y="142"/>
                </a:cubicBezTo>
                <a:cubicBezTo>
                  <a:pt x="74" y="175"/>
                  <a:pt x="86" y="169"/>
                  <a:pt x="86" y="187"/>
                </a:cubicBezTo>
                <a:cubicBezTo>
                  <a:pt x="86" y="217"/>
                  <a:pt x="73" y="231"/>
                  <a:pt x="33" y="247"/>
                </a:cubicBezTo>
                <a:cubicBezTo>
                  <a:pt x="21" y="252"/>
                  <a:pt x="0" y="260"/>
                  <a:pt x="0" y="279"/>
                </a:cubicBezTo>
                <a:cubicBezTo>
                  <a:pt x="0" y="352"/>
                  <a:pt x="0" y="352"/>
                  <a:pt x="0" y="352"/>
                </a:cubicBezTo>
                <a:cubicBezTo>
                  <a:pt x="278" y="352"/>
                  <a:pt x="278" y="352"/>
                  <a:pt x="278" y="352"/>
                </a:cubicBezTo>
                <a:cubicBezTo>
                  <a:pt x="278" y="352"/>
                  <a:pt x="278" y="309"/>
                  <a:pt x="278" y="297"/>
                </a:cubicBezTo>
                <a:cubicBezTo>
                  <a:pt x="278" y="280"/>
                  <a:pt x="244" y="264"/>
                  <a:pt x="204" y="247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6"/>
          <p:cNvSpPr/>
          <p:nvPr/>
        </p:nvSpPr>
        <p:spPr>
          <a:xfrm>
            <a:off x="6802560" y="2822400"/>
            <a:ext cx="342720" cy="304920"/>
          </a:xfrm>
          <a:custGeom>
            <a:avLst/>
            <a:gdLst/>
            <a:ahLst/>
            <a:rect l="l" t="t" r="r" b="b"/>
            <a:pathLst>
              <a:path w="401" h="357">
                <a:moveTo>
                  <a:pt x="62" y="116"/>
                </a:moveTo>
                <a:cubicBezTo>
                  <a:pt x="81" y="101"/>
                  <a:pt x="97" y="111"/>
                  <a:pt x="117" y="135"/>
                </a:cubicBezTo>
                <a:cubicBezTo>
                  <a:pt x="120" y="138"/>
                  <a:pt x="123" y="135"/>
                  <a:pt x="124" y="133"/>
                </a:cubicBezTo>
                <a:cubicBezTo>
                  <a:pt x="126" y="132"/>
                  <a:pt x="154" y="107"/>
                  <a:pt x="155" y="106"/>
                </a:cubicBezTo>
                <a:cubicBezTo>
                  <a:pt x="156" y="105"/>
                  <a:pt x="158" y="102"/>
                  <a:pt x="156" y="100"/>
                </a:cubicBezTo>
                <a:cubicBezTo>
                  <a:pt x="154" y="98"/>
                  <a:pt x="146" y="88"/>
                  <a:pt x="141" y="81"/>
                </a:cubicBezTo>
                <a:cubicBezTo>
                  <a:pt x="105" y="34"/>
                  <a:pt x="240" y="2"/>
                  <a:pt x="219" y="1"/>
                </a:cubicBezTo>
                <a:cubicBezTo>
                  <a:pt x="208" y="1"/>
                  <a:pt x="166" y="0"/>
                  <a:pt x="160" y="1"/>
                </a:cubicBezTo>
                <a:cubicBezTo>
                  <a:pt x="134" y="4"/>
                  <a:pt x="102" y="28"/>
                  <a:pt x="86" y="39"/>
                </a:cubicBezTo>
                <a:cubicBezTo>
                  <a:pt x="64" y="53"/>
                  <a:pt x="57" y="62"/>
                  <a:pt x="55" y="63"/>
                </a:cubicBezTo>
                <a:cubicBezTo>
                  <a:pt x="49" y="68"/>
                  <a:pt x="54" y="80"/>
                  <a:pt x="43" y="90"/>
                </a:cubicBezTo>
                <a:cubicBezTo>
                  <a:pt x="32" y="100"/>
                  <a:pt x="25" y="92"/>
                  <a:pt x="18" y="98"/>
                </a:cubicBezTo>
                <a:cubicBezTo>
                  <a:pt x="15" y="101"/>
                  <a:pt x="5" y="108"/>
                  <a:pt x="3" y="110"/>
                </a:cubicBezTo>
                <a:cubicBezTo>
                  <a:pt x="0" y="113"/>
                  <a:pt x="0" y="117"/>
                  <a:pt x="2" y="120"/>
                </a:cubicBezTo>
                <a:cubicBezTo>
                  <a:pt x="2" y="120"/>
                  <a:pt x="28" y="148"/>
                  <a:pt x="30" y="150"/>
                </a:cubicBezTo>
                <a:cubicBezTo>
                  <a:pt x="32" y="153"/>
                  <a:pt x="38" y="155"/>
                  <a:pt x="41" y="152"/>
                </a:cubicBezTo>
                <a:cubicBezTo>
                  <a:pt x="45" y="149"/>
                  <a:pt x="54" y="141"/>
                  <a:pt x="55" y="139"/>
                </a:cubicBezTo>
                <a:cubicBezTo>
                  <a:pt x="57" y="138"/>
                  <a:pt x="54" y="122"/>
                  <a:pt x="62" y="116"/>
                </a:cubicBezTo>
                <a:close/>
                <a:moveTo>
                  <a:pt x="177" y="126"/>
                </a:moveTo>
                <a:cubicBezTo>
                  <a:pt x="174" y="123"/>
                  <a:pt x="171" y="123"/>
                  <a:pt x="169" y="125"/>
                </a:cubicBezTo>
                <a:cubicBezTo>
                  <a:pt x="140" y="150"/>
                  <a:pt x="140" y="150"/>
                  <a:pt x="140" y="150"/>
                </a:cubicBezTo>
                <a:cubicBezTo>
                  <a:pt x="138" y="152"/>
                  <a:pt x="137" y="156"/>
                  <a:pt x="139" y="158"/>
                </a:cubicBezTo>
                <a:cubicBezTo>
                  <a:pt x="305" y="347"/>
                  <a:pt x="305" y="347"/>
                  <a:pt x="305" y="347"/>
                </a:cubicBezTo>
                <a:cubicBezTo>
                  <a:pt x="309" y="352"/>
                  <a:pt x="316" y="352"/>
                  <a:pt x="320" y="348"/>
                </a:cubicBezTo>
                <a:cubicBezTo>
                  <a:pt x="340" y="332"/>
                  <a:pt x="340" y="332"/>
                  <a:pt x="340" y="332"/>
                </a:cubicBezTo>
                <a:cubicBezTo>
                  <a:pt x="344" y="328"/>
                  <a:pt x="345" y="321"/>
                  <a:pt x="341" y="317"/>
                </a:cubicBezTo>
                <a:lnTo>
                  <a:pt x="177" y="126"/>
                </a:lnTo>
                <a:close/>
                <a:moveTo>
                  <a:pt x="398" y="46"/>
                </a:moveTo>
                <a:cubicBezTo>
                  <a:pt x="396" y="36"/>
                  <a:pt x="391" y="38"/>
                  <a:pt x="389" y="42"/>
                </a:cubicBezTo>
                <a:cubicBezTo>
                  <a:pt x="386" y="46"/>
                  <a:pt x="374" y="64"/>
                  <a:pt x="369" y="72"/>
                </a:cubicBezTo>
                <a:cubicBezTo>
                  <a:pt x="364" y="80"/>
                  <a:pt x="353" y="96"/>
                  <a:pt x="331" y="80"/>
                </a:cubicBezTo>
                <a:cubicBezTo>
                  <a:pt x="308" y="64"/>
                  <a:pt x="316" y="53"/>
                  <a:pt x="320" y="45"/>
                </a:cubicBezTo>
                <a:cubicBezTo>
                  <a:pt x="324" y="38"/>
                  <a:pt x="336" y="16"/>
                  <a:pt x="338" y="13"/>
                </a:cubicBezTo>
                <a:cubicBezTo>
                  <a:pt x="340" y="11"/>
                  <a:pt x="338" y="3"/>
                  <a:pt x="330" y="6"/>
                </a:cubicBezTo>
                <a:cubicBezTo>
                  <a:pt x="323" y="9"/>
                  <a:pt x="280" y="27"/>
                  <a:pt x="274" y="51"/>
                </a:cubicBezTo>
                <a:cubicBezTo>
                  <a:pt x="268" y="76"/>
                  <a:pt x="279" y="99"/>
                  <a:pt x="257" y="121"/>
                </a:cubicBezTo>
                <a:cubicBezTo>
                  <a:pt x="230" y="149"/>
                  <a:pt x="230" y="149"/>
                  <a:pt x="230" y="149"/>
                </a:cubicBezTo>
                <a:cubicBezTo>
                  <a:pt x="257" y="181"/>
                  <a:pt x="257" y="181"/>
                  <a:pt x="257" y="181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98" y="141"/>
                  <a:pt x="315" y="134"/>
                  <a:pt x="330" y="137"/>
                </a:cubicBezTo>
                <a:cubicBezTo>
                  <a:pt x="363" y="144"/>
                  <a:pt x="381" y="132"/>
                  <a:pt x="391" y="112"/>
                </a:cubicBezTo>
                <a:cubicBezTo>
                  <a:pt x="401" y="94"/>
                  <a:pt x="399" y="56"/>
                  <a:pt x="398" y="46"/>
                </a:cubicBezTo>
                <a:close/>
                <a:moveTo>
                  <a:pt x="55" y="319"/>
                </a:moveTo>
                <a:cubicBezTo>
                  <a:pt x="50" y="323"/>
                  <a:pt x="50" y="330"/>
                  <a:pt x="55" y="334"/>
                </a:cubicBezTo>
                <a:cubicBezTo>
                  <a:pt x="74" y="353"/>
                  <a:pt x="74" y="353"/>
                  <a:pt x="74" y="353"/>
                </a:cubicBezTo>
                <a:cubicBezTo>
                  <a:pt x="78" y="357"/>
                  <a:pt x="84" y="355"/>
                  <a:pt x="89" y="351"/>
                </a:cubicBezTo>
                <a:cubicBezTo>
                  <a:pt x="187" y="254"/>
                  <a:pt x="187" y="254"/>
                  <a:pt x="187" y="254"/>
                </a:cubicBezTo>
                <a:cubicBezTo>
                  <a:pt x="157" y="220"/>
                  <a:pt x="157" y="220"/>
                  <a:pt x="157" y="220"/>
                </a:cubicBezTo>
                <a:lnTo>
                  <a:pt x="55" y="31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16"/>
          <p:cNvSpPr/>
          <p:nvPr/>
        </p:nvSpPr>
        <p:spPr>
          <a:xfrm>
            <a:off x="4330800" y="4336920"/>
            <a:ext cx="325440" cy="327240"/>
          </a:xfrm>
          <a:custGeom>
            <a:avLst/>
            <a:gdLst/>
            <a:ahLst/>
            <a:rect l="l" t="t" r="r" b="b"/>
            <a:pathLst>
              <a:path w="360" h="361">
                <a:moveTo>
                  <a:pt x="136" y="226"/>
                </a:moveTo>
                <a:cubicBezTo>
                  <a:pt x="56" y="194"/>
                  <a:pt x="56" y="194"/>
                  <a:pt x="56" y="194"/>
                </a:cubicBezTo>
                <a:cubicBezTo>
                  <a:pt x="56" y="221"/>
                  <a:pt x="56" y="221"/>
                  <a:pt x="56" y="221"/>
                </a:cubicBezTo>
                <a:cubicBezTo>
                  <a:pt x="136" y="253"/>
                  <a:pt x="136" y="253"/>
                  <a:pt x="136" y="253"/>
                </a:cubicBezTo>
                <a:lnTo>
                  <a:pt x="136" y="226"/>
                </a:lnTo>
                <a:close/>
                <a:moveTo>
                  <a:pt x="136" y="143"/>
                </a:moveTo>
                <a:cubicBezTo>
                  <a:pt x="56" y="111"/>
                  <a:pt x="56" y="111"/>
                  <a:pt x="56" y="111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136" y="170"/>
                  <a:pt x="136" y="170"/>
                  <a:pt x="136" y="170"/>
                </a:cubicBezTo>
                <a:lnTo>
                  <a:pt x="136" y="143"/>
                </a:lnTo>
                <a:close/>
                <a:moveTo>
                  <a:pt x="351" y="4"/>
                </a:moveTo>
                <a:cubicBezTo>
                  <a:pt x="345" y="1"/>
                  <a:pt x="338" y="0"/>
                  <a:pt x="332" y="2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27" y="2"/>
                  <a:pt x="27" y="2"/>
                  <a:pt x="27" y="2"/>
                </a:cubicBezTo>
                <a:cubicBezTo>
                  <a:pt x="21" y="0"/>
                  <a:pt x="14" y="1"/>
                  <a:pt x="8" y="4"/>
                </a:cubicBezTo>
                <a:cubicBezTo>
                  <a:pt x="3" y="8"/>
                  <a:pt x="0" y="14"/>
                  <a:pt x="0" y="21"/>
                </a:cubicBezTo>
                <a:cubicBezTo>
                  <a:pt x="0" y="277"/>
                  <a:pt x="0" y="277"/>
                  <a:pt x="0" y="277"/>
                </a:cubicBezTo>
                <a:cubicBezTo>
                  <a:pt x="0" y="285"/>
                  <a:pt x="5" y="292"/>
                  <a:pt x="12" y="295"/>
                </a:cubicBezTo>
                <a:cubicBezTo>
                  <a:pt x="172" y="359"/>
                  <a:pt x="172" y="359"/>
                  <a:pt x="172" y="359"/>
                </a:cubicBezTo>
                <a:cubicBezTo>
                  <a:pt x="172" y="359"/>
                  <a:pt x="175" y="360"/>
                  <a:pt x="176" y="361"/>
                </a:cubicBezTo>
                <a:cubicBezTo>
                  <a:pt x="177" y="361"/>
                  <a:pt x="178" y="361"/>
                  <a:pt x="180" y="361"/>
                </a:cubicBezTo>
                <a:cubicBezTo>
                  <a:pt x="181" y="361"/>
                  <a:pt x="182" y="361"/>
                  <a:pt x="184" y="361"/>
                </a:cubicBezTo>
                <a:cubicBezTo>
                  <a:pt x="184" y="360"/>
                  <a:pt x="187" y="359"/>
                  <a:pt x="187" y="359"/>
                </a:cubicBezTo>
                <a:cubicBezTo>
                  <a:pt x="347" y="295"/>
                  <a:pt x="347" y="295"/>
                  <a:pt x="347" y="295"/>
                </a:cubicBezTo>
                <a:cubicBezTo>
                  <a:pt x="355" y="292"/>
                  <a:pt x="360" y="285"/>
                  <a:pt x="360" y="277"/>
                </a:cubicBezTo>
                <a:cubicBezTo>
                  <a:pt x="360" y="21"/>
                  <a:pt x="360" y="21"/>
                  <a:pt x="360" y="21"/>
                </a:cubicBezTo>
                <a:cubicBezTo>
                  <a:pt x="360" y="14"/>
                  <a:pt x="356" y="8"/>
                  <a:pt x="351" y="4"/>
                </a:cubicBezTo>
                <a:close/>
                <a:moveTo>
                  <a:pt x="160" y="320"/>
                </a:moveTo>
                <a:cubicBezTo>
                  <a:pt x="32" y="269"/>
                  <a:pt x="32" y="269"/>
                  <a:pt x="32" y="269"/>
                </a:cubicBezTo>
                <a:cubicBezTo>
                  <a:pt x="32" y="45"/>
                  <a:pt x="32" y="45"/>
                  <a:pt x="32" y="45"/>
                </a:cubicBezTo>
                <a:cubicBezTo>
                  <a:pt x="160" y="96"/>
                  <a:pt x="160" y="96"/>
                  <a:pt x="160" y="96"/>
                </a:cubicBezTo>
                <a:lnTo>
                  <a:pt x="160" y="320"/>
                </a:lnTo>
                <a:close/>
                <a:moveTo>
                  <a:pt x="328" y="269"/>
                </a:moveTo>
                <a:cubicBezTo>
                  <a:pt x="200" y="320"/>
                  <a:pt x="200" y="320"/>
                  <a:pt x="200" y="320"/>
                </a:cubicBezTo>
                <a:cubicBezTo>
                  <a:pt x="200" y="96"/>
                  <a:pt x="200" y="96"/>
                  <a:pt x="200" y="96"/>
                </a:cubicBezTo>
                <a:cubicBezTo>
                  <a:pt x="328" y="45"/>
                  <a:pt x="328" y="45"/>
                  <a:pt x="328" y="45"/>
                </a:cubicBezTo>
                <a:lnTo>
                  <a:pt x="328" y="269"/>
                </a:lnTo>
                <a:close/>
                <a:moveTo>
                  <a:pt x="304" y="194"/>
                </a:moveTo>
                <a:cubicBezTo>
                  <a:pt x="224" y="226"/>
                  <a:pt x="224" y="226"/>
                  <a:pt x="224" y="226"/>
                </a:cubicBezTo>
                <a:cubicBezTo>
                  <a:pt x="224" y="253"/>
                  <a:pt x="224" y="253"/>
                  <a:pt x="224" y="253"/>
                </a:cubicBezTo>
                <a:cubicBezTo>
                  <a:pt x="304" y="221"/>
                  <a:pt x="304" y="221"/>
                  <a:pt x="304" y="221"/>
                </a:cubicBezTo>
                <a:lnTo>
                  <a:pt x="304" y="194"/>
                </a:lnTo>
                <a:close/>
                <a:moveTo>
                  <a:pt x="304" y="111"/>
                </a:moveTo>
                <a:cubicBezTo>
                  <a:pt x="224" y="143"/>
                  <a:pt x="224" y="143"/>
                  <a:pt x="224" y="143"/>
                </a:cubicBezTo>
                <a:cubicBezTo>
                  <a:pt x="224" y="170"/>
                  <a:pt x="224" y="170"/>
                  <a:pt x="224" y="170"/>
                </a:cubicBezTo>
                <a:cubicBezTo>
                  <a:pt x="304" y="138"/>
                  <a:pt x="304" y="138"/>
                  <a:pt x="304" y="138"/>
                </a:cubicBezTo>
                <a:lnTo>
                  <a:pt x="304" y="111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6"/>
          <p:cNvSpPr/>
          <p:nvPr/>
        </p:nvSpPr>
        <p:spPr>
          <a:xfrm>
            <a:off x="6864480" y="4351320"/>
            <a:ext cx="274680" cy="25884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1"/>
          <p:cNvSpPr/>
          <p:nvPr/>
        </p:nvSpPr>
        <p:spPr>
          <a:xfrm>
            <a:off x="9336240" y="4308480"/>
            <a:ext cx="355320" cy="355680"/>
          </a:xfrm>
          <a:custGeom>
            <a:avLst/>
            <a:gdLst/>
            <a:ahLst/>
            <a:rect l="l" t="t" r="r" b="b"/>
            <a:pathLst>
              <a:path w="363" h="372">
                <a:moveTo>
                  <a:pt x="222" y="242"/>
                </a:moveTo>
                <a:cubicBezTo>
                  <a:pt x="222" y="242"/>
                  <a:pt x="363" y="140"/>
                  <a:pt x="348" y="23"/>
                </a:cubicBezTo>
                <a:cubicBezTo>
                  <a:pt x="347" y="21"/>
                  <a:pt x="346" y="19"/>
                  <a:pt x="345" y="18"/>
                </a:cubicBezTo>
                <a:cubicBezTo>
                  <a:pt x="344" y="17"/>
                  <a:pt x="343" y="16"/>
                  <a:pt x="340" y="16"/>
                </a:cubicBezTo>
                <a:cubicBezTo>
                  <a:pt x="226" y="0"/>
                  <a:pt x="127" y="144"/>
                  <a:pt x="127" y="144"/>
                </a:cubicBezTo>
                <a:cubicBezTo>
                  <a:pt x="40" y="134"/>
                  <a:pt x="46" y="151"/>
                  <a:pt x="7" y="246"/>
                </a:cubicBezTo>
                <a:cubicBezTo>
                  <a:pt x="0" y="264"/>
                  <a:pt x="12" y="270"/>
                  <a:pt x="25" y="265"/>
                </a:cubicBezTo>
                <a:cubicBezTo>
                  <a:pt x="39" y="260"/>
                  <a:pt x="68" y="249"/>
                  <a:pt x="68" y="249"/>
                </a:cubicBezTo>
                <a:cubicBezTo>
                  <a:pt x="120" y="302"/>
                  <a:pt x="120" y="302"/>
                  <a:pt x="120" y="302"/>
                </a:cubicBezTo>
                <a:cubicBezTo>
                  <a:pt x="120" y="302"/>
                  <a:pt x="109" y="332"/>
                  <a:pt x="104" y="346"/>
                </a:cubicBezTo>
                <a:cubicBezTo>
                  <a:pt x="99" y="359"/>
                  <a:pt x="105" y="372"/>
                  <a:pt x="123" y="364"/>
                </a:cubicBezTo>
                <a:cubicBezTo>
                  <a:pt x="215" y="324"/>
                  <a:pt x="232" y="330"/>
                  <a:pt x="222" y="242"/>
                </a:cubicBezTo>
                <a:close/>
                <a:moveTo>
                  <a:pt x="242" y="124"/>
                </a:moveTo>
                <a:cubicBezTo>
                  <a:pt x="230" y="111"/>
                  <a:pt x="230" y="91"/>
                  <a:pt x="242" y="79"/>
                </a:cubicBezTo>
                <a:cubicBezTo>
                  <a:pt x="254" y="67"/>
                  <a:pt x="274" y="67"/>
                  <a:pt x="286" y="79"/>
                </a:cubicBezTo>
                <a:cubicBezTo>
                  <a:pt x="297" y="91"/>
                  <a:pt x="297" y="111"/>
                  <a:pt x="286" y="124"/>
                </a:cubicBezTo>
                <a:cubicBezTo>
                  <a:pt x="274" y="136"/>
                  <a:pt x="254" y="136"/>
                  <a:pt x="242" y="12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"/>
          <p:cNvSpPr/>
          <p:nvPr/>
        </p:nvSpPr>
        <p:spPr>
          <a:xfrm>
            <a:off x="287280" y="3246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887400" y="3564000"/>
            <a:ext cx="1138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657440" y="3246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2257560" y="3564000"/>
            <a:ext cx="1139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770360" y="2766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773600" y="3052800"/>
            <a:ext cx="15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7310520" y="2766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7313760" y="305280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9855360" y="276696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9860040" y="305280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4770360" y="4280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4773600" y="4565520"/>
            <a:ext cx="15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7310520" y="4280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7313760" y="456552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855360" y="4280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860040" y="456552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752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5" name="图片 7" descr=""/>
          <p:cNvPicPr/>
          <p:nvPr/>
        </p:nvPicPr>
        <p:blipFill>
          <a:blip r:embed="rId3"/>
          <a:stretch/>
        </p:blipFill>
        <p:spPr>
          <a:xfrm>
            <a:off x="6513480" y="2122560"/>
            <a:ext cx="3670200" cy="365292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8" descr=""/>
          <p:cNvPicPr/>
          <p:nvPr/>
        </p:nvPicPr>
        <p:blipFill>
          <a:blip r:embed="rId4"/>
          <a:stretch/>
        </p:blipFill>
        <p:spPr>
          <a:xfrm>
            <a:off x="7547040" y="1566720"/>
            <a:ext cx="1603440" cy="146052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9" descr=""/>
          <p:cNvPicPr/>
          <p:nvPr/>
        </p:nvPicPr>
        <p:blipFill>
          <a:blip r:embed="rId5"/>
          <a:stretch/>
        </p:blipFill>
        <p:spPr>
          <a:xfrm>
            <a:off x="5945040" y="3936960"/>
            <a:ext cx="1602000" cy="145908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10" descr=""/>
          <p:cNvPicPr/>
          <p:nvPr/>
        </p:nvPicPr>
        <p:blipFill>
          <a:blip r:embed="rId6"/>
          <a:stretch/>
        </p:blipFill>
        <p:spPr>
          <a:xfrm>
            <a:off x="9218520" y="3936960"/>
            <a:ext cx="1602000" cy="1459080"/>
          </a:xfrm>
          <a:prstGeom prst="rect">
            <a:avLst/>
          </a:prstGeom>
          <a:ln w="0">
            <a:noFill/>
          </a:ln>
        </p:spPr>
      </p:pic>
      <p:sp>
        <p:nvSpPr>
          <p:cNvPr id="759" name="文本框 11"/>
          <p:cNvSpPr/>
          <p:nvPr/>
        </p:nvSpPr>
        <p:spPr>
          <a:xfrm>
            <a:off x="7867800" y="186228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2"/>
          <p:cNvSpPr/>
          <p:nvPr/>
        </p:nvSpPr>
        <p:spPr>
          <a:xfrm>
            <a:off x="6297480" y="42181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3"/>
          <p:cNvSpPr/>
          <p:nvPr/>
        </p:nvSpPr>
        <p:spPr>
          <a:xfrm>
            <a:off x="9617040" y="42354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4"/>
          <p:cNvSpPr/>
          <p:nvPr/>
        </p:nvSpPr>
        <p:spPr>
          <a:xfrm>
            <a:off x="7593120" y="345600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组合 15"/>
          <p:cNvGrpSpPr/>
          <p:nvPr/>
        </p:nvGrpSpPr>
        <p:grpSpPr>
          <a:xfrm>
            <a:off x="969840" y="2584440"/>
            <a:ext cx="4621320" cy="2970360"/>
            <a:chOff x="969840" y="2584440"/>
            <a:chExt cx="4621320" cy="2970360"/>
          </a:xfrm>
        </p:grpSpPr>
        <p:pic>
          <p:nvPicPr>
            <p:cNvPr id="764" name="图片 16" descr=""/>
            <p:cNvPicPr/>
            <p:nvPr/>
          </p:nvPicPr>
          <p:blipFill>
            <a:blip r:embed="rId7"/>
            <a:stretch/>
          </p:blipFill>
          <p:spPr>
            <a:xfrm>
              <a:off x="969840" y="2584440"/>
              <a:ext cx="4621320" cy="29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文本框 17"/>
            <p:cNvSpPr/>
            <p:nvPr/>
          </p:nvSpPr>
          <p:spPr>
            <a:xfrm>
              <a:off x="1508400" y="3062520"/>
              <a:ext cx="2304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6" name="Text Box 1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ardrop 27"/>
          <p:cNvSpPr/>
          <p:nvPr/>
        </p:nvSpPr>
        <p:spPr>
          <a:xfrm rot="18900000">
            <a:off x="136980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ardrop 28"/>
          <p:cNvSpPr/>
          <p:nvPr/>
        </p:nvSpPr>
        <p:spPr>
          <a:xfrm rot="18900000">
            <a:off x="348264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ardrop 29"/>
          <p:cNvSpPr/>
          <p:nvPr/>
        </p:nvSpPr>
        <p:spPr>
          <a:xfrm rot="18900000">
            <a:off x="5576400" y="2892240"/>
            <a:ext cx="106380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ardrop 15"/>
          <p:cNvSpPr/>
          <p:nvPr/>
        </p:nvSpPr>
        <p:spPr>
          <a:xfrm rot="18900000">
            <a:off x="982800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ardrop 20"/>
          <p:cNvSpPr/>
          <p:nvPr/>
        </p:nvSpPr>
        <p:spPr>
          <a:xfrm rot="18900000">
            <a:off x="768168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traight Connector 17"/>
          <p:cNvSpPr/>
          <p:nvPr/>
        </p:nvSpPr>
        <p:spPr>
          <a:xfrm>
            <a:off x="2612880" y="342432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traight Connector 23"/>
          <p:cNvSpPr/>
          <p:nvPr/>
        </p:nvSpPr>
        <p:spPr>
          <a:xfrm>
            <a:off x="467352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traight Connector 24"/>
          <p:cNvSpPr/>
          <p:nvPr/>
        </p:nvSpPr>
        <p:spPr>
          <a:xfrm>
            <a:off x="681048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traight Connector 25"/>
          <p:cNvSpPr/>
          <p:nvPr/>
        </p:nvSpPr>
        <p:spPr>
          <a:xfrm>
            <a:off x="892476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Picture 19" descr=""/>
          <p:cNvPicPr/>
          <p:nvPr/>
        </p:nvPicPr>
        <p:blipFill>
          <a:blip r:embed="rId1"/>
          <a:stretch/>
        </p:blipFill>
        <p:spPr>
          <a:xfrm>
            <a:off x="802800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1" descr=""/>
          <p:cNvPicPr/>
          <p:nvPr/>
        </p:nvPicPr>
        <p:blipFill>
          <a:blip r:embed="rId2"/>
          <a:stretch/>
        </p:blipFill>
        <p:spPr>
          <a:xfrm>
            <a:off x="5923080" y="324000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2" descr=""/>
          <p:cNvPicPr/>
          <p:nvPr/>
        </p:nvPicPr>
        <p:blipFill>
          <a:blip r:embed="rId3"/>
          <a:stretch/>
        </p:blipFill>
        <p:spPr>
          <a:xfrm>
            <a:off x="1016964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" descr=""/>
          <p:cNvPicPr/>
          <p:nvPr/>
        </p:nvPicPr>
        <p:blipFill>
          <a:blip r:embed="rId4"/>
          <a:stretch/>
        </p:blipFill>
        <p:spPr>
          <a:xfrm>
            <a:off x="382896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1" descr=""/>
          <p:cNvPicPr/>
          <p:nvPr/>
        </p:nvPicPr>
        <p:blipFill>
          <a:blip r:embed="rId5"/>
          <a:stretch/>
        </p:blipFill>
        <p:spPr>
          <a:xfrm>
            <a:off x="1716120" y="324000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781" name="TextBox 13"/>
          <p:cNvSpPr/>
          <p:nvPr/>
        </p:nvSpPr>
        <p:spPr>
          <a:xfrm>
            <a:off x="87948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68904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3"/>
          <p:cNvSpPr/>
          <p:nvPr/>
        </p:nvSpPr>
        <p:spPr>
          <a:xfrm>
            <a:off x="302256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3"/>
          <p:cNvSpPr/>
          <p:nvPr/>
        </p:nvSpPr>
        <p:spPr>
          <a:xfrm>
            <a:off x="283212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5165640" y="420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4975200" y="44863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731052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712008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929160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910116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793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6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799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0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图片 1" descr=""/>
          <p:cNvPicPr/>
          <p:nvPr/>
        </p:nvPicPr>
        <p:blipFill>
          <a:blip r:embed="rId1"/>
          <a:stretch/>
        </p:blipFill>
        <p:spPr>
          <a:xfrm>
            <a:off x="8429760" y="-165240"/>
            <a:ext cx="3421080" cy="67262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2" descr=""/>
          <p:cNvPicPr/>
          <p:nvPr/>
        </p:nvPicPr>
        <p:blipFill>
          <a:blip r:embed="rId2"/>
          <a:stretch/>
        </p:blipFill>
        <p:spPr>
          <a:xfrm>
            <a:off x="3571920" y="2192400"/>
            <a:ext cx="1649520" cy="2200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3" descr=""/>
          <p:cNvPicPr/>
          <p:nvPr/>
        </p:nvPicPr>
        <p:blipFill>
          <a:blip r:embed="rId3"/>
          <a:stretch/>
        </p:blipFill>
        <p:spPr>
          <a:xfrm>
            <a:off x="1638360" y="2192400"/>
            <a:ext cx="1620720" cy="21985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4" descr=""/>
          <p:cNvPicPr/>
          <p:nvPr/>
        </p:nvPicPr>
        <p:blipFill>
          <a:blip r:embed="rId4"/>
          <a:stretch/>
        </p:blipFill>
        <p:spPr>
          <a:xfrm>
            <a:off x="5533920" y="2192400"/>
            <a:ext cx="1648080" cy="2200320"/>
          </a:xfrm>
          <a:prstGeom prst="rect">
            <a:avLst/>
          </a:prstGeom>
          <a:ln w="0">
            <a:noFill/>
          </a:ln>
        </p:spPr>
      </p:pic>
      <p:sp>
        <p:nvSpPr>
          <p:cNvPr id="805" name="矩形 6"/>
          <p:cNvSpPr/>
          <p:nvPr/>
        </p:nvSpPr>
        <p:spPr>
          <a:xfrm>
            <a:off x="1517760" y="4570560"/>
            <a:ext cx="57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AutoShape 7"/>
          <p:cNvSpPr/>
          <p:nvPr/>
        </p:nvSpPr>
        <p:spPr>
          <a:xfrm>
            <a:off x="511200" y="2927520"/>
            <a:ext cx="21985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2744640" y="2927520"/>
            <a:ext cx="219888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4975200" y="2927520"/>
            <a:ext cx="219888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AutoShape 10"/>
          <p:cNvSpPr/>
          <p:nvPr/>
        </p:nvSpPr>
        <p:spPr>
          <a:xfrm>
            <a:off x="7207200" y="2927520"/>
            <a:ext cx="219384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3" y="21599"/>
                </a:moveTo>
                <a:lnTo>
                  <a:pt x="0" y="21599"/>
                </a:lnTo>
                <a:lnTo>
                  <a:pt x="936" y="10700"/>
                </a:lnTo>
                <a:lnTo>
                  <a:pt x="0" y="0"/>
                </a:lnTo>
                <a:lnTo>
                  <a:pt x="20663" y="0"/>
                </a:lnTo>
                <a:lnTo>
                  <a:pt x="21599" y="10700"/>
                </a:lnTo>
                <a:lnTo>
                  <a:pt x="20663" y="2159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AutoShape 11"/>
          <p:cNvSpPr/>
          <p:nvPr/>
        </p:nvSpPr>
        <p:spPr>
          <a:xfrm>
            <a:off x="9434520" y="2927520"/>
            <a:ext cx="21985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12"/>
          <p:cNvSpPr/>
          <p:nvPr/>
        </p:nvSpPr>
        <p:spPr>
          <a:xfrm>
            <a:off x="1557360" y="2982960"/>
            <a:ext cx="1141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13"/>
          <p:cNvSpPr/>
          <p:nvPr/>
        </p:nvSpPr>
        <p:spPr>
          <a:xfrm>
            <a:off x="3787920" y="2982960"/>
            <a:ext cx="10944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14"/>
          <p:cNvSpPr/>
          <p:nvPr/>
        </p:nvSpPr>
        <p:spPr>
          <a:xfrm>
            <a:off x="6014880" y="2982960"/>
            <a:ext cx="1159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15"/>
          <p:cNvSpPr/>
          <p:nvPr/>
        </p:nvSpPr>
        <p:spPr>
          <a:xfrm>
            <a:off x="8245440" y="2982960"/>
            <a:ext cx="1159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16"/>
          <p:cNvSpPr/>
          <p:nvPr/>
        </p:nvSpPr>
        <p:spPr>
          <a:xfrm>
            <a:off x="10480680" y="2982960"/>
            <a:ext cx="1141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AutoShape 19"/>
          <p:cNvSpPr/>
          <p:nvPr/>
        </p:nvSpPr>
        <p:spPr>
          <a:xfrm>
            <a:off x="1135080" y="3816360"/>
            <a:ext cx="954000" cy="9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53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853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853" y="21600"/>
                </a:cubicBezTo>
                <a:close/>
                <a:moveTo>
                  <a:pt x="10853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853" y="21065"/>
                </a:cubicBezTo>
                <a:cubicBezTo>
                  <a:pt x="16549" y="21065"/>
                  <a:pt x="21062" y="16467"/>
                  <a:pt x="21062" y="10800"/>
                </a:cubicBezTo>
                <a:cubicBezTo>
                  <a:pt x="21062" y="5132"/>
                  <a:pt x="16549" y="534"/>
                  <a:pt x="10853" y="53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AutoShape 20"/>
          <p:cNvSpPr/>
          <p:nvPr/>
        </p:nvSpPr>
        <p:spPr>
          <a:xfrm>
            <a:off x="1328760" y="4152960"/>
            <a:ext cx="403200" cy="398520"/>
          </a:xfrm>
          <a:custGeom>
            <a:avLst/>
            <a:gdLst/>
            <a:ahLst/>
            <a:rect l="l" t="t" r="r" b="b"/>
            <a:pathLst>
              <a:path w="21600" h="21224">
                <a:moveTo>
                  <a:pt x="18550" y="16075"/>
                </a:moveTo>
                <a:cubicBezTo>
                  <a:pt x="18042" y="15567"/>
                  <a:pt x="18042" y="15567"/>
                  <a:pt x="18042" y="15567"/>
                </a:cubicBezTo>
                <a:cubicBezTo>
                  <a:pt x="17534" y="14804"/>
                  <a:pt x="17280" y="13788"/>
                  <a:pt x="17534" y="12771"/>
                </a:cubicBezTo>
                <a:cubicBezTo>
                  <a:pt x="17534" y="12771"/>
                  <a:pt x="17534" y="12771"/>
                  <a:pt x="17534" y="12771"/>
                </a:cubicBezTo>
                <a:cubicBezTo>
                  <a:pt x="17788" y="12009"/>
                  <a:pt x="18804" y="11247"/>
                  <a:pt x="19567" y="10993"/>
                </a:cubicBezTo>
                <a:cubicBezTo>
                  <a:pt x="20329" y="10739"/>
                  <a:pt x="20329" y="10739"/>
                  <a:pt x="20329" y="10739"/>
                </a:cubicBezTo>
                <a:cubicBezTo>
                  <a:pt x="21091" y="10739"/>
                  <a:pt x="21599" y="9976"/>
                  <a:pt x="21599" y="9214"/>
                </a:cubicBezTo>
                <a:cubicBezTo>
                  <a:pt x="21599" y="8706"/>
                  <a:pt x="21345" y="8197"/>
                  <a:pt x="21345" y="7689"/>
                </a:cubicBezTo>
                <a:cubicBezTo>
                  <a:pt x="21091" y="6927"/>
                  <a:pt x="20329" y="6419"/>
                  <a:pt x="19567" y="6673"/>
                </a:cubicBezTo>
                <a:cubicBezTo>
                  <a:pt x="18804" y="6673"/>
                  <a:pt x="18804" y="6673"/>
                  <a:pt x="18804" y="6673"/>
                </a:cubicBezTo>
                <a:cubicBezTo>
                  <a:pt x="17788" y="6927"/>
                  <a:pt x="16771" y="6673"/>
                  <a:pt x="16263" y="5910"/>
                </a:cubicBezTo>
                <a:cubicBezTo>
                  <a:pt x="16263" y="5910"/>
                  <a:pt x="16263" y="5910"/>
                  <a:pt x="16263" y="5910"/>
                </a:cubicBezTo>
                <a:cubicBezTo>
                  <a:pt x="15501" y="5148"/>
                  <a:pt x="15247" y="4131"/>
                  <a:pt x="15501" y="3115"/>
                </a:cubicBezTo>
                <a:cubicBezTo>
                  <a:pt x="15755" y="2353"/>
                  <a:pt x="15755" y="2353"/>
                  <a:pt x="15755" y="2353"/>
                </a:cubicBezTo>
                <a:cubicBezTo>
                  <a:pt x="16009" y="1590"/>
                  <a:pt x="15755" y="828"/>
                  <a:pt x="14992" y="574"/>
                </a:cubicBezTo>
                <a:cubicBezTo>
                  <a:pt x="14738" y="320"/>
                  <a:pt x="14484" y="320"/>
                  <a:pt x="14230" y="320"/>
                </a:cubicBezTo>
                <a:cubicBezTo>
                  <a:pt x="13976" y="66"/>
                  <a:pt x="13722" y="66"/>
                  <a:pt x="13468" y="66"/>
                </a:cubicBezTo>
                <a:cubicBezTo>
                  <a:pt x="12705" y="-188"/>
                  <a:pt x="11943" y="320"/>
                  <a:pt x="11689" y="1082"/>
                </a:cubicBezTo>
                <a:cubicBezTo>
                  <a:pt x="11435" y="1590"/>
                  <a:pt x="11435" y="1590"/>
                  <a:pt x="11435" y="1590"/>
                </a:cubicBezTo>
                <a:cubicBezTo>
                  <a:pt x="11181" y="2607"/>
                  <a:pt x="10418" y="3369"/>
                  <a:pt x="9402" y="3623"/>
                </a:cubicBezTo>
                <a:cubicBezTo>
                  <a:pt x="9402" y="3623"/>
                  <a:pt x="9402" y="3623"/>
                  <a:pt x="9402" y="3623"/>
                </a:cubicBezTo>
                <a:cubicBezTo>
                  <a:pt x="8385" y="3877"/>
                  <a:pt x="7369" y="3369"/>
                  <a:pt x="6607" y="2607"/>
                </a:cubicBezTo>
                <a:cubicBezTo>
                  <a:pt x="6352" y="2099"/>
                  <a:pt x="6352" y="2099"/>
                  <a:pt x="6352" y="2099"/>
                </a:cubicBezTo>
                <a:cubicBezTo>
                  <a:pt x="5590" y="1590"/>
                  <a:pt x="4828" y="1336"/>
                  <a:pt x="4065" y="1844"/>
                </a:cubicBezTo>
                <a:cubicBezTo>
                  <a:pt x="3811" y="2353"/>
                  <a:pt x="3303" y="2607"/>
                  <a:pt x="3049" y="2861"/>
                </a:cubicBezTo>
                <a:cubicBezTo>
                  <a:pt x="2541" y="3369"/>
                  <a:pt x="2541" y="4386"/>
                  <a:pt x="3049" y="4894"/>
                </a:cubicBezTo>
                <a:cubicBezTo>
                  <a:pt x="3557" y="5402"/>
                  <a:pt x="3557" y="5402"/>
                  <a:pt x="3557" y="5402"/>
                </a:cubicBezTo>
                <a:cubicBezTo>
                  <a:pt x="4065" y="6164"/>
                  <a:pt x="4320" y="7435"/>
                  <a:pt x="4065" y="8197"/>
                </a:cubicBezTo>
                <a:cubicBezTo>
                  <a:pt x="3811" y="9214"/>
                  <a:pt x="2795" y="9976"/>
                  <a:pt x="1778" y="10230"/>
                </a:cubicBezTo>
                <a:cubicBezTo>
                  <a:pt x="1270" y="10230"/>
                  <a:pt x="1270" y="10230"/>
                  <a:pt x="1270" y="10230"/>
                </a:cubicBezTo>
                <a:cubicBezTo>
                  <a:pt x="508" y="10484"/>
                  <a:pt x="0" y="11247"/>
                  <a:pt x="0" y="12009"/>
                </a:cubicBezTo>
                <a:cubicBezTo>
                  <a:pt x="0" y="12517"/>
                  <a:pt x="254" y="13026"/>
                  <a:pt x="254" y="13534"/>
                </a:cubicBezTo>
                <a:cubicBezTo>
                  <a:pt x="508" y="14296"/>
                  <a:pt x="1270" y="14804"/>
                  <a:pt x="2032" y="14550"/>
                </a:cubicBezTo>
                <a:cubicBezTo>
                  <a:pt x="2795" y="14296"/>
                  <a:pt x="2795" y="14296"/>
                  <a:pt x="2795" y="14296"/>
                </a:cubicBezTo>
                <a:cubicBezTo>
                  <a:pt x="3811" y="14296"/>
                  <a:pt x="4828" y="14550"/>
                  <a:pt x="5336" y="15313"/>
                </a:cubicBezTo>
                <a:cubicBezTo>
                  <a:pt x="5336" y="15313"/>
                  <a:pt x="5336" y="15313"/>
                  <a:pt x="5336" y="15313"/>
                </a:cubicBezTo>
                <a:cubicBezTo>
                  <a:pt x="6098" y="16075"/>
                  <a:pt x="6352" y="17091"/>
                  <a:pt x="6098" y="18108"/>
                </a:cubicBezTo>
                <a:cubicBezTo>
                  <a:pt x="5844" y="18616"/>
                  <a:pt x="5844" y="18616"/>
                  <a:pt x="5844" y="18616"/>
                </a:cubicBezTo>
                <a:cubicBezTo>
                  <a:pt x="5590" y="19379"/>
                  <a:pt x="5844" y="20395"/>
                  <a:pt x="6607" y="20649"/>
                </a:cubicBezTo>
                <a:cubicBezTo>
                  <a:pt x="6861" y="20649"/>
                  <a:pt x="7115" y="20903"/>
                  <a:pt x="7369" y="20903"/>
                </a:cubicBezTo>
                <a:cubicBezTo>
                  <a:pt x="7623" y="20903"/>
                  <a:pt x="7877" y="21157"/>
                  <a:pt x="8131" y="21157"/>
                </a:cubicBezTo>
                <a:cubicBezTo>
                  <a:pt x="8894" y="21412"/>
                  <a:pt x="9656" y="20903"/>
                  <a:pt x="9910" y="20141"/>
                </a:cubicBezTo>
                <a:cubicBezTo>
                  <a:pt x="10164" y="19379"/>
                  <a:pt x="10164" y="19379"/>
                  <a:pt x="10164" y="19379"/>
                </a:cubicBezTo>
                <a:cubicBezTo>
                  <a:pt x="10418" y="18362"/>
                  <a:pt x="11181" y="17854"/>
                  <a:pt x="12197" y="17600"/>
                </a:cubicBezTo>
                <a:cubicBezTo>
                  <a:pt x="12197" y="17600"/>
                  <a:pt x="12197" y="17600"/>
                  <a:pt x="12197" y="17600"/>
                </a:cubicBezTo>
                <a:cubicBezTo>
                  <a:pt x="13214" y="17346"/>
                  <a:pt x="14230" y="17600"/>
                  <a:pt x="14992" y="18362"/>
                </a:cubicBezTo>
                <a:cubicBezTo>
                  <a:pt x="15247" y="18870"/>
                  <a:pt x="15247" y="18870"/>
                  <a:pt x="15247" y="18870"/>
                </a:cubicBezTo>
                <a:cubicBezTo>
                  <a:pt x="16009" y="19633"/>
                  <a:pt x="16771" y="19633"/>
                  <a:pt x="17534" y="19124"/>
                </a:cubicBezTo>
                <a:cubicBezTo>
                  <a:pt x="17788" y="18870"/>
                  <a:pt x="18296" y="18616"/>
                  <a:pt x="18550" y="18108"/>
                </a:cubicBezTo>
                <a:cubicBezTo>
                  <a:pt x="19058" y="17600"/>
                  <a:pt x="19058" y="16837"/>
                  <a:pt x="18550" y="16075"/>
                </a:cubicBezTo>
                <a:close/>
                <a:moveTo>
                  <a:pt x="9656" y="14042"/>
                </a:moveTo>
                <a:cubicBezTo>
                  <a:pt x="7623" y="13280"/>
                  <a:pt x="6607" y="11247"/>
                  <a:pt x="7369" y="9468"/>
                </a:cubicBezTo>
                <a:cubicBezTo>
                  <a:pt x="7877" y="7435"/>
                  <a:pt x="10164" y="6419"/>
                  <a:pt x="11943" y="7181"/>
                </a:cubicBezTo>
                <a:cubicBezTo>
                  <a:pt x="13976" y="7689"/>
                  <a:pt x="14992" y="9722"/>
                  <a:pt x="14230" y="11755"/>
                </a:cubicBezTo>
                <a:cubicBezTo>
                  <a:pt x="13722" y="13534"/>
                  <a:pt x="11435" y="14804"/>
                  <a:pt x="9656" y="14042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AutoShape 21"/>
          <p:cNvSpPr/>
          <p:nvPr/>
        </p:nvSpPr>
        <p:spPr>
          <a:xfrm>
            <a:off x="1658880" y="4049640"/>
            <a:ext cx="230400" cy="25416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0041" y="13856"/>
                </a:moveTo>
                <a:cubicBezTo>
                  <a:pt x="19609" y="13856"/>
                  <a:pt x="19609" y="13856"/>
                  <a:pt x="19609" y="13856"/>
                </a:cubicBezTo>
                <a:cubicBezTo>
                  <a:pt x="18744" y="13041"/>
                  <a:pt x="17881" y="12226"/>
                  <a:pt x="17881" y="11411"/>
                </a:cubicBezTo>
                <a:cubicBezTo>
                  <a:pt x="17881" y="11003"/>
                  <a:pt x="17881" y="11003"/>
                  <a:pt x="17881" y="11003"/>
                </a:cubicBezTo>
                <a:cubicBezTo>
                  <a:pt x="18313" y="10188"/>
                  <a:pt x="18744" y="9373"/>
                  <a:pt x="19609" y="8966"/>
                </a:cubicBezTo>
                <a:cubicBezTo>
                  <a:pt x="20473" y="8558"/>
                  <a:pt x="20473" y="8558"/>
                  <a:pt x="20473" y="8558"/>
                </a:cubicBezTo>
                <a:cubicBezTo>
                  <a:pt x="20905" y="8150"/>
                  <a:pt x="21337" y="7335"/>
                  <a:pt x="20905" y="6520"/>
                </a:cubicBezTo>
                <a:cubicBezTo>
                  <a:pt x="20905" y="6113"/>
                  <a:pt x="20473" y="5705"/>
                  <a:pt x="20473" y="5298"/>
                </a:cubicBezTo>
                <a:cubicBezTo>
                  <a:pt x="20041" y="4483"/>
                  <a:pt x="18744" y="4483"/>
                  <a:pt x="18313" y="4890"/>
                </a:cubicBezTo>
                <a:cubicBezTo>
                  <a:pt x="17449" y="4890"/>
                  <a:pt x="17449" y="4890"/>
                  <a:pt x="17449" y="4890"/>
                </a:cubicBezTo>
                <a:cubicBezTo>
                  <a:pt x="16585" y="5705"/>
                  <a:pt x="15289" y="5298"/>
                  <a:pt x="14425" y="4890"/>
                </a:cubicBezTo>
                <a:cubicBezTo>
                  <a:pt x="14425" y="4890"/>
                  <a:pt x="14425" y="4890"/>
                  <a:pt x="14425" y="4890"/>
                </a:cubicBezTo>
                <a:cubicBezTo>
                  <a:pt x="13561" y="4483"/>
                  <a:pt x="13129" y="3260"/>
                  <a:pt x="13129" y="2445"/>
                </a:cubicBezTo>
                <a:cubicBezTo>
                  <a:pt x="13129" y="1630"/>
                  <a:pt x="13129" y="1630"/>
                  <a:pt x="13129" y="1630"/>
                </a:cubicBezTo>
                <a:cubicBezTo>
                  <a:pt x="13129" y="815"/>
                  <a:pt x="12696" y="407"/>
                  <a:pt x="11833" y="407"/>
                </a:cubicBezTo>
                <a:cubicBezTo>
                  <a:pt x="11400" y="0"/>
                  <a:pt x="11400" y="0"/>
                  <a:pt x="10969" y="0"/>
                </a:cubicBezTo>
                <a:cubicBezTo>
                  <a:pt x="10537" y="0"/>
                  <a:pt x="10537" y="0"/>
                  <a:pt x="10104" y="0"/>
                </a:cubicBezTo>
                <a:cubicBezTo>
                  <a:pt x="9240" y="0"/>
                  <a:pt x="8809" y="815"/>
                  <a:pt x="8809" y="1630"/>
                </a:cubicBezTo>
                <a:cubicBezTo>
                  <a:pt x="8809" y="2445"/>
                  <a:pt x="8809" y="2445"/>
                  <a:pt x="8809" y="2445"/>
                </a:cubicBezTo>
                <a:cubicBezTo>
                  <a:pt x="8809" y="3260"/>
                  <a:pt x="7945" y="4075"/>
                  <a:pt x="7081" y="4483"/>
                </a:cubicBezTo>
                <a:cubicBezTo>
                  <a:pt x="7081" y="4483"/>
                  <a:pt x="7081" y="4483"/>
                  <a:pt x="7081" y="4483"/>
                </a:cubicBezTo>
                <a:cubicBezTo>
                  <a:pt x="6216" y="5298"/>
                  <a:pt x="4920" y="5298"/>
                  <a:pt x="4056" y="4483"/>
                </a:cubicBezTo>
                <a:cubicBezTo>
                  <a:pt x="3624" y="4075"/>
                  <a:pt x="3624" y="4075"/>
                  <a:pt x="3624" y="4075"/>
                </a:cubicBezTo>
                <a:cubicBezTo>
                  <a:pt x="2760" y="3667"/>
                  <a:pt x="1896" y="4075"/>
                  <a:pt x="1464" y="4483"/>
                </a:cubicBezTo>
                <a:cubicBezTo>
                  <a:pt x="1032" y="4890"/>
                  <a:pt x="600" y="5298"/>
                  <a:pt x="600" y="5705"/>
                </a:cubicBezTo>
                <a:cubicBezTo>
                  <a:pt x="168" y="6520"/>
                  <a:pt x="168" y="7335"/>
                  <a:pt x="1032" y="7743"/>
                </a:cubicBezTo>
                <a:cubicBezTo>
                  <a:pt x="1464" y="8150"/>
                  <a:pt x="1464" y="8150"/>
                  <a:pt x="1464" y="8150"/>
                </a:cubicBezTo>
                <a:cubicBezTo>
                  <a:pt x="2760" y="8558"/>
                  <a:pt x="3192" y="9781"/>
                  <a:pt x="3192" y="10596"/>
                </a:cubicBezTo>
                <a:cubicBezTo>
                  <a:pt x="3192" y="11818"/>
                  <a:pt x="2328" y="12633"/>
                  <a:pt x="1464" y="13041"/>
                </a:cubicBezTo>
                <a:cubicBezTo>
                  <a:pt x="1032" y="13449"/>
                  <a:pt x="1032" y="13449"/>
                  <a:pt x="1032" y="13449"/>
                </a:cubicBezTo>
                <a:cubicBezTo>
                  <a:pt x="168" y="13856"/>
                  <a:pt x="-263" y="14671"/>
                  <a:pt x="168" y="15486"/>
                </a:cubicBezTo>
                <a:cubicBezTo>
                  <a:pt x="168" y="15894"/>
                  <a:pt x="600" y="16301"/>
                  <a:pt x="1032" y="16709"/>
                </a:cubicBezTo>
                <a:cubicBezTo>
                  <a:pt x="1464" y="17116"/>
                  <a:pt x="2328" y="17524"/>
                  <a:pt x="2760" y="17116"/>
                </a:cubicBezTo>
                <a:cubicBezTo>
                  <a:pt x="3624" y="16709"/>
                  <a:pt x="3624" y="16709"/>
                  <a:pt x="3624" y="16709"/>
                </a:cubicBezTo>
                <a:cubicBezTo>
                  <a:pt x="4488" y="16301"/>
                  <a:pt x="5785" y="16301"/>
                  <a:pt x="6648" y="17116"/>
                </a:cubicBezTo>
                <a:cubicBezTo>
                  <a:pt x="6648" y="17116"/>
                  <a:pt x="6648" y="17116"/>
                  <a:pt x="6648" y="17116"/>
                </a:cubicBezTo>
                <a:cubicBezTo>
                  <a:pt x="7512" y="17524"/>
                  <a:pt x="7945" y="18339"/>
                  <a:pt x="7945" y="19562"/>
                </a:cubicBezTo>
                <a:cubicBezTo>
                  <a:pt x="7945" y="19969"/>
                  <a:pt x="7945" y="19969"/>
                  <a:pt x="7945" y="19969"/>
                </a:cubicBezTo>
                <a:cubicBezTo>
                  <a:pt x="7945" y="20784"/>
                  <a:pt x="8376" y="21600"/>
                  <a:pt x="9240" y="21600"/>
                </a:cubicBezTo>
                <a:cubicBezTo>
                  <a:pt x="9673" y="21600"/>
                  <a:pt x="10104" y="21600"/>
                  <a:pt x="10104" y="21600"/>
                </a:cubicBezTo>
                <a:cubicBezTo>
                  <a:pt x="10537" y="21600"/>
                  <a:pt x="10537" y="21600"/>
                  <a:pt x="10969" y="21600"/>
                </a:cubicBezTo>
                <a:cubicBezTo>
                  <a:pt x="11833" y="21600"/>
                  <a:pt x="12264" y="21192"/>
                  <a:pt x="12696" y="20377"/>
                </a:cubicBezTo>
                <a:cubicBezTo>
                  <a:pt x="12696" y="19562"/>
                  <a:pt x="12696" y="19562"/>
                  <a:pt x="12696" y="19562"/>
                </a:cubicBezTo>
                <a:cubicBezTo>
                  <a:pt x="12696" y="18747"/>
                  <a:pt x="13129" y="17524"/>
                  <a:pt x="13992" y="17116"/>
                </a:cubicBezTo>
                <a:cubicBezTo>
                  <a:pt x="13992" y="17116"/>
                  <a:pt x="13992" y="17116"/>
                  <a:pt x="13992" y="17116"/>
                </a:cubicBezTo>
                <a:cubicBezTo>
                  <a:pt x="14857" y="16709"/>
                  <a:pt x="16153" y="16709"/>
                  <a:pt x="17016" y="17116"/>
                </a:cubicBezTo>
                <a:cubicBezTo>
                  <a:pt x="17881" y="17524"/>
                  <a:pt x="17881" y="17524"/>
                  <a:pt x="17881" y="17524"/>
                </a:cubicBezTo>
                <a:cubicBezTo>
                  <a:pt x="18313" y="17932"/>
                  <a:pt x="19177" y="17932"/>
                  <a:pt x="20041" y="17116"/>
                </a:cubicBezTo>
                <a:cubicBezTo>
                  <a:pt x="20041" y="16709"/>
                  <a:pt x="20473" y="16301"/>
                  <a:pt x="20473" y="15894"/>
                </a:cubicBezTo>
                <a:cubicBezTo>
                  <a:pt x="20905" y="15486"/>
                  <a:pt x="20905" y="14671"/>
                  <a:pt x="20041" y="13856"/>
                </a:cubicBezTo>
                <a:close/>
                <a:moveTo>
                  <a:pt x="10537" y="13856"/>
                </a:moveTo>
                <a:cubicBezTo>
                  <a:pt x="8809" y="13856"/>
                  <a:pt x="7081" y="12633"/>
                  <a:pt x="7512" y="11003"/>
                </a:cubicBezTo>
                <a:cubicBezTo>
                  <a:pt x="7512" y="8966"/>
                  <a:pt x="8809" y="7743"/>
                  <a:pt x="10537" y="7743"/>
                </a:cubicBezTo>
                <a:cubicBezTo>
                  <a:pt x="12696" y="8150"/>
                  <a:pt x="13992" y="9373"/>
                  <a:pt x="13992" y="11003"/>
                </a:cubicBezTo>
                <a:cubicBezTo>
                  <a:pt x="13561" y="12633"/>
                  <a:pt x="12264" y="14264"/>
                  <a:pt x="10537" y="138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3344760" y="3833640"/>
            <a:ext cx="955800" cy="96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53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853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853" y="21600"/>
                </a:cubicBezTo>
                <a:close/>
                <a:moveTo>
                  <a:pt x="10853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853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853" y="534"/>
                </a:cubicBezTo>
                <a:close/>
              </a:path>
            </a:pathLst>
          </a:custGeom>
          <a:solidFill>
            <a:srgbClr val="a8a8a8"/>
          </a:solidFill>
          <a:ln w="9360">
            <a:solidFill>
              <a:srgbClr val="6c7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AutoShape 27"/>
          <p:cNvSpPr/>
          <p:nvPr/>
        </p:nvSpPr>
        <p:spPr>
          <a:xfrm>
            <a:off x="3998880" y="4307040"/>
            <a:ext cx="103320" cy="171360"/>
          </a:xfrm>
          <a:custGeom>
            <a:avLst/>
            <a:gdLst/>
            <a:ahLst/>
            <a:rect l="l" t="t" r="r" b="b"/>
            <a:pathLst>
              <a:path w="21003" h="21600">
                <a:moveTo>
                  <a:pt x="5293" y="2399"/>
                </a:moveTo>
                <a:cubicBezTo>
                  <a:pt x="5293" y="2399"/>
                  <a:pt x="5293" y="2999"/>
                  <a:pt x="5293" y="2999"/>
                </a:cubicBezTo>
                <a:cubicBezTo>
                  <a:pt x="5293" y="2999"/>
                  <a:pt x="5293" y="2999"/>
                  <a:pt x="5293" y="2999"/>
                </a:cubicBezTo>
                <a:cubicBezTo>
                  <a:pt x="5293" y="2999"/>
                  <a:pt x="5293" y="3599"/>
                  <a:pt x="5293" y="3599"/>
                </a:cubicBezTo>
                <a:cubicBezTo>
                  <a:pt x="5293" y="4199"/>
                  <a:pt x="5293" y="4199"/>
                  <a:pt x="5293" y="4799"/>
                </a:cubicBezTo>
                <a:cubicBezTo>
                  <a:pt x="5293" y="4799"/>
                  <a:pt x="5293" y="5399"/>
                  <a:pt x="5293" y="5399"/>
                </a:cubicBezTo>
                <a:cubicBezTo>
                  <a:pt x="5293" y="5999"/>
                  <a:pt x="5293" y="6599"/>
                  <a:pt x="5293" y="6599"/>
                </a:cubicBezTo>
                <a:cubicBezTo>
                  <a:pt x="5293" y="7199"/>
                  <a:pt x="4312" y="7199"/>
                  <a:pt x="4312" y="7799"/>
                </a:cubicBezTo>
                <a:cubicBezTo>
                  <a:pt x="4312" y="7799"/>
                  <a:pt x="4312" y="8399"/>
                  <a:pt x="4312" y="8399"/>
                </a:cubicBezTo>
                <a:cubicBezTo>
                  <a:pt x="4312" y="8999"/>
                  <a:pt x="4312" y="8999"/>
                  <a:pt x="4312" y="9599"/>
                </a:cubicBezTo>
                <a:cubicBezTo>
                  <a:pt x="4312" y="9599"/>
                  <a:pt x="4312" y="10200"/>
                  <a:pt x="3330" y="10800"/>
                </a:cubicBezTo>
                <a:cubicBezTo>
                  <a:pt x="3330" y="10800"/>
                  <a:pt x="3330" y="11399"/>
                  <a:pt x="3330" y="11399"/>
                </a:cubicBezTo>
                <a:cubicBezTo>
                  <a:pt x="3330" y="11999"/>
                  <a:pt x="3330" y="11999"/>
                  <a:pt x="3330" y="12600"/>
                </a:cubicBezTo>
                <a:cubicBezTo>
                  <a:pt x="3330" y="12600"/>
                  <a:pt x="2348" y="13199"/>
                  <a:pt x="2348" y="13199"/>
                </a:cubicBezTo>
                <a:cubicBezTo>
                  <a:pt x="2348" y="13799"/>
                  <a:pt x="2348" y="13799"/>
                  <a:pt x="2348" y="14399"/>
                </a:cubicBezTo>
                <a:cubicBezTo>
                  <a:pt x="2348" y="14399"/>
                  <a:pt x="1366" y="15000"/>
                  <a:pt x="1366" y="15000"/>
                </a:cubicBezTo>
                <a:cubicBezTo>
                  <a:pt x="1366" y="15599"/>
                  <a:pt x="1366" y="15599"/>
                  <a:pt x="1366" y="16199"/>
                </a:cubicBezTo>
                <a:cubicBezTo>
                  <a:pt x="1366" y="16199"/>
                  <a:pt x="384" y="16799"/>
                  <a:pt x="384" y="16799"/>
                </a:cubicBezTo>
                <a:cubicBezTo>
                  <a:pt x="384" y="16799"/>
                  <a:pt x="384" y="17400"/>
                  <a:pt x="384" y="17400"/>
                </a:cubicBezTo>
                <a:cubicBezTo>
                  <a:pt x="-597" y="18599"/>
                  <a:pt x="384" y="20400"/>
                  <a:pt x="2348" y="21000"/>
                </a:cubicBezTo>
                <a:cubicBezTo>
                  <a:pt x="2348" y="21000"/>
                  <a:pt x="2348" y="21000"/>
                  <a:pt x="3330" y="21000"/>
                </a:cubicBezTo>
                <a:cubicBezTo>
                  <a:pt x="3330" y="21000"/>
                  <a:pt x="4312" y="21600"/>
                  <a:pt x="4312" y="21600"/>
                </a:cubicBezTo>
                <a:cubicBezTo>
                  <a:pt x="6275" y="21600"/>
                  <a:pt x="7257" y="21000"/>
                  <a:pt x="7257" y="20400"/>
                </a:cubicBezTo>
                <a:cubicBezTo>
                  <a:pt x="15112" y="15599"/>
                  <a:pt x="19039" y="9599"/>
                  <a:pt x="21002" y="2999"/>
                </a:cubicBezTo>
                <a:cubicBezTo>
                  <a:pt x="21002" y="2399"/>
                  <a:pt x="20021" y="1799"/>
                  <a:pt x="20021" y="1199"/>
                </a:cubicBezTo>
                <a:cubicBezTo>
                  <a:pt x="19039" y="599"/>
                  <a:pt x="18057" y="0"/>
                  <a:pt x="17075" y="0"/>
                </a:cubicBezTo>
                <a:cubicBezTo>
                  <a:pt x="9221" y="0"/>
                  <a:pt x="9221" y="0"/>
                  <a:pt x="9221" y="0"/>
                </a:cubicBezTo>
                <a:cubicBezTo>
                  <a:pt x="7257" y="0"/>
                  <a:pt x="6275" y="1199"/>
                  <a:pt x="5293" y="239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28"/>
          <p:cNvSpPr/>
          <p:nvPr/>
        </p:nvSpPr>
        <p:spPr>
          <a:xfrm>
            <a:off x="3579840" y="4307040"/>
            <a:ext cx="103320" cy="168120"/>
          </a:xfrm>
          <a:custGeom>
            <a:avLst/>
            <a:gdLst/>
            <a:ahLst/>
            <a:rect l="l" t="t" r="r" b="b"/>
            <a:pathLst>
              <a:path w="21025" h="21249">
                <a:moveTo>
                  <a:pt x="19061" y="15000"/>
                </a:moveTo>
                <a:cubicBezTo>
                  <a:pt x="19061" y="15000"/>
                  <a:pt x="19061" y="14399"/>
                  <a:pt x="18079" y="14399"/>
                </a:cubicBezTo>
                <a:cubicBezTo>
                  <a:pt x="18079" y="13799"/>
                  <a:pt x="18079" y="13799"/>
                  <a:pt x="18079" y="13199"/>
                </a:cubicBezTo>
                <a:cubicBezTo>
                  <a:pt x="18079" y="13199"/>
                  <a:pt x="18079" y="12600"/>
                  <a:pt x="18079" y="12600"/>
                </a:cubicBezTo>
                <a:cubicBezTo>
                  <a:pt x="17097" y="11999"/>
                  <a:pt x="17097" y="11999"/>
                  <a:pt x="17097" y="11399"/>
                </a:cubicBezTo>
                <a:cubicBezTo>
                  <a:pt x="17097" y="11399"/>
                  <a:pt x="17097" y="10800"/>
                  <a:pt x="17097" y="10800"/>
                </a:cubicBezTo>
                <a:cubicBezTo>
                  <a:pt x="17097" y="10200"/>
                  <a:pt x="17097" y="9599"/>
                  <a:pt x="16115" y="9599"/>
                </a:cubicBezTo>
                <a:cubicBezTo>
                  <a:pt x="16115" y="8999"/>
                  <a:pt x="16115" y="8999"/>
                  <a:pt x="16115" y="8399"/>
                </a:cubicBezTo>
                <a:cubicBezTo>
                  <a:pt x="16115" y="8399"/>
                  <a:pt x="16115" y="7799"/>
                  <a:pt x="16115" y="7799"/>
                </a:cubicBezTo>
                <a:cubicBezTo>
                  <a:pt x="16115" y="7199"/>
                  <a:pt x="16115" y="7199"/>
                  <a:pt x="16115" y="6599"/>
                </a:cubicBezTo>
                <a:cubicBezTo>
                  <a:pt x="16115" y="6599"/>
                  <a:pt x="15134" y="5999"/>
                  <a:pt x="15134" y="5399"/>
                </a:cubicBezTo>
                <a:cubicBezTo>
                  <a:pt x="15134" y="5399"/>
                  <a:pt x="15134" y="4799"/>
                  <a:pt x="15134" y="4799"/>
                </a:cubicBezTo>
                <a:cubicBezTo>
                  <a:pt x="15134" y="4199"/>
                  <a:pt x="15134" y="4199"/>
                  <a:pt x="15134" y="3599"/>
                </a:cubicBezTo>
                <a:cubicBezTo>
                  <a:pt x="15134" y="3599"/>
                  <a:pt x="15134" y="2999"/>
                  <a:pt x="15134" y="2999"/>
                </a:cubicBezTo>
                <a:cubicBezTo>
                  <a:pt x="15134" y="2999"/>
                  <a:pt x="15134" y="2999"/>
                  <a:pt x="15134" y="2999"/>
                </a:cubicBezTo>
                <a:cubicBezTo>
                  <a:pt x="15134" y="2999"/>
                  <a:pt x="15134" y="2399"/>
                  <a:pt x="15134" y="2399"/>
                </a:cubicBezTo>
                <a:cubicBezTo>
                  <a:pt x="15134" y="1199"/>
                  <a:pt x="13170" y="0"/>
                  <a:pt x="11206" y="0"/>
                </a:cubicBezTo>
                <a:cubicBezTo>
                  <a:pt x="4334" y="0"/>
                  <a:pt x="4334" y="0"/>
                  <a:pt x="4334" y="0"/>
                </a:cubicBezTo>
                <a:cubicBezTo>
                  <a:pt x="2370" y="0"/>
                  <a:pt x="1388" y="599"/>
                  <a:pt x="1388" y="1199"/>
                </a:cubicBezTo>
                <a:cubicBezTo>
                  <a:pt x="406" y="1799"/>
                  <a:pt x="-575" y="2399"/>
                  <a:pt x="406" y="2999"/>
                </a:cubicBezTo>
                <a:cubicBezTo>
                  <a:pt x="1388" y="9599"/>
                  <a:pt x="6297" y="15599"/>
                  <a:pt x="13170" y="20400"/>
                </a:cubicBezTo>
                <a:cubicBezTo>
                  <a:pt x="14152" y="21000"/>
                  <a:pt x="16115" y="21600"/>
                  <a:pt x="18079" y="21000"/>
                </a:cubicBezTo>
                <a:cubicBezTo>
                  <a:pt x="18079" y="21000"/>
                  <a:pt x="18079" y="21000"/>
                  <a:pt x="19061" y="21000"/>
                </a:cubicBezTo>
                <a:cubicBezTo>
                  <a:pt x="20043" y="20400"/>
                  <a:pt x="21024" y="18599"/>
                  <a:pt x="21024" y="17400"/>
                </a:cubicBezTo>
                <a:cubicBezTo>
                  <a:pt x="20043" y="17400"/>
                  <a:pt x="20043" y="17400"/>
                  <a:pt x="20043" y="17400"/>
                </a:cubicBezTo>
                <a:cubicBezTo>
                  <a:pt x="20043" y="16799"/>
                  <a:pt x="20043" y="16199"/>
                  <a:pt x="19061" y="16199"/>
                </a:cubicBezTo>
                <a:cubicBezTo>
                  <a:pt x="19061" y="15599"/>
                  <a:pt x="19061" y="15599"/>
                  <a:pt x="19061" y="150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AutoShape 29"/>
          <p:cNvSpPr/>
          <p:nvPr/>
        </p:nvSpPr>
        <p:spPr>
          <a:xfrm>
            <a:off x="3854520" y="4307040"/>
            <a:ext cx="15228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0"/>
                </a:moveTo>
                <a:cubicBezTo>
                  <a:pt x="2025" y="0"/>
                  <a:pt x="2025" y="0"/>
                  <a:pt x="2025" y="0"/>
                </a:cubicBezTo>
                <a:cubicBezTo>
                  <a:pt x="675" y="0"/>
                  <a:pt x="0" y="1439"/>
                  <a:pt x="0" y="2879"/>
                </a:cubicBezTo>
                <a:cubicBezTo>
                  <a:pt x="0" y="16559"/>
                  <a:pt x="0" y="16559"/>
                  <a:pt x="0" y="16559"/>
                </a:cubicBezTo>
                <a:cubicBezTo>
                  <a:pt x="0" y="18000"/>
                  <a:pt x="675" y="19440"/>
                  <a:pt x="2025" y="19440"/>
                </a:cubicBezTo>
                <a:cubicBezTo>
                  <a:pt x="2025" y="19440"/>
                  <a:pt x="2700" y="19440"/>
                  <a:pt x="2700" y="19440"/>
                </a:cubicBezTo>
                <a:cubicBezTo>
                  <a:pt x="2700" y="19440"/>
                  <a:pt x="2700" y="19440"/>
                  <a:pt x="2700" y="19440"/>
                </a:cubicBezTo>
                <a:cubicBezTo>
                  <a:pt x="3375" y="19440"/>
                  <a:pt x="4725" y="19440"/>
                  <a:pt x="5400" y="19440"/>
                </a:cubicBezTo>
                <a:cubicBezTo>
                  <a:pt x="5400" y="19440"/>
                  <a:pt x="5400" y="19440"/>
                  <a:pt x="5400" y="19440"/>
                </a:cubicBezTo>
                <a:cubicBezTo>
                  <a:pt x="6075" y="19440"/>
                  <a:pt x="7425" y="20160"/>
                  <a:pt x="8100" y="20160"/>
                </a:cubicBezTo>
                <a:cubicBezTo>
                  <a:pt x="8100" y="20160"/>
                  <a:pt x="8775" y="20160"/>
                  <a:pt x="8775" y="20160"/>
                </a:cubicBezTo>
                <a:cubicBezTo>
                  <a:pt x="9450" y="20160"/>
                  <a:pt x="10125" y="20879"/>
                  <a:pt x="10800" y="20879"/>
                </a:cubicBezTo>
                <a:cubicBezTo>
                  <a:pt x="11475" y="20879"/>
                  <a:pt x="11475" y="20879"/>
                  <a:pt x="11475" y="20879"/>
                </a:cubicBezTo>
                <a:cubicBezTo>
                  <a:pt x="12150" y="20879"/>
                  <a:pt x="12150" y="20879"/>
                  <a:pt x="12150" y="20879"/>
                </a:cubicBezTo>
                <a:cubicBezTo>
                  <a:pt x="12150" y="20879"/>
                  <a:pt x="12825" y="20879"/>
                  <a:pt x="12825" y="20879"/>
                </a:cubicBezTo>
                <a:cubicBezTo>
                  <a:pt x="13500" y="21600"/>
                  <a:pt x="14175" y="21600"/>
                  <a:pt x="14175" y="21600"/>
                </a:cubicBezTo>
                <a:cubicBezTo>
                  <a:pt x="14850" y="21600"/>
                  <a:pt x="14850" y="21600"/>
                  <a:pt x="15525" y="21600"/>
                </a:cubicBezTo>
                <a:cubicBezTo>
                  <a:pt x="16200" y="21600"/>
                  <a:pt x="17550" y="20879"/>
                  <a:pt x="17550" y="20160"/>
                </a:cubicBezTo>
                <a:cubicBezTo>
                  <a:pt x="17550" y="20160"/>
                  <a:pt x="17550" y="19440"/>
                  <a:pt x="17550" y="19440"/>
                </a:cubicBezTo>
                <a:cubicBezTo>
                  <a:pt x="18225" y="18720"/>
                  <a:pt x="18225" y="18720"/>
                  <a:pt x="18225" y="18000"/>
                </a:cubicBezTo>
                <a:cubicBezTo>
                  <a:pt x="18225" y="18000"/>
                  <a:pt x="18225" y="18000"/>
                  <a:pt x="18225" y="18000"/>
                </a:cubicBezTo>
                <a:cubicBezTo>
                  <a:pt x="19575" y="14399"/>
                  <a:pt x="20250" y="10800"/>
                  <a:pt x="20925" y="7199"/>
                </a:cubicBezTo>
                <a:cubicBezTo>
                  <a:pt x="20925" y="7199"/>
                  <a:pt x="20925" y="7199"/>
                  <a:pt x="20925" y="7199"/>
                </a:cubicBezTo>
                <a:cubicBezTo>
                  <a:pt x="20925" y="6479"/>
                  <a:pt x="20925" y="5759"/>
                  <a:pt x="20925" y="5039"/>
                </a:cubicBezTo>
                <a:cubicBezTo>
                  <a:pt x="20925" y="5039"/>
                  <a:pt x="20925" y="5039"/>
                  <a:pt x="20925" y="4319"/>
                </a:cubicBezTo>
                <a:cubicBezTo>
                  <a:pt x="20925" y="4319"/>
                  <a:pt x="20925" y="3599"/>
                  <a:pt x="21600" y="3599"/>
                </a:cubicBezTo>
                <a:cubicBezTo>
                  <a:pt x="21600" y="2159"/>
                  <a:pt x="20925" y="1439"/>
                  <a:pt x="20250" y="1439"/>
                </a:cubicBezTo>
                <a:cubicBezTo>
                  <a:pt x="20250" y="719"/>
                  <a:pt x="19575" y="0"/>
                  <a:pt x="18900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AutoShape 30"/>
          <p:cNvSpPr/>
          <p:nvPr/>
        </p:nvSpPr>
        <p:spPr>
          <a:xfrm>
            <a:off x="3679920" y="4307040"/>
            <a:ext cx="15084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6559"/>
                </a:moveTo>
                <a:cubicBezTo>
                  <a:pt x="21600" y="2879"/>
                  <a:pt x="21600" y="2879"/>
                  <a:pt x="21600" y="2879"/>
                </a:cubicBezTo>
                <a:cubicBezTo>
                  <a:pt x="21600" y="1439"/>
                  <a:pt x="20250" y="0"/>
                  <a:pt x="18900" y="0"/>
                </a:cubicBezTo>
                <a:cubicBezTo>
                  <a:pt x="2700" y="0"/>
                  <a:pt x="2700" y="0"/>
                  <a:pt x="2700" y="0"/>
                </a:cubicBezTo>
                <a:cubicBezTo>
                  <a:pt x="2025" y="0"/>
                  <a:pt x="675" y="719"/>
                  <a:pt x="675" y="1439"/>
                </a:cubicBezTo>
                <a:cubicBezTo>
                  <a:pt x="0" y="1439"/>
                  <a:pt x="0" y="2159"/>
                  <a:pt x="0" y="3599"/>
                </a:cubicBezTo>
                <a:cubicBezTo>
                  <a:pt x="0" y="3599"/>
                  <a:pt x="0" y="4319"/>
                  <a:pt x="0" y="4319"/>
                </a:cubicBezTo>
                <a:cubicBezTo>
                  <a:pt x="0" y="4319"/>
                  <a:pt x="0" y="5039"/>
                  <a:pt x="0" y="5039"/>
                </a:cubicBezTo>
                <a:cubicBezTo>
                  <a:pt x="0" y="5759"/>
                  <a:pt x="0" y="6479"/>
                  <a:pt x="0" y="7199"/>
                </a:cubicBezTo>
                <a:cubicBezTo>
                  <a:pt x="0" y="7199"/>
                  <a:pt x="0" y="7199"/>
                  <a:pt x="0" y="7199"/>
                </a:cubicBezTo>
                <a:cubicBezTo>
                  <a:pt x="675" y="10800"/>
                  <a:pt x="1350" y="14399"/>
                  <a:pt x="2700" y="18000"/>
                </a:cubicBezTo>
                <a:cubicBezTo>
                  <a:pt x="2700" y="18000"/>
                  <a:pt x="2700" y="18000"/>
                  <a:pt x="2700" y="18000"/>
                </a:cubicBezTo>
                <a:cubicBezTo>
                  <a:pt x="2700" y="18720"/>
                  <a:pt x="3375" y="18720"/>
                  <a:pt x="3375" y="19440"/>
                </a:cubicBezTo>
                <a:cubicBezTo>
                  <a:pt x="3375" y="19440"/>
                  <a:pt x="3375" y="20160"/>
                  <a:pt x="3375" y="20160"/>
                </a:cubicBezTo>
                <a:cubicBezTo>
                  <a:pt x="4050" y="20879"/>
                  <a:pt x="4725" y="21600"/>
                  <a:pt x="6075" y="21600"/>
                </a:cubicBezTo>
                <a:cubicBezTo>
                  <a:pt x="6075" y="21600"/>
                  <a:pt x="6075" y="21600"/>
                  <a:pt x="6075" y="21600"/>
                </a:cubicBezTo>
                <a:cubicBezTo>
                  <a:pt x="6075" y="21600"/>
                  <a:pt x="6075" y="21600"/>
                  <a:pt x="6750" y="21600"/>
                </a:cubicBezTo>
                <a:cubicBezTo>
                  <a:pt x="7425" y="21600"/>
                  <a:pt x="8100" y="21600"/>
                  <a:pt x="8100" y="20879"/>
                </a:cubicBezTo>
                <a:cubicBezTo>
                  <a:pt x="8775" y="20879"/>
                  <a:pt x="8775" y="20879"/>
                  <a:pt x="8775" y="20879"/>
                </a:cubicBezTo>
                <a:cubicBezTo>
                  <a:pt x="8775" y="20879"/>
                  <a:pt x="8775" y="20879"/>
                  <a:pt x="9450" y="20879"/>
                </a:cubicBezTo>
                <a:cubicBezTo>
                  <a:pt x="9450" y="20879"/>
                  <a:pt x="10125" y="20879"/>
                  <a:pt x="10125" y="20879"/>
                </a:cubicBezTo>
                <a:cubicBezTo>
                  <a:pt x="10800" y="20879"/>
                  <a:pt x="11475" y="20160"/>
                  <a:pt x="12150" y="20160"/>
                </a:cubicBezTo>
                <a:cubicBezTo>
                  <a:pt x="12150" y="20160"/>
                  <a:pt x="12825" y="20160"/>
                  <a:pt x="12825" y="20160"/>
                </a:cubicBezTo>
                <a:cubicBezTo>
                  <a:pt x="14175" y="20160"/>
                  <a:pt x="14850" y="19440"/>
                  <a:pt x="15525" y="19440"/>
                </a:cubicBezTo>
                <a:cubicBezTo>
                  <a:pt x="15525" y="19440"/>
                  <a:pt x="15525" y="19440"/>
                  <a:pt x="15525" y="19440"/>
                </a:cubicBezTo>
                <a:cubicBezTo>
                  <a:pt x="16875" y="19440"/>
                  <a:pt x="17550" y="19440"/>
                  <a:pt x="18225" y="19440"/>
                </a:cubicBezTo>
                <a:cubicBezTo>
                  <a:pt x="18225" y="19440"/>
                  <a:pt x="18225" y="19440"/>
                  <a:pt x="18225" y="19440"/>
                </a:cubicBezTo>
                <a:cubicBezTo>
                  <a:pt x="18900" y="19440"/>
                  <a:pt x="18900" y="19440"/>
                  <a:pt x="18900" y="19440"/>
                </a:cubicBezTo>
                <a:cubicBezTo>
                  <a:pt x="20250" y="19440"/>
                  <a:pt x="21600" y="18000"/>
                  <a:pt x="21600" y="1655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AutoShape 31"/>
          <p:cNvSpPr/>
          <p:nvPr/>
        </p:nvSpPr>
        <p:spPr>
          <a:xfrm>
            <a:off x="3728880" y="4459320"/>
            <a:ext cx="10188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42" y="20520"/>
                </a:moveTo>
                <a:cubicBezTo>
                  <a:pt x="20571" y="19440"/>
                  <a:pt x="21600" y="18360"/>
                  <a:pt x="21600" y="17280"/>
                </a:cubicBezTo>
                <a:cubicBezTo>
                  <a:pt x="21600" y="4320"/>
                  <a:pt x="21600" y="4320"/>
                  <a:pt x="21600" y="4320"/>
                </a:cubicBezTo>
                <a:cubicBezTo>
                  <a:pt x="21600" y="3240"/>
                  <a:pt x="20571" y="1080"/>
                  <a:pt x="19542" y="1080"/>
                </a:cubicBezTo>
                <a:cubicBezTo>
                  <a:pt x="19542" y="0"/>
                  <a:pt x="18514" y="0"/>
                  <a:pt x="17485" y="0"/>
                </a:cubicBezTo>
                <a:cubicBezTo>
                  <a:pt x="15428" y="0"/>
                  <a:pt x="14399" y="0"/>
                  <a:pt x="13371" y="0"/>
                </a:cubicBezTo>
                <a:cubicBezTo>
                  <a:pt x="13371" y="0"/>
                  <a:pt x="13371" y="0"/>
                  <a:pt x="13371" y="0"/>
                </a:cubicBezTo>
                <a:cubicBezTo>
                  <a:pt x="12342" y="0"/>
                  <a:pt x="10285" y="0"/>
                  <a:pt x="9257" y="1080"/>
                </a:cubicBezTo>
                <a:cubicBezTo>
                  <a:pt x="9257" y="1080"/>
                  <a:pt x="8228" y="1080"/>
                  <a:pt x="8228" y="1080"/>
                </a:cubicBezTo>
                <a:cubicBezTo>
                  <a:pt x="7199" y="1080"/>
                  <a:pt x="6171" y="1080"/>
                  <a:pt x="5142" y="1080"/>
                </a:cubicBezTo>
                <a:cubicBezTo>
                  <a:pt x="5142" y="1080"/>
                  <a:pt x="4114" y="2160"/>
                  <a:pt x="4114" y="2160"/>
                </a:cubicBezTo>
                <a:cubicBezTo>
                  <a:pt x="4114" y="2160"/>
                  <a:pt x="3085" y="2160"/>
                  <a:pt x="3085" y="2160"/>
                </a:cubicBezTo>
                <a:cubicBezTo>
                  <a:pt x="2057" y="2160"/>
                  <a:pt x="1028" y="3240"/>
                  <a:pt x="0" y="4320"/>
                </a:cubicBezTo>
                <a:cubicBezTo>
                  <a:pt x="0" y="6480"/>
                  <a:pt x="0" y="7560"/>
                  <a:pt x="1028" y="8640"/>
                </a:cubicBezTo>
                <a:cubicBezTo>
                  <a:pt x="1028" y="8640"/>
                  <a:pt x="1028" y="8640"/>
                  <a:pt x="1028" y="8640"/>
                </a:cubicBezTo>
                <a:cubicBezTo>
                  <a:pt x="1028" y="9720"/>
                  <a:pt x="2057" y="9720"/>
                  <a:pt x="2057" y="10800"/>
                </a:cubicBezTo>
                <a:cubicBezTo>
                  <a:pt x="2057" y="10800"/>
                  <a:pt x="2057" y="10800"/>
                  <a:pt x="3085" y="10800"/>
                </a:cubicBezTo>
                <a:cubicBezTo>
                  <a:pt x="3085" y="11880"/>
                  <a:pt x="4114" y="11880"/>
                  <a:pt x="4114" y="12960"/>
                </a:cubicBezTo>
                <a:cubicBezTo>
                  <a:pt x="4114" y="12960"/>
                  <a:pt x="5142" y="12960"/>
                  <a:pt x="5142" y="14040"/>
                </a:cubicBezTo>
                <a:cubicBezTo>
                  <a:pt x="5142" y="14040"/>
                  <a:pt x="5142" y="14040"/>
                  <a:pt x="6171" y="15120"/>
                </a:cubicBezTo>
                <a:cubicBezTo>
                  <a:pt x="6171" y="15120"/>
                  <a:pt x="6171" y="15120"/>
                  <a:pt x="7199" y="15120"/>
                </a:cubicBezTo>
                <a:cubicBezTo>
                  <a:pt x="7199" y="16199"/>
                  <a:pt x="7199" y="16199"/>
                  <a:pt x="7199" y="16199"/>
                </a:cubicBezTo>
                <a:cubicBezTo>
                  <a:pt x="8228" y="16199"/>
                  <a:pt x="8228" y="16199"/>
                  <a:pt x="9257" y="17280"/>
                </a:cubicBezTo>
                <a:cubicBezTo>
                  <a:pt x="9257" y="17280"/>
                  <a:pt x="9257" y="17280"/>
                  <a:pt x="9257" y="17280"/>
                </a:cubicBezTo>
                <a:cubicBezTo>
                  <a:pt x="10285" y="17280"/>
                  <a:pt x="10285" y="18360"/>
                  <a:pt x="10285" y="18360"/>
                </a:cubicBezTo>
                <a:cubicBezTo>
                  <a:pt x="11314" y="18360"/>
                  <a:pt x="11314" y="18360"/>
                  <a:pt x="11314" y="18360"/>
                </a:cubicBezTo>
                <a:cubicBezTo>
                  <a:pt x="11314" y="19440"/>
                  <a:pt x="12342" y="19440"/>
                  <a:pt x="12342" y="19440"/>
                </a:cubicBezTo>
                <a:cubicBezTo>
                  <a:pt x="12342" y="19440"/>
                  <a:pt x="12342" y="19440"/>
                  <a:pt x="13371" y="19440"/>
                </a:cubicBezTo>
                <a:cubicBezTo>
                  <a:pt x="13371" y="19440"/>
                  <a:pt x="14399" y="20520"/>
                  <a:pt x="14399" y="20520"/>
                </a:cubicBezTo>
                <a:cubicBezTo>
                  <a:pt x="14399" y="20520"/>
                  <a:pt x="14399" y="20520"/>
                  <a:pt x="14399" y="20520"/>
                </a:cubicBezTo>
                <a:cubicBezTo>
                  <a:pt x="15428" y="20520"/>
                  <a:pt x="15428" y="20520"/>
                  <a:pt x="16457" y="21599"/>
                </a:cubicBezTo>
                <a:cubicBezTo>
                  <a:pt x="17485" y="21599"/>
                  <a:pt x="18514" y="21599"/>
                  <a:pt x="19542" y="2052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utoShape 32"/>
          <p:cNvSpPr/>
          <p:nvPr/>
        </p:nvSpPr>
        <p:spPr>
          <a:xfrm>
            <a:off x="3854520" y="4459320"/>
            <a:ext cx="9504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99" y="4320"/>
                </a:moveTo>
                <a:cubicBezTo>
                  <a:pt x="20520" y="3240"/>
                  <a:pt x="19440" y="2160"/>
                  <a:pt x="18360" y="2160"/>
                </a:cubicBezTo>
                <a:cubicBezTo>
                  <a:pt x="18360" y="2160"/>
                  <a:pt x="18360" y="2160"/>
                  <a:pt x="17280" y="2160"/>
                </a:cubicBezTo>
                <a:cubicBezTo>
                  <a:pt x="17280" y="2160"/>
                  <a:pt x="17280" y="2160"/>
                  <a:pt x="16199" y="1080"/>
                </a:cubicBezTo>
                <a:cubicBezTo>
                  <a:pt x="15120" y="1080"/>
                  <a:pt x="14040" y="1080"/>
                  <a:pt x="12960" y="1080"/>
                </a:cubicBezTo>
                <a:cubicBezTo>
                  <a:pt x="12960" y="1080"/>
                  <a:pt x="12960" y="1080"/>
                  <a:pt x="11880" y="1080"/>
                </a:cubicBezTo>
                <a:cubicBezTo>
                  <a:pt x="10800" y="0"/>
                  <a:pt x="9720" y="0"/>
                  <a:pt x="8640" y="0"/>
                </a:cubicBezTo>
                <a:cubicBezTo>
                  <a:pt x="7560" y="0"/>
                  <a:pt x="7560" y="0"/>
                  <a:pt x="7560" y="0"/>
                </a:cubicBezTo>
                <a:cubicBezTo>
                  <a:pt x="6480" y="0"/>
                  <a:pt x="5400" y="0"/>
                  <a:pt x="3240" y="0"/>
                </a:cubicBezTo>
                <a:cubicBezTo>
                  <a:pt x="2160" y="0"/>
                  <a:pt x="2160" y="0"/>
                  <a:pt x="1080" y="1080"/>
                </a:cubicBezTo>
                <a:cubicBezTo>
                  <a:pt x="0" y="1080"/>
                  <a:pt x="0" y="3240"/>
                  <a:pt x="0" y="4320"/>
                </a:cubicBezTo>
                <a:cubicBezTo>
                  <a:pt x="0" y="17280"/>
                  <a:pt x="0" y="17280"/>
                  <a:pt x="0" y="17280"/>
                </a:cubicBezTo>
                <a:cubicBezTo>
                  <a:pt x="0" y="18360"/>
                  <a:pt x="0" y="19440"/>
                  <a:pt x="1080" y="20520"/>
                </a:cubicBezTo>
                <a:cubicBezTo>
                  <a:pt x="2160" y="21599"/>
                  <a:pt x="3240" y="21599"/>
                  <a:pt x="5400" y="21599"/>
                </a:cubicBezTo>
                <a:cubicBezTo>
                  <a:pt x="5400" y="20520"/>
                  <a:pt x="6480" y="20520"/>
                  <a:pt x="6480" y="20520"/>
                </a:cubicBezTo>
                <a:cubicBezTo>
                  <a:pt x="6480" y="20520"/>
                  <a:pt x="6480" y="20520"/>
                  <a:pt x="6480" y="20520"/>
                </a:cubicBezTo>
                <a:cubicBezTo>
                  <a:pt x="7560" y="20520"/>
                  <a:pt x="7560" y="19440"/>
                  <a:pt x="8640" y="19440"/>
                </a:cubicBezTo>
                <a:cubicBezTo>
                  <a:pt x="8640" y="19440"/>
                  <a:pt x="8640" y="19440"/>
                  <a:pt x="8640" y="19440"/>
                </a:cubicBezTo>
                <a:cubicBezTo>
                  <a:pt x="8640" y="19440"/>
                  <a:pt x="9720" y="19440"/>
                  <a:pt x="9720" y="18360"/>
                </a:cubicBezTo>
                <a:cubicBezTo>
                  <a:pt x="10800" y="18360"/>
                  <a:pt x="10800" y="18360"/>
                  <a:pt x="10800" y="18360"/>
                </a:cubicBezTo>
                <a:cubicBezTo>
                  <a:pt x="10800" y="18360"/>
                  <a:pt x="11880" y="17280"/>
                  <a:pt x="11880" y="17280"/>
                </a:cubicBezTo>
                <a:cubicBezTo>
                  <a:pt x="11880" y="17280"/>
                  <a:pt x="11880" y="17280"/>
                  <a:pt x="12960" y="17280"/>
                </a:cubicBezTo>
                <a:cubicBezTo>
                  <a:pt x="12960" y="16199"/>
                  <a:pt x="12960" y="16199"/>
                  <a:pt x="14040" y="16199"/>
                </a:cubicBezTo>
                <a:cubicBezTo>
                  <a:pt x="14040" y="16199"/>
                  <a:pt x="14040" y="16199"/>
                  <a:pt x="15120" y="15120"/>
                </a:cubicBezTo>
                <a:cubicBezTo>
                  <a:pt x="15120" y="15120"/>
                  <a:pt x="15120" y="15120"/>
                  <a:pt x="15120" y="15120"/>
                </a:cubicBezTo>
                <a:cubicBezTo>
                  <a:pt x="16199" y="14040"/>
                  <a:pt x="16199" y="14040"/>
                  <a:pt x="16199" y="14040"/>
                </a:cubicBezTo>
                <a:cubicBezTo>
                  <a:pt x="17280" y="12960"/>
                  <a:pt x="17280" y="12960"/>
                  <a:pt x="17280" y="12960"/>
                </a:cubicBezTo>
                <a:cubicBezTo>
                  <a:pt x="18360" y="11880"/>
                  <a:pt x="18360" y="11880"/>
                  <a:pt x="19440" y="10800"/>
                </a:cubicBezTo>
                <a:cubicBezTo>
                  <a:pt x="19440" y="10800"/>
                  <a:pt x="19440" y="10800"/>
                  <a:pt x="19440" y="10800"/>
                </a:cubicBezTo>
                <a:cubicBezTo>
                  <a:pt x="19440" y="9720"/>
                  <a:pt x="20520" y="9720"/>
                  <a:pt x="20520" y="8640"/>
                </a:cubicBezTo>
                <a:cubicBezTo>
                  <a:pt x="20520" y="8640"/>
                  <a:pt x="20520" y="8640"/>
                  <a:pt x="20520" y="8640"/>
                </a:cubicBezTo>
                <a:cubicBezTo>
                  <a:pt x="21599" y="7560"/>
                  <a:pt x="21599" y="6480"/>
                  <a:pt x="21599" y="432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utoShape 33"/>
          <p:cNvSpPr/>
          <p:nvPr/>
        </p:nvSpPr>
        <p:spPr>
          <a:xfrm>
            <a:off x="3998880" y="4121280"/>
            <a:ext cx="103320" cy="166680"/>
          </a:xfrm>
          <a:custGeom>
            <a:avLst/>
            <a:gdLst/>
            <a:ahLst/>
            <a:rect l="l" t="t" r="r" b="b"/>
            <a:pathLst>
              <a:path w="21003" h="21600">
                <a:moveTo>
                  <a:pt x="5293" y="19131"/>
                </a:moveTo>
                <a:cubicBezTo>
                  <a:pt x="5293" y="19131"/>
                  <a:pt x="5293" y="19131"/>
                  <a:pt x="5293" y="18514"/>
                </a:cubicBezTo>
                <a:cubicBezTo>
                  <a:pt x="5293" y="18514"/>
                  <a:pt x="5293" y="18514"/>
                  <a:pt x="5293" y="18514"/>
                </a:cubicBezTo>
                <a:cubicBezTo>
                  <a:pt x="5293" y="18514"/>
                  <a:pt x="5293" y="17897"/>
                  <a:pt x="5293" y="17897"/>
                </a:cubicBezTo>
                <a:cubicBezTo>
                  <a:pt x="5293" y="17280"/>
                  <a:pt x="5293" y="17280"/>
                  <a:pt x="5293" y="16662"/>
                </a:cubicBezTo>
                <a:cubicBezTo>
                  <a:pt x="5293" y="16662"/>
                  <a:pt x="5293" y="16045"/>
                  <a:pt x="5293" y="16045"/>
                </a:cubicBezTo>
                <a:cubicBezTo>
                  <a:pt x="5293" y="15428"/>
                  <a:pt x="5293" y="15428"/>
                  <a:pt x="5293" y="14811"/>
                </a:cubicBezTo>
                <a:cubicBezTo>
                  <a:pt x="5293" y="14811"/>
                  <a:pt x="4312" y="14194"/>
                  <a:pt x="4312" y="14194"/>
                </a:cubicBezTo>
                <a:cubicBezTo>
                  <a:pt x="4312" y="13577"/>
                  <a:pt x="4312" y="12960"/>
                  <a:pt x="4312" y="12960"/>
                </a:cubicBezTo>
                <a:cubicBezTo>
                  <a:pt x="4312" y="12342"/>
                  <a:pt x="4312" y="12342"/>
                  <a:pt x="4312" y="11725"/>
                </a:cubicBezTo>
                <a:cubicBezTo>
                  <a:pt x="4312" y="11725"/>
                  <a:pt x="4312" y="11108"/>
                  <a:pt x="3330" y="11108"/>
                </a:cubicBezTo>
                <a:cubicBezTo>
                  <a:pt x="3330" y="10491"/>
                  <a:pt x="3330" y="10491"/>
                  <a:pt x="3330" y="9874"/>
                </a:cubicBezTo>
                <a:cubicBezTo>
                  <a:pt x="3330" y="9874"/>
                  <a:pt x="3330" y="9257"/>
                  <a:pt x="3330" y="9257"/>
                </a:cubicBezTo>
                <a:cubicBezTo>
                  <a:pt x="3330" y="8640"/>
                  <a:pt x="2348" y="8640"/>
                  <a:pt x="2348" y="8022"/>
                </a:cubicBezTo>
                <a:cubicBezTo>
                  <a:pt x="2348" y="8022"/>
                  <a:pt x="2348" y="7405"/>
                  <a:pt x="2348" y="7405"/>
                </a:cubicBezTo>
                <a:cubicBezTo>
                  <a:pt x="2348" y="6788"/>
                  <a:pt x="1366" y="6788"/>
                  <a:pt x="1366" y="6171"/>
                </a:cubicBezTo>
                <a:cubicBezTo>
                  <a:pt x="1366" y="6171"/>
                  <a:pt x="1366" y="5554"/>
                  <a:pt x="1366" y="5554"/>
                </a:cubicBezTo>
                <a:cubicBezTo>
                  <a:pt x="1366" y="4937"/>
                  <a:pt x="384" y="4937"/>
                  <a:pt x="384" y="4320"/>
                </a:cubicBezTo>
                <a:cubicBezTo>
                  <a:pt x="384" y="4320"/>
                  <a:pt x="384" y="3702"/>
                  <a:pt x="384" y="3702"/>
                </a:cubicBezTo>
                <a:cubicBezTo>
                  <a:pt x="-597" y="2468"/>
                  <a:pt x="384" y="1234"/>
                  <a:pt x="2348" y="617"/>
                </a:cubicBezTo>
                <a:cubicBezTo>
                  <a:pt x="2348" y="617"/>
                  <a:pt x="2348" y="0"/>
                  <a:pt x="3330" y="0"/>
                </a:cubicBezTo>
                <a:cubicBezTo>
                  <a:pt x="3330" y="0"/>
                  <a:pt x="4312" y="0"/>
                  <a:pt x="4312" y="0"/>
                </a:cubicBezTo>
                <a:cubicBezTo>
                  <a:pt x="6275" y="0"/>
                  <a:pt x="7257" y="0"/>
                  <a:pt x="7257" y="617"/>
                </a:cubicBezTo>
                <a:cubicBezTo>
                  <a:pt x="15112" y="5554"/>
                  <a:pt x="19039" y="12342"/>
                  <a:pt x="21002" y="18514"/>
                </a:cubicBezTo>
                <a:cubicBezTo>
                  <a:pt x="21002" y="19748"/>
                  <a:pt x="20021" y="20365"/>
                  <a:pt x="20021" y="20982"/>
                </a:cubicBezTo>
                <a:cubicBezTo>
                  <a:pt x="19039" y="20982"/>
                  <a:pt x="18057" y="21599"/>
                  <a:pt x="17075" y="21599"/>
                </a:cubicBezTo>
                <a:cubicBezTo>
                  <a:pt x="9221" y="21599"/>
                  <a:pt x="9221" y="21599"/>
                  <a:pt x="9221" y="21599"/>
                </a:cubicBezTo>
                <a:cubicBezTo>
                  <a:pt x="7257" y="21599"/>
                  <a:pt x="6275" y="20365"/>
                  <a:pt x="5293" y="19131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34"/>
          <p:cNvSpPr/>
          <p:nvPr/>
        </p:nvSpPr>
        <p:spPr>
          <a:xfrm>
            <a:off x="3579840" y="4118040"/>
            <a:ext cx="103320" cy="169920"/>
          </a:xfrm>
          <a:custGeom>
            <a:avLst/>
            <a:gdLst/>
            <a:ahLst/>
            <a:rect l="l" t="t" r="r" b="b"/>
            <a:pathLst>
              <a:path w="21025" h="21249">
                <a:moveTo>
                  <a:pt x="19061" y="6248"/>
                </a:moveTo>
                <a:cubicBezTo>
                  <a:pt x="19061" y="6248"/>
                  <a:pt x="19061" y="6848"/>
                  <a:pt x="18079" y="7448"/>
                </a:cubicBezTo>
                <a:cubicBezTo>
                  <a:pt x="18079" y="7448"/>
                  <a:pt x="18079" y="7448"/>
                  <a:pt x="18079" y="8048"/>
                </a:cubicBezTo>
                <a:cubicBezTo>
                  <a:pt x="18079" y="8048"/>
                  <a:pt x="18079" y="8648"/>
                  <a:pt x="18079" y="9248"/>
                </a:cubicBezTo>
                <a:cubicBezTo>
                  <a:pt x="17097" y="9248"/>
                  <a:pt x="17097" y="9848"/>
                  <a:pt x="17097" y="9848"/>
                </a:cubicBezTo>
                <a:cubicBezTo>
                  <a:pt x="17097" y="10449"/>
                  <a:pt x="17097" y="10449"/>
                  <a:pt x="17097" y="11048"/>
                </a:cubicBezTo>
                <a:cubicBezTo>
                  <a:pt x="17097" y="11048"/>
                  <a:pt x="17097" y="11648"/>
                  <a:pt x="16115" y="11648"/>
                </a:cubicBezTo>
                <a:cubicBezTo>
                  <a:pt x="16115" y="12248"/>
                  <a:pt x="16115" y="12248"/>
                  <a:pt x="16115" y="12849"/>
                </a:cubicBezTo>
                <a:cubicBezTo>
                  <a:pt x="16115" y="12849"/>
                  <a:pt x="16115" y="13448"/>
                  <a:pt x="16115" y="14048"/>
                </a:cubicBezTo>
                <a:cubicBezTo>
                  <a:pt x="16115" y="14048"/>
                  <a:pt x="16115" y="14648"/>
                  <a:pt x="16115" y="14648"/>
                </a:cubicBezTo>
                <a:cubicBezTo>
                  <a:pt x="16115" y="15249"/>
                  <a:pt x="15134" y="15249"/>
                  <a:pt x="15134" y="15849"/>
                </a:cubicBezTo>
                <a:cubicBezTo>
                  <a:pt x="15134" y="15849"/>
                  <a:pt x="15134" y="16448"/>
                  <a:pt x="15134" y="16448"/>
                </a:cubicBezTo>
                <a:cubicBezTo>
                  <a:pt x="15134" y="17049"/>
                  <a:pt x="15134" y="17049"/>
                  <a:pt x="15134" y="17648"/>
                </a:cubicBezTo>
                <a:cubicBezTo>
                  <a:pt x="15134" y="17648"/>
                  <a:pt x="15134" y="18248"/>
                  <a:pt x="15134" y="18248"/>
                </a:cubicBezTo>
                <a:cubicBezTo>
                  <a:pt x="15134" y="18248"/>
                  <a:pt x="15134" y="18248"/>
                  <a:pt x="15134" y="18248"/>
                </a:cubicBezTo>
                <a:cubicBezTo>
                  <a:pt x="15134" y="18848"/>
                  <a:pt x="15134" y="18848"/>
                  <a:pt x="15134" y="18848"/>
                </a:cubicBezTo>
                <a:cubicBezTo>
                  <a:pt x="15134" y="20049"/>
                  <a:pt x="13170" y="21249"/>
                  <a:pt x="11206" y="21249"/>
                </a:cubicBezTo>
                <a:cubicBezTo>
                  <a:pt x="4334" y="21249"/>
                  <a:pt x="4334" y="21249"/>
                  <a:pt x="4334" y="21249"/>
                </a:cubicBezTo>
                <a:cubicBezTo>
                  <a:pt x="2370" y="21249"/>
                  <a:pt x="1388" y="20649"/>
                  <a:pt x="1388" y="20649"/>
                </a:cubicBezTo>
                <a:cubicBezTo>
                  <a:pt x="406" y="20049"/>
                  <a:pt x="-575" y="19448"/>
                  <a:pt x="406" y="18248"/>
                </a:cubicBezTo>
                <a:cubicBezTo>
                  <a:pt x="1388" y="12248"/>
                  <a:pt x="6297" y="5648"/>
                  <a:pt x="13170" y="848"/>
                </a:cubicBezTo>
                <a:cubicBezTo>
                  <a:pt x="14152" y="248"/>
                  <a:pt x="16115" y="-351"/>
                  <a:pt x="18079" y="248"/>
                </a:cubicBezTo>
                <a:cubicBezTo>
                  <a:pt x="18079" y="248"/>
                  <a:pt x="18079" y="848"/>
                  <a:pt x="19061" y="848"/>
                </a:cubicBezTo>
                <a:cubicBezTo>
                  <a:pt x="20043" y="1448"/>
                  <a:pt x="21024" y="2648"/>
                  <a:pt x="21024" y="3848"/>
                </a:cubicBezTo>
                <a:cubicBezTo>
                  <a:pt x="20043" y="3848"/>
                  <a:pt x="20043" y="3848"/>
                  <a:pt x="20043" y="4448"/>
                </a:cubicBezTo>
                <a:cubicBezTo>
                  <a:pt x="20043" y="4448"/>
                  <a:pt x="20043" y="5048"/>
                  <a:pt x="19061" y="5648"/>
                </a:cubicBezTo>
                <a:cubicBezTo>
                  <a:pt x="19061" y="5648"/>
                  <a:pt x="19061" y="5648"/>
                  <a:pt x="19061" y="624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utoShape 35"/>
          <p:cNvSpPr/>
          <p:nvPr/>
        </p:nvSpPr>
        <p:spPr>
          <a:xfrm>
            <a:off x="3854520" y="4145040"/>
            <a:ext cx="15228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21600"/>
                </a:moveTo>
                <a:cubicBezTo>
                  <a:pt x="2025" y="21600"/>
                  <a:pt x="2025" y="21600"/>
                  <a:pt x="2025" y="21600"/>
                </a:cubicBezTo>
                <a:cubicBezTo>
                  <a:pt x="675" y="21600"/>
                  <a:pt x="0" y="20160"/>
                  <a:pt x="0" y="18720"/>
                </a:cubicBezTo>
                <a:cubicBezTo>
                  <a:pt x="0" y="5039"/>
                  <a:pt x="0" y="5039"/>
                  <a:pt x="0" y="5039"/>
                </a:cubicBezTo>
                <a:cubicBezTo>
                  <a:pt x="0" y="3599"/>
                  <a:pt x="675" y="2879"/>
                  <a:pt x="2025" y="2159"/>
                </a:cubicBezTo>
                <a:cubicBezTo>
                  <a:pt x="2025" y="2159"/>
                  <a:pt x="2700" y="2159"/>
                  <a:pt x="2700" y="2159"/>
                </a:cubicBezTo>
                <a:cubicBezTo>
                  <a:pt x="2700" y="2159"/>
                  <a:pt x="2700" y="2159"/>
                  <a:pt x="2700" y="2159"/>
                </a:cubicBezTo>
                <a:cubicBezTo>
                  <a:pt x="3375" y="2159"/>
                  <a:pt x="4725" y="2159"/>
                  <a:pt x="5400" y="2159"/>
                </a:cubicBezTo>
                <a:cubicBezTo>
                  <a:pt x="5400" y="2159"/>
                  <a:pt x="5400" y="2159"/>
                  <a:pt x="5400" y="2159"/>
                </a:cubicBezTo>
                <a:cubicBezTo>
                  <a:pt x="6075" y="2159"/>
                  <a:pt x="7425" y="2159"/>
                  <a:pt x="8100" y="1439"/>
                </a:cubicBezTo>
                <a:cubicBezTo>
                  <a:pt x="8100" y="1439"/>
                  <a:pt x="8775" y="1439"/>
                  <a:pt x="8775" y="1439"/>
                </a:cubicBezTo>
                <a:cubicBezTo>
                  <a:pt x="9450" y="1439"/>
                  <a:pt x="10125" y="1439"/>
                  <a:pt x="10800" y="1439"/>
                </a:cubicBezTo>
                <a:cubicBezTo>
                  <a:pt x="11475" y="719"/>
                  <a:pt x="11475" y="719"/>
                  <a:pt x="11475" y="719"/>
                </a:cubicBezTo>
                <a:cubicBezTo>
                  <a:pt x="12150" y="719"/>
                  <a:pt x="12150" y="719"/>
                  <a:pt x="12150" y="719"/>
                </a:cubicBezTo>
                <a:cubicBezTo>
                  <a:pt x="12150" y="719"/>
                  <a:pt x="12825" y="719"/>
                  <a:pt x="12825" y="719"/>
                </a:cubicBezTo>
                <a:cubicBezTo>
                  <a:pt x="13500" y="719"/>
                  <a:pt x="14175" y="0"/>
                  <a:pt x="14175" y="0"/>
                </a:cubicBezTo>
                <a:cubicBezTo>
                  <a:pt x="14850" y="0"/>
                  <a:pt x="14850" y="0"/>
                  <a:pt x="15525" y="0"/>
                </a:cubicBezTo>
                <a:cubicBezTo>
                  <a:pt x="16200" y="0"/>
                  <a:pt x="17550" y="719"/>
                  <a:pt x="17550" y="1439"/>
                </a:cubicBezTo>
                <a:cubicBezTo>
                  <a:pt x="17550" y="2159"/>
                  <a:pt x="17550" y="2159"/>
                  <a:pt x="17550" y="2159"/>
                </a:cubicBezTo>
                <a:cubicBezTo>
                  <a:pt x="18225" y="2879"/>
                  <a:pt x="18225" y="3599"/>
                  <a:pt x="18225" y="3599"/>
                </a:cubicBezTo>
                <a:cubicBezTo>
                  <a:pt x="18225" y="3599"/>
                  <a:pt x="18225" y="3599"/>
                  <a:pt x="18225" y="4319"/>
                </a:cubicBezTo>
                <a:cubicBezTo>
                  <a:pt x="19575" y="7199"/>
                  <a:pt x="20250" y="10800"/>
                  <a:pt x="20925" y="14399"/>
                </a:cubicBezTo>
                <a:cubicBezTo>
                  <a:pt x="20925" y="14399"/>
                  <a:pt x="20925" y="14399"/>
                  <a:pt x="20925" y="15119"/>
                </a:cubicBezTo>
                <a:cubicBezTo>
                  <a:pt x="20925" y="15119"/>
                  <a:pt x="20925" y="15839"/>
                  <a:pt x="20925" y="16559"/>
                </a:cubicBezTo>
                <a:cubicBezTo>
                  <a:pt x="20925" y="16559"/>
                  <a:pt x="20925" y="17279"/>
                  <a:pt x="20925" y="17279"/>
                </a:cubicBezTo>
                <a:cubicBezTo>
                  <a:pt x="20925" y="18000"/>
                  <a:pt x="20925" y="18000"/>
                  <a:pt x="21600" y="18720"/>
                </a:cubicBezTo>
                <a:cubicBezTo>
                  <a:pt x="21600" y="19440"/>
                  <a:pt x="20925" y="20160"/>
                  <a:pt x="20250" y="20879"/>
                </a:cubicBezTo>
                <a:cubicBezTo>
                  <a:pt x="20250" y="20879"/>
                  <a:pt x="19575" y="21600"/>
                  <a:pt x="18900" y="216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AutoShape 36"/>
          <p:cNvSpPr/>
          <p:nvPr/>
        </p:nvSpPr>
        <p:spPr>
          <a:xfrm>
            <a:off x="3679920" y="4145040"/>
            <a:ext cx="15084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039"/>
                </a:moveTo>
                <a:cubicBezTo>
                  <a:pt x="21600" y="18720"/>
                  <a:pt x="21600" y="18720"/>
                  <a:pt x="21600" y="18720"/>
                </a:cubicBezTo>
                <a:cubicBezTo>
                  <a:pt x="21600" y="20160"/>
                  <a:pt x="20250" y="21600"/>
                  <a:pt x="18900" y="21600"/>
                </a:cubicBezTo>
                <a:cubicBezTo>
                  <a:pt x="2700" y="21600"/>
                  <a:pt x="2700" y="21600"/>
                  <a:pt x="2700" y="21600"/>
                </a:cubicBezTo>
                <a:cubicBezTo>
                  <a:pt x="2025" y="21600"/>
                  <a:pt x="675" y="20879"/>
                  <a:pt x="675" y="20879"/>
                </a:cubicBezTo>
                <a:cubicBezTo>
                  <a:pt x="0" y="20160"/>
                  <a:pt x="0" y="19440"/>
                  <a:pt x="0" y="18720"/>
                </a:cubicBezTo>
                <a:cubicBezTo>
                  <a:pt x="0" y="18000"/>
                  <a:pt x="0" y="18000"/>
                  <a:pt x="0" y="17279"/>
                </a:cubicBezTo>
                <a:cubicBezTo>
                  <a:pt x="0" y="17279"/>
                  <a:pt x="0" y="16559"/>
                  <a:pt x="0" y="16559"/>
                </a:cubicBezTo>
                <a:cubicBezTo>
                  <a:pt x="0" y="15839"/>
                  <a:pt x="0" y="15119"/>
                  <a:pt x="0" y="15119"/>
                </a:cubicBezTo>
                <a:cubicBezTo>
                  <a:pt x="0" y="14399"/>
                  <a:pt x="0" y="14399"/>
                  <a:pt x="0" y="14399"/>
                </a:cubicBezTo>
                <a:cubicBezTo>
                  <a:pt x="675" y="10800"/>
                  <a:pt x="1350" y="7199"/>
                  <a:pt x="2700" y="3599"/>
                </a:cubicBezTo>
                <a:cubicBezTo>
                  <a:pt x="2700" y="3599"/>
                  <a:pt x="2700" y="3599"/>
                  <a:pt x="2700" y="3599"/>
                </a:cubicBezTo>
                <a:cubicBezTo>
                  <a:pt x="2700" y="3599"/>
                  <a:pt x="3375" y="2879"/>
                  <a:pt x="3375" y="2159"/>
                </a:cubicBezTo>
                <a:cubicBezTo>
                  <a:pt x="3375" y="2159"/>
                  <a:pt x="3375" y="2159"/>
                  <a:pt x="3375" y="1439"/>
                </a:cubicBezTo>
                <a:cubicBezTo>
                  <a:pt x="4050" y="719"/>
                  <a:pt x="4725" y="0"/>
                  <a:pt x="6075" y="0"/>
                </a:cubicBezTo>
                <a:cubicBezTo>
                  <a:pt x="6075" y="0"/>
                  <a:pt x="6075" y="0"/>
                  <a:pt x="6075" y="0"/>
                </a:cubicBezTo>
                <a:cubicBezTo>
                  <a:pt x="6075" y="0"/>
                  <a:pt x="6075" y="0"/>
                  <a:pt x="6750" y="0"/>
                </a:cubicBezTo>
                <a:cubicBezTo>
                  <a:pt x="7425" y="0"/>
                  <a:pt x="8100" y="719"/>
                  <a:pt x="8100" y="719"/>
                </a:cubicBezTo>
                <a:cubicBezTo>
                  <a:pt x="8775" y="719"/>
                  <a:pt x="8775" y="719"/>
                  <a:pt x="8775" y="719"/>
                </a:cubicBezTo>
                <a:cubicBezTo>
                  <a:pt x="8775" y="719"/>
                  <a:pt x="8775" y="719"/>
                  <a:pt x="9450" y="719"/>
                </a:cubicBezTo>
                <a:cubicBezTo>
                  <a:pt x="9450" y="719"/>
                  <a:pt x="10125" y="719"/>
                  <a:pt x="10125" y="1439"/>
                </a:cubicBezTo>
                <a:cubicBezTo>
                  <a:pt x="10800" y="1439"/>
                  <a:pt x="11475" y="1439"/>
                  <a:pt x="12150" y="1439"/>
                </a:cubicBezTo>
                <a:cubicBezTo>
                  <a:pt x="12150" y="1439"/>
                  <a:pt x="12825" y="1439"/>
                  <a:pt x="12825" y="1439"/>
                </a:cubicBezTo>
                <a:cubicBezTo>
                  <a:pt x="14175" y="2159"/>
                  <a:pt x="14850" y="2159"/>
                  <a:pt x="15525" y="2159"/>
                </a:cubicBezTo>
                <a:cubicBezTo>
                  <a:pt x="15525" y="2159"/>
                  <a:pt x="15525" y="2159"/>
                  <a:pt x="15525" y="2159"/>
                </a:cubicBezTo>
                <a:cubicBezTo>
                  <a:pt x="16875" y="2159"/>
                  <a:pt x="17550" y="2159"/>
                  <a:pt x="18225" y="2159"/>
                </a:cubicBezTo>
                <a:cubicBezTo>
                  <a:pt x="18225" y="2159"/>
                  <a:pt x="18225" y="2159"/>
                  <a:pt x="18225" y="2159"/>
                </a:cubicBezTo>
                <a:cubicBezTo>
                  <a:pt x="18900" y="2159"/>
                  <a:pt x="18900" y="2159"/>
                  <a:pt x="18900" y="2159"/>
                </a:cubicBezTo>
                <a:cubicBezTo>
                  <a:pt x="20250" y="2879"/>
                  <a:pt x="21600" y="3599"/>
                  <a:pt x="21600" y="503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AutoShape 37"/>
          <p:cNvSpPr/>
          <p:nvPr/>
        </p:nvSpPr>
        <p:spPr>
          <a:xfrm>
            <a:off x="3728880" y="4041720"/>
            <a:ext cx="101880" cy="98640"/>
          </a:xfrm>
          <a:custGeom>
            <a:avLst/>
            <a:gdLst/>
            <a:ahLst/>
            <a:rect l="l" t="t" r="r" b="b"/>
            <a:pathLst>
              <a:path w="21600" h="21029">
                <a:moveTo>
                  <a:pt x="19542" y="457"/>
                </a:moveTo>
                <a:cubicBezTo>
                  <a:pt x="20571" y="1486"/>
                  <a:pt x="21600" y="2514"/>
                  <a:pt x="21600" y="3543"/>
                </a:cubicBezTo>
                <a:cubicBezTo>
                  <a:pt x="21600" y="16914"/>
                  <a:pt x="21600" y="16914"/>
                  <a:pt x="21600" y="16914"/>
                </a:cubicBezTo>
                <a:cubicBezTo>
                  <a:pt x="21600" y="17943"/>
                  <a:pt x="20571" y="18971"/>
                  <a:pt x="19542" y="20000"/>
                </a:cubicBezTo>
                <a:cubicBezTo>
                  <a:pt x="19542" y="20000"/>
                  <a:pt x="18514" y="21029"/>
                  <a:pt x="17485" y="21029"/>
                </a:cubicBezTo>
                <a:cubicBezTo>
                  <a:pt x="15428" y="21029"/>
                  <a:pt x="14399" y="20000"/>
                  <a:pt x="13371" y="20000"/>
                </a:cubicBezTo>
                <a:cubicBezTo>
                  <a:pt x="13371" y="20000"/>
                  <a:pt x="13371" y="20000"/>
                  <a:pt x="13371" y="20000"/>
                </a:cubicBezTo>
                <a:cubicBezTo>
                  <a:pt x="12342" y="20000"/>
                  <a:pt x="10285" y="20000"/>
                  <a:pt x="9257" y="20000"/>
                </a:cubicBezTo>
                <a:cubicBezTo>
                  <a:pt x="9257" y="20000"/>
                  <a:pt x="8228" y="20000"/>
                  <a:pt x="8228" y="18971"/>
                </a:cubicBezTo>
                <a:cubicBezTo>
                  <a:pt x="7199" y="18971"/>
                  <a:pt x="6171" y="18971"/>
                  <a:pt x="5142" y="18971"/>
                </a:cubicBezTo>
                <a:cubicBezTo>
                  <a:pt x="5142" y="18971"/>
                  <a:pt x="4114" y="18971"/>
                  <a:pt x="4114" y="18971"/>
                </a:cubicBezTo>
                <a:cubicBezTo>
                  <a:pt x="4114" y="17943"/>
                  <a:pt x="3085" y="17943"/>
                  <a:pt x="3085" y="17943"/>
                </a:cubicBezTo>
                <a:cubicBezTo>
                  <a:pt x="2057" y="17943"/>
                  <a:pt x="1028" y="16914"/>
                  <a:pt x="0" y="15886"/>
                </a:cubicBezTo>
                <a:cubicBezTo>
                  <a:pt x="0" y="14857"/>
                  <a:pt x="0" y="12800"/>
                  <a:pt x="1028" y="11771"/>
                </a:cubicBezTo>
                <a:cubicBezTo>
                  <a:pt x="1028" y="11771"/>
                  <a:pt x="1028" y="11771"/>
                  <a:pt x="1028" y="11771"/>
                </a:cubicBezTo>
                <a:cubicBezTo>
                  <a:pt x="1028" y="10743"/>
                  <a:pt x="2057" y="10743"/>
                  <a:pt x="2057" y="10743"/>
                </a:cubicBezTo>
                <a:cubicBezTo>
                  <a:pt x="2057" y="9714"/>
                  <a:pt x="2057" y="9714"/>
                  <a:pt x="3085" y="9714"/>
                </a:cubicBezTo>
                <a:cubicBezTo>
                  <a:pt x="3085" y="8686"/>
                  <a:pt x="4114" y="8686"/>
                  <a:pt x="4114" y="7657"/>
                </a:cubicBezTo>
                <a:cubicBezTo>
                  <a:pt x="4114" y="7657"/>
                  <a:pt x="5142" y="7657"/>
                  <a:pt x="5142" y="7657"/>
                </a:cubicBezTo>
                <a:cubicBezTo>
                  <a:pt x="5142" y="6629"/>
                  <a:pt x="5142" y="6629"/>
                  <a:pt x="6171" y="6629"/>
                </a:cubicBezTo>
                <a:cubicBezTo>
                  <a:pt x="6171" y="5600"/>
                  <a:pt x="6171" y="5600"/>
                  <a:pt x="7199" y="5600"/>
                </a:cubicBezTo>
                <a:cubicBezTo>
                  <a:pt x="7199" y="5600"/>
                  <a:pt x="7199" y="5600"/>
                  <a:pt x="7199" y="4571"/>
                </a:cubicBezTo>
                <a:cubicBezTo>
                  <a:pt x="8228" y="4571"/>
                  <a:pt x="8228" y="4571"/>
                  <a:pt x="9257" y="4571"/>
                </a:cubicBezTo>
                <a:cubicBezTo>
                  <a:pt x="9257" y="3543"/>
                  <a:pt x="9257" y="3543"/>
                  <a:pt x="9257" y="3543"/>
                </a:cubicBezTo>
                <a:cubicBezTo>
                  <a:pt x="10285" y="3543"/>
                  <a:pt x="10285" y="3543"/>
                  <a:pt x="10285" y="2514"/>
                </a:cubicBezTo>
                <a:cubicBezTo>
                  <a:pt x="11314" y="2514"/>
                  <a:pt x="11314" y="2514"/>
                  <a:pt x="11314" y="2514"/>
                </a:cubicBezTo>
                <a:cubicBezTo>
                  <a:pt x="11314" y="2514"/>
                  <a:pt x="12342" y="1486"/>
                  <a:pt x="12342" y="1486"/>
                </a:cubicBezTo>
                <a:cubicBezTo>
                  <a:pt x="12342" y="1486"/>
                  <a:pt x="12342" y="1486"/>
                  <a:pt x="13371" y="1486"/>
                </a:cubicBezTo>
                <a:cubicBezTo>
                  <a:pt x="13371" y="1486"/>
                  <a:pt x="14399" y="1486"/>
                  <a:pt x="14399" y="457"/>
                </a:cubicBezTo>
                <a:cubicBezTo>
                  <a:pt x="14399" y="457"/>
                  <a:pt x="14399" y="457"/>
                  <a:pt x="14399" y="457"/>
                </a:cubicBezTo>
                <a:cubicBezTo>
                  <a:pt x="15428" y="457"/>
                  <a:pt x="15428" y="457"/>
                  <a:pt x="16457" y="457"/>
                </a:cubicBezTo>
                <a:cubicBezTo>
                  <a:pt x="17485" y="-571"/>
                  <a:pt x="18514" y="457"/>
                  <a:pt x="19542" y="45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AutoShape 38"/>
          <p:cNvSpPr/>
          <p:nvPr/>
        </p:nvSpPr>
        <p:spPr>
          <a:xfrm>
            <a:off x="3854520" y="4041720"/>
            <a:ext cx="95040" cy="98640"/>
          </a:xfrm>
          <a:custGeom>
            <a:avLst/>
            <a:gdLst/>
            <a:ahLst/>
            <a:rect l="l" t="t" r="r" b="b"/>
            <a:pathLst>
              <a:path w="21600" h="21029">
                <a:moveTo>
                  <a:pt x="21599" y="15886"/>
                </a:moveTo>
                <a:cubicBezTo>
                  <a:pt x="20520" y="16914"/>
                  <a:pt x="19440" y="17943"/>
                  <a:pt x="18360" y="17943"/>
                </a:cubicBezTo>
                <a:cubicBezTo>
                  <a:pt x="18360" y="17943"/>
                  <a:pt x="18360" y="17943"/>
                  <a:pt x="17280" y="18971"/>
                </a:cubicBezTo>
                <a:cubicBezTo>
                  <a:pt x="17280" y="18971"/>
                  <a:pt x="17280" y="18971"/>
                  <a:pt x="16199" y="18971"/>
                </a:cubicBezTo>
                <a:cubicBezTo>
                  <a:pt x="15120" y="18971"/>
                  <a:pt x="14040" y="18971"/>
                  <a:pt x="12960" y="18971"/>
                </a:cubicBezTo>
                <a:cubicBezTo>
                  <a:pt x="12960" y="20000"/>
                  <a:pt x="12960" y="20000"/>
                  <a:pt x="11880" y="20000"/>
                </a:cubicBezTo>
                <a:cubicBezTo>
                  <a:pt x="10800" y="20000"/>
                  <a:pt x="9720" y="20000"/>
                  <a:pt x="8640" y="20000"/>
                </a:cubicBezTo>
                <a:cubicBezTo>
                  <a:pt x="7560" y="20000"/>
                  <a:pt x="7560" y="20000"/>
                  <a:pt x="7560" y="20000"/>
                </a:cubicBezTo>
                <a:cubicBezTo>
                  <a:pt x="6480" y="20000"/>
                  <a:pt x="5400" y="21029"/>
                  <a:pt x="3240" y="21029"/>
                </a:cubicBezTo>
                <a:cubicBezTo>
                  <a:pt x="2160" y="21029"/>
                  <a:pt x="2160" y="20000"/>
                  <a:pt x="1080" y="20000"/>
                </a:cubicBezTo>
                <a:cubicBezTo>
                  <a:pt x="0" y="18971"/>
                  <a:pt x="0" y="17943"/>
                  <a:pt x="0" y="16914"/>
                </a:cubicBezTo>
                <a:cubicBezTo>
                  <a:pt x="0" y="3543"/>
                  <a:pt x="0" y="3543"/>
                  <a:pt x="0" y="3543"/>
                </a:cubicBezTo>
                <a:cubicBezTo>
                  <a:pt x="0" y="2514"/>
                  <a:pt x="0" y="1486"/>
                  <a:pt x="1080" y="457"/>
                </a:cubicBezTo>
                <a:cubicBezTo>
                  <a:pt x="2160" y="457"/>
                  <a:pt x="3240" y="-571"/>
                  <a:pt x="5400" y="457"/>
                </a:cubicBezTo>
                <a:cubicBezTo>
                  <a:pt x="5400" y="457"/>
                  <a:pt x="6480" y="457"/>
                  <a:pt x="6480" y="457"/>
                </a:cubicBezTo>
                <a:cubicBezTo>
                  <a:pt x="6480" y="457"/>
                  <a:pt x="6480" y="457"/>
                  <a:pt x="6480" y="457"/>
                </a:cubicBezTo>
                <a:cubicBezTo>
                  <a:pt x="7560" y="1486"/>
                  <a:pt x="7560" y="1486"/>
                  <a:pt x="8640" y="1486"/>
                </a:cubicBezTo>
                <a:cubicBezTo>
                  <a:pt x="8640" y="1486"/>
                  <a:pt x="8640" y="1486"/>
                  <a:pt x="8640" y="1486"/>
                </a:cubicBezTo>
                <a:cubicBezTo>
                  <a:pt x="8640" y="1486"/>
                  <a:pt x="9720" y="2514"/>
                  <a:pt x="9720" y="2514"/>
                </a:cubicBezTo>
                <a:cubicBezTo>
                  <a:pt x="10800" y="2514"/>
                  <a:pt x="10800" y="2514"/>
                  <a:pt x="10800" y="2514"/>
                </a:cubicBezTo>
                <a:cubicBezTo>
                  <a:pt x="10800" y="3543"/>
                  <a:pt x="11880" y="3543"/>
                  <a:pt x="11880" y="3543"/>
                </a:cubicBezTo>
                <a:cubicBezTo>
                  <a:pt x="11880" y="3543"/>
                  <a:pt x="11880" y="3543"/>
                  <a:pt x="12960" y="4571"/>
                </a:cubicBezTo>
                <a:cubicBezTo>
                  <a:pt x="12960" y="4571"/>
                  <a:pt x="12960" y="4571"/>
                  <a:pt x="14040" y="4571"/>
                </a:cubicBezTo>
                <a:cubicBezTo>
                  <a:pt x="14040" y="5600"/>
                  <a:pt x="14040" y="5600"/>
                  <a:pt x="15120" y="5600"/>
                </a:cubicBezTo>
                <a:cubicBezTo>
                  <a:pt x="15120" y="5600"/>
                  <a:pt x="15120" y="5600"/>
                  <a:pt x="15120" y="6629"/>
                </a:cubicBezTo>
                <a:cubicBezTo>
                  <a:pt x="16199" y="6629"/>
                  <a:pt x="16199" y="6629"/>
                  <a:pt x="16199" y="7657"/>
                </a:cubicBezTo>
                <a:cubicBezTo>
                  <a:pt x="17280" y="7657"/>
                  <a:pt x="17280" y="7657"/>
                  <a:pt x="17280" y="7657"/>
                </a:cubicBezTo>
                <a:cubicBezTo>
                  <a:pt x="18360" y="8686"/>
                  <a:pt x="18360" y="8686"/>
                  <a:pt x="19440" y="9714"/>
                </a:cubicBezTo>
                <a:cubicBezTo>
                  <a:pt x="19440" y="9714"/>
                  <a:pt x="19440" y="10743"/>
                  <a:pt x="19440" y="10743"/>
                </a:cubicBezTo>
                <a:cubicBezTo>
                  <a:pt x="19440" y="10743"/>
                  <a:pt x="20520" y="11771"/>
                  <a:pt x="20520" y="11771"/>
                </a:cubicBezTo>
                <a:cubicBezTo>
                  <a:pt x="20520" y="11771"/>
                  <a:pt x="20520" y="11771"/>
                  <a:pt x="20520" y="11771"/>
                </a:cubicBezTo>
                <a:cubicBezTo>
                  <a:pt x="21599" y="12800"/>
                  <a:pt x="21599" y="14857"/>
                  <a:pt x="21599" y="158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AutoShape 39"/>
          <p:cNvSpPr/>
          <p:nvPr/>
        </p:nvSpPr>
        <p:spPr>
          <a:xfrm>
            <a:off x="3673440" y="4057560"/>
            <a:ext cx="61920" cy="55800"/>
          </a:xfrm>
          <a:custGeom>
            <a:avLst/>
            <a:gdLst/>
            <a:ahLst/>
            <a:rect l="l" t="t" r="r" b="b"/>
            <a:pathLst>
              <a:path w="21600" h="20506">
                <a:moveTo>
                  <a:pt x="13292" y="10800"/>
                </a:moveTo>
                <a:cubicBezTo>
                  <a:pt x="13292" y="10800"/>
                  <a:pt x="13292" y="10800"/>
                  <a:pt x="13292" y="10800"/>
                </a:cubicBezTo>
                <a:cubicBezTo>
                  <a:pt x="14953" y="8999"/>
                  <a:pt x="14953" y="8999"/>
                  <a:pt x="16615" y="7199"/>
                </a:cubicBezTo>
                <a:cubicBezTo>
                  <a:pt x="16615" y="7199"/>
                  <a:pt x="18276" y="5400"/>
                  <a:pt x="21600" y="1800"/>
                </a:cubicBezTo>
                <a:cubicBezTo>
                  <a:pt x="21600" y="1800"/>
                  <a:pt x="21600" y="0"/>
                  <a:pt x="21600" y="0"/>
                </a:cubicBezTo>
                <a:cubicBezTo>
                  <a:pt x="21600" y="0"/>
                  <a:pt x="19938" y="0"/>
                  <a:pt x="19938" y="0"/>
                </a:cubicBezTo>
                <a:cubicBezTo>
                  <a:pt x="13292" y="3599"/>
                  <a:pt x="6646" y="7199"/>
                  <a:pt x="1661" y="12599"/>
                </a:cubicBezTo>
                <a:cubicBezTo>
                  <a:pt x="0" y="14399"/>
                  <a:pt x="0" y="14399"/>
                  <a:pt x="0" y="16199"/>
                </a:cubicBezTo>
                <a:cubicBezTo>
                  <a:pt x="0" y="17999"/>
                  <a:pt x="0" y="17999"/>
                  <a:pt x="1661" y="19799"/>
                </a:cubicBezTo>
                <a:cubicBezTo>
                  <a:pt x="4984" y="21599"/>
                  <a:pt x="8307" y="19799"/>
                  <a:pt x="9969" y="16199"/>
                </a:cubicBezTo>
                <a:cubicBezTo>
                  <a:pt x="11630" y="14399"/>
                  <a:pt x="11630" y="14399"/>
                  <a:pt x="13292" y="12599"/>
                </a:cubicBezTo>
                <a:cubicBezTo>
                  <a:pt x="13292" y="12599"/>
                  <a:pt x="13292" y="12599"/>
                  <a:pt x="13292" y="12599"/>
                </a:cubicBezTo>
                <a:cubicBezTo>
                  <a:pt x="13292" y="12599"/>
                  <a:pt x="13292" y="12599"/>
                  <a:pt x="13292" y="108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AutoShape 40"/>
          <p:cNvSpPr/>
          <p:nvPr/>
        </p:nvSpPr>
        <p:spPr>
          <a:xfrm>
            <a:off x="3943440" y="4057560"/>
            <a:ext cx="63360" cy="55800"/>
          </a:xfrm>
          <a:custGeom>
            <a:avLst/>
            <a:gdLst/>
            <a:ahLst/>
            <a:rect l="l" t="t" r="r" b="b"/>
            <a:pathLst>
              <a:path w="21600" h="20506">
                <a:moveTo>
                  <a:pt x="8307" y="10800"/>
                </a:moveTo>
                <a:cubicBezTo>
                  <a:pt x="8307" y="10800"/>
                  <a:pt x="8307" y="10800"/>
                  <a:pt x="8307" y="10800"/>
                </a:cubicBezTo>
                <a:cubicBezTo>
                  <a:pt x="6646" y="8999"/>
                  <a:pt x="6646" y="8999"/>
                  <a:pt x="4984" y="7199"/>
                </a:cubicBezTo>
                <a:cubicBezTo>
                  <a:pt x="4984" y="7199"/>
                  <a:pt x="3323" y="5400"/>
                  <a:pt x="0" y="1800"/>
                </a:cubicBezTo>
                <a:cubicBezTo>
                  <a:pt x="0" y="1800"/>
                  <a:pt x="0" y="0"/>
                  <a:pt x="0" y="0"/>
                </a:cubicBezTo>
                <a:cubicBezTo>
                  <a:pt x="1661" y="0"/>
                  <a:pt x="1661" y="0"/>
                  <a:pt x="1661" y="0"/>
                </a:cubicBezTo>
                <a:cubicBezTo>
                  <a:pt x="8307" y="3599"/>
                  <a:pt x="14953" y="7199"/>
                  <a:pt x="19938" y="12599"/>
                </a:cubicBezTo>
                <a:cubicBezTo>
                  <a:pt x="21600" y="14399"/>
                  <a:pt x="21600" y="14399"/>
                  <a:pt x="21600" y="16199"/>
                </a:cubicBezTo>
                <a:cubicBezTo>
                  <a:pt x="21600" y="17999"/>
                  <a:pt x="21600" y="17999"/>
                  <a:pt x="19938" y="19799"/>
                </a:cubicBezTo>
                <a:cubicBezTo>
                  <a:pt x="16615" y="21599"/>
                  <a:pt x="13292" y="19799"/>
                  <a:pt x="11630" y="16199"/>
                </a:cubicBezTo>
                <a:cubicBezTo>
                  <a:pt x="9969" y="14399"/>
                  <a:pt x="9969" y="14399"/>
                  <a:pt x="8307" y="12599"/>
                </a:cubicBezTo>
                <a:cubicBezTo>
                  <a:pt x="8307" y="12599"/>
                  <a:pt x="8307" y="12599"/>
                  <a:pt x="8307" y="12599"/>
                </a:cubicBezTo>
                <a:cubicBezTo>
                  <a:pt x="8307" y="12599"/>
                  <a:pt x="8307" y="12599"/>
                  <a:pt x="8307" y="108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41"/>
          <p:cNvSpPr/>
          <p:nvPr/>
        </p:nvSpPr>
        <p:spPr>
          <a:xfrm>
            <a:off x="3673440" y="4487760"/>
            <a:ext cx="61920" cy="47880"/>
          </a:xfrm>
          <a:custGeom>
            <a:avLst/>
            <a:gdLst/>
            <a:ahLst/>
            <a:rect l="l" t="t" r="r" b="b"/>
            <a:pathLst>
              <a:path w="21600" h="20450">
                <a:moveTo>
                  <a:pt x="13292" y="8668"/>
                </a:moveTo>
                <a:cubicBezTo>
                  <a:pt x="13292" y="8668"/>
                  <a:pt x="13292" y="8668"/>
                  <a:pt x="13292" y="10631"/>
                </a:cubicBezTo>
                <a:cubicBezTo>
                  <a:pt x="14953" y="10631"/>
                  <a:pt x="14953" y="12595"/>
                  <a:pt x="16615" y="12595"/>
                </a:cubicBezTo>
                <a:cubicBezTo>
                  <a:pt x="16615" y="12595"/>
                  <a:pt x="18276" y="16522"/>
                  <a:pt x="21600" y="18486"/>
                </a:cubicBezTo>
                <a:cubicBezTo>
                  <a:pt x="21600" y="20449"/>
                  <a:pt x="21600" y="20449"/>
                  <a:pt x="21600" y="20449"/>
                </a:cubicBezTo>
                <a:cubicBezTo>
                  <a:pt x="21600" y="20449"/>
                  <a:pt x="19938" y="20449"/>
                  <a:pt x="19938" y="20449"/>
                </a:cubicBezTo>
                <a:cubicBezTo>
                  <a:pt x="13292" y="16522"/>
                  <a:pt x="6646" y="12595"/>
                  <a:pt x="1661" y="6704"/>
                </a:cubicBezTo>
                <a:cubicBezTo>
                  <a:pt x="0" y="6704"/>
                  <a:pt x="0" y="4740"/>
                  <a:pt x="0" y="2777"/>
                </a:cubicBezTo>
                <a:cubicBezTo>
                  <a:pt x="0" y="2777"/>
                  <a:pt x="0" y="813"/>
                  <a:pt x="1661" y="813"/>
                </a:cubicBezTo>
                <a:cubicBezTo>
                  <a:pt x="4984" y="-1150"/>
                  <a:pt x="8307" y="813"/>
                  <a:pt x="9969" y="2777"/>
                </a:cubicBezTo>
                <a:cubicBezTo>
                  <a:pt x="11630" y="4740"/>
                  <a:pt x="11630" y="6704"/>
                  <a:pt x="13292" y="6704"/>
                </a:cubicBezTo>
                <a:cubicBezTo>
                  <a:pt x="13292" y="6704"/>
                  <a:pt x="13292" y="8668"/>
                  <a:pt x="13292" y="8668"/>
                </a:cubicBezTo>
                <a:cubicBezTo>
                  <a:pt x="13292" y="8668"/>
                  <a:pt x="13292" y="8668"/>
                  <a:pt x="13292" y="866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42"/>
          <p:cNvSpPr/>
          <p:nvPr/>
        </p:nvSpPr>
        <p:spPr>
          <a:xfrm>
            <a:off x="3943440" y="4487760"/>
            <a:ext cx="63360" cy="47880"/>
          </a:xfrm>
          <a:custGeom>
            <a:avLst/>
            <a:gdLst/>
            <a:ahLst/>
            <a:rect l="l" t="t" r="r" b="b"/>
            <a:pathLst>
              <a:path w="21600" h="20450">
                <a:moveTo>
                  <a:pt x="8307" y="8668"/>
                </a:moveTo>
                <a:cubicBezTo>
                  <a:pt x="8307" y="8668"/>
                  <a:pt x="8307" y="8668"/>
                  <a:pt x="8307" y="10631"/>
                </a:cubicBezTo>
                <a:cubicBezTo>
                  <a:pt x="6646" y="10631"/>
                  <a:pt x="6646" y="12595"/>
                  <a:pt x="4984" y="12595"/>
                </a:cubicBezTo>
                <a:cubicBezTo>
                  <a:pt x="4984" y="12595"/>
                  <a:pt x="3323" y="16522"/>
                  <a:pt x="0" y="18486"/>
                </a:cubicBezTo>
                <a:cubicBezTo>
                  <a:pt x="0" y="20449"/>
                  <a:pt x="0" y="20449"/>
                  <a:pt x="0" y="20449"/>
                </a:cubicBezTo>
                <a:cubicBezTo>
                  <a:pt x="1661" y="20449"/>
                  <a:pt x="1661" y="20449"/>
                  <a:pt x="1661" y="20449"/>
                </a:cubicBezTo>
                <a:cubicBezTo>
                  <a:pt x="8307" y="16522"/>
                  <a:pt x="14953" y="12595"/>
                  <a:pt x="19938" y="6704"/>
                </a:cubicBezTo>
                <a:cubicBezTo>
                  <a:pt x="21600" y="6704"/>
                  <a:pt x="21600" y="4740"/>
                  <a:pt x="21600" y="2777"/>
                </a:cubicBezTo>
                <a:cubicBezTo>
                  <a:pt x="21600" y="2777"/>
                  <a:pt x="21600" y="813"/>
                  <a:pt x="19938" y="813"/>
                </a:cubicBezTo>
                <a:cubicBezTo>
                  <a:pt x="16615" y="-1150"/>
                  <a:pt x="13292" y="813"/>
                  <a:pt x="11630" y="2777"/>
                </a:cubicBezTo>
                <a:cubicBezTo>
                  <a:pt x="9969" y="4740"/>
                  <a:pt x="9969" y="6704"/>
                  <a:pt x="8307" y="6704"/>
                </a:cubicBezTo>
                <a:cubicBezTo>
                  <a:pt x="8307" y="6704"/>
                  <a:pt x="8307" y="8668"/>
                  <a:pt x="8307" y="8668"/>
                </a:cubicBezTo>
                <a:cubicBezTo>
                  <a:pt x="8307" y="8668"/>
                  <a:pt x="8307" y="8668"/>
                  <a:pt x="8307" y="866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45"/>
          <p:cNvSpPr/>
          <p:nvPr/>
        </p:nvSpPr>
        <p:spPr>
          <a:xfrm>
            <a:off x="5597640" y="3814920"/>
            <a:ext cx="954000" cy="9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46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746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746" y="21600"/>
                </a:cubicBezTo>
                <a:close/>
                <a:moveTo>
                  <a:pt x="10746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746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746" y="53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8" name="Group 48" descr=""/>
          <p:cNvPicPr/>
          <p:nvPr/>
        </p:nvPicPr>
        <p:blipFill>
          <a:blip r:embed="rId1"/>
          <a:stretch/>
        </p:blipFill>
        <p:spPr>
          <a:xfrm>
            <a:off x="5827680" y="4102200"/>
            <a:ext cx="487440" cy="390600"/>
          </a:xfrm>
          <a:prstGeom prst="rect">
            <a:avLst/>
          </a:prstGeom>
          <a:ln w="0">
            <a:noFill/>
          </a:ln>
        </p:spPr>
      </p:pic>
      <p:sp>
        <p:nvSpPr>
          <p:cNvPr id="839" name="AutoShape 56"/>
          <p:cNvSpPr/>
          <p:nvPr/>
        </p:nvSpPr>
        <p:spPr>
          <a:xfrm>
            <a:off x="7827840" y="3816360"/>
            <a:ext cx="954360" cy="9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46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746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746" y="21600"/>
                </a:cubicBezTo>
                <a:close/>
                <a:moveTo>
                  <a:pt x="10746" y="534"/>
                </a:moveTo>
                <a:cubicBezTo>
                  <a:pt x="5050" y="534"/>
                  <a:pt x="429" y="5132"/>
                  <a:pt x="429" y="10800"/>
                </a:cubicBezTo>
                <a:cubicBezTo>
                  <a:pt x="429" y="16467"/>
                  <a:pt x="5050" y="21065"/>
                  <a:pt x="10746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746" y="53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58"/>
          <p:cNvSpPr/>
          <p:nvPr/>
        </p:nvSpPr>
        <p:spPr>
          <a:xfrm>
            <a:off x="8089920" y="4083120"/>
            <a:ext cx="425520" cy="31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9" y="21599"/>
                </a:moveTo>
                <a:cubicBezTo>
                  <a:pt x="20399" y="21599"/>
                  <a:pt x="20399" y="21599"/>
                  <a:pt x="20399" y="21599"/>
                </a:cubicBezTo>
                <a:cubicBezTo>
                  <a:pt x="21119" y="21599"/>
                  <a:pt x="21600" y="20618"/>
                  <a:pt x="21600" y="19636"/>
                </a:cubicBezTo>
                <a:cubicBezTo>
                  <a:pt x="21600" y="1963"/>
                  <a:pt x="21600" y="1963"/>
                  <a:pt x="21600" y="1963"/>
                </a:cubicBezTo>
                <a:cubicBezTo>
                  <a:pt x="21600" y="654"/>
                  <a:pt x="21119" y="0"/>
                  <a:pt x="20399" y="0"/>
                </a:cubicBezTo>
                <a:cubicBezTo>
                  <a:pt x="1439" y="0"/>
                  <a:pt x="1439" y="0"/>
                  <a:pt x="1439" y="0"/>
                </a:cubicBezTo>
                <a:cubicBezTo>
                  <a:pt x="719" y="0"/>
                  <a:pt x="0" y="654"/>
                  <a:pt x="0" y="1963"/>
                </a:cubicBezTo>
                <a:cubicBezTo>
                  <a:pt x="0" y="19636"/>
                  <a:pt x="0" y="19636"/>
                  <a:pt x="0" y="19636"/>
                </a:cubicBezTo>
                <a:cubicBezTo>
                  <a:pt x="0" y="20618"/>
                  <a:pt x="719" y="21599"/>
                  <a:pt x="1439" y="21599"/>
                </a:cubicBezTo>
                <a:close/>
                <a:moveTo>
                  <a:pt x="1679" y="3272"/>
                </a:moveTo>
                <a:cubicBezTo>
                  <a:pt x="1679" y="2618"/>
                  <a:pt x="1919" y="1963"/>
                  <a:pt x="2399" y="1963"/>
                </a:cubicBezTo>
                <a:cubicBezTo>
                  <a:pt x="19199" y="1963"/>
                  <a:pt x="19199" y="1963"/>
                  <a:pt x="19199" y="1963"/>
                </a:cubicBezTo>
                <a:cubicBezTo>
                  <a:pt x="19679" y="1963"/>
                  <a:pt x="20159" y="2618"/>
                  <a:pt x="20159" y="3272"/>
                </a:cubicBezTo>
                <a:cubicBezTo>
                  <a:pt x="20159" y="18327"/>
                  <a:pt x="20159" y="18327"/>
                  <a:pt x="20159" y="18327"/>
                </a:cubicBezTo>
                <a:cubicBezTo>
                  <a:pt x="20159" y="18981"/>
                  <a:pt x="19679" y="19309"/>
                  <a:pt x="19199" y="19309"/>
                </a:cubicBezTo>
                <a:cubicBezTo>
                  <a:pt x="2399" y="19309"/>
                  <a:pt x="2399" y="19309"/>
                  <a:pt x="2399" y="19309"/>
                </a:cubicBezTo>
                <a:cubicBezTo>
                  <a:pt x="1919" y="19309"/>
                  <a:pt x="1679" y="18981"/>
                  <a:pt x="1679" y="18327"/>
                </a:cubicBezTo>
                <a:lnTo>
                  <a:pt x="1679" y="327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59"/>
          <p:cNvSpPr/>
          <p:nvPr/>
        </p:nvSpPr>
        <p:spPr>
          <a:xfrm>
            <a:off x="8051760" y="4417920"/>
            <a:ext cx="504720" cy="95400"/>
          </a:xfrm>
          <a:custGeom>
            <a:avLst/>
            <a:gdLst/>
            <a:ahLst/>
            <a:rect l="l" t="t" r="r" b="b"/>
            <a:pathLst>
              <a:path w="21379" h="21600">
                <a:moveTo>
                  <a:pt x="21146" y="8640"/>
                </a:moveTo>
                <a:cubicBezTo>
                  <a:pt x="20338" y="2160"/>
                  <a:pt x="20338" y="2160"/>
                  <a:pt x="20338" y="2160"/>
                </a:cubicBezTo>
                <a:cubicBezTo>
                  <a:pt x="20136" y="1080"/>
                  <a:pt x="19733" y="0"/>
                  <a:pt x="19531" y="0"/>
                </a:cubicBezTo>
                <a:cubicBezTo>
                  <a:pt x="19329" y="0"/>
                  <a:pt x="19329" y="0"/>
                  <a:pt x="19329" y="0"/>
                </a:cubicBezTo>
                <a:cubicBezTo>
                  <a:pt x="1968" y="0"/>
                  <a:pt x="1968" y="0"/>
                  <a:pt x="1968" y="0"/>
                </a:cubicBezTo>
                <a:cubicBezTo>
                  <a:pt x="1968" y="0"/>
                  <a:pt x="1968" y="0"/>
                  <a:pt x="1968" y="0"/>
                </a:cubicBezTo>
                <a:cubicBezTo>
                  <a:pt x="1564" y="0"/>
                  <a:pt x="1161" y="1080"/>
                  <a:pt x="959" y="2160"/>
                </a:cubicBezTo>
                <a:cubicBezTo>
                  <a:pt x="151" y="8640"/>
                  <a:pt x="151" y="8640"/>
                  <a:pt x="151" y="8640"/>
                </a:cubicBezTo>
                <a:cubicBezTo>
                  <a:pt x="-50" y="10800"/>
                  <a:pt x="-50" y="14040"/>
                  <a:pt x="151" y="17280"/>
                </a:cubicBezTo>
                <a:cubicBezTo>
                  <a:pt x="353" y="19440"/>
                  <a:pt x="757" y="21599"/>
                  <a:pt x="1161" y="21599"/>
                </a:cubicBezTo>
                <a:cubicBezTo>
                  <a:pt x="20136" y="21599"/>
                  <a:pt x="20136" y="21599"/>
                  <a:pt x="20136" y="21599"/>
                </a:cubicBezTo>
                <a:cubicBezTo>
                  <a:pt x="20540" y="21599"/>
                  <a:pt x="20944" y="19440"/>
                  <a:pt x="21146" y="17280"/>
                </a:cubicBezTo>
                <a:cubicBezTo>
                  <a:pt x="21549" y="14040"/>
                  <a:pt x="21348" y="10800"/>
                  <a:pt x="21146" y="864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AutoShape 18"/>
          <p:cNvSpPr/>
          <p:nvPr/>
        </p:nvSpPr>
        <p:spPr>
          <a:xfrm>
            <a:off x="1598760" y="314640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AutoShape 24"/>
          <p:cNvSpPr/>
          <p:nvPr/>
        </p:nvSpPr>
        <p:spPr>
          <a:xfrm>
            <a:off x="3830760" y="315432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AutoShape 47"/>
          <p:cNvSpPr/>
          <p:nvPr/>
        </p:nvSpPr>
        <p:spPr>
          <a:xfrm>
            <a:off x="6062760" y="3144960"/>
            <a:ext cx="21960" cy="68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AutoShape 55"/>
          <p:cNvSpPr/>
          <p:nvPr/>
        </p:nvSpPr>
        <p:spPr>
          <a:xfrm>
            <a:off x="8294760" y="3146400"/>
            <a:ext cx="1908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AutoShape 62"/>
          <p:cNvSpPr/>
          <p:nvPr/>
        </p:nvSpPr>
        <p:spPr>
          <a:xfrm>
            <a:off x="10522080" y="314640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AutoShape 63"/>
          <p:cNvSpPr/>
          <p:nvPr/>
        </p:nvSpPr>
        <p:spPr>
          <a:xfrm>
            <a:off x="10064880" y="3849840"/>
            <a:ext cx="958680" cy="96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4811" y="21600"/>
                  <a:pt x="0" y="16764"/>
                  <a:pt x="0" y="10746"/>
                </a:cubicBezTo>
                <a:cubicBezTo>
                  <a:pt x="0" y="4835"/>
                  <a:pt x="4811" y="0"/>
                  <a:pt x="10800" y="0"/>
                </a:cubicBezTo>
                <a:cubicBezTo>
                  <a:pt x="16681" y="0"/>
                  <a:pt x="21599" y="4835"/>
                  <a:pt x="21599" y="10746"/>
                </a:cubicBezTo>
                <a:cubicBezTo>
                  <a:pt x="21599" y="16764"/>
                  <a:pt x="16681" y="21600"/>
                  <a:pt x="10800" y="21600"/>
                </a:cubicBezTo>
                <a:close/>
                <a:moveTo>
                  <a:pt x="10800" y="429"/>
                </a:moveTo>
                <a:cubicBezTo>
                  <a:pt x="5132" y="429"/>
                  <a:pt x="534" y="5050"/>
                  <a:pt x="534" y="10746"/>
                </a:cubicBezTo>
                <a:cubicBezTo>
                  <a:pt x="534" y="16441"/>
                  <a:pt x="5132" y="21062"/>
                  <a:pt x="10800" y="21062"/>
                </a:cubicBezTo>
                <a:cubicBezTo>
                  <a:pt x="16467" y="21062"/>
                  <a:pt x="21065" y="16441"/>
                  <a:pt x="21065" y="10746"/>
                </a:cubicBezTo>
                <a:cubicBezTo>
                  <a:pt x="21065" y="5050"/>
                  <a:pt x="16467" y="429"/>
                  <a:pt x="10800" y="429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AutoShape 65"/>
          <p:cNvSpPr/>
          <p:nvPr/>
        </p:nvSpPr>
        <p:spPr>
          <a:xfrm>
            <a:off x="10304640" y="4226040"/>
            <a:ext cx="460080" cy="15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5" y="21599"/>
                </a:moveTo>
                <a:cubicBezTo>
                  <a:pt x="668" y="21599"/>
                  <a:pt x="668" y="21599"/>
                  <a:pt x="668" y="21599"/>
                </a:cubicBezTo>
                <a:cubicBezTo>
                  <a:pt x="890" y="21599"/>
                  <a:pt x="1113" y="20925"/>
                  <a:pt x="1113" y="20250"/>
                </a:cubicBezTo>
                <a:cubicBezTo>
                  <a:pt x="1113" y="17550"/>
                  <a:pt x="1113" y="17550"/>
                  <a:pt x="1113" y="17550"/>
                </a:cubicBezTo>
                <a:cubicBezTo>
                  <a:pt x="1113" y="14175"/>
                  <a:pt x="1781" y="12150"/>
                  <a:pt x="2894" y="12150"/>
                </a:cubicBezTo>
                <a:cubicBezTo>
                  <a:pt x="9575" y="12150"/>
                  <a:pt x="9575" y="12150"/>
                  <a:pt x="9575" y="12150"/>
                </a:cubicBezTo>
                <a:cubicBezTo>
                  <a:pt x="10020" y="12150"/>
                  <a:pt x="10465" y="12825"/>
                  <a:pt x="10465" y="14175"/>
                </a:cubicBezTo>
                <a:cubicBezTo>
                  <a:pt x="10465" y="20250"/>
                  <a:pt x="10465" y="20250"/>
                  <a:pt x="10465" y="20250"/>
                </a:cubicBezTo>
                <a:cubicBezTo>
                  <a:pt x="10465" y="20925"/>
                  <a:pt x="10688" y="21599"/>
                  <a:pt x="10911" y="21599"/>
                </a:cubicBezTo>
                <a:cubicBezTo>
                  <a:pt x="10911" y="21599"/>
                  <a:pt x="10911" y="21599"/>
                  <a:pt x="10911" y="21599"/>
                </a:cubicBezTo>
                <a:cubicBezTo>
                  <a:pt x="11134" y="21599"/>
                  <a:pt x="11356" y="20925"/>
                  <a:pt x="11356" y="20250"/>
                </a:cubicBezTo>
                <a:cubicBezTo>
                  <a:pt x="11356" y="14175"/>
                  <a:pt x="11356" y="14175"/>
                  <a:pt x="11356" y="14175"/>
                </a:cubicBezTo>
                <a:cubicBezTo>
                  <a:pt x="11356" y="12825"/>
                  <a:pt x="11579" y="12150"/>
                  <a:pt x="12024" y="12150"/>
                </a:cubicBezTo>
                <a:cubicBezTo>
                  <a:pt x="18927" y="12150"/>
                  <a:pt x="18927" y="12150"/>
                  <a:pt x="18927" y="12150"/>
                </a:cubicBezTo>
                <a:cubicBezTo>
                  <a:pt x="19818" y="12150"/>
                  <a:pt x="20709" y="14175"/>
                  <a:pt x="20709" y="17550"/>
                </a:cubicBezTo>
                <a:cubicBezTo>
                  <a:pt x="20709" y="20250"/>
                  <a:pt x="20709" y="20250"/>
                  <a:pt x="20709" y="20250"/>
                </a:cubicBezTo>
                <a:cubicBezTo>
                  <a:pt x="20709" y="20925"/>
                  <a:pt x="20931" y="21599"/>
                  <a:pt x="21154" y="21599"/>
                </a:cubicBezTo>
                <a:cubicBezTo>
                  <a:pt x="21154" y="21599"/>
                  <a:pt x="21154" y="21599"/>
                  <a:pt x="21154" y="21599"/>
                </a:cubicBezTo>
                <a:cubicBezTo>
                  <a:pt x="21599" y="21599"/>
                  <a:pt x="21599" y="20925"/>
                  <a:pt x="21599" y="20250"/>
                </a:cubicBezTo>
                <a:cubicBezTo>
                  <a:pt x="21599" y="17550"/>
                  <a:pt x="21599" y="17550"/>
                  <a:pt x="21599" y="17550"/>
                </a:cubicBezTo>
                <a:cubicBezTo>
                  <a:pt x="21599" y="12825"/>
                  <a:pt x="20486" y="8775"/>
                  <a:pt x="18927" y="8775"/>
                </a:cubicBezTo>
                <a:cubicBezTo>
                  <a:pt x="12024" y="8775"/>
                  <a:pt x="12024" y="8775"/>
                  <a:pt x="12024" y="8775"/>
                </a:cubicBezTo>
                <a:cubicBezTo>
                  <a:pt x="11579" y="8775"/>
                  <a:pt x="11356" y="8100"/>
                  <a:pt x="11356" y="6750"/>
                </a:cubicBezTo>
                <a:cubicBezTo>
                  <a:pt x="11356" y="1350"/>
                  <a:pt x="11356" y="1350"/>
                  <a:pt x="11356" y="1350"/>
                </a:cubicBezTo>
                <a:cubicBezTo>
                  <a:pt x="11356" y="675"/>
                  <a:pt x="11134" y="0"/>
                  <a:pt x="10911" y="0"/>
                </a:cubicBezTo>
                <a:cubicBezTo>
                  <a:pt x="10911" y="0"/>
                  <a:pt x="10911" y="0"/>
                  <a:pt x="10911" y="0"/>
                </a:cubicBezTo>
                <a:cubicBezTo>
                  <a:pt x="10688" y="0"/>
                  <a:pt x="10465" y="675"/>
                  <a:pt x="10465" y="1350"/>
                </a:cubicBezTo>
                <a:cubicBezTo>
                  <a:pt x="10465" y="6750"/>
                  <a:pt x="10465" y="6750"/>
                  <a:pt x="10465" y="6750"/>
                </a:cubicBezTo>
                <a:cubicBezTo>
                  <a:pt x="10465" y="8100"/>
                  <a:pt x="10020" y="8775"/>
                  <a:pt x="9575" y="8775"/>
                </a:cubicBezTo>
                <a:cubicBezTo>
                  <a:pt x="2894" y="8775"/>
                  <a:pt x="2894" y="8775"/>
                  <a:pt x="2894" y="8775"/>
                </a:cubicBezTo>
                <a:cubicBezTo>
                  <a:pt x="1336" y="8775"/>
                  <a:pt x="0" y="12825"/>
                  <a:pt x="0" y="17550"/>
                </a:cubicBezTo>
                <a:cubicBezTo>
                  <a:pt x="0" y="20250"/>
                  <a:pt x="0" y="20250"/>
                  <a:pt x="0" y="20250"/>
                </a:cubicBezTo>
                <a:cubicBezTo>
                  <a:pt x="0" y="20925"/>
                  <a:pt x="222" y="21599"/>
                  <a:pt x="445" y="21599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AutoShape 66"/>
          <p:cNvSpPr/>
          <p:nvPr/>
        </p:nvSpPr>
        <p:spPr>
          <a:xfrm>
            <a:off x="10442520" y="4035600"/>
            <a:ext cx="189000" cy="1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20" y="21600"/>
                </a:moveTo>
                <a:cubicBezTo>
                  <a:pt x="9720" y="21600"/>
                  <a:pt x="9720" y="21600"/>
                  <a:pt x="9720" y="21600"/>
                </a:cubicBezTo>
                <a:cubicBezTo>
                  <a:pt x="11880" y="21600"/>
                  <a:pt x="11880" y="21600"/>
                  <a:pt x="11880" y="21600"/>
                </a:cubicBezTo>
                <a:cubicBezTo>
                  <a:pt x="17280" y="21600"/>
                  <a:pt x="17280" y="21600"/>
                  <a:pt x="17280" y="21600"/>
                </a:cubicBezTo>
                <a:cubicBezTo>
                  <a:pt x="19440" y="21600"/>
                  <a:pt x="21600" y="19199"/>
                  <a:pt x="21600" y="16799"/>
                </a:cubicBezTo>
                <a:cubicBezTo>
                  <a:pt x="21600" y="4799"/>
                  <a:pt x="21600" y="4799"/>
                  <a:pt x="21600" y="4799"/>
                </a:cubicBezTo>
                <a:cubicBezTo>
                  <a:pt x="21600" y="1799"/>
                  <a:pt x="19440" y="0"/>
                  <a:pt x="17280" y="0"/>
                </a:cubicBezTo>
                <a:cubicBezTo>
                  <a:pt x="4320" y="0"/>
                  <a:pt x="4320" y="0"/>
                  <a:pt x="4320" y="0"/>
                </a:cubicBezTo>
                <a:cubicBezTo>
                  <a:pt x="2160" y="0"/>
                  <a:pt x="0" y="1799"/>
                  <a:pt x="0" y="4799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199"/>
                  <a:pt x="2160" y="21600"/>
                  <a:pt x="4320" y="2160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AutoShape 67"/>
          <p:cNvSpPr/>
          <p:nvPr/>
        </p:nvSpPr>
        <p:spPr>
          <a:xfrm>
            <a:off x="10247400" y="4398840"/>
            <a:ext cx="13788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31" y="0"/>
                </a:moveTo>
                <a:cubicBezTo>
                  <a:pt x="4468" y="0"/>
                  <a:pt x="4468" y="0"/>
                  <a:pt x="4468" y="0"/>
                </a:cubicBezTo>
                <a:cubicBezTo>
                  <a:pt x="148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1489" y="21599"/>
                  <a:pt x="4468" y="21599"/>
                </a:cubicBezTo>
                <a:cubicBezTo>
                  <a:pt x="17131" y="21599"/>
                  <a:pt x="17131" y="21599"/>
                  <a:pt x="17131" y="21599"/>
                </a:cubicBezTo>
                <a:cubicBezTo>
                  <a:pt x="20110" y="21599"/>
                  <a:pt x="21599" y="19200"/>
                  <a:pt x="21599" y="16799"/>
                </a:cubicBezTo>
                <a:cubicBezTo>
                  <a:pt x="21599" y="4800"/>
                  <a:pt x="21599" y="4800"/>
                  <a:pt x="21599" y="4800"/>
                </a:cubicBezTo>
                <a:cubicBezTo>
                  <a:pt x="21599" y="2400"/>
                  <a:pt x="20110" y="0"/>
                  <a:pt x="17131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AutoShape 68"/>
          <p:cNvSpPr/>
          <p:nvPr/>
        </p:nvSpPr>
        <p:spPr>
          <a:xfrm>
            <a:off x="10464840" y="4398840"/>
            <a:ext cx="14112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279" y="0"/>
                </a:moveTo>
                <a:cubicBezTo>
                  <a:pt x="4319" y="0"/>
                  <a:pt x="4319" y="0"/>
                  <a:pt x="4319" y="0"/>
                </a:cubicBezTo>
                <a:cubicBezTo>
                  <a:pt x="215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2159" y="21599"/>
                  <a:pt x="4319" y="21599"/>
                </a:cubicBezTo>
                <a:cubicBezTo>
                  <a:pt x="17279" y="21599"/>
                  <a:pt x="17279" y="21599"/>
                  <a:pt x="17279" y="21599"/>
                </a:cubicBezTo>
                <a:cubicBezTo>
                  <a:pt x="19439" y="21599"/>
                  <a:pt x="21600" y="19200"/>
                  <a:pt x="21600" y="16799"/>
                </a:cubicBezTo>
                <a:cubicBezTo>
                  <a:pt x="21600" y="4800"/>
                  <a:pt x="21600" y="4800"/>
                  <a:pt x="21600" y="4800"/>
                </a:cubicBezTo>
                <a:cubicBezTo>
                  <a:pt x="21600" y="2400"/>
                  <a:pt x="19439" y="0"/>
                  <a:pt x="17279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AutoShape 69"/>
          <p:cNvSpPr/>
          <p:nvPr/>
        </p:nvSpPr>
        <p:spPr>
          <a:xfrm>
            <a:off x="10682280" y="4398840"/>
            <a:ext cx="14436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279" y="0"/>
                </a:moveTo>
                <a:cubicBezTo>
                  <a:pt x="4319" y="0"/>
                  <a:pt x="4319" y="0"/>
                  <a:pt x="4319" y="0"/>
                </a:cubicBezTo>
                <a:cubicBezTo>
                  <a:pt x="215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2159" y="21599"/>
                  <a:pt x="4319" y="21599"/>
                </a:cubicBezTo>
                <a:cubicBezTo>
                  <a:pt x="17279" y="21599"/>
                  <a:pt x="17279" y="21599"/>
                  <a:pt x="17279" y="21599"/>
                </a:cubicBezTo>
                <a:cubicBezTo>
                  <a:pt x="19440" y="21599"/>
                  <a:pt x="21600" y="19200"/>
                  <a:pt x="21600" y="16799"/>
                </a:cubicBezTo>
                <a:cubicBezTo>
                  <a:pt x="21600" y="4800"/>
                  <a:pt x="21600" y="4800"/>
                  <a:pt x="21600" y="4800"/>
                </a:cubicBezTo>
                <a:cubicBezTo>
                  <a:pt x="21600" y="2400"/>
                  <a:pt x="19440" y="0"/>
                  <a:pt x="17279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AutoShape 72"/>
          <p:cNvSpPr/>
          <p:nvPr/>
        </p:nvSpPr>
        <p:spPr>
          <a:xfrm>
            <a:off x="1216080" y="1908000"/>
            <a:ext cx="8096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AutoShape 73"/>
          <p:cNvSpPr/>
          <p:nvPr/>
        </p:nvSpPr>
        <p:spPr>
          <a:xfrm>
            <a:off x="1187280" y="2205000"/>
            <a:ext cx="83844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AutoShape 75"/>
          <p:cNvSpPr/>
          <p:nvPr/>
        </p:nvSpPr>
        <p:spPr>
          <a:xfrm>
            <a:off x="3448080" y="1908000"/>
            <a:ext cx="81108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AutoShape 76"/>
          <p:cNvSpPr/>
          <p:nvPr/>
        </p:nvSpPr>
        <p:spPr>
          <a:xfrm>
            <a:off x="3417840" y="2208240"/>
            <a:ext cx="84132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AutoShape 78"/>
          <p:cNvSpPr/>
          <p:nvPr/>
        </p:nvSpPr>
        <p:spPr>
          <a:xfrm>
            <a:off x="5676840" y="1908000"/>
            <a:ext cx="8114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AutoShape 79"/>
          <p:cNvSpPr/>
          <p:nvPr/>
        </p:nvSpPr>
        <p:spPr>
          <a:xfrm>
            <a:off x="5676840" y="2189160"/>
            <a:ext cx="83988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AutoShape 81"/>
          <p:cNvSpPr/>
          <p:nvPr/>
        </p:nvSpPr>
        <p:spPr>
          <a:xfrm>
            <a:off x="7908840" y="1908000"/>
            <a:ext cx="8114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AutoShape 82"/>
          <p:cNvSpPr/>
          <p:nvPr/>
        </p:nvSpPr>
        <p:spPr>
          <a:xfrm>
            <a:off x="7880400" y="2174760"/>
            <a:ext cx="83988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AutoShape 84"/>
          <p:cNvSpPr/>
          <p:nvPr/>
        </p:nvSpPr>
        <p:spPr>
          <a:xfrm>
            <a:off x="10139400" y="1908000"/>
            <a:ext cx="8096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AutoShape 85"/>
          <p:cNvSpPr/>
          <p:nvPr/>
        </p:nvSpPr>
        <p:spPr>
          <a:xfrm>
            <a:off x="10125000" y="2174760"/>
            <a:ext cx="83844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969840" y="4917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974880" y="520380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314316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314640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539280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539604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7682040" y="491796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7686720" y="520380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991872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992196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6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" descr=""/>
          <p:cNvPicPr/>
          <p:nvPr/>
        </p:nvPicPr>
        <p:blipFill>
          <a:blip r:embed="rId1"/>
          <a:stretch/>
        </p:blipFill>
        <p:spPr>
          <a:xfrm>
            <a:off x="600120" y="1419120"/>
            <a:ext cx="4381560" cy="42483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7" descr=""/>
          <p:cNvPicPr/>
          <p:nvPr/>
        </p:nvPicPr>
        <p:blipFill>
          <a:blip r:embed="rId2"/>
          <a:stretch/>
        </p:blipFill>
        <p:spPr>
          <a:xfrm>
            <a:off x="2395440" y="3348000"/>
            <a:ext cx="3119400" cy="2365560"/>
          </a:xfrm>
          <a:prstGeom prst="rect">
            <a:avLst/>
          </a:prstGeom>
          <a:ln w="0">
            <a:noFill/>
          </a:ln>
        </p:spPr>
      </p:pic>
      <p:sp>
        <p:nvSpPr>
          <p:cNvPr id="876" name="矩形 8"/>
          <p:cNvSpPr/>
          <p:nvPr/>
        </p:nvSpPr>
        <p:spPr>
          <a:xfrm>
            <a:off x="5584680" y="372888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5584680" y="293220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图片 3" descr=""/>
          <p:cNvPicPr/>
          <p:nvPr/>
        </p:nvPicPr>
        <p:blipFill>
          <a:blip r:embed="rId1"/>
          <a:stretch/>
        </p:blipFill>
        <p:spPr>
          <a:xfrm>
            <a:off x="5448240" y="0"/>
            <a:ext cx="674388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矩形 5"/>
          <p:cNvSpPr/>
          <p:nvPr/>
        </p:nvSpPr>
        <p:spPr>
          <a:xfrm>
            <a:off x="803160" y="424188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803160" y="3171960"/>
            <a:ext cx="3789360" cy="955440"/>
            <a:chOff x="803160" y="3171960"/>
            <a:chExt cx="3789360" cy="955440"/>
          </a:xfrm>
        </p:grpSpPr>
        <p:pic>
          <p:nvPicPr>
            <p:cNvPr id="882" name="图片 7" descr=""/>
            <p:cNvPicPr/>
            <p:nvPr/>
          </p:nvPicPr>
          <p:blipFill>
            <a:blip r:embed="rId2"/>
            <a:stretch/>
          </p:blipFill>
          <p:spPr>
            <a:xfrm>
              <a:off x="803160" y="317196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8"/>
            <p:cNvSpPr/>
            <p:nvPr/>
          </p:nvSpPr>
          <p:spPr>
            <a:xfrm>
              <a:off x="1187640" y="335232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4" name="Text Box 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图片 1" descr=""/>
          <p:cNvPicPr/>
          <p:nvPr/>
        </p:nvPicPr>
        <p:blipFill>
          <a:blip r:embed="rId1"/>
          <a:srcRect l="25017" t="13072" r="22546" b="24128"/>
          <a:stretch/>
        </p:blipFill>
        <p:spPr>
          <a:xfrm>
            <a:off x="682560" y="779400"/>
            <a:ext cx="2743200" cy="35640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3" descr=""/>
          <p:cNvPicPr/>
          <p:nvPr/>
        </p:nvPicPr>
        <p:blipFill>
          <a:blip r:embed="rId2"/>
          <a:stretch/>
        </p:blipFill>
        <p:spPr>
          <a:xfrm>
            <a:off x="6670800" y="0"/>
            <a:ext cx="5521320" cy="590544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8" descr=""/>
          <p:cNvPicPr/>
          <p:nvPr/>
        </p:nvPicPr>
        <p:blipFill>
          <a:blip r:embed="rId3"/>
          <a:stretch/>
        </p:blipFill>
        <p:spPr>
          <a:xfrm>
            <a:off x="1254240" y="4057560"/>
            <a:ext cx="326880" cy="33192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9"/>
          <p:cNvSpPr/>
          <p:nvPr/>
        </p:nvSpPr>
        <p:spPr>
          <a:xfrm>
            <a:off x="1235880" y="4098960"/>
            <a:ext cx="362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汉仪星宇体简"/>
                <a:ea typeface="汉仪星宇体简"/>
              </a:rPr>
              <a:t>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67440" cy="6029280"/>
          </a:xfrm>
          <a:prstGeom prst="rect">
            <a:avLst/>
          </a:prstGeom>
          <a:ln w="0">
            <a:noFill/>
          </a:ln>
        </p:spPr>
      </p:pic>
      <p:grpSp>
        <p:nvGrpSpPr>
          <p:cNvPr id="551" name="组合 29"/>
          <p:cNvGrpSpPr/>
          <p:nvPr/>
        </p:nvGrpSpPr>
        <p:grpSpPr>
          <a:xfrm>
            <a:off x="10018800" y="0"/>
            <a:ext cx="971640" cy="1828800"/>
            <a:chOff x="10018800" y="0"/>
            <a:chExt cx="971640" cy="1828800"/>
          </a:xfrm>
        </p:grpSpPr>
        <p:sp>
          <p:nvSpPr>
            <p:cNvPr id="552" name="矩形 30"/>
            <p:cNvSpPr/>
            <p:nvPr/>
          </p:nvSpPr>
          <p:spPr>
            <a:xfrm>
              <a:off x="1001880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文本框 31"/>
            <p:cNvSpPr/>
            <p:nvPr/>
          </p:nvSpPr>
          <p:spPr>
            <a:xfrm>
              <a:off x="1001880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4" name="组合 32"/>
          <p:cNvGrpSpPr/>
          <p:nvPr/>
        </p:nvGrpSpPr>
        <p:grpSpPr>
          <a:xfrm>
            <a:off x="6669000" y="2946240"/>
            <a:ext cx="4321440" cy="460440"/>
            <a:chOff x="6669000" y="2946240"/>
            <a:chExt cx="4321440" cy="460440"/>
          </a:xfrm>
        </p:grpSpPr>
        <p:sp>
          <p:nvSpPr>
            <p:cNvPr id="555" name="TextBox 2"/>
            <p:cNvSpPr/>
            <p:nvPr/>
          </p:nvSpPr>
          <p:spPr>
            <a:xfrm>
              <a:off x="8008560" y="294624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文本框 34"/>
            <p:cNvSpPr/>
            <p:nvPr/>
          </p:nvSpPr>
          <p:spPr>
            <a:xfrm>
              <a:off x="7288200" y="294624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7" name="图片 35" descr=""/>
            <p:cNvPicPr/>
            <p:nvPr/>
          </p:nvPicPr>
          <p:blipFill>
            <a:blip r:embed="rId2"/>
            <a:stretch/>
          </p:blipFill>
          <p:spPr>
            <a:xfrm>
              <a:off x="6669000" y="3065400"/>
              <a:ext cx="6627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流程图: 联系 36"/>
            <p:cNvSpPr/>
            <p:nvPr/>
          </p:nvSpPr>
          <p:spPr>
            <a:xfrm>
              <a:off x="7902360" y="3123360"/>
              <a:ext cx="106200" cy="10584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组合 37"/>
          <p:cNvGrpSpPr/>
          <p:nvPr/>
        </p:nvGrpSpPr>
        <p:grpSpPr>
          <a:xfrm>
            <a:off x="6669000" y="3819600"/>
            <a:ext cx="4321440" cy="461880"/>
            <a:chOff x="6669000" y="3819600"/>
            <a:chExt cx="4321440" cy="461880"/>
          </a:xfrm>
        </p:grpSpPr>
        <p:sp>
          <p:nvSpPr>
            <p:cNvPr id="560" name="TextBox 2"/>
            <p:cNvSpPr/>
            <p:nvPr/>
          </p:nvSpPr>
          <p:spPr>
            <a:xfrm>
              <a:off x="8008560" y="38196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文本框 39"/>
            <p:cNvSpPr/>
            <p:nvPr/>
          </p:nvSpPr>
          <p:spPr>
            <a:xfrm>
              <a:off x="7288200" y="38196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图片 40" descr=""/>
            <p:cNvPicPr/>
            <p:nvPr/>
          </p:nvPicPr>
          <p:blipFill>
            <a:blip r:embed="rId3"/>
            <a:stretch/>
          </p:blipFill>
          <p:spPr>
            <a:xfrm>
              <a:off x="6669000" y="3939120"/>
              <a:ext cx="66276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流程图: 联系 41"/>
            <p:cNvSpPr/>
            <p:nvPr/>
          </p:nvSpPr>
          <p:spPr>
            <a:xfrm>
              <a:off x="7902360" y="399744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组合 42"/>
          <p:cNvGrpSpPr/>
          <p:nvPr/>
        </p:nvGrpSpPr>
        <p:grpSpPr>
          <a:xfrm>
            <a:off x="6669000" y="4694400"/>
            <a:ext cx="4321440" cy="460080"/>
            <a:chOff x="6669000" y="4694400"/>
            <a:chExt cx="4321440" cy="460080"/>
          </a:xfrm>
        </p:grpSpPr>
        <p:sp>
          <p:nvSpPr>
            <p:cNvPr id="565" name="TextBox 2"/>
            <p:cNvSpPr/>
            <p:nvPr/>
          </p:nvSpPr>
          <p:spPr>
            <a:xfrm>
              <a:off x="8008560" y="46944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文本框 44"/>
            <p:cNvSpPr/>
            <p:nvPr/>
          </p:nvSpPr>
          <p:spPr>
            <a:xfrm>
              <a:off x="7288200" y="46944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7" name="图片 45" descr=""/>
            <p:cNvPicPr/>
            <p:nvPr/>
          </p:nvPicPr>
          <p:blipFill>
            <a:blip r:embed="rId4"/>
            <a:stretch/>
          </p:blipFill>
          <p:spPr>
            <a:xfrm>
              <a:off x="6669000" y="4813200"/>
              <a:ext cx="6627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流程图: 联系 46"/>
            <p:cNvSpPr/>
            <p:nvPr/>
          </p:nvSpPr>
          <p:spPr>
            <a:xfrm>
              <a:off x="7902360" y="4871520"/>
              <a:ext cx="106200" cy="10584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7"/>
          <p:cNvGrpSpPr/>
          <p:nvPr/>
        </p:nvGrpSpPr>
        <p:grpSpPr>
          <a:xfrm>
            <a:off x="6669000" y="5567400"/>
            <a:ext cx="4321440" cy="461880"/>
            <a:chOff x="6669000" y="5567400"/>
            <a:chExt cx="4321440" cy="461880"/>
          </a:xfrm>
        </p:grpSpPr>
        <p:sp>
          <p:nvSpPr>
            <p:cNvPr id="570" name="TextBox 2"/>
            <p:cNvSpPr/>
            <p:nvPr/>
          </p:nvSpPr>
          <p:spPr>
            <a:xfrm>
              <a:off x="8008560" y="55674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文本框 49"/>
            <p:cNvSpPr/>
            <p:nvPr/>
          </p:nvSpPr>
          <p:spPr>
            <a:xfrm>
              <a:off x="7288200" y="55674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2" name="图片 50" descr=""/>
            <p:cNvPicPr/>
            <p:nvPr/>
          </p:nvPicPr>
          <p:blipFill>
            <a:blip r:embed="rId5"/>
            <a:stretch/>
          </p:blipFill>
          <p:spPr>
            <a:xfrm>
              <a:off x="6669000" y="5686920"/>
              <a:ext cx="66276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流程图: 联系 51"/>
            <p:cNvSpPr/>
            <p:nvPr/>
          </p:nvSpPr>
          <p:spPr>
            <a:xfrm>
              <a:off x="7902360" y="574524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576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图片 7" descr=""/>
          <p:cNvPicPr/>
          <p:nvPr/>
        </p:nvPicPr>
        <p:blipFill>
          <a:blip r:embed="rId3"/>
          <a:stretch/>
        </p:blipFill>
        <p:spPr>
          <a:xfrm>
            <a:off x="6307200" y="3579840"/>
            <a:ext cx="4159080" cy="214308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8" descr=""/>
          <p:cNvPicPr/>
          <p:nvPr/>
        </p:nvPicPr>
        <p:blipFill>
          <a:blip r:embed="rId4"/>
          <a:stretch/>
        </p:blipFill>
        <p:spPr>
          <a:xfrm>
            <a:off x="6629400" y="2933640"/>
            <a:ext cx="3516480" cy="181152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9" descr=""/>
          <p:cNvPicPr/>
          <p:nvPr/>
        </p:nvPicPr>
        <p:blipFill>
          <a:blip r:embed="rId5"/>
          <a:stretch/>
        </p:blipFill>
        <p:spPr>
          <a:xfrm>
            <a:off x="7027920" y="2495520"/>
            <a:ext cx="2547720" cy="131292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0" descr=""/>
          <p:cNvPicPr/>
          <p:nvPr/>
        </p:nvPicPr>
        <p:blipFill>
          <a:blip r:embed="rId6"/>
          <a:stretch/>
        </p:blipFill>
        <p:spPr>
          <a:xfrm>
            <a:off x="7604280" y="2095560"/>
            <a:ext cx="1504800" cy="774720"/>
          </a:xfrm>
          <a:prstGeom prst="rect">
            <a:avLst/>
          </a:prstGeom>
          <a:ln w="0">
            <a:noFill/>
          </a:ln>
        </p:spPr>
      </p:pic>
      <p:grpSp>
        <p:nvGrpSpPr>
          <p:cNvPr id="583" name="组合 12"/>
          <p:cNvGrpSpPr/>
          <p:nvPr/>
        </p:nvGrpSpPr>
        <p:grpSpPr>
          <a:xfrm>
            <a:off x="1500120" y="2741760"/>
            <a:ext cx="3876840" cy="1066680"/>
            <a:chOff x="1500120" y="2741760"/>
            <a:chExt cx="3876840" cy="1066680"/>
          </a:xfrm>
        </p:grpSpPr>
        <p:pic>
          <p:nvPicPr>
            <p:cNvPr id="584" name="图片 13" descr=""/>
            <p:cNvPicPr/>
            <p:nvPr/>
          </p:nvPicPr>
          <p:blipFill>
            <a:blip r:embed="rId7"/>
            <a:stretch/>
          </p:blipFill>
          <p:spPr>
            <a:xfrm>
              <a:off x="1500120" y="2741760"/>
              <a:ext cx="3876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矩形 14"/>
            <p:cNvSpPr/>
            <p:nvPr/>
          </p:nvSpPr>
          <p:spPr>
            <a:xfrm>
              <a:off x="2118240" y="3046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组合 15"/>
          <p:cNvGrpSpPr/>
          <p:nvPr/>
        </p:nvGrpSpPr>
        <p:grpSpPr>
          <a:xfrm>
            <a:off x="1541520" y="3613320"/>
            <a:ext cx="3878280" cy="1066680"/>
            <a:chOff x="1541520" y="3613320"/>
            <a:chExt cx="3878280" cy="1066680"/>
          </a:xfrm>
        </p:grpSpPr>
        <p:pic>
          <p:nvPicPr>
            <p:cNvPr id="587" name="图片 16" descr=""/>
            <p:cNvPicPr/>
            <p:nvPr/>
          </p:nvPicPr>
          <p:blipFill>
            <a:blip r:embed="rId8"/>
            <a:stretch/>
          </p:blipFill>
          <p:spPr>
            <a:xfrm>
              <a:off x="1541520" y="361332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矩形 17"/>
            <p:cNvSpPr/>
            <p:nvPr/>
          </p:nvSpPr>
          <p:spPr>
            <a:xfrm>
              <a:off x="2160000" y="39182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组合 18"/>
          <p:cNvGrpSpPr/>
          <p:nvPr/>
        </p:nvGrpSpPr>
        <p:grpSpPr>
          <a:xfrm>
            <a:off x="1541520" y="4489560"/>
            <a:ext cx="3878280" cy="1065240"/>
            <a:chOff x="1541520" y="4489560"/>
            <a:chExt cx="3878280" cy="1065240"/>
          </a:xfrm>
        </p:grpSpPr>
        <p:pic>
          <p:nvPicPr>
            <p:cNvPr id="590" name="图片 19" descr=""/>
            <p:cNvPicPr/>
            <p:nvPr/>
          </p:nvPicPr>
          <p:blipFill>
            <a:blip r:embed="rId9"/>
            <a:stretch/>
          </p:blipFill>
          <p:spPr>
            <a:xfrm>
              <a:off x="1541520" y="4489560"/>
              <a:ext cx="387828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矩形 20"/>
            <p:cNvSpPr/>
            <p:nvPr/>
          </p:nvSpPr>
          <p:spPr>
            <a:xfrm>
              <a:off x="2160000" y="4793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2" name="图片 21" descr=""/>
          <p:cNvPicPr/>
          <p:nvPr/>
        </p:nvPicPr>
        <p:blipFill>
          <a:blip r:embed="rId10"/>
          <a:stretch/>
        </p:blipFill>
        <p:spPr>
          <a:xfrm rot="19183200">
            <a:off x="4722840" y="2992320"/>
            <a:ext cx="2822400" cy="1632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0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59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8" name="组合 7"/>
          <p:cNvGrpSpPr/>
          <p:nvPr/>
        </p:nvGrpSpPr>
        <p:grpSpPr>
          <a:xfrm>
            <a:off x="1128240" y="1941480"/>
            <a:ext cx="1987560" cy="2143080"/>
            <a:chOff x="1128240" y="1941480"/>
            <a:chExt cx="1987560" cy="2143080"/>
          </a:xfrm>
        </p:grpSpPr>
        <p:pic>
          <p:nvPicPr>
            <p:cNvPr id="599" name="图片 8" descr=""/>
            <p:cNvPicPr/>
            <p:nvPr/>
          </p:nvPicPr>
          <p:blipFill>
            <a:blip r:embed="rId3"/>
            <a:stretch/>
          </p:blipFill>
          <p:spPr>
            <a:xfrm rot="5400000">
              <a:off x="1050480" y="2019240"/>
              <a:ext cx="21430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文本框 9"/>
            <p:cNvSpPr/>
            <p:nvPr/>
          </p:nvSpPr>
          <p:spPr>
            <a:xfrm>
              <a:off x="1699920" y="259740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组合 11"/>
          <p:cNvGrpSpPr/>
          <p:nvPr/>
        </p:nvGrpSpPr>
        <p:grpSpPr>
          <a:xfrm>
            <a:off x="3649680" y="1941120"/>
            <a:ext cx="1987560" cy="2143080"/>
            <a:chOff x="3649680" y="1941120"/>
            <a:chExt cx="1987560" cy="2143080"/>
          </a:xfrm>
        </p:grpSpPr>
        <p:pic>
          <p:nvPicPr>
            <p:cNvPr id="602" name="图片 12" descr=""/>
            <p:cNvPicPr/>
            <p:nvPr/>
          </p:nvPicPr>
          <p:blipFill>
            <a:blip r:embed="rId4"/>
            <a:stretch/>
          </p:blipFill>
          <p:spPr>
            <a:xfrm rot="16200000">
              <a:off x="3571920" y="2018880"/>
              <a:ext cx="21430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文本框 13"/>
            <p:cNvSpPr/>
            <p:nvPr/>
          </p:nvSpPr>
          <p:spPr>
            <a:xfrm>
              <a:off x="4223880" y="259740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组合 15"/>
          <p:cNvGrpSpPr/>
          <p:nvPr/>
        </p:nvGrpSpPr>
        <p:grpSpPr>
          <a:xfrm>
            <a:off x="6284520" y="1838160"/>
            <a:ext cx="1987560" cy="2143440"/>
            <a:chOff x="6284520" y="1838160"/>
            <a:chExt cx="1987560" cy="2143440"/>
          </a:xfrm>
        </p:grpSpPr>
        <p:pic>
          <p:nvPicPr>
            <p:cNvPr id="605" name="图片 16" descr=""/>
            <p:cNvPicPr/>
            <p:nvPr/>
          </p:nvPicPr>
          <p:blipFill>
            <a:blip r:embed="rId5"/>
            <a:stretch/>
          </p:blipFill>
          <p:spPr>
            <a:xfrm rot="5400000">
              <a:off x="6206400" y="1915920"/>
              <a:ext cx="2143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文本框 17"/>
            <p:cNvSpPr/>
            <p:nvPr/>
          </p:nvSpPr>
          <p:spPr>
            <a:xfrm>
              <a:off x="6902280" y="259668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19"/>
          <p:cNvGrpSpPr/>
          <p:nvPr/>
        </p:nvGrpSpPr>
        <p:grpSpPr>
          <a:xfrm>
            <a:off x="8805960" y="1838160"/>
            <a:ext cx="1987560" cy="2143440"/>
            <a:chOff x="8805960" y="1838160"/>
            <a:chExt cx="1987560" cy="2143440"/>
          </a:xfrm>
        </p:grpSpPr>
        <p:pic>
          <p:nvPicPr>
            <p:cNvPr id="608" name="图片 20" descr=""/>
            <p:cNvPicPr/>
            <p:nvPr/>
          </p:nvPicPr>
          <p:blipFill>
            <a:blip r:embed="rId6"/>
            <a:stretch/>
          </p:blipFill>
          <p:spPr>
            <a:xfrm rot="16200000">
              <a:off x="8727840" y="1915920"/>
              <a:ext cx="2143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文本框 21"/>
            <p:cNvSpPr/>
            <p:nvPr/>
          </p:nvSpPr>
          <p:spPr>
            <a:xfrm>
              <a:off x="9362520" y="259668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3"/>
          <p:cNvSpPr/>
          <p:nvPr/>
        </p:nvSpPr>
        <p:spPr>
          <a:xfrm>
            <a:off x="969840" y="4559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102888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3475080" y="4559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13"/>
          <p:cNvSpPr/>
          <p:nvPr/>
        </p:nvSpPr>
        <p:spPr>
          <a:xfrm>
            <a:off x="353232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6102360" y="4559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3"/>
          <p:cNvSpPr/>
          <p:nvPr/>
        </p:nvSpPr>
        <p:spPr>
          <a:xfrm>
            <a:off x="615960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21640" y="4559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4844880"/>
            <a:ext cx="211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1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noFill/>
          <a:ln w="648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6c7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7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48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49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50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51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652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4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665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667" name="矩形 7"/>
          <p:cNvSpPr/>
          <p:nvPr/>
        </p:nvSpPr>
        <p:spPr>
          <a:xfrm>
            <a:off x="6060960" y="41324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 8"/>
          <p:cNvSpPr/>
          <p:nvPr/>
        </p:nvSpPr>
        <p:spPr>
          <a:xfrm>
            <a:off x="6060960" y="33368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9"/>
          <p:cNvGrpSpPr/>
          <p:nvPr/>
        </p:nvGrpSpPr>
        <p:grpSpPr>
          <a:xfrm>
            <a:off x="6060960" y="2266920"/>
            <a:ext cx="3789360" cy="955800"/>
            <a:chOff x="6060960" y="2266920"/>
            <a:chExt cx="3789360" cy="955800"/>
          </a:xfrm>
        </p:grpSpPr>
        <p:pic>
          <p:nvPicPr>
            <p:cNvPr id="670" name="图片 10" descr=""/>
            <p:cNvPicPr/>
            <p:nvPr/>
          </p:nvPicPr>
          <p:blipFill>
            <a:blip r:embed="rId2"/>
            <a:stretch/>
          </p:blipFill>
          <p:spPr>
            <a:xfrm>
              <a:off x="606096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文本框 11"/>
            <p:cNvSpPr/>
            <p:nvPr/>
          </p:nvSpPr>
          <p:spPr>
            <a:xfrm>
              <a:off x="644544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7726320" y="1014480"/>
            <a:ext cx="3160800" cy="4892760"/>
          </a:xfrm>
          <a:prstGeom prst="rect">
            <a:avLst/>
          </a:prstGeom>
          <a:ln w="0">
            <a:noFill/>
          </a:ln>
        </p:spPr>
      </p:pic>
      <p:sp>
        <p:nvSpPr>
          <p:cNvPr id="674" name="矩形 7"/>
          <p:cNvSpPr/>
          <p:nvPr/>
        </p:nvSpPr>
        <p:spPr>
          <a:xfrm>
            <a:off x="1260360" y="437040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8"/>
          <p:cNvSpPr/>
          <p:nvPr/>
        </p:nvSpPr>
        <p:spPr>
          <a:xfrm>
            <a:off x="1260360" y="357516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9"/>
          <p:cNvGrpSpPr/>
          <p:nvPr/>
        </p:nvGrpSpPr>
        <p:grpSpPr>
          <a:xfrm>
            <a:off x="1260360" y="2505240"/>
            <a:ext cx="3789360" cy="955440"/>
            <a:chOff x="1260360" y="2505240"/>
            <a:chExt cx="3789360" cy="955440"/>
          </a:xfrm>
        </p:grpSpPr>
        <p:pic>
          <p:nvPicPr>
            <p:cNvPr id="677" name="图片 10" descr=""/>
            <p:cNvPicPr/>
            <p:nvPr/>
          </p:nvPicPr>
          <p:blipFill>
            <a:blip r:embed="rId2"/>
            <a:stretch/>
          </p:blipFill>
          <p:spPr>
            <a:xfrm>
              <a:off x="1260360" y="25052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文本框 11"/>
            <p:cNvSpPr/>
            <p:nvPr/>
          </p:nvSpPr>
          <p:spPr>
            <a:xfrm>
              <a:off x="1644840" y="26856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9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0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81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682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3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84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685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4425840" y="23162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425840" y="36450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4425840" y="4975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9242280" y="452592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31Z</dcterms:modified>
  <cp:revision>5</cp:revision>
  <dc:subject/>
  <dc:title>PowerPoint 演示文稿</dc:title>
</cp:coreProperties>
</file>