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8999538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6697-BEEB-4AB0-9E70-3D20061EE36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5CD6-9A9A-45DE-8297-F421FDA9285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62F5-922C-4EE3-BE6D-8F6F4105575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F177-5166-4183-89A7-9944780D954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DD74-FAED-4083-B470-7BFAC669A18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1CD1-FBE3-4F65-852C-EA64776A815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D15B-9294-4AF3-93C0-8321D2951ED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3C1A-0607-4563-B170-1AF1F3541D0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D5D0-C04B-42DD-998C-B08CC9E5531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D150F-60AD-45C0-A384-CDFD18E2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9372D-FF79-49FF-83D9-D0844FE7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0BD80-70CF-425D-9B9A-36F07593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31810-535E-4328-B3AC-649EE77B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6E79D-C8EA-4EB8-92CA-214E78F4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59B34-7F94-4E72-8709-79DB325F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9463F-4F6E-4D52-92F2-4FE74B32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767C0-4838-46F9-B0DD-7C1B4955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84E2C-A3ED-4BA8-8855-258311EF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78760-CE52-4EEC-9206-25631550B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FDA47-615E-4974-B735-421536DA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674B6-59E1-4B7E-83DA-F62B7DBF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03DD5-903E-4009-9E79-41B5A40C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DAC07-2AD0-4512-8264-96610FCD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3CB05-4451-40EA-ADFD-5FEE2D47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D287E-9E5F-4B58-82A3-6A46A6EF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9B8EA-6870-4FA7-BD0C-CDAA7C5C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42730-FD4D-4826-8DEA-504DE884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72204-ADC2-466F-A5BC-B2720C0F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B4F60-2FF1-4CDE-A4C5-5ECA3ECF0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064C8-D04B-400D-9007-B087405E7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5EB2F-DD27-471F-BFF5-024E1A41E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0DE41-C335-4F31-B577-770DB654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E65DA-0D79-432B-9FE1-F4CDD5E9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4AAFA-420A-4494-8A62-96D7856A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9D7D57-21B8-4B4B-B14E-016C9BDE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93103-772E-4F22-9C39-4F984AEB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CDEE7-5A56-42C0-B9CE-F8A82C39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AEF8D-4D06-4234-9740-A89F44DC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F0060-9482-40B4-90DC-658552BB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6F4C-970F-4AB4-ADCE-69454627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877B1-53DD-4B7E-AB17-893E640A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B6CA5-EDD1-4A4D-9A2C-5BFDDFC5C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384F7-5A80-495D-927E-A2F2EC19C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B27B4-F4F6-4677-9FBF-2F3A3EC5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51853-5621-43CA-ABB6-4883C191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149D5-B3C5-49BB-9C98-257B9232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14FE5-16F5-4F87-9845-060582E8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5F4E3-407B-4A91-BBE9-A7B441D7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3D479-F7F7-4A28-B137-ABE72D9F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24E30-CA8B-4485-89E6-6C1B8850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87C9-D96E-4229-BC77-46CF84DF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E112A-7C4F-457F-808F-C506E06B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BE57C-54C0-4BDD-B9F3-CB006736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1BB19-CA50-48E5-899C-F9490DE1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C16E2-5C08-49DB-B855-EE7B2A2DB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53963-2E4E-4F8B-B984-F4D872AF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9370-B31E-4541-9285-D8E7F580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1736-1261-4936-BD39-914BEA8D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BD6B-D487-4B19-AAE7-08EB87C0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23C1-B853-4044-AF91-A80FDA2B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B6D0-3C21-4A92-9D35-F2E0E874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D3C6-AA1B-468E-B3F0-ADA85B1B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ABDB-AD9F-4CEC-B44F-BB396177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BAFB-62DA-4638-98EE-DAABD720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6F58-1AE9-499C-8B06-E04BB8F4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2243-F4BD-46B7-B325-FB7154DA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CAD9-B3FF-4862-8CC1-960FB470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FC3E-5F72-4E4D-850A-F121B393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DF3E-CB04-4C9D-9DA0-D3FB41C4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A412-A918-4317-A177-2ADB448A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A4BC-A3B5-4DE8-BEC7-6310018C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5476-C130-438D-87C6-BC037746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7760-0E27-4153-889D-FD6B27CA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5C08-7669-4EF8-867E-BDEDE8C7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2CBB-754C-4E10-9AD6-48FDD0FD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36F9-FF7D-4CDD-B00C-A5846518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CAFB-680A-4A1D-9FAB-170E7BFB3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0B89-61AA-4082-AC4A-2BA270A76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25DEF-287B-4795-865F-57F369D7F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C9B21-4914-4ABE-ABFE-DF56C97F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DF8A7-3B4B-48B8-9A96-DD700D8F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BF0C6-885E-422F-8515-50C1DDA7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B9601-370B-49D9-8AC5-5B00FF53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B7E33-95F8-4E81-9381-CD2D186A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5EF07-42F0-4890-B8D6-3CAD5EC4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F13D9-1942-4075-9488-41775A6B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FB169-FB08-41AF-9FBB-426E7663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381CF-B9B9-4438-ABC2-CBB4C6A6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CC9BA-3241-4501-ACF2-FE2BBFB4F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D6080-D491-42E6-8DF2-DAD3B6C8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7E71A-0417-4773-B13B-3B7721354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C9235-E9D7-4672-9B61-42242EAE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DDE58-3AB3-46B5-8371-32A8072B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619ED-EAEC-43A7-BFA6-31A967A2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2BB22-EFA7-468D-BC85-E3957E82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680D0-0D0B-433C-BE0A-C586499C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87057-7BB6-4C11-ACAF-E9A2E1DA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5D9A7-F443-4439-A4ED-F25631D6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07C8E-31F9-4921-8EB5-79622CD1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1FDAD-FBC5-40BE-AEDA-1F7641E2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31AFB-7000-4412-8B9E-A9FB922C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A36A6-76AA-464E-A6CC-5FB81C00C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EE7EC-9CD8-4A70-974D-93AAB62C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4DF49-C1C6-442C-B944-7255B27B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4B27D-E1CC-449F-8C5D-90E32C05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D5307-9588-4E5A-94C7-5E901A23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E4145-0469-4E9E-AB27-49C7362A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89CF1-D4C2-44F4-9274-C197E45D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B775D-EC90-491F-AC1A-53ED041B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B02C4-E49A-4F30-90DA-8A97D43A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0E7BD-B8FF-4AB7-9A28-FD16DCB1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8157B-DE28-44C5-AB69-9B7552A7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CF6B0-BF15-473C-BBAF-A39E83B8B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FED6F-8DC5-4D12-B288-227D291F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11DB4-8B52-4D23-BBB1-EA09752E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E3F95-4157-48CB-BE70-8E7CA3EB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AC56F-F96A-4ACB-848A-7B7561EC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66D1B-F10F-4255-BF5D-C62372FC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527B7-2905-4543-9590-DCA454B3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AEEB3-8000-4FF3-A1FA-936E07DC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80F77-0499-44E7-AB3D-C363CB2C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173FC-A50E-4A26-9F12-3D24B726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CEFC4-AA51-444F-943C-7A9144FE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45E80-F7BF-43DF-84A1-3EAD441D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7C84B-98E7-4682-90A7-B0104658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2B9B0-B594-468D-B5EE-63BCB06E3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2652C-97DE-4583-860C-2CB8219D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205E4-5553-4460-9458-600895EA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7FEBB-4C70-49FB-9AD4-9B1BD29C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A8A68-2F98-45EB-A7F1-18A5A020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7BCCF-853A-4645-8CA1-9D9E3B2F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73A9E-59EF-421A-B9F1-14E50A7E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22CE9-7F77-49EB-8231-E30A34AF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79501-01EF-4FC9-BDE9-81EBF941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E941E-73AA-48EE-88A2-6821219F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F4C6A-4B55-4E85-89C9-58AEA9E6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E36BB-38EE-476A-8211-CC5C4E1D9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DEDC6-1EB1-4310-8036-238A25F91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2CC45-C80A-4B04-88CD-78267E65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EFE0C-1BFF-4F8F-BABF-62982B11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03896-43F7-4F9B-8C73-B3CD4810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B5E8-78CC-4012-88B4-B00AD69D6E89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A5CC-54CA-43B3-8AD4-3DC44EDD41F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19AF-78C5-4484-AF37-67D376C45DA0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F1F4-0FCE-4FF0-9693-8B680619DE9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A22F-E942-4ECF-B54F-90E00F4EBB11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1DF5-B106-4AEC-8EFC-E4E59935F46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90D6-3321-4F7D-B3C8-B963C5C565F8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691D-0B20-4E09-B98C-66E80BAB37F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99E1-2225-47A2-A307-9A60765B58F8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A363-31DA-4520-BAF2-E8CD1A7D7A4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24E3-FDAC-40E4-B8EF-4D3F7E308EF4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987E-AE64-41DC-B5F7-193F5632384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10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926E-F517-4876-987E-C385CC91034B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11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2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C63A-2408-4839-BD7C-3660ED37087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3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798E-900E-4498-A927-1532B8FAECD7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4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5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E587-56B6-414C-BE7C-1FF4DD82111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6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ABF8-CB51-4640-8D25-E2D1A4F94BF5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7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8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EBE7-BAEE-4660-AC76-AD35F562C35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9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E08F-AF3E-4B1A-B105-610E9B3CA5E5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20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21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65AA-9021-4A54-BA59-4367E5296A3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body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3120" indent="-303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5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2680" indent="-2030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417680" indent="-2034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22320" indent="-2030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22320" indent="-2030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22320" indent="-2030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B514-8FBD-4183-B5D8-26D761C891B1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95C7-82EA-42EA-9744-20AB891A0E0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图片 11" descr=""/>
          <p:cNvPicPr/>
          <p:nvPr/>
        </p:nvPicPr>
        <p:blipFill>
          <a:blip r:embed="rId1"/>
          <a:stretch/>
        </p:blipFill>
        <p:spPr>
          <a:xfrm>
            <a:off x="2406600" y="2924280"/>
            <a:ext cx="4465800" cy="5666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3"/>
          <p:cNvSpPr/>
          <p:nvPr/>
        </p:nvSpPr>
        <p:spPr>
          <a:xfrm>
            <a:off x="1838160" y="1619280"/>
            <a:ext cx="554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1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IOS</a:t>
            </a:r>
            <a:r>
              <a:rPr b="1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效果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4"/>
          <p:cNvSpPr/>
          <p:nvPr/>
        </p:nvSpPr>
        <p:spPr>
          <a:xfrm>
            <a:off x="2263680" y="1619280"/>
            <a:ext cx="4680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5"/>
          <p:cNvSpPr/>
          <p:nvPr/>
        </p:nvSpPr>
        <p:spPr>
          <a:xfrm>
            <a:off x="2263680" y="2198520"/>
            <a:ext cx="468000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6"/>
          <p:cNvSpPr/>
          <p:nvPr/>
        </p:nvSpPr>
        <p:spPr>
          <a:xfrm flipV="1">
            <a:off x="4782960" y="1187280"/>
            <a:ext cx="50508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7"/>
          <p:cNvSpPr/>
          <p:nvPr/>
        </p:nvSpPr>
        <p:spPr>
          <a:xfrm flipV="1">
            <a:off x="3848040" y="2198520"/>
            <a:ext cx="50472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8" hidden="1"/>
          <p:cNvSpPr/>
          <p:nvPr/>
        </p:nvSpPr>
        <p:spPr>
          <a:xfrm>
            <a:off x="4351320" y="2843280"/>
            <a:ext cx="503280" cy="50472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9" hidden="1"/>
          <p:cNvSpPr/>
          <p:nvPr/>
        </p:nvSpPr>
        <p:spPr>
          <a:xfrm rot="16200000">
            <a:off x="4423320" y="2804400"/>
            <a:ext cx="3650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12"/>
          <p:cNvSpPr/>
          <p:nvPr/>
        </p:nvSpPr>
        <p:spPr>
          <a:xfrm>
            <a:off x="234468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记录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25"/>
          <p:cNvSpPr/>
          <p:nvPr/>
        </p:nvSpPr>
        <p:spPr>
          <a:xfrm>
            <a:off x="332100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办公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26"/>
          <p:cNvSpPr/>
          <p:nvPr/>
        </p:nvSpPr>
        <p:spPr>
          <a:xfrm>
            <a:off x="429732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阅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27"/>
          <p:cNvSpPr/>
          <p:nvPr/>
        </p:nvSpPr>
        <p:spPr>
          <a:xfrm>
            <a:off x="527364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置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28"/>
          <p:cNvSpPr/>
          <p:nvPr/>
        </p:nvSpPr>
        <p:spPr>
          <a:xfrm>
            <a:off x="624996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下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椭圆 21"/>
          <p:cNvSpPr/>
          <p:nvPr/>
        </p:nvSpPr>
        <p:spPr>
          <a:xfrm>
            <a:off x="4395960" y="4519440"/>
            <a:ext cx="420480" cy="420840"/>
          </a:xfrm>
          <a:prstGeom prst="ellipse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椭圆 1"/>
          <p:cNvSpPr/>
          <p:nvPr/>
        </p:nvSpPr>
        <p:spPr>
          <a:xfrm>
            <a:off x="4444920" y="4562640"/>
            <a:ext cx="322200" cy="334800"/>
          </a:xfrm>
          <a:prstGeom prst="ellipse">
            <a:avLst/>
          </a:pr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椭圆 22"/>
          <p:cNvSpPr/>
          <p:nvPr/>
        </p:nvSpPr>
        <p:spPr>
          <a:xfrm>
            <a:off x="4511520" y="4635360"/>
            <a:ext cx="187560" cy="189000"/>
          </a:xfrm>
          <a:prstGeom prst="ellipse">
            <a:avLst/>
          </a:prstGeom>
          <a:solidFill>
            <a:srgbClr val="ffff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椭圆 2"/>
          <p:cNvSpPr/>
          <p:nvPr/>
        </p:nvSpPr>
        <p:spPr>
          <a:xfrm>
            <a:off x="1332000" y="466560"/>
            <a:ext cx="647640" cy="86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3"/>
          <p:cNvSpPr/>
          <p:nvPr/>
        </p:nvSpPr>
        <p:spPr>
          <a:xfrm>
            <a:off x="2263680" y="2771640"/>
            <a:ext cx="79056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13"/>
          <p:cNvSpPr/>
          <p:nvPr/>
        </p:nvSpPr>
        <p:spPr>
          <a:xfrm>
            <a:off x="3236760" y="2771640"/>
            <a:ext cx="79236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14"/>
          <p:cNvSpPr/>
          <p:nvPr/>
        </p:nvSpPr>
        <p:spPr>
          <a:xfrm>
            <a:off x="4210200" y="2771640"/>
            <a:ext cx="79200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15"/>
          <p:cNvSpPr/>
          <p:nvPr/>
        </p:nvSpPr>
        <p:spPr>
          <a:xfrm>
            <a:off x="5183280" y="2771640"/>
            <a:ext cx="79200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16"/>
          <p:cNvSpPr/>
          <p:nvPr/>
        </p:nvSpPr>
        <p:spPr>
          <a:xfrm>
            <a:off x="6156360" y="2771640"/>
            <a:ext cx="79200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25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625" autoRev="1" fill="hold"/>
                                        <p:tgtEl>
                                          <p:spTgt spid="4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35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35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5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35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35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5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5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35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5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" dur="35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5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" dur="35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5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" dur="35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5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" dur="35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42">
                                  <p:stCondLst>
                                    <p:cond delay="350"/>
                                  </p:stCondLst>
                                  <p:childTnLst>
                                    <p:animMotion origin="layout" path="M -2.28612E-006 -4.89562E-006 L -2.28612E-006 0.05293 E">
                                      <p:cBhvr>
                                        <p:cTn id="41" dur="350" fill="hold"/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4.51579E-007 -4.89562E-006 L 4.51579E-007 0.05293 E">
                                      <p:cBhvr>
                                        <p:cTn id="43" dur="35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42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-4.12771E-007 -4.89562E-006 L -4.12771E-007 0.05293 E">
                                      <p:cBhvr>
                                        <p:cTn id="45" dur="35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27712E-006 -4.89562E-006 L -1.27712E-006 0.05293 E">
                                      <p:cBhvr>
                                        <p:cTn id="47" dur="35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2.14147E-006 -4.89562E-006 L -2.14147E-006 0.05293 E">
                                      <p:cBhvr>
                                        <p:cTn id="49" dur="35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2" presetSubtype="4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5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" dur="35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4.7698E-006 -2.95795E-006 L -4.7698E-006 0.02764 E">
                                      <p:cBhvr>
                                        <p:cTn id="55" dur="25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4">
                                  <p:stCondLst>
                                    <p:cond delay="115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5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35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5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35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5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35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5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35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2" presetSubtype="4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5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" dur="35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26" repeatCount="indefinite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25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625" autoRev="1" fill="hold"/>
                                        <p:tgtEl>
                                          <p:spTgt spid="4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6" repeatCount="indefinite">
                                  <p:stCondLst>
                                    <p:cond delay="1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125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625" autoRev="1" fill="hold"/>
                                        <p:tgtEl>
                                          <p:spTgt spid="5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26" repeatCount="indefinite">
                                  <p:stCondLst>
                                    <p:cond delay="18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125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625" autoRev="1" fill="hold"/>
                                        <p:tgtEl>
                                          <p:spTgt spid="5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文本框 1"/>
          <p:cNvSpPr/>
          <p:nvPr/>
        </p:nvSpPr>
        <p:spPr>
          <a:xfrm>
            <a:off x="743040" y="900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》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前必读哦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2"/>
          <p:cNvSpPr/>
          <p:nvPr/>
        </p:nvSpPr>
        <p:spPr>
          <a:xfrm>
            <a:off x="1174680" y="1471680"/>
            <a:ext cx="6408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模板适用于多种场合，主要用于分类较多的情况，一个标题，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分项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4"/>
          <p:cNvGrpSpPr/>
          <p:nvPr/>
        </p:nvGrpSpPr>
        <p:grpSpPr>
          <a:xfrm>
            <a:off x="1255680" y="1905120"/>
            <a:ext cx="398520" cy="398520"/>
            <a:chOff x="1255680" y="1905120"/>
            <a:chExt cx="398520" cy="398520"/>
          </a:xfrm>
        </p:grpSpPr>
        <p:pic>
          <p:nvPicPr>
            <p:cNvPr id="512" name="Picture 11" descr="home">
              <a:hlinkClick r:id="" action="ppaction://hlinkshowjump?jump=firstslide"/>
            </p:cNvPr>
            <p:cNvPicPr/>
            <p:nvPr/>
          </p:nvPicPr>
          <p:blipFill>
            <a:blip r:embed="rId1">
              <a:lum bright="42000"/>
            </a:blip>
            <a:stretch/>
          </p:blipFill>
          <p:spPr>
            <a:xfrm>
              <a:off x="1311120" y="1959120"/>
              <a:ext cx="289080" cy="2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AutoShape 12"/>
            <p:cNvSpPr/>
            <p:nvPr/>
          </p:nvSpPr>
          <p:spPr>
            <a:xfrm>
              <a:off x="1255680" y="1905120"/>
              <a:ext cx="398520" cy="398520"/>
            </a:xfrm>
            <a:custGeom>
              <a:avLst/>
              <a:gdLst>
                <a:gd name="textAreaLeft" fmla="*/ 58320 w 398520"/>
                <a:gd name="textAreaRight" fmla="*/ 340200 w 398520"/>
                <a:gd name="textAreaTop" fmla="*/ 58320 h 398520"/>
                <a:gd name="textAreaBottom" fmla="*/ 340200 h 39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78" y="10800"/>
                  </a:moveTo>
                  <a:cubicBezTo>
                    <a:pt x="378" y="16556"/>
                    <a:pt x="5044" y="21222"/>
                    <a:pt x="10800" y="21222"/>
                  </a:cubicBezTo>
                  <a:cubicBezTo>
                    <a:pt x="16556" y="21222"/>
                    <a:pt x="21222" y="16556"/>
                    <a:pt x="21222" y="10800"/>
                  </a:cubicBezTo>
                  <a:cubicBezTo>
                    <a:pt x="21222" y="5044"/>
                    <a:pt x="16556" y="378"/>
                    <a:pt x="10800" y="378"/>
                  </a:cubicBezTo>
                  <a:cubicBezTo>
                    <a:pt x="5044" y="378"/>
                    <a:pt x="378" y="5044"/>
                    <a:pt x="378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文本框 6"/>
          <p:cNvSpPr/>
          <p:nvPr/>
        </p:nvSpPr>
        <p:spPr>
          <a:xfrm>
            <a:off x="1738440" y="1959120"/>
            <a:ext cx="5570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面左上角的这个标志代表回到主页，记得在它上面点击哦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8"/>
          <p:cNvGrpSpPr/>
          <p:nvPr/>
        </p:nvGrpSpPr>
        <p:grpSpPr>
          <a:xfrm>
            <a:off x="1239840" y="2536920"/>
            <a:ext cx="930240" cy="1019160"/>
            <a:chOff x="1239840" y="2536920"/>
            <a:chExt cx="930240" cy="1019160"/>
          </a:xfrm>
        </p:grpSpPr>
        <p:sp>
          <p:nvSpPr>
            <p:cNvPr id="516" name="矩形 3"/>
            <p:cNvSpPr/>
            <p:nvPr/>
          </p:nvSpPr>
          <p:spPr>
            <a:xfrm>
              <a:off x="1239840" y="2536920"/>
              <a:ext cx="930240" cy="10191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文本框 12"/>
            <p:cNvSpPr/>
            <p:nvPr/>
          </p:nvSpPr>
          <p:spPr>
            <a:xfrm>
              <a:off x="1336320" y="3174840"/>
              <a:ext cx="710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记录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8" name="图片 24" descr=""/>
            <p:cNvPicPr/>
            <p:nvPr/>
          </p:nvPicPr>
          <p:blipFill>
            <a:blip r:embed="rId2"/>
            <a:srcRect l="0" t="0" r="87759" b="0"/>
            <a:stretch/>
          </p:blipFill>
          <p:spPr>
            <a:xfrm>
              <a:off x="1411920" y="2536920"/>
              <a:ext cx="642600" cy="66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文本框 11"/>
          <p:cNvSpPr/>
          <p:nvPr/>
        </p:nvSpPr>
        <p:spPr>
          <a:xfrm>
            <a:off x="2195640" y="2481120"/>
            <a:ext cx="5964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是分项，文字、图片可替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点来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首页的分项，单击会自动切换到相应的页面哦，记得要在它的上面单击才有效哦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文本框 12"/>
          <p:cNvSpPr/>
          <p:nvPr/>
        </p:nvSpPr>
        <p:spPr>
          <a:xfrm>
            <a:off x="6083280" y="4210200"/>
            <a:ext cx="22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》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赶紧试试吧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13"/>
          <p:cNvSpPr/>
          <p:nvPr/>
        </p:nvSpPr>
        <p:spPr>
          <a:xfrm>
            <a:off x="1116000" y="3705120"/>
            <a:ext cx="6997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后一个分项内容页就不要点击回到首页啦，直接在页面点击就可以到结束页了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~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2"/>
          <p:cNvGrpSpPr/>
          <p:nvPr/>
        </p:nvGrpSpPr>
        <p:grpSpPr>
          <a:xfrm>
            <a:off x="1341360" y="1179360"/>
            <a:ext cx="792360" cy="863640"/>
            <a:chOff x="1341360" y="1179360"/>
            <a:chExt cx="792360" cy="863640"/>
          </a:xfrm>
        </p:grpSpPr>
        <p:sp>
          <p:nvSpPr>
            <p:cNvPr id="524" name="矩形 3"/>
            <p:cNvSpPr/>
            <p:nvPr/>
          </p:nvSpPr>
          <p:spPr>
            <a:xfrm>
              <a:off x="1341360" y="1179360"/>
              <a:ext cx="792360" cy="86364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文本框 12"/>
            <p:cNvSpPr/>
            <p:nvPr/>
          </p:nvSpPr>
          <p:spPr>
            <a:xfrm>
              <a:off x="1423440" y="1720080"/>
              <a:ext cx="60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记录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6" name="图片 24" descr=""/>
            <p:cNvPicPr/>
            <p:nvPr/>
          </p:nvPicPr>
          <p:blipFill>
            <a:blip r:embed="rId1"/>
            <a:srcRect l="0" t="0" r="87759" b="0"/>
            <a:stretch/>
          </p:blipFill>
          <p:spPr>
            <a:xfrm>
              <a:off x="1523160" y="1179360"/>
              <a:ext cx="547200" cy="566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7" name="图片 1" descr=""/>
          <p:cNvPicPr/>
          <p:nvPr/>
        </p:nvPicPr>
        <p:blipFill>
          <a:blip r:embed="rId2"/>
          <a:stretch/>
        </p:blipFill>
        <p:spPr>
          <a:xfrm>
            <a:off x="0" y="3240"/>
            <a:ext cx="8999640" cy="5392800"/>
          </a:xfrm>
          <a:prstGeom prst="rect">
            <a:avLst/>
          </a:prstGeom>
          <a:ln w="0">
            <a:noFill/>
          </a:ln>
        </p:spPr>
      </p:pic>
      <p:sp>
        <p:nvSpPr>
          <p:cNvPr id="528" name="矩形 8"/>
          <p:cNvSpPr/>
          <p:nvPr/>
        </p:nvSpPr>
        <p:spPr>
          <a:xfrm>
            <a:off x="2235240" y="1179360"/>
            <a:ext cx="5545080" cy="863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31"/>
          <p:cNvSpPr/>
          <p:nvPr/>
        </p:nvSpPr>
        <p:spPr>
          <a:xfrm>
            <a:off x="1341360" y="2124000"/>
            <a:ext cx="6438960" cy="2222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9"/>
          <p:cNvSpPr/>
          <p:nvPr/>
        </p:nvSpPr>
        <p:spPr>
          <a:xfrm>
            <a:off x="2451240" y="1359000"/>
            <a:ext cx="524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 IOS7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毛玻璃风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11" descr="home">
            <a:hlinkClick r:id="" action="ppaction://hlinkshowjump?jump=firstslide"/>
          </p:cNvPr>
          <p:cNvPicPr/>
          <p:nvPr/>
        </p:nvPicPr>
        <p:blipFill>
          <a:blip r:embed="rId3">
            <a:lum bright="42000"/>
          </a:blip>
          <a:stretch/>
        </p:blipFill>
        <p:spPr>
          <a:xfrm>
            <a:off x="487440" y="36684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2" name="AutoShape 12"/>
          <p:cNvSpPr/>
          <p:nvPr/>
        </p:nvSpPr>
        <p:spPr>
          <a:xfrm>
            <a:off x="431640" y="31284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11"/>
          <p:cNvSpPr/>
          <p:nvPr/>
        </p:nvSpPr>
        <p:spPr>
          <a:xfrm>
            <a:off x="1555920" y="2344680"/>
            <a:ext cx="59292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图片 1" descr=""/>
          <p:cNvPicPr/>
          <p:nvPr/>
        </p:nvPicPr>
        <p:blipFill>
          <a:blip r:embed="rId1"/>
          <a:stretch/>
        </p:blipFill>
        <p:spPr>
          <a:xfrm>
            <a:off x="0" y="3240"/>
            <a:ext cx="8999640" cy="5392800"/>
          </a:xfrm>
          <a:prstGeom prst="rect">
            <a:avLst/>
          </a:prstGeom>
          <a:ln w="0">
            <a:noFill/>
          </a:ln>
        </p:spPr>
      </p:pic>
      <p:sp>
        <p:nvSpPr>
          <p:cNvPr id="536" name="矩形 8"/>
          <p:cNvSpPr/>
          <p:nvPr/>
        </p:nvSpPr>
        <p:spPr>
          <a:xfrm>
            <a:off x="2235240" y="1179360"/>
            <a:ext cx="5545080" cy="863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31"/>
          <p:cNvSpPr/>
          <p:nvPr/>
        </p:nvSpPr>
        <p:spPr>
          <a:xfrm>
            <a:off x="1341360" y="2124000"/>
            <a:ext cx="6438960" cy="2222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5"/>
          <p:cNvGrpSpPr/>
          <p:nvPr/>
        </p:nvGrpSpPr>
        <p:grpSpPr>
          <a:xfrm>
            <a:off x="1341360" y="1177920"/>
            <a:ext cx="792360" cy="865080"/>
            <a:chOff x="1341360" y="1177920"/>
            <a:chExt cx="792360" cy="865080"/>
          </a:xfrm>
        </p:grpSpPr>
        <p:sp>
          <p:nvSpPr>
            <p:cNvPr id="539" name="矩形 10"/>
            <p:cNvSpPr/>
            <p:nvPr/>
          </p:nvSpPr>
          <p:spPr>
            <a:xfrm>
              <a:off x="1341360" y="1177920"/>
              <a:ext cx="792360" cy="86508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文本框 11"/>
            <p:cNvSpPr/>
            <p:nvPr/>
          </p:nvSpPr>
          <p:spPr>
            <a:xfrm>
              <a:off x="1429200" y="1719360"/>
              <a:ext cx="60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阅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1" name="图片 13" descr=""/>
            <p:cNvPicPr/>
            <p:nvPr/>
          </p:nvPicPr>
          <p:blipFill>
            <a:blip r:embed="rId2"/>
            <a:srcRect l="43274" t="0" r="43830" b="0"/>
            <a:stretch/>
          </p:blipFill>
          <p:spPr>
            <a:xfrm>
              <a:off x="1458000" y="1186920"/>
              <a:ext cx="576360" cy="56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2" name="文本框 14"/>
          <p:cNvSpPr/>
          <p:nvPr/>
        </p:nvSpPr>
        <p:spPr>
          <a:xfrm>
            <a:off x="2482920" y="1359000"/>
            <a:ext cx="529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 IOS7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毛玻璃风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1" descr="home">
            <a:hlinkClick r:id="" action="ppaction://hlinkshowjump?jump=firstslide"/>
          </p:cNvPr>
          <p:cNvPicPr/>
          <p:nvPr/>
        </p:nvPicPr>
        <p:blipFill>
          <a:blip r:embed="rId3">
            <a:lum bright="42000"/>
          </a:blip>
          <a:stretch/>
        </p:blipFill>
        <p:spPr>
          <a:xfrm>
            <a:off x="487440" y="36684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12"/>
          <p:cNvSpPr/>
          <p:nvPr/>
        </p:nvSpPr>
        <p:spPr>
          <a:xfrm>
            <a:off x="431640" y="31284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11"/>
          <p:cNvSpPr/>
          <p:nvPr/>
        </p:nvSpPr>
        <p:spPr>
          <a:xfrm>
            <a:off x="1555920" y="2344680"/>
            <a:ext cx="5929200" cy="18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图片 1" descr=""/>
          <p:cNvPicPr/>
          <p:nvPr/>
        </p:nvPicPr>
        <p:blipFill>
          <a:blip r:embed="rId1"/>
          <a:stretch/>
        </p:blipFill>
        <p:spPr>
          <a:xfrm>
            <a:off x="0" y="3240"/>
            <a:ext cx="8999640" cy="5392800"/>
          </a:xfrm>
          <a:prstGeom prst="rect">
            <a:avLst/>
          </a:prstGeom>
          <a:ln w="0">
            <a:noFill/>
          </a:ln>
        </p:spPr>
      </p:pic>
      <p:sp>
        <p:nvSpPr>
          <p:cNvPr id="548" name="矩形 8"/>
          <p:cNvSpPr/>
          <p:nvPr/>
        </p:nvSpPr>
        <p:spPr>
          <a:xfrm>
            <a:off x="2235240" y="1179360"/>
            <a:ext cx="5545080" cy="863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31"/>
          <p:cNvSpPr/>
          <p:nvPr/>
        </p:nvSpPr>
        <p:spPr>
          <a:xfrm>
            <a:off x="1341360" y="2124000"/>
            <a:ext cx="6438960" cy="2222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5"/>
          <p:cNvGrpSpPr/>
          <p:nvPr/>
        </p:nvGrpSpPr>
        <p:grpSpPr>
          <a:xfrm>
            <a:off x="1341360" y="1179360"/>
            <a:ext cx="792360" cy="863640"/>
            <a:chOff x="1341360" y="1179360"/>
            <a:chExt cx="792360" cy="863640"/>
          </a:xfrm>
        </p:grpSpPr>
        <p:sp>
          <p:nvSpPr>
            <p:cNvPr id="551" name="矩形 10"/>
            <p:cNvSpPr/>
            <p:nvPr/>
          </p:nvSpPr>
          <p:spPr>
            <a:xfrm>
              <a:off x="1341360" y="1179360"/>
              <a:ext cx="792360" cy="86364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文本框 11"/>
            <p:cNvSpPr/>
            <p:nvPr/>
          </p:nvSpPr>
          <p:spPr>
            <a:xfrm>
              <a:off x="1432080" y="1720080"/>
              <a:ext cx="60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置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3" name="图片 13" descr=""/>
            <p:cNvPicPr/>
            <p:nvPr/>
          </p:nvPicPr>
          <p:blipFill>
            <a:blip r:embed="rId2"/>
            <a:srcRect l="64435" t="0" r="21054" b="0"/>
            <a:stretch/>
          </p:blipFill>
          <p:spPr>
            <a:xfrm>
              <a:off x="1438920" y="1188360"/>
              <a:ext cx="648360" cy="5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4" name="文本框 14"/>
          <p:cNvSpPr/>
          <p:nvPr/>
        </p:nvSpPr>
        <p:spPr>
          <a:xfrm>
            <a:off x="2413080" y="1359000"/>
            <a:ext cx="507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 IOS7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毛玻璃风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11" descr="home">
            <a:hlinkClick r:id="" action="ppaction://hlinkshowjump?jump=firstslide"/>
          </p:cNvPr>
          <p:cNvPicPr/>
          <p:nvPr/>
        </p:nvPicPr>
        <p:blipFill>
          <a:blip r:embed="rId3">
            <a:lum bright="42000"/>
          </a:blip>
          <a:stretch/>
        </p:blipFill>
        <p:spPr>
          <a:xfrm>
            <a:off x="487440" y="36684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56" name="AutoShape 12"/>
          <p:cNvSpPr/>
          <p:nvPr/>
        </p:nvSpPr>
        <p:spPr>
          <a:xfrm>
            <a:off x="431640" y="31284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11"/>
          <p:cNvSpPr/>
          <p:nvPr/>
        </p:nvSpPr>
        <p:spPr>
          <a:xfrm>
            <a:off x="1555920" y="2344680"/>
            <a:ext cx="5929200" cy="18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图片 1" descr=""/>
          <p:cNvPicPr/>
          <p:nvPr/>
        </p:nvPicPr>
        <p:blipFill>
          <a:blip r:embed="rId1"/>
          <a:stretch/>
        </p:blipFill>
        <p:spPr>
          <a:xfrm>
            <a:off x="0" y="3240"/>
            <a:ext cx="8999640" cy="5392800"/>
          </a:xfrm>
          <a:prstGeom prst="rect">
            <a:avLst/>
          </a:prstGeom>
          <a:ln w="0">
            <a:noFill/>
          </a:ln>
        </p:spPr>
      </p:pic>
      <p:sp>
        <p:nvSpPr>
          <p:cNvPr id="560" name="矩形 8"/>
          <p:cNvSpPr/>
          <p:nvPr/>
        </p:nvSpPr>
        <p:spPr>
          <a:xfrm>
            <a:off x="2235240" y="1179360"/>
            <a:ext cx="5545080" cy="863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31"/>
          <p:cNvSpPr/>
          <p:nvPr/>
        </p:nvSpPr>
        <p:spPr>
          <a:xfrm>
            <a:off x="1341360" y="2124000"/>
            <a:ext cx="6438960" cy="2222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5"/>
          <p:cNvGrpSpPr/>
          <p:nvPr/>
        </p:nvGrpSpPr>
        <p:grpSpPr>
          <a:xfrm>
            <a:off x="1341360" y="1170000"/>
            <a:ext cx="792360" cy="873000"/>
            <a:chOff x="1341360" y="1170000"/>
            <a:chExt cx="792360" cy="873000"/>
          </a:xfrm>
        </p:grpSpPr>
        <p:sp>
          <p:nvSpPr>
            <p:cNvPr id="563" name="矩形 10"/>
            <p:cNvSpPr/>
            <p:nvPr/>
          </p:nvSpPr>
          <p:spPr>
            <a:xfrm>
              <a:off x="1341360" y="1177920"/>
              <a:ext cx="792360" cy="86508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4" name="图片 11" descr=""/>
            <p:cNvPicPr/>
            <p:nvPr/>
          </p:nvPicPr>
          <p:blipFill>
            <a:blip r:embed="rId2"/>
            <a:srcRect l="84789" t="0" r="0" b="0"/>
            <a:stretch/>
          </p:blipFill>
          <p:spPr>
            <a:xfrm>
              <a:off x="1381320" y="1170000"/>
              <a:ext cx="679680" cy="56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文本框 13"/>
            <p:cNvSpPr/>
            <p:nvPr/>
          </p:nvSpPr>
          <p:spPr>
            <a:xfrm>
              <a:off x="1434960" y="1719720"/>
              <a:ext cx="60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下载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文本框 14"/>
          <p:cNvSpPr/>
          <p:nvPr/>
        </p:nvSpPr>
        <p:spPr>
          <a:xfrm>
            <a:off x="2484360" y="1359000"/>
            <a:ext cx="529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 IOS7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毛玻璃风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11" descr="home">
            <a:hlinkClick r:id="" action="ppaction://hlinkshowjump?jump=firstslide"/>
          </p:cNvPr>
          <p:cNvPicPr/>
          <p:nvPr/>
        </p:nvPicPr>
        <p:blipFill>
          <a:blip r:embed="rId3">
            <a:lum bright="42000"/>
          </a:blip>
          <a:stretch/>
        </p:blipFill>
        <p:spPr>
          <a:xfrm>
            <a:off x="487440" y="36684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68" name="AutoShape 12"/>
          <p:cNvSpPr/>
          <p:nvPr/>
        </p:nvSpPr>
        <p:spPr>
          <a:xfrm>
            <a:off x="431640" y="31284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文本框 11"/>
          <p:cNvSpPr/>
          <p:nvPr/>
        </p:nvSpPr>
        <p:spPr>
          <a:xfrm>
            <a:off x="1555920" y="2344680"/>
            <a:ext cx="5929200" cy="18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2"/>
          <p:cNvSpPr/>
          <p:nvPr/>
        </p:nvSpPr>
        <p:spPr>
          <a:xfrm>
            <a:off x="8172360" y="478800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4"/>
          <p:cNvSpPr/>
          <p:nvPr/>
        </p:nvSpPr>
        <p:spPr>
          <a:xfrm>
            <a:off x="8118360" y="4842000"/>
            <a:ext cx="5749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文本框 1"/>
          <p:cNvSpPr/>
          <p:nvPr/>
        </p:nvSpPr>
        <p:spPr>
          <a:xfrm>
            <a:off x="3708360" y="212400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3"/>
          <p:cNvSpPr/>
          <p:nvPr/>
        </p:nvSpPr>
        <p:spPr>
          <a:xfrm>
            <a:off x="4680000" y="2816280"/>
            <a:ext cx="13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4"/>
          <p:cNvSpPr/>
          <p:nvPr/>
        </p:nvSpPr>
        <p:spPr>
          <a:xfrm>
            <a:off x="3203640" y="1962000"/>
            <a:ext cx="13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椭圆 5"/>
          <p:cNvSpPr/>
          <p:nvPr/>
        </p:nvSpPr>
        <p:spPr>
          <a:xfrm>
            <a:off x="4522680" y="190800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椭圆 6"/>
          <p:cNvSpPr/>
          <p:nvPr/>
        </p:nvSpPr>
        <p:spPr>
          <a:xfrm>
            <a:off x="4675320" y="2771640"/>
            <a:ext cx="10764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1835280" y="190800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想跟我一样成为高校联盟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VIP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员吗？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3"/>
          <p:cNvSpPr/>
          <p:nvPr/>
        </p:nvSpPr>
        <p:spPr>
          <a:xfrm>
            <a:off x="2627280" y="2746440"/>
            <a:ext cx="38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527280" y="2425680"/>
            <a:ext cx="2089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那就猛击  了解详情吧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WMQ</dc:creator>
  <dc:description/>
  <cp:keywords/>
  <dc:language>en-US</dc:language>
  <cp:lastModifiedBy>姜天宝</cp:lastModifiedBy>
  <dcterms:modified xsi:type="dcterms:W3CDTF">2014-11-09T12:24:53Z</dcterms:modified>
  <cp:revision>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