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899953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29D6-87DA-4604-8F88-0A60ADB3EB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84F9-96F1-49C4-AF9A-24890149C8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F5E1-6B67-4AA8-B5EF-A351081AB0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04BE-9BC8-443C-9854-0C1FAC6445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985F-3BF1-44B6-B12A-440B849A69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C91A-9633-4AA7-AE74-25C1F8345C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E358-C30A-4262-9EBD-F953B803CA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2695-3833-4FF8-BB33-655C59A833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571680" y="685800"/>
            <a:ext cx="5715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CEBC-92EF-4671-B0A6-E24F50E52F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3D7B8-4568-448E-9553-EFD30E0A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4689F-5FB7-4604-AE83-211BF25D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327E1-1CB9-4C86-8FFD-6BF1309F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C4421-C6C4-40C0-B735-87A5DC6B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F0D79-2D45-43DF-9504-88384682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54FB3-7521-4B3D-816F-9629D2D8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D9DD2-750B-4ED9-A152-95164E2D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4AA78-8185-44A8-83A4-CE77A055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B0AF7-B9C3-4396-9BBF-B346315D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2F47F-A65B-47DB-BA82-773933FC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DBB54-AA84-4134-8A06-A77CE8A5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21374-F274-45BF-8D0B-23F5155D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33C2D-872B-40E1-8DFA-64C89156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2EBEC-BA5C-42B1-9580-7B55F59F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22E41-3F43-40B4-81BB-ECE00AEC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EAF93-0737-4ECF-AF9A-2CDA417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24516-D6D6-4866-9A41-62FBB547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E7E4B-AE64-443A-BF51-93BD1C72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04CE5-CAD3-4646-B4D7-D7C55E67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D9743-D579-46E3-AFCA-DEA411B8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A8CA6-A91E-4166-AF5E-49BF2E2D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BD1A4-FE7E-4085-A816-4E009DC4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05A3D-E41B-42CF-B450-7CAB548D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6586F-1B88-4E42-AA0B-2AA7192F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A0EAD-DFD5-4903-A769-6A0B27A8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14DEE-B9FB-4B2C-8698-9FAA5F8A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CB03D-1152-44B1-B90B-49BC1882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295D6-4212-40A7-93F5-F1E652EB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09405-3BED-4FFA-BA80-B5C92CA7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3D8DF-7DBB-4A4C-BC5D-E04E2D40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8BF-821C-4EA0-B28C-51817ED1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82DD6-2487-4F2A-B7C2-85DAA8D6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A3BB9-775F-4DA0-A689-BF703ED5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5AFEB-09B3-4ED7-9599-0507731C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F1D10-91EC-4483-80F7-BEB1B4E4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5875F-B8D8-43D1-A279-C910888B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59F29-EFAA-476A-A60F-1B2503CD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C0CD1-17FA-421E-88AA-F3EE2812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95985-99B5-483D-891A-13562D43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F3CDA-3547-4396-9ADF-8168FA1A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0FDFF-B945-4352-9A9E-5EFA230A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827-8819-493A-9760-D435068D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9E87A-779B-47F7-B723-CC781066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922FD-650F-43F4-876C-C9CE32C3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C1314-653D-4654-912C-5E8741B0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F4AE3-42DC-48B9-8FBA-CCE66E8D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54148-2A98-4C11-90E3-ACE07F85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E4D-46EA-454F-90F3-35509923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F11-74B9-44ED-87F3-DAA9D901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05C-54B5-43D0-B2CA-460803D4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2C6-AFFF-4352-997F-4F0E8282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0F7-EC0B-4779-B24B-D4B6409E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F03-896A-4AE3-A6B0-A525210B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BCC-C4D8-4CEF-8B34-13D853DF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126-93F4-41E3-B594-503B2157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C35-145B-4C43-BF9A-BF5A23BB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7BA-A27A-45A6-BEFF-F2BC2317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4BC1-65F2-4428-8A50-0B90AE2D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89CE-F8C3-46AE-96A7-C55306FE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6016-52A2-4166-A0D7-905B1CB4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E2A0-183F-40F1-8DB5-B17F87FF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B050-C750-431E-BA32-33608E2B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412C-3B67-453D-9DD1-690A566E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8456-8207-4B16-AB75-B5F501E6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A10D-D561-49CB-9F3B-26C26FB7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D603-60E7-4AAA-A7AA-CA9DB0A4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6D50-1EF0-4944-957D-C3887D0C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3E59-37E6-4682-B12D-DC7E067C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1448-740C-47C8-886F-43087844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FF579-0FD3-4D56-BE55-C3AA976C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D118-5A9B-4595-8832-A0CDF03F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07E4-0229-46E0-9232-0F4C9C88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19CB-0396-485F-AFD9-6BCEA5D5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95BC-D37A-4B32-8529-9D482FBF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A954-609A-4908-864D-FD550645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216DC-4F53-4345-9BAA-205C7FF3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97854-7912-4D30-BA13-19826B61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B035B-C648-470E-B134-651B065B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EB652-3045-4B88-8F90-8AF95C7E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8BEC2-9231-47E5-ADF7-33CEACAA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EE331-E899-45E1-9759-1D2A10E3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17C02-FAEC-46C0-B52F-1D6D7102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1276D-1725-454F-BA09-9698BDAB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7A0B-A566-4786-9577-9633C3F8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E068-68AC-4657-8303-AC57B281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9D6EA-6558-4CB0-BB28-9CE52962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5DEC-2B06-4D5B-8181-E94C81A5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DB27-A92A-408E-9EC2-17C88F6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FCB0A-3A3D-490D-859A-91787361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5A6E8-8389-4EAC-B34B-BA8A210D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7B21A-9FA7-45ED-A53A-244171BD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3049E-4995-4DA6-9E4F-5D8A9C90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0439-B989-47DD-A661-3CA7ACFE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F2D5E-E623-445E-A1CE-B77726FF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8219F-DB52-4011-934B-1D0108CA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5F534-056D-4930-A15C-3E92B27B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6EAB8-5B2C-4859-8EF9-4E7BC995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F2DAD-AEAF-4E98-8236-209725E3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75322-0F81-4D7F-8B89-B5EE2FA2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C845F-1B47-41F0-9975-0A976E37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7A514-BEEA-4D79-910B-ABA0C55D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5031C-84DD-4F36-A860-EDBDDDA0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87FE0-0EE9-4A6A-8BF9-9F8E1896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1423F-F4ED-41EA-B451-41D478F4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9F6FE-3C1E-459C-B14D-5E80778E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5B1CB-FA7F-4EE7-A894-82D7EF51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4A6CB-7E81-4EBB-A1BA-3A115B4E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B5363-B3F6-46EE-BF10-80187E03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B1550-B253-4B5E-9651-623F983F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4CB35-058A-4A39-8FF7-66A8C738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3AD18-AE3C-4E78-BFD3-8BF56E69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66C36-C0BB-4FBA-93C5-B1AD6FA4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B8F70-9FF3-425C-BBDC-3A6610B6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E960E-0E03-4211-9866-F0BCF93B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08B70-C4A4-4F9A-9CD4-08A30608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2C6AD-DFCC-470A-AF47-47B0A6BF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48919-543E-44AA-880F-4F5D4B15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C8B66-05F6-4C67-B6FE-F632A08C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DF334-BAD5-44A3-8846-5CCBF1C8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5A8C3-9970-4951-AAA7-C9F350A8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A7186-E4FC-4FCE-882D-6D1C085D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EA02B-C6C2-4CCA-9AC8-3A150609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8756A-1E6C-41A1-A836-F0BB90FA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010F3-11E5-47E5-B887-3C5C7224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366D1-4CB4-4FA3-9AED-163A4D9A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DF245-4730-432F-BDC0-9418D6E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0CF28-B2CD-4D40-B2A3-A6C5AB2B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E04E7-0DCE-49D8-BF14-F1A1B289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7EA09-3774-484A-A411-064B4A27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E396F-189F-4D93-A092-B89923B0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279DC-D627-4D7B-8B46-06555F30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48758-A272-407B-BF2A-AF9BE4C8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D88E-60FE-42A0-A316-AFC4CE60772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94D2-FAD6-4743-B123-B98D53C73B7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A005-7BAA-4ABB-9FFA-2C8489DEE69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9A99-75FD-4F2D-9E69-A754283FC12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5390-8894-463C-AD87-D3819CFF08B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013F-F74F-4A68-8C66-E52917FB105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DCC8-1323-4AC6-90A0-DEE9E27684E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E212-72D3-48C1-B1DB-19ACDA0A6AB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D2DB-0FB8-4ADA-9918-FD1F900AE69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FB6C-90BA-486B-B11C-29112505B5B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83AE-82AC-4931-8879-80D1AC8726E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AD1D-DB99-4EDF-B6AB-B647E7EF035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5C64-DA79-4003-B38A-F17837D181D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64DB-B713-4CA8-8725-A1CE8B728F2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2EDE-DFE0-44B3-B742-957159C8438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C337-F64A-48C8-86E7-0E5F940CBC7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A035-00FE-410D-839C-EE23F629098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0878-BC20-4ED6-8BE9-0257D1A6D4D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E7E9-01D6-4241-90B8-03CD1A37720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3F5E-E7C8-454F-8A15-A7FD924116A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5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2680" indent="-203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417680" indent="-2034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C:\Users\D13001\Desktop\修图\音乐盒子 - 副本.jpg音乐盒子 - 副本"/>
          <p:cNvPicPr/>
          <p:nvPr/>
        </p:nvPicPr>
        <p:blipFill>
          <a:blip r:embed="rId3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8B1E-24E1-468B-88B7-4B8AB2A9ED6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23E5-3E86-4AF9-949C-E9942170EFB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11" descr=""/>
          <p:cNvPicPr/>
          <p:nvPr/>
        </p:nvPicPr>
        <p:blipFill>
          <a:blip r:embed="rId1"/>
          <a:stretch/>
        </p:blipFill>
        <p:spPr>
          <a:xfrm>
            <a:off x="2406600" y="2924280"/>
            <a:ext cx="4465800" cy="566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3"/>
          <p:cNvSpPr/>
          <p:nvPr/>
        </p:nvSpPr>
        <p:spPr>
          <a:xfrm>
            <a:off x="1838160" y="1619280"/>
            <a:ext cx="554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IOS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效果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2263680" y="1619280"/>
            <a:ext cx="4680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"/>
          <p:cNvSpPr/>
          <p:nvPr/>
        </p:nvSpPr>
        <p:spPr>
          <a:xfrm>
            <a:off x="2263680" y="2198520"/>
            <a:ext cx="4680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"/>
          <p:cNvSpPr/>
          <p:nvPr/>
        </p:nvSpPr>
        <p:spPr>
          <a:xfrm flipV="1">
            <a:off x="4782960" y="1187280"/>
            <a:ext cx="505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"/>
          <p:cNvSpPr/>
          <p:nvPr/>
        </p:nvSpPr>
        <p:spPr>
          <a:xfrm flipV="1">
            <a:off x="3848040" y="2198520"/>
            <a:ext cx="504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8" hidden="1"/>
          <p:cNvSpPr/>
          <p:nvPr/>
        </p:nvSpPr>
        <p:spPr>
          <a:xfrm>
            <a:off x="4351320" y="2843280"/>
            <a:ext cx="503280" cy="504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 hidden="1"/>
          <p:cNvSpPr/>
          <p:nvPr/>
        </p:nvSpPr>
        <p:spPr>
          <a:xfrm rot="16200000">
            <a:off x="4423320" y="2804400"/>
            <a:ext cx="3650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2"/>
          <p:cNvSpPr/>
          <p:nvPr/>
        </p:nvSpPr>
        <p:spPr>
          <a:xfrm>
            <a:off x="234468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25"/>
          <p:cNvSpPr/>
          <p:nvPr/>
        </p:nvSpPr>
        <p:spPr>
          <a:xfrm>
            <a:off x="332100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6"/>
          <p:cNvSpPr/>
          <p:nvPr/>
        </p:nvSpPr>
        <p:spPr>
          <a:xfrm>
            <a:off x="429732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阅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7"/>
          <p:cNvSpPr/>
          <p:nvPr/>
        </p:nvSpPr>
        <p:spPr>
          <a:xfrm>
            <a:off x="527364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8"/>
          <p:cNvSpPr/>
          <p:nvPr/>
        </p:nvSpPr>
        <p:spPr>
          <a:xfrm>
            <a:off x="624996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21"/>
          <p:cNvSpPr/>
          <p:nvPr/>
        </p:nvSpPr>
        <p:spPr>
          <a:xfrm>
            <a:off x="4395960" y="4519440"/>
            <a:ext cx="420480" cy="42084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1"/>
          <p:cNvSpPr/>
          <p:nvPr/>
        </p:nvSpPr>
        <p:spPr>
          <a:xfrm>
            <a:off x="4444920" y="4562640"/>
            <a:ext cx="322200" cy="334800"/>
          </a:xfrm>
          <a:prstGeom prst="ellipse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22"/>
          <p:cNvSpPr/>
          <p:nvPr/>
        </p:nvSpPr>
        <p:spPr>
          <a:xfrm>
            <a:off x="4511520" y="4635360"/>
            <a:ext cx="187560" cy="189000"/>
          </a:xfrm>
          <a:prstGeom prst="ellips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2"/>
          <p:cNvSpPr/>
          <p:nvPr/>
        </p:nvSpPr>
        <p:spPr>
          <a:xfrm>
            <a:off x="1332000" y="466560"/>
            <a:ext cx="64764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3"/>
          <p:cNvSpPr/>
          <p:nvPr/>
        </p:nvSpPr>
        <p:spPr>
          <a:xfrm>
            <a:off x="2263680" y="2771640"/>
            <a:ext cx="7905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13"/>
          <p:cNvSpPr/>
          <p:nvPr/>
        </p:nvSpPr>
        <p:spPr>
          <a:xfrm>
            <a:off x="3236760" y="2771640"/>
            <a:ext cx="7923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4"/>
          <p:cNvSpPr/>
          <p:nvPr/>
        </p:nvSpPr>
        <p:spPr>
          <a:xfrm>
            <a:off x="421020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5"/>
          <p:cNvSpPr/>
          <p:nvPr/>
        </p:nvSpPr>
        <p:spPr>
          <a:xfrm>
            <a:off x="518328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6"/>
          <p:cNvSpPr/>
          <p:nvPr/>
        </p:nvSpPr>
        <p:spPr>
          <a:xfrm>
            <a:off x="615636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2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625" autoRev="1" fill="hold"/>
                                        <p:tgtEl>
                                          <p:spTgt spid="4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5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5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5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5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5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3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5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3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5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3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5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3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5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3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-2.28612E-006 -4.89562E-006 L -2.28612E-006 0.05293 E">
                                      <p:cBhvr>
                                        <p:cTn id="41" dur="35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51579E-007 -4.89562E-006 L 4.51579E-007 0.05293 E">
                                      <p:cBhvr>
                                        <p:cTn id="43" dur="35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-4.12771E-007 -4.89562E-006 L -4.12771E-007 0.05293 E">
                                      <p:cBhvr>
                                        <p:cTn id="45" dur="35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27712E-006 -4.89562E-006 L -1.27712E-006 0.05293 E">
                                      <p:cBhvr>
                                        <p:cTn id="47" dur="35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2.14147E-006 -4.89562E-006 L -2.14147E-006 0.05293 E">
                                      <p:cBhvr>
                                        <p:cTn id="49" dur="35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5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3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698E-006 -2.95795E-006 L -4.7698E-006 0.02764 E">
                                      <p:cBhvr>
                                        <p:cTn id="55" dur="25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5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3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5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3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5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3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5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3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3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2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625" autoRev="1" fill="hold"/>
                                        <p:tgtEl>
                                          <p:spTgt spid="4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2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625" autoRev="1" fill="hold"/>
                                        <p:tgtEl>
                                          <p:spTgt spid="5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1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625" autoRev="1" fill="hold"/>
                                        <p:tgtEl>
                                          <p:spTgt spid="5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文本框 1"/>
          <p:cNvSpPr/>
          <p:nvPr/>
        </p:nvSpPr>
        <p:spPr>
          <a:xfrm>
            <a:off x="743040" y="900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前必读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2"/>
          <p:cNvSpPr/>
          <p:nvPr/>
        </p:nvSpPr>
        <p:spPr>
          <a:xfrm>
            <a:off x="1174680" y="1471680"/>
            <a:ext cx="640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模板适用于多种场合，主要用于分类较多的情况，一个标题，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分项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255680" y="1905120"/>
            <a:ext cx="398520" cy="398520"/>
            <a:chOff x="1255680" y="1905120"/>
            <a:chExt cx="398520" cy="398520"/>
          </a:xfrm>
        </p:grpSpPr>
        <p:pic>
          <p:nvPicPr>
            <p:cNvPr id="512" name="Picture 11" descr="home">
              <a:hlinkClick r:id="" action="ppaction://hlinkshowjump?jump=firstslide"/>
            </p:cNvPr>
            <p:cNvPicPr/>
            <p:nvPr/>
          </p:nvPicPr>
          <p:blipFill>
            <a:blip r:embed="rId1">
              <a:lum bright="42000"/>
            </a:blip>
            <a:stretch/>
          </p:blipFill>
          <p:spPr>
            <a:xfrm>
              <a:off x="1311120" y="1959120"/>
              <a:ext cx="28908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AutoShape 12"/>
            <p:cNvSpPr/>
            <p:nvPr/>
          </p:nvSpPr>
          <p:spPr>
            <a:xfrm>
              <a:off x="1255680" y="1905120"/>
              <a:ext cx="398520" cy="398520"/>
            </a:xfrm>
            <a:custGeom>
              <a:avLst/>
              <a:gdLst>
                <a:gd name="textAreaLeft" fmla="*/ 58320 w 398520"/>
                <a:gd name="textAreaRight" fmla="*/ 340200 w 398520"/>
                <a:gd name="textAreaTop" fmla="*/ 58320 h 398520"/>
                <a:gd name="textAreaBottom" fmla="*/ 3402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78" y="10800"/>
                  </a:moveTo>
                  <a:cubicBezTo>
                    <a:pt x="378" y="16556"/>
                    <a:pt x="5044" y="21222"/>
                    <a:pt x="10800" y="21222"/>
                  </a:cubicBezTo>
                  <a:cubicBezTo>
                    <a:pt x="16556" y="21222"/>
                    <a:pt x="21222" y="16556"/>
                    <a:pt x="21222" y="10800"/>
                  </a:cubicBezTo>
                  <a:cubicBezTo>
                    <a:pt x="21222" y="5044"/>
                    <a:pt x="16556" y="378"/>
                    <a:pt x="10800" y="378"/>
                  </a:cubicBezTo>
                  <a:cubicBezTo>
                    <a:pt x="5044" y="378"/>
                    <a:pt x="378" y="5044"/>
                    <a:pt x="378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文本框 6"/>
          <p:cNvSpPr/>
          <p:nvPr/>
        </p:nvSpPr>
        <p:spPr>
          <a:xfrm>
            <a:off x="1738440" y="1959120"/>
            <a:ext cx="557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左上角的这个标志代表回到主页，记得在它上面点击哦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"/>
          <p:cNvGrpSpPr/>
          <p:nvPr/>
        </p:nvGrpSpPr>
        <p:grpSpPr>
          <a:xfrm>
            <a:off x="1239840" y="2536920"/>
            <a:ext cx="930240" cy="1019160"/>
            <a:chOff x="1239840" y="2536920"/>
            <a:chExt cx="930240" cy="1019160"/>
          </a:xfrm>
        </p:grpSpPr>
        <p:sp>
          <p:nvSpPr>
            <p:cNvPr id="516" name="矩形 3"/>
            <p:cNvSpPr/>
            <p:nvPr/>
          </p:nvSpPr>
          <p:spPr>
            <a:xfrm>
              <a:off x="1239840" y="2536920"/>
              <a:ext cx="930240" cy="10191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文本框 12"/>
            <p:cNvSpPr/>
            <p:nvPr/>
          </p:nvSpPr>
          <p:spPr>
            <a:xfrm>
              <a:off x="1336320" y="3174840"/>
              <a:ext cx="710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图片 24" descr=""/>
            <p:cNvPicPr/>
            <p:nvPr/>
          </p:nvPicPr>
          <p:blipFill>
            <a:blip r:embed="rId2"/>
            <a:srcRect l="0" t="0" r="87759" b="0"/>
            <a:stretch/>
          </p:blipFill>
          <p:spPr>
            <a:xfrm>
              <a:off x="1411920" y="2536920"/>
              <a:ext cx="642600" cy="66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文本框 11"/>
          <p:cNvSpPr/>
          <p:nvPr/>
        </p:nvSpPr>
        <p:spPr>
          <a:xfrm>
            <a:off x="2195640" y="2481120"/>
            <a:ext cx="5964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分项，文字、图片可替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来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的分项，单击会自动切换到相应的页面哦，记得要在它的上面单击才有效哦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2"/>
          <p:cNvSpPr/>
          <p:nvPr/>
        </p:nvSpPr>
        <p:spPr>
          <a:xfrm>
            <a:off x="6083280" y="42102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赶紧试试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13"/>
          <p:cNvSpPr/>
          <p:nvPr/>
        </p:nvSpPr>
        <p:spPr>
          <a:xfrm>
            <a:off x="1116000" y="3705120"/>
            <a:ext cx="6997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一个分项内容页就不要点击回到首页啦，直接在页面点击就可以到结束页了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24" name="矩形 3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12"/>
            <p:cNvSpPr/>
            <p:nvPr/>
          </p:nvSpPr>
          <p:spPr>
            <a:xfrm>
              <a:off x="142344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6" name="图片 24" descr=""/>
            <p:cNvPicPr/>
            <p:nvPr/>
          </p:nvPicPr>
          <p:blipFill>
            <a:blip r:embed="rId1"/>
            <a:srcRect l="0" t="0" r="87759" b="0"/>
            <a:stretch/>
          </p:blipFill>
          <p:spPr>
            <a:xfrm>
              <a:off x="1523160" y="1179360"/>
              <a:ext cx="54720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7" name="图片 1" descr=""/>
          <p:cNvPicPr/>
          <p:nvPr/>
        </p:nvPicPr>
        <p:blipFill>
          <a:blip r:embed="rId2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2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9"/>
          <p:cNvSpPr/>
          <p:nvPr/>
        </p:nvSpPr>
        <p:spPr>
          <a:xfrm>
            <a:off x="2451240" y="1359000"/>
            <a:ext cx="52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1"/>
          <p:cNvSpPr/>
          <p:nvPr/>
        </p:nvSpPr>
        <p:spPr>
          <a:xfrm>
            <a:off x="1555920" y="2344680"/>
            <a:ext cx="59292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36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5"/>
          <p:cNvGrpSpPr/>
          <p:nvPr/>
        </p:nvGrpSpPr>
        <p:grpSpPr>
          <a:xfrm>
            <a:off x="1341360" y="1177920"/>
            <a:ext cx="792360" cy="865080"/>
            <a:chOff x="1341360" y="1177920"/>
            <a:chExt cx="792360" cy="865080"/>
          </a:xfrm>
        </p:grpSpPr>
        <p:sp>
          <p:nvSpPr>
            <p:cNvPr id="539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文本框 11"/>
            <p:cNvSpPr/>
            <p:nvPr/>
          </p:nvSpPr>
          <p:spPr>
            <a:xfrm>
              <a:off x="1429200" y="171936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阅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图片 13" descr=""/>
            <p:cNvPicPr/>
            <p:nvPr/>
          </p:nvPicPr>
          <p:blipFill>
            <a:blip r:embed="rId2"/>
            <a:srcRect l="43274" t="0" r="43830" b="0"/>
            <a:stretch/>
          </p:blipFill>
          <p:spPr>
            <a:xfrm>
              <a:off x="1458000" y="1186920"/>
              <a:ext cx="576360" cy="56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文本框 14"/>
          <p:cNvSpPr/>
          <p:nvPr/>
        </p:nvSpPr>
        <p:spPr>
          <a:xfrm>
            <a:off x="2482920" y="135900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4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5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51" name="矩形 10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文本框 11"/>
            <p:cNvSpPr/>
            <p:nvPr/>
          </p:nvSpPr>
          <p:spPr>
            <a:xfrm>
              <a:off x="143208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图片 13" descr=""/>
            <p:cNvPicPr/>
            <p:nvPr/>
          </p:nvPicPr>
          <p:blipFill>
            <a:blip r:embed="rId2"/>
            <a:srcRect l="64435" t="0" r="21054" b="0"/>
            <a:stretch/>
          </p:blipFill>
          <p:spPr>
            <a:xfrm>
              <a:off x="1438920" y="1188360"/>
              <a:ext cx="64836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文本框 14"/>
          <p:cNvSpPr/>
          <p:nvPr/>
        </p:nvSpPr>
        <p:spPr>
          <a:xfrm>
            <a:off x="2413080" y="1359000"/>
            <a:ext cx="507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60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5"/>
          <p:cNvGrpSpPr/>
          <p:nvPr/>
        </p:nvGrpSpPr>
        <p:grpSpPr>
          <a:xfrm>
            <a:off x="1341360" y="1170000"/>
            <a:ext cx="792360" cy="873000"/>
            <a:chOff x="1341360" y="1170000"/>
            <a:chExt cx="792360" cy="873000"/>
          </a:xfrm>
        </p:grpSpPr>
        <p:sp>
          <p:nvSpPr>
            <p:cNvPr id="563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图片 11" descr=""/>
            <p:cNvPicPr/>
            <p:nvPr/>
          </p:nvPicPr>
          <p:blipFill>
            <a:blip r:embed="rId2"/>
            <a:srcRect l="84789" t="0" r="0" b="0"/>
            <a:stretch/>
          </p:blipFill>
          <p:spPr>
            <a:xfrm>
              <a:off x="1381320" y="1170000"/>
              <a:ext cx="679680" cy="56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文本框 13"/>
            <p:cNvSpPr/>
            <p:nvPr/>
          </p:nvSpPr>
          <p:spPr>
            <a:xfrm>
              <a:off x="1434960" y="171972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下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文本框 14"/>
          <p:cNvSpPr/>
          <p:nvPr/>
        </p:nvSpPr>
        <p:spPr>
          <a:xfrm>
            <a:off x="2484360" y="1359000"/>
            <a:ext cx="52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 IOS7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毛玻璃风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68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感谢亲们选择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素材，我们立志做最好的！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高校联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2"/>
          <p:cNvSpPr/>
          <p:nvPr/>
        </p:nvSpPr>
        <p:spPr>
          <a:xfrm>
            <a:off x="8172360" y="478800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8118360" y="4842000"/>
            <a:ext cx="57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1"/>
          <p:cNvSpPr/>
          <p:nvPr/>
        </p:nvSpPr>
        <p:spPr>
          <a:xfrm>
            <a:off x="3708360" y="2124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3"/>
          <p:cNvSpPr/>
          <p:nvPr/>
        </p:nvSpPr>
        <p:spPr>
          <a:xfrm>
            <a:off x="4680000" y="281628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4"/>
          <p:cNvSpPr/>
          <p:nvPr/>
        </p:nvSpPr>
        <p:spPr>
          <a:xfrm>
            <a:off x="3203640" y="196200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5"/>
          <p:cNvSpPr/>
          <p:nvPr/>
        </p:nvSpPr>
        <p:spPr>
          <a:xfrm>
            <a:off x="4522680" y="190800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6"/>
          <p:cNvSpPr/>
          <p:nvPr/>
        </p:nvSpPr>
        <p:spPr>
          <a:xfrm>
            <a:off x="4675320" y="2771640"/>
            <a:ext cx="10764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835280" y="1908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跟我一样成为高校联盟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P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员吗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2627280" y="274644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527280" y="2425680"/>
            <a:ext cx="208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就猛击  了解详情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227160" y="500364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MQ</dc:creator>
  <dc:description/>
  <cp:keywords/>
  <dc:language>en-US</dc:language>
  <cp:lastModifiedBy>姜天宝</cp:lastModifiedBy>
  <dcterms:modified xsi:type="dcterms:W3CDTF">2014-11-09T12:24:53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