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dt" idx="7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ftr" idx="7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 type="sldNum" idx="8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C578-5FAB-40BE-A06F-00E6475BBC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AAC6-B889-472F-A2FA-756747DA52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A0C-C4F5-4D89-95FF-399AD002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FA0-EEFB-43F9-9084-0F878FB1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A6D14-69E5-4991-8A7E-8A6C6A3AE44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AC6A0-5F3F-4125-91D9-EEA483A2509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0C3F2-FECA-4D1C-B5B8-BE0395E6BFB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E141A-EC2B-4489-8DA6-BBF69842E25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5E5A8-7591-4606-B2C7-22B465F75B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0A064-13EF-407C-8E59-FC5238D3F0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C6F04-9478-431A-891B-5CAE960793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D12A1-57A7-4C74-86E7-2AC6E91CE6B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5CA3E-FC9A-442C-B457-A3D261E3913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06D81-DEAE-4291-85E3-8B87809DC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F29-664A-47DA-9D8A-7B9663DA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F425C-20B4-4BCE-AFAD-11A4E302AF8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AC1E3-929F-4012-8283-A512A9AB0AB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B04F9-7788-479C-B3A4-3DAC239524B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B4039-ABCE-44A5-BC7D-9796FFEABD5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A82E0-1F53-4B28-BDD5-61F42B8AF60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B5429-6FB4-41BF-A2E9-70C4CE2C099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09C39-55CD-4961-9447-CD4896E507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385AF-0B65-4308-84F3-5026239A2D6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48BBA-49C4-4DB0-B7F3-6FD6E51FB31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D441B-48EB-4A7F-A3C4-642FA2652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AC0-EE84-43F5-9361-616A7486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93D41-C1EF-47D2-8AAD-6F18BE6205C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B3378A-4A51-4839-9F12-16B45585C59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9EC4EB-F6D2-4F72-9066-7879733227F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3C1924-A9BB-4B24-A8FD-785D9A5A17F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09B488-07A6-4C9B-B0E8-696A1BFBB63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1CAE92-52D3-49B6-813B-8830C717987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01BBDE-CCD5-4601-A4FD-5AEB9216E1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274D92-02AF-4100-BD95-53F73E7B5C2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7E57F3-D494-4E9E-A276-F5836959FC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628D0E-BF1F-47AE-9857-08CDBCE5F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4FD80-D0DA-4A2C-BC29-66B4A9933FB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85FA03-FC23-4583-A156-CE1D93BBD50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8E9490-E9A1-4997-B16A-EB7EA5A9BE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2DA05F-F7A9-4828-BDFF-2D03FF5A693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85B6E-CB9C-4922-A15A-BCB62C4737B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52DCE-D838-4084-82AD-07308A44D19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7FA1-8EE0-448B-9E4C-767D0B0A163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1FA71-EE28-4982-8F0E-1A09FDB2A33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1DC9-6B3C-4777-95E2-C6C9CB43E28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8BBCB-DAA0-4E95-B8CF-E3D95FF7F4E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3222A-89EC-4E3D-92C7-B36CABA393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C23F2-6A75-434E-83C7-36B928AAE22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EE3FA-DA43-468E-A1DB-FE6E3A53AF1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7B0C8-BEC7-4C55-841E-4C45EC0E34E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AF52D-CB3B-4E54-9C9D-8FC3A2FDF5A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1A2C4-7EF0-4C09-B1A7-EBB57FFB590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7E796-2EC2-4BF8-A3BE-37D2C41F1D9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3C17D-8EA0-4D5D-B690-4C7925E967A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C99A8-59A4-402C-A30C-B8296F594E1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B59B7-2DDF-49CD-97C6-4938FACFF1F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0A31B-E82C-4B7A-9F27-1D3E743868C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0B1FE-1352-444E-831B-E4CEAF7A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15A91-DA1B-461E-B8B8-C3BF83AA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DCC3A-383C-4DBE-A57F-9833EA5A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3A350-16FC-4AF2-B859-5AB8DB07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38B9C-7AF4-4949-AA61-108EC4D0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3FB93-A161-44FC-9804-85985114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2722C-580A-4962-999E-72229A20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8C9CA-585B-414D-9DF2-71544D81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D5607-9A99-469D-A4EA-F4C5C440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8F384-755D-44A3-A7E5-C5063DB3D56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7E0EB-DD33-4FD4-BA0E-F791E867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92414-2134-496F-9B5A-2F092DDE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7DB82-600C-48C6-802B-836AA2B9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FAB-590D-4D98-A133-528B53E1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999B6-59EC-4B45-B19F-86EFAACF326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333680-CA0A-4969-B106-640BF8DF8BD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28D137-BD5F-4FB9-A3E8-BC1963065C7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D404AF-1663-4E77-B81A-F39BCB50AE5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D3153-C827-47FD-8F71-874D9D115E1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0B3A2E-6649-42F2-9977-0B92171955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7C84A-B416-4DFC-847D-02C68C394F2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BC9AC2-D8D6-4ED0-93FA-8ABD1261DB8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185F88-16B6-4D9A-9D5A-07F156EFE25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D06CC-3245-4755-BED5-C8463964D14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3D891D-C7CB-458D-9C1A-F97ACA30713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1ACD04-05AF-4DF1-B1ED-9228FB6989E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8FB8AE-3124-44A2-8EC6-33DA85C4539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6A16B5-73D8-4D7D-8258-73F01F01505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C2378-B421-44F3-9CAA-CD2476EEDF5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3C8E6-F9C4-4B46-A807-095AD47DCB0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1D0B4-D1DC-4914-92CC-F3BC9AD66D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E19B2-DC63-48F7-950F-DB12764BFB4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7C55C-91B9-4ACD-BC4B-ACDEDFB69C4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A1F41-0EA4-4216-A44B-DEE0EFAC0FA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89509-E77A-473F-84D3-E8724BEFAF8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85D94-5CD2-4E43-A616-E1037AF89A6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01ABE-529C-425C-8AF5-9EC616BEBAC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CC6FB-0503-483B-B615-05CE8BC2EAC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E4DFE-83D3-4661-80AA-605F2FF36C8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379D8-FE04-463E-9966-DD1C2B4DE60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7975E-C0F9-414B-9D4F-451C6A8AF57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9320D-A32D-4036-9C1A-40DDF5D52AF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4E436-A93A-4C48-8B08-624BE818D7C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5BA57-37D1-400E-BD33-2F2BE33ED0D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D529F-F328-44AA-8CE0-FA644885EB1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686AA-48AA-4234-A3A8-90106B0B496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58CE0-6FBB-482B-A521-86753F0DC59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573B5-0D8E-43DD-A1AE-988CF34247A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ACC2F-5F84-4012-A27E-91EB19B0E35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F85E1-72FF-4022-A109-0BEEEE55AED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46443-3DC0-4248-A212-4A6ACB298E0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85FBE-86E7-4A02-939B-2EA49E1ADC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1C57A-C1C0-49B1-A27C-AC3BEB108D7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EDCEA-9F40-42A2-98C5-9A6B9D14EF0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0EA21-1E30-4B5E-94E0-37EA1FC114C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1C1DB-C54D-4B6B-B126-0EED423510B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4F478A-C9F0-4C45-83A3-6FC6954EEA0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4DB8E0-09FD-4A0A-8A3F-0D72788B22D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450FEE-8182-4FA7-9FF5-7A715084F37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AC088B-0491-46D3-89F9-95A3EF4D939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1BADBB-D451-4776-BC16-EEA401FFFC2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F72302-62D5-4003-B4E7-6FDE211D43E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802B0A-3A4C-45C6-AE11-1480ECF3E9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54677-9438-4B48-8863-53C59432F14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44421D-2096-4337-A826-1BEC3E4D6E0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588DE4-BDDD-40DF-A92B-F62100E629B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BD2105-ECA1-4046-8C7A-25AE0E26DC9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22E384-04DB-40B9-B8C9-601E47353BD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60E2A1-5C79-489C-87C5-6F141689F14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33399-F995-4E3B-B22F-0C92B1B279B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E22C3-7FF2-47C4-B1D4-372F859C084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72AC0-A98F-4CC8-8121-41B0EC568EC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1BB11-AA9E-4CB9-8005-ADF3C3ADB34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4164E-1946-4E6E-9872-43599F93A1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8ABBB-B46D-4FB7-BB75-0C84BC69F6A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60261-0A62-42B5-8D27-2A4537B1404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53414-643F-4BF0-9636-7A638938161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01C07-C268-43E5-90C9-C3418BAACF6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B710B-FA52-4150-9B08-4AE8C701D81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667A5-0B21-4F72-AFC2-5ADB97301F5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873BA-2996-47E3-8CD9-829F2D33340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8CED2-0135-46FB-9A97-37A1BA27B7E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8F7F9-A614-42C1-9582-180BA6271C6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3447F-994F-40E4-B0EE-319CD9AAE5D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F82BE-23D7-442B-8051-C59CA1D2FB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CA5285-C09C-4162-A7E8-FA51694AFE1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DC4A6-F55A-4D3E-AEF3-CB3FAD19235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5B14A-FC80-4E88-BDDE-A5A9CB7DA36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0830D-19F0-44FF-8C99-DD0F168B68C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491EF-DE4B-4A7A-8277-10618723CFF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BD2F6-8CF2-4E9F-A7D4-815E7E62FD7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57E65-93FE-4772-A75F-BF4B6EA5F70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DF632-3B14-43B0-B410-7B30EA8724E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EA457-D9FB-45F4-9E28-2FBC358B055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35EA7-35B8-412F-A2E3-9954365F9A1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B33473-A12C-4377-BC5D-BD4DAC52BC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63B4A8-2F7B-46C0-B497-D95C142E9C4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5A5391-F557-424A-A06E-E7160E6AB62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2A8474-E50D-4A58-9DC0-8BC4F08A311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2AD8D4-5AFE-4417-AF25-F129AC88B65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0D9A39-4043-4574-98A5-119A3D3CEDB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877F89-DF5E-4323-9790-9246AA66DEB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96B912-D366-47F7-81A7-7C93715CF61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31FC39-9E33-4904-96C7-18A17AC09A5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CBB012-CBE8-4C8D-9A25-DDDBE3CE034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4C27A6-B1C4-4150-9547-0EBC1ECDC75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E65141-83FA-4786-87B2-7A889D3BE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8F2-B9A4-48F6-BED4-CC593143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5060C-CA24-4D25-962C-5A8E3D9AABA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ACAAFF-DF61-45A4-B81B-468D2FC2854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7AB06D-9386-42D9-8DF8-14426C95EA9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6FC701-2797-4F1E-A4C0-6B31B562A63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4A408-A83C-4EDC-AE0C-54A94EE4FD0B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4B0A43-6DDC-4978-B3D9-4431F57C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2C16AA-3651-4DB4-B287-1291BCB5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3A94AC-DEB0-4940-B9B3-EC49B1DD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737E4-593A-49CC-B53C-62472063F842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8B4BB6-3775-402F-A273-9E817AA7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777D3A-B0F3-44B9-8966-9E0F4BD4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334643-AA96-4A37-9D61-F970DA0D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309E4A-014D-45A2-A31E-8975A112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D0444D-0844-4357-87FD-99168947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0C8AA6-6CB9-43CD-BB6B-82E897CB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C48FA5-7D46-441F-BF9B-DC37A5B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6A0128-61D8-434F-9C81-9E1507BA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4ACFB9-46B3-49B6-85B0-B7E988D9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E1AE75-0812-4FC1-B106-6FB78DDB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45C7B-F668-4F0D-AB50-990C8D042CF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D0C640-6EE0-47C7-A55C-406DBE98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722783-DEBB-4293-8FF3-38EF2959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A9C777-7B7E-4DFA-8807-C27635E5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817846-7C9B-4271-9705-2F14EEBF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CEC27E-43A0-481B-9ECF-09608C2E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2265AC-F479-45FB-88AF-D8F0B25B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7ABF5F-2248-4D01-A883-BBD8E1D8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8F720B-339E-4465-AF9E-F5E66A1F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010A4F-88D1-488F-847A-3B68B903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982B48-FB2C-40E7-BF53-7A77103A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D3EEC-F4A2-4A2F-ABDE-85CC86A6FC20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8D5396-4D64-4106-90C0-41792309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3447EF-83DD-4FB3-B392-FBEDAFC4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180CA0-A58F-419C-9A91-48BE9683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8FAE5D-488A-4CEB-B9AB-A85B5046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15F37F-B10D-4AB9-A674-A67A876D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0C059E-4803-4409-94A8-3972370A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8736C9-1FB9-4554-BC4F-8EC2FF97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4E8B57-0024-4609-8A38-2DF10DC8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519570-792E-4168-8C97-DF205C4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0E31BC-D072-4855-90B3-BC5FB773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F4D8BB-12EF-456C-9A38-171841BD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0A20EB-3DD7-47F9-935B-FD609566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0B2A69-F42E-4BD8-8B2D-CF76A436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5EE057-595B-4523-95E1-ED234C31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EE13E0-EB1D-419C-B01A-6F636C57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80BBE8-3722-4DFE-84CC-2C270A20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2B48CD-39EE-48A6-9C86-EFD26D6F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4C48AF-E353-477D-A48A-EED99567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8B6AA8-994D-4A7C-9D0B-8A81BC67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638A24-D912-4EFD-8B11-BD6CB096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F5647A-90A8-440C-9B2A-171199FF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3872FF-CC16-4B9F-A301-3AAC246E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360426-0699-4B26-AC51-F53A6D5D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ACB668-1DB5-4470-A8ED-F1C2FB7A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6199EE-1891-46E8-9750-AFE17A77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006E8B6-A89A-4A80-9501-B67495DE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3890FBC-0097-4BBE-9BA5-2D434EB7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662867B-FDE9-4CD1-A945-FF54DE88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8DB0E2-FB28-4440-A643-C47F7901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A6F91B-E3B9-4F37-9B7C-4E3FACAD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CE99CB-2D69-425D-B9EB-B3ED7F00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23F2B4-EA94-4BE0-BEF1-716B8E50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DE0818-CD29-49EF-8A00-795FCD30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98F4012-CA3E-4E88-936E-7C5A41CB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BB4CF16-54A0-41F0-832D-41E930E3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86838A-2B32-4759-93CE-179EA67F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54EBFB-6C9E-4F55-A7D9-5367F834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4A69771-562B-434F-B6A1-69C88EC7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1FACFC-FE0A-4A90-9A48-A0614242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730873-1F54-449B-A1D0-42088D7B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497-49C2-413D-86F0-6679A25C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209B98-0BAF-4E47-8C93-74C24075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C55894-5C9A-48B4-AF7C-FD099A33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D1DEDD-61BA-4EB0-B324-F07C1E67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226EAF-4614-449A-B7C1-A70D1508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EB9B82-8111-466E-A67E-DB90EFA1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8401BF-0D01-4859-B6D4-94B3F695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4A5083-91C3-4E83-87D9-D96591F2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B4A39A-860C-493A-983C-01506174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E7AAA2-46D2-4610-BFBA-5D948F2C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8F8A363-DAA7-43D7-86A9-75E36CCA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53DA4F-236D-421C-B27C-64DEC53C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BF2A294-11D0-402A-9264-926B0BC3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4D7443-AEDB-4BFF-91D8-6764155E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25ADB4-460A-47D3-8DCA-2623296E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109A4BD-8D5E-4B18-A6DE-BD7FF6DE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46115F-A4C9-4C22-8440-403404FE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97C7D9-820D-4665-A7F2-7D37F10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E5F768-257A-4C79-9226-0F527A5B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D81A16-8697-41C6-A76C-3610218A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E9844F9-8882-452C-A12C-3B6B8BDE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CA19B97-1219-4621-BA80-2A712612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AD23724-F3F9-43F1-9245-AF19C42B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91FDD32-8D1B-4DB1-B87D-F163240C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AB36A8D-8B3E-4BB6-8765-AE46FACE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0B5053F-660E-481A-AB9D-DCEB3F86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9E690E-BFD5-4920-A7B4-E22594E0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8FCCD66-B8E6-461A-B31F-1A7000BE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B97457-2A07-486A-B9DB-5219CA7C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DA8ED9F-5867-44C6-A56D-5E69262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6E28DEA-4D13-49F1-B1F8-D736B0EC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2E3C8FD-1177-4A08-9859-FA0BBDC1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DAA7CC-DA15-49BC-98C3-64C2C548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1C1AF5-172F-4313-AD7E-CA60A890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2B59DF-F661-41F5-A00C-0F6265C1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9668FB6-A211-4C6D-896B-C90A3E2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AA676F-2FD3-4408-8953-5044ED78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E58146E-5275-48C8-B167-72C3A785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2210F5C-8E7F-4457-A8B9-64D73F99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E55DCF7-E85C-4423-854F-FB77A4D8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2CADBAE-A4EB-48BC-848D-E37EBD94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B57D0F4-1E4D-429B-BC94-5E5BAE88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D2B779A-E3EE-4E2B-AC2A-5F5FF414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2D2DFB-6BE3-44A3-9944-9FAE0EF3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BEDC892-A277-4D7F-93C9-15FD92E0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E9F2A0-1884-49C2-92AB-81E8C903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F405A37-DBFF-48B5-A5FE-BA24B248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DD79463-16D7-48A6-8F53-7638C9A0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8735374-8DBD-467F-BF04-5881FC5D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64AEAE-8280-4FDD-A2EA-8E862E89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D1DB158-9D1E-4DEC-B867-F05343B4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084C900-0C23-4CF8-94F8-14B1602A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FD739B-367F-4368-A212-95B88DFF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8F390DB-D5A5-4CB9-9DF6-93B236B4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80A2B9E-EB9E-4977-9EC7-102BFC36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7566BAF-9E39-4DD3-9D85-E407D705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68F00EF-5A74-423E-BF30-68CE8942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1C73B95-AFCF-4490-A470-2D5987C3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B62821-100E-4E84-9BB6-498EA07A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15CBAD-4CDF-4B10-A143-EF56C438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CCCB294-9F9F-4CD1-8961-206B6E07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37D68E1-4182-45EF-BC91-54100E2A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12C062A-A486-4A98-A18A-A10A2188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8DE8593-64C9-4C40-8D1E-EAB809D0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9E822D-3FA3-4566-BBE3-8D20320A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64BB48C-7C91-47D4-8B31-BF15D4F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7C8512F-8C50-42B1-BA68-362C34CB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7774393-3AFB-49AC-A0D9-CE3D539E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8F95F15-F122-4D73-B2D4-ADB918B8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65EE1D2-DADA-4495-8196-216CA1C7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4F788BD-767F-4613-96ED-5E303092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5F8672A-2F5F-4671-A3FE-185DA613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5EC65DA-B969-4C3F-8D35-ABFD9510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06AA7C3-556F-430E-87B7-8F5C42D5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BD1F04A-259A-4837-8971-E42CA27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1B8EB09-2605-4C3E-94DA-3D7B52A1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99E9FE1-DD0A-4392-AAB8-9E109A3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01BEE8B-AB19-44C9-8635-EA9F9914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8833F7-66EC-4D09-A3D7-F80FDAB1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EDCC99A-FFE3-42E5-80E5-1DC4011F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5ECA2C2-8214-4F89-8AF3-D8284EBB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546A9E1-3CD3-41F3-8E2C-723F3EE0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6A64D4-8DF9-4687-8284-2B9357F7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3524FD1-28B4-4609-ADEF-B4F69001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88029B-734E-45BA-8E18-AF07EE21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46871D7-4088-4022-B6D3-E499ACDF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7AD31DA-3FD5-4559-BC90-666665EB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8878CB2-97CA-4AC1-9E9C-2793784C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43F8A08-9CAC-40F7-B02D-E36AEF23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04DE989-BDA1-4273-A2FC-D24E6725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2F92015-3988-4A3F-BC8F-31D7C668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2FE8-7361-4CE8-B498-7B81050FB97B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B089EC4-F3EC-400C-A2A0-2C40C3E4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B2D149D-6008-40FB-9E72-4471460C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23A4084-D68E-48D0-942C-15B96BCD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E95-133E-455C-97A4-3366078D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7644A-EB08-4562-BC34-DD93D3EC93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06D7D-433B-45C8-AD0F-DA7FFD09F4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B553-8152-4212-8536-92089CC01DA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72B4-6421-4D55-B71B-59928D2BB67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0D10-6DC7-4973-A4BE-F4EC503099F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81CC-1D6E-4DA6-AACC-E6A452F61E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4FDC-F72A-49A0-9FB8-6585E8A3693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E16A-F863-4348-A364-0D1068B8CC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7968-EA51-4ADA-95C9-D03901556D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330C-EBFD-46E0-B912-DEB320B66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254-730E-4BAF-B9BD-0918FB61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7033-9159-4C46-852C-4C6E41EA480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B7BAD-F0FF-4D2D-BAB8-AF543F9F11D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FE1E9-B9E5-4875-8E40-3D5C849B80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A791C-BABA-4B2C-8CAB-C63453E5A5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A8444-0E68-4A6B-B9A7-40E5B16384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F6D4A-F352-406F-85CA-6028996D7DC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2503D-EDD5-4EF7-A4D1-1DD72AE056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0FE6E-448C-44AF-BAFE-2B4C547773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9DC05-F55C-46AF-8D72-401B452E1DF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F903A-F018-4563-87F4-7430A3677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079-28E4-4D5F-A87B-38B560F3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36308B-A747-476C-A2BD-9D3B4AC3170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6E1BE-ED2A-4065-A699-7AFF9C7585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87EE0-1DEB-4427-88E3-5CF7019DC00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E92-3853-4968-80C4-7A680348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7B9FE9-8A75-4E89-8455-31D26262920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E77CB-C9F5-491C-9E18-801C107AD87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971EF3-FEBC-4750-AC9B-888B1E5217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E32A82-D4DC-4320-AC19-A608118EB65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168A09-0E7E-452D-AC35-776F00D71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479-0C7B-4AA0-A9F5-82FF5A0B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ED6F2E-8D11-40F3-A051-AD3F61DB5B9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7666EB-0B56-4754-AC8B-926B96B7C0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9434B2-3A18-4B7A-B3C8-C6D6E61A7E6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4B6E54-763D-463B-9B10-830914CED48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F53AE9-27DF-48AC-BDF8-484A839909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2E069C-11E1-4081-8675-B6E606CACB1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9513C4-CCC7-44EF-BDE7-02261DBF62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F650E-F480-4B55-A310-C4B2182095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3CC89-0808-42E4-AC1B-6306A2B44E0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2D105-EDF6-4E24-95F2-26BCCF314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D191-B3AC-4CD2-803F-DA95357631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0ED0-55C3-469D-ABFD-B0B9C9271C3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22B9-698D-4DDA-97BC-E6E3BD72F56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6CE7-4BDA-422A-8FA4-E532EE0F709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14C2-FF94-4E63-95B0-3FDC47FBEDB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C6FC-8F98-4DB3-9747-A25CC855D8D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D9B7-9A7B-4B4E-BA90-3F3BA1D1CBD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9F8B-4500-47E4-9FDB-E7C2F11464A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B426-9081-4AC5-BB8E-30807DEB5B3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979E-F6DE-493B-99E6-67765FF9112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17C1-5B88-4523-AA50-8DA8FA1549F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19B0-6B4E-4969-AAC2-18C64BEDFAB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7103-21CE-4339-B99F-03A5ECDC0FF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A46D-4D2D-4714-9AB3-4949DAFFEE5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67E9-47AE-422F-8DB3-81C53FB6E3A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700A-DC6D-470D-9203-C01981C9F6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904D-CDBA-415E-B287-CAAF876A96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D8EF-6F3F-4F2A-808D-3E27B8986B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8CAB-2665-4413-A8FC-64B58A7B0C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7A63-14E5-4402-9EE9-0342F34DB9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A124-0A59-41E0-9873-93C12B2AF2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A35B-892A-479D-9EAD-FC307CE60A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8A00-24C5-4D94-B18F-3E13A3A1D7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769B-8A13-4343-9C42-F55A382EC8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A7A6-1E13-48AA-B61E-C9055B9CA5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A5B9-3A87-4253-8B68-7C782B2FC0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5D9C-0840-4131-9AD6-EFB87925CF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BAC3-9813-4169-A940-8F85D5E24C0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3431-63C6-4993-8A39-12B0CC1D811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BFCC-9787-4EC2-8E91-BD51351363F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9947-F631-4220-8C91-98DC637E0F1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12"/>
          <p:cNvSpPr/>
          <p:nvPr/>
        </p:nvSpPr>
        <p:spPr>
          <a:xfrm>
            <a:off x="4140360" y="15699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通安全无小事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 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事注意安全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Box 2"/>
          <p:cNvSpPr/>
          <p:nvPr/>
        </p:nvSpPr>
        <p:spPr>
          <a:xfrm>
            <a:off x="2080440" y="1609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Box 3"/>
          <p:cNvSpPr/>
          <p:nvPr/>
        </p:nvSpPr>
        <p:spPr>
          <a:xfrm>
            <a:off x="3311640" y="2395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Box 4"/>
          <p:cNvSpPr/>
          <p:nvPr/>
        </p:nvSpPr>
        <p:spPr>
          <a:xfrm>
            <a:off x="1071720" y="32148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7"/>
          <p:cNvSpPr/>
          <p:nvPr/>
        </p:nvSpPr>
        <p:spPr>
          <a:xfrm>
            <a:off x="1073160" y="40291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5" name="Picture 1" descr="D:\卫国小学\map01.jpg"/>
          <p:cNvPicPr/>
          <p:nvPr/>
        </p:nvPicPr>
        <p:blipFill>
          <a:blip r:embed="rId1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696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4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任意多边形 2"/>
          <p:cNvSpPr/>
          <p:nvPr/>
        </p:nvSpPr>
        <p:spPr>
          <a:xfrm>
            <a:off x="1986120" y="2943360"/>
            <a:ext cx="596880" cy="65700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"/>
          <p:cNvSpPr/>
          <p:nvPr/>
        </p:nvSpPr>
        <p:spPr>
          <a:xfrm>
            <a:off x="2583000" y="2949480"/>
            <a:ext cx="6561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</a:t>
            </a:r>
            <a:r>
              <a:rPr b="0" lang="en-US" sz="2800" spc="-1" strike="noStrike">
                <a:solidFill>
                  <a:srgbClr val="ceeab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6"/>
          <p:cNvSpPr/>
          <p:nvPr/>
        </p:nvSpPr>
        <p:spPr>
          <a:xfrm>
            <a:off x="0" y="2182680"/>
            <a:ext cx="690084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直角三角形 5"/>
          <p:cNvSpPr/>
          <p:nvPr/>
        </p:nvSpPr>
        <p:spPr>
          <a:xfrm>
            <a:off x="6900840" y="2179800"/>
            <a:ext cx="76680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11"/>
          <p:cNvSpPr/>
          <p:nvPr/>
        </p:nvSpPr>
        <p:spPr>
          <a:xfrm>
            <a:off x="1316160" y="3921120"/>
            <a:ext cx="6472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kan</cp:lastModifiedBy>
  <dcterms:modified xsi:type="dcterms:W3CDTF">2015-08-23T05:17:29Z</dcterms:modified>
  <cp:revision>2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