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dt" idx="7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ftr" idx="7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 type="sldNum" idx="8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33A6-895D-40A3-91D3-5A956F9B1D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18BE-AE09-49B8-84DC-75DF9A483D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50E-A266-43E8-A0EA-A3522898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6AA-764D-413B-B491-7143240E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75CE7-3F30-4FCD-BC87-D30B7771118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BC596-520C-4A46-B635-DD5B721E090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78560-648E-4CEE-BC57-BC48DFB2F1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11E77-BC10-4874-9109-026E9F608C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722CD-2B6E-44FF-92F1-5DC52AB742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75CB4-52C6-468F-828D-37B54CC1AA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1A82C-5A79-4F2A-8354-D0ECFFE25E5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897E6-3CF4-411E-9746-FBDFE36E49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60C4-AA67-4D7A-AB6D-B34E8006999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30E93-EC1E-4863-9F8E-E7B6DDBEF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B93-9B72-4AC8-A595-B1708611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F3AE9-A19A-4D9D-BEED-D723BA3979F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F7A1F-FA75-4B40-9533-D863364C61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A3BC0-3EBE-413D-94EF-E5A04A73E8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0C719-7937-4427-AC80-CE1A516A40B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3A9CF-1413-4D84-954C-3279EFFC1F5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D9FE0-BFBE-4594-85CF-7331644EA5D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3564D-50C5-4CBC-A65E-87F813256FF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1C378-764A-4EA3-AAE0-308E7F24E9E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A3079-5282-42F9-BD55-529F6A4F541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63DC2-71F5-4FF7-845A-1082F594F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849-AA11-43D3-816A-87D806C1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F14DD-DBCE-46C8-BED6-4C5C9ACCEA9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CDF7D2-4570-4AA8-A687-B574CA578EA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67AFE8-8322-46FE-BC4E-8A03745D32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70F124-3E53-4ADB-9DEE-370C79DAAA6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CB305B-1DF6-4E1E-A559-58CF945CAB7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6B0388-9C39-4E8F-9214-54627A2BA8D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58DD5D-5D65-44FB-90FB-440A67BF60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403AD-1703-40F5-87B2-77554764F6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A00BE9-8D67-459C-80E0-296744002F1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DC51AB-192A-42B4-863D-3FD1B877F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121DC-547C-44A7-B145-41520C33C06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8D053D-A6FC-4F50-8172-DE98413438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A326CD-2385-4B80-8175-16C3B6A39C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AE0FEC-C542-4D92-B9DA-E67A2304D92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95E80-4C81-4499-93D2-BBE9DC2C399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57212-40F5-4563-A21F-B16C6C86CE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D6DAC-E6E7-4B58-A74D-925253FE345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BCAEF-1B4D-481E-9560-FF427B5BDA0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1C8D4-F539-4FC4-90A8-0B115830189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F5EB-574C-4B27-BD90-639E6EB180F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7FA54-1772-414D-8808-7EE9C857C0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086B9-F074-41FC-92BB-8D20DA1536F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26BEA-5E25-4FFC-9030-C0D80EF5304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C0567-E929-4E7E-87ED-B64FAF412B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6635E-195C-44FB-B697-899B87EFC8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F500-E626-4C90-A2EA-2F3C9EC154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AEC5-32A1-4388-8DD1-2FD36EFC4FA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A31B9-2AEF-43F9-83A3-907BE5C61B2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999D5-4AC9-48A0-A8F9-098A2F99B71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1562B-10E4-4A40-8F73-9EAB8162D29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9592A-A7E1-4732-A6BC-BA47DEA3115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DB31F-CFD9-4A94-8058-EA6C638E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3EE6-D194-4C0F-B1F9-905C178F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C4ADC-BE3E-4C30-A299-5944A5A7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4262E-4A6F-4B6E-8CD8-13A431C0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964FB-8AEA-4158-8C7A-FF78B5C0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65134-FCDD-4EE6-8E05-29901F1F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970AC-68D5-4195-A1CF-5F2E7867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195DC-226F-4267-9D3F-A7E97E82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113EB-2B33-42B3-AA50-3674E42A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F4EF4-260D-4E50-B271-E98862D9501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3D332-C318-4F99-808A-053D9152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2AAAB-A804-4AEF-B8EA-4B4E5888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DF779-3241-4FD0-999A-DED8ACD8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C79-1CCD-4009-B123-2BE9C9D7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FE254-28D9-4E5A-8531-67750A6F51C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4F40C-4A9C-46F2-9021-682F2EB92AC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3F1910-F73A-4FB3-9C43-F67E5EF8BCF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AEB5D5-D24A-4516-8623-855D15853D1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D58BD-9A66-44F6-81B1-DB64E816C5F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BE74A6-ADDC-477A-9166-222F76CF7A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F46C5-FF45-4274-8191-3B2A4AFF1F3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E8629F-EC2F-4961-A8BE-D28FAFEA520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7323C2-5D85-4483-BF64-BB7B3433A1B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920FF4-15FE-4F3D-9ED4-869EB485FBF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F57455-E0FE-4EB1-91AA-75E7CBEB677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ADAD45-F745-403C-AFD2-C60CA035728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C24CA8-C358-4D44-B827-25AB5B12656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20D6F6-8FBB-4085-970B-C63E69397F8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1CC39-DD70-4676-B3FC-88F05609081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29CD6-EC81-46B5-B450-97BFA38D983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63082-355F-4D5A-8CBF-9A5B99B1C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9D06D-DE64-47C3-84B7-88571E349D4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E1836-7D27-4F3C-AEE5-509A9839F9C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BCEA8-1A52-4516-A8F4-86C68F4460F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C3176-E793-429B-BB21-D471A3C41D1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0B126-A804-4C42-AA38-25B0D1CBCE6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FFE6D-56EE-4924-8507-F8EE44B147F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51EE2-B784-48DB-9DAD-2CF668C69B5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EB90E-F914-42E4-849D-F0BB1F9E2C2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7633F-CB90-43E8-A969-7D8B9206F36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62E69-535F-4419-B778-04F88F763BD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80D2A-3B18-424D-96F8-8D2266F7D86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D4591-573E-47C9-8DF9-FEA3B2A66B2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276F0-0954-407D-AE36-6F067FAA96C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914D3-A25C-4B50-8844-C9B45503CBE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44782-EA34-4F2B-8EAB-EFE1E59F060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06801-2F82-478A-8546-D9532721B74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C2C91-D23B-4AAB-9D12-6AC1140ECB3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D115A-6310-4DD3-90AD-9E6AFCFFBB9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00FF2-3938-41CC-A253-218594D3DE7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1773A-0A14-43B6-896F-8EC56085F31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BD4AB-4B29-4A2A-B257-02818261B7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D25D8-41E4-4092-A891-A684A973A79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7848A-6035-48B1-87A3-80F1F18F18E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FFD02-C59C-4D01-99A5-6C88AD85BF0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6D6EE-A997-4DB9-A961-EEEC7B4CE99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DBCD7-7B1E-47A7-A322-67F7943FCF2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34A8AB-1F78-4308-B096-BD6C7C83768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2C10F8-4657-4CD3-96A9-308E6472BB8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5C370F-EA0C-416B-80FD-179C2A5C042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B54062-4332-4B31-817C-AB2B9FA89AA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83397F-D65D-4BA7-BD29-E68A3E9CB8D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972BA4-F29E-45E6-A03B-2FE01219A5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8A0A6-2659-4ED8-994A-D06340AD5F9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21B12C-897C-412D-9F12-F6832218FC1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ED259D-66BF-4EA3-978F-790D4EB1398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DFF259-F809-40FB-9160-0827CC556B5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301C19-5383-42B5-8ABD-8EC71EA6673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0A0023-C844-495B-AE6E-58FDEE05BE0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5E649-4CA4-42B5-9931-97B8BF93C5E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69D63-B089-4B94-90C8-45A7A6A4700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B861C-632D-44EB-A224-B2F2B1888BF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0F88A-DA5D-4F24-8D76-F6932360A82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4FC3B-B71C-4158-8796-4C21D46A0B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7567F-829E-4019-BE11-2C06A57B58F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BCAA1-66A5-4C90-ADB3-F298BC76D18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BD05E-EB5A-4F91-B7B4-A9EDEB045CE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AFCE3-9B7A-4F6A-BC67-2395619F426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6079C-7C4B-4153-B552-4A812534A46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4DB7B-264E-4034-BCA3-DC2C4A16109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6CCF2-7DE3-4E77-B50D-F3C5609C62B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434A2-ADD3-42E2-9620-7740A72747E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1A437-D7BF-41B5-A843-3CE61E0D7C1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BAEC4-C006-439A-BD0B-38735BD7377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9850B-6013-44FA-BEF7-C80E9E4FCD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00170-AB8D-47A7-AB36-09106FB700D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1F2CC-0647-4BE7-B6F0-B37B2AF3564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86E37-EF87-4B2F-B193-70E343ADE0C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F354E-1B90-426F-886A-7E02A1E77E8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815A6-BC54-4B57-933E-0C6B89D60FB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EC89A-02C1-4A29-A151-1F12A4CE810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64D67-A6AB-4414-BCA6-10E20312C87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3891E-2F09-4679-8D6B-A1A5B4CEAFE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C0132-E82F-4ADC-88EA-7553F692D43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D5773-6151-42E1-A62E-4652EC498F4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53A521-133C-4F6C-9B3C-9777E47105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A6815-8755-48DF-9DCB-FC3D3282011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6032FC-650F-461A-AEC2-228F2E80639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9435F5-815B-4CB0-98AE-8B54FA9AE98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F9430D-CCDF-44DD-8DC4-B61F4A014BB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683DBC-8728-4FE1-83B2-71BFBF28D32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9E1ABD-76C9-403B-8104-19757FF9263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7DCB64-9D70-40AA-9239-02B2C268505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44C323-CB82-434B-8BAD-3178B0A16D7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49244B-7743-447E-96F7-7A2E5491492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058142-63EC-49BA-B17F-D7F4AD54A66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EB36D7-C033-4CF0-A48E-DA401CD02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8AA-4278-4551-9A05-FCF4CFE4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7E998-E4B4-429D-9ECC-A5E142A5814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E75C60-9AF6-456E-AEE5-750EBB8C755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3B915A-7A91-49DA-AD75-DB83ADDBE2C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62E06-891E-408B-A048-E0498E054B3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80F9FE-78F8-4B76-A873-9B5FAC51541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748FFE-9484-448D-9F5E-211E8BE3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857468-9F93-49F6-8D3B-E8D63767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F1C800-1313-49B3-8548-0B4DF352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DEFC4-7825-4762-AC5E-EDFB9A870E1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52721C-B115-4771-87B3-BD22F865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EC94DB-0C5E-4E70-95EE-F382922D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E97B27-7694-473D-BEE4-324623DB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8C0EC3-24D5-40C3-911B-782B134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7E9C56-9C06-4EE7-BA5F-EA35B6F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E8A02B-D9FD-4AD6-9886-F8BF8DDA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0909DE-BC96-4A3F-A39B-E8F4051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6C266E-11BD-4C62-B52A-D31B3C6D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5354A1-82CC-49C3-A0E7-7A4BF892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A8BFD1-BA92-4375-8D25-944B4687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3C41B-32AA-451F-8981-2D6C4B91FDD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D4B06D-C348-4097-A678-4CD927D5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ABAC86-C35F-4641-8BFF-70CAF01D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B8E163-D0C4-424B-AC20-8D2F6490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A94B9A-DC03-4A0C-8D10-7C06233E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C964F4-280F-434F-B43D-C2CF1019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3BA910-4730-4F1C-9737-11E5908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3738BE-5EDE-44C8-88D6-0B7432B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B5FE3C-37FA-40F7-B9E8-209825CA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C31F4B-FE6D-4384-B449-A08447E4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8BDA49-8970-45B5-89A2-5D17560B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9D1B7-8C9A-4FEF-9BD9-29E3F804E28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CF3ED5-CA63-45F2-BDFC-62C25D29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CA8496-C0B7-4D67-9891-93B5C604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E55D26-EAE2-4CAF-81E2-DC4E2127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BC5775-7766-46DC-B035-C4B8AFC0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FAD76E-5041-4A7C-A353-0AA15F84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C4F48B-5065-4D0E-8D10-EBB904F2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0B4608-0BC9-4050-B942-92FCCCB5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CB436D-D245-4679-85DC-A116C1C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222F4C-50EC-42CE-9D30-2D79067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5C5F1E-F10F-4BAD-8E92-8655243B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4BE03E-36F5-4896-B91C-4686F331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67F342-1F6C-4ABF-9FE0-1E9E8981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97C254-B45A-4687-AB33-F2C160F9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BBA6BA-2D01-4C47-8ECA-A136CF37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AD56D4-20B7-4C68-A4DC-588C7830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633C57-106E-44DD-93BD-55D5BD61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D311B4-585B-47E7-A8EB-8B2C8F17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7B026C-02C1-4C82-B4C5-F96AF93B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FC1324-B113-4EFE-BA8A-6CB54576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34D7A6-0BB9-40C9-996A-BD809F7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2B34E2-CDF8-47E3-8FEB-95ECB72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79D953-FB34-446E-8CB6-A46B4752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2D1ED7-9A94-468C-AF99-2F2BF818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A5A2A0-46B2-4DB2-90B4-EEA34621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0C3FC9-2B23-4C92-ACF8-0725CA15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A20F6A-3EAA-47E5-B78B-F96BA883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E79F81-273A-4F47-8A3D-87AEF064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02FAB5-6946-404E-A7D3-CC50A854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4A836D-5414-468A-A0FE-6A2895D4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22292D-44CD-42D6-B2BC-8865B15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A8F174-809D-4CAA-B50A-49D76018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ADBDE3-2E37-4DB8-B670-45F29FC8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9FD9AB-AE57-46C4-A788-861FE24E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B0DB8B-8EB3-47B0-9B7D-BBDD353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618C11-6ACD-4929-83B9-4C0D728E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FD0362-4062-4517-B02E-57BC1EB4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1E97AE-079E-4B17-A05A-B502B81A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805256-CEDA-47C2-8541-9A54AEEC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23003E-CE69-4CBE-9CC9-7151C391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223F53-26B7-44E5-AF53-D0CF9355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0B2-406F-4B6B-90A4-FA969325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274CA6-2172-4D87-9751-5A780E2A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98C17D-C5C5-4478-B1E4-FCCD00BC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DBAD99-8F35-4394-AF86-50267841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F2CD6C-5354-487F-B7D8-B7150B3B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BE6E70-AD01-4202-BF80-393AEB9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B7A559-12DA-4461-9599-0A6DAA7C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BFB6D4-6CDF-4362-BC92-342675CC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262A67-7E39-4A50-962F-D05B99B9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55ABFD-0441-41E4-9618-C13A86D8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5E0B33-1CB8-42F5-9250-5DCA0D4A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D21E5F-B47C-4BE1-8558-8DC0BDE2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D0B59D-1BA9-48B5-A18B-2D2F9AC9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8AA9902-4397-4079-BCE6-36A4EDC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7A42DE-AA79-4F8C-BF19-5A915AC3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C51626-E5B3-4E71-98B1-012230F6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438A12-524D-4B57-9C93-74088E9B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C5345F-EC9F-4E2C-9151-2BFF813C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F94C17B-BFF7-42C6-844E-1F03CAAA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C815D4-43B1-4A51-8B23-A42C24E4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58D0FC-CC07-4B5D-889C-C7181133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A06F5F-4CC6-4525-AB5B-3E030B57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5F80F2-0487-457D-97D9-74C519DD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1730A0-7D9D-4622-8D99-C4B6E471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9C4674-3857-4FCD-BDE2-D525B45C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BFDFC9-3485-408F-BBDF-F3BA48FF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890C9F-B28A-4DA3-AF54-F478E180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7AC8B67-02AE-4398-AC55-C1C36395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AF4601-6845-4CC0-A400-D3B4EB2B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781FFA-C5AD-43FE-B6BD-10718F72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5142BB-3013-40FF-8854-21A6C8E5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6A8836-E34F-4C85-B2E4-F164CBF3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9C671E1-BD24-48EC-A0B0-0F3C5A7A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8F0E21-7E1D-449D-9CD3-4F8B0EFA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FE34A76-39C1-4B09-891B-9D68BC58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D546F9-3F1E-4825-B0E3-49AA2B63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5072BD4-983F-4680-AB70-4BFCDD92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49EFA03-52FA-419A-ADA2-FC4633B1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A379717-A8D7-4760-B0B6-20EBEA19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04B441D-65E5-4E07-A0F2-97FFFC15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2E62EC-0EF4-40C6-B548-F029C3B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073E0B5-688F-41CC-90CB-5EF90CE9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4195C6-543E-44FE-84FC-935AEC35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A589727-BBAC-4022-8506-0B457D3C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015920-29C9-4DA6-8877-520695B2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F6AD40C-1C6B-4FC3-A428-14BF9099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3DCC16E-B2BB-42BE-AA1A-C8226968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E07033-6575-4400-9077-1DA572A7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74F63F-5F6E-4340-9EAB-E6853A96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267823-1401-4A38-BA97-DF0B434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079D4A-FFCF-4C95-A30C-23DE9509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26E481-99AB-443C-A227-094D8AFE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B716E5-E56A-462B-9D3E-E50E5E8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6DF8C4F-9318-43A6-AA6C-E30FA3D9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80453E-4BDA-4289-A5E0-5E48474C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9B76AA-77E5-48B0-B73E-5C27F10A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FDE7B4A-9873-406A-AD4B-8F3896E1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A638D1-4194-4736-ADCB-6D2BB2E6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AAE345C-79DF-4BF6-9E06-6D3E4B50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0058B93-1F5C-4A78-9C4E-A6398E7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412CB1D-0264-46F1-BAAC-14443C04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EB62EA3-28BE-4AC1-9638-361A630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B1FBB7-B766-47A5-BC28-8F5831D9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EE24F1-1C98-47C6-B5B6-0631712C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4FB16B-244E-4B3A-9121-0406DEAB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C39907-9DD0-42FE-A9D2-BD1DE5E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539C7F0-6FFF-41C8-8C2C-8E8933DF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B58AAFF-BDFA-4E14-BDC5-4A573E5D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FC12CF4-49AE-49AF-9715-2BA30D0F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01E49C5-695F-41B5-AC82-E3312096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23EFC14-1E5E-475A-8A0D-E357014C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39D632C-2839-48FF-BE62-AC51674A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9D8E4F8-B08C-4B7A-BA46-85097A97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C3DBD7E-CC83-44BD-BB80-4B94A6CF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C8D722-7625-4E80-B2F9-DA21CF16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0B674E-5B9C-4DDE-B9FD-9DCD536F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7350D1-7D4A-48E6-A776-FE148FE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A4DA05-1A8E-47E9-95FC-3C1F621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21AB77-1ADC-4964-AFAC-EA68FC8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D3087B8-EAC3-4F2D-985B-32C31EA3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608F4DE-6F18-467F-85D7-1B3430B3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6781030-E958-4AD8-8E8B-90DDF08C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094B912-A35D-4277-8625-AFD47B34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F2C55D4-09E5-42F8-A52B-210AB3E5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5310A67-F5B0-4FED-90FE-50C4260C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FF56BE-E7F0-4F03-BD62-53CEB472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F6962BF-3E36-438F-A811-E9CFA5F9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7E935E4-E7E1-4EAF-9148-680419BD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3B244C6-5ACC-4566-B96C-4961E84E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55BD4E4-37D8-453B-BB0A-BEC63356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1720E8D-A14E-4ACA-AC56-A6B47887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3FDC-8DE4-47A4-A310-E4A40A93C296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3037180-E571-4DEA-8BA0-DBEB88D5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4EDB712-931D-4568-B4E6-FD965939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B33B23E-1B15-4D22-9F2E-492F63DB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929-50D7-40B3-BF19-D8D5D089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834E-A57D-4D13-AAE5-E8AA8AE3F7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439A-302C-47DB-AF5C-32F03F7463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178E-492B-4ABD-8840-DAC0C113D7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141C-E467-4A50-BCB1-5D5A479A0A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E7B1-0C76-4C25-AA1B-1145BA76AF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62A3-158D-483D-9E8F-BF6B28F8A4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8EF1-0EB8-463C-B546-4D02E8D816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A602-480C-4462-A55C-9F2A768CF7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E10F-D5CB-4024-B3F4-4925C2B3AF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43CC-D4D0-4073-8208-18E0C8371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53E-7F84-4119-BC4D-18AB5E47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0EEE-E10B-42A4-AD7F-C09A18A8204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CB9EF-EDAE-4648-9184-F52A7C9887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CEE60-00C2-4F64-B0E6-38E94AAE08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94EF4-2533-4742-AD6B-EA43DB4AA9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11D73-8CD2-4D0A-9F82-337651D6D1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3E809-1F6F-43FA-A26D-BF42F393D3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04E82-D24D-4CD1-82F8-01B4338C42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7AABD-8F4D-4684-A9D2-C2CFE322FD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1C886-4AF1-42C4-8F80-D94D8CB013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85007-8A00-4730-AB91-34DB9EA6F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AF4-D79E-4A9D-AA26-D73F6A32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745B2-A5FD-4744-A439-F2CADE56CF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03FAD2-1652-4F39-9DC0-A3C9A85B61E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77E5F-A991-4D0A-8F75-DADA6B3EB8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4EE-52F3-4592-8169-0569698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669544-8524-4ECB-BD03-CA84BE77CD1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45A6D2-24D4-487C-BAD5-3D69CFE9F0C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1DD0AA-E7DF-456A-AFEC-C2AA415B8EF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0016F3-F216-4004-8731-F2CA2A007FD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2A0C77-5AFB-49BB-B859-9CC9F5496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025-DDF3-4EA4-A013-8F75C83D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12DD9B-14C5-43D0-B824-65BA73DEA39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AC7B4D-8D40-4816-9747-9C0B44E8A1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C2182-55CB-4CCE-84FB-EF13D5DE1AB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0B0627-9C1E-44FB-A04F-8FEF89350DD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892099-D520-471F-8ACC-B374EBE11EE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5CF99-8EFB-4927-A83D-CD1680E9163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079333-28FF-4002-8339-3102FF65D5A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FCD98-7873-4B36-84D7-614E5538DCC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8005B-00EF-4FAE-90CD-F3B7F24271D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2205F-F73E-4B99-80E2-C3FDA1E11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0276-18E2-4F2B-B868-0B688211C0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C065-2B73-4168-A145-E9F066AC346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7FC0-5EB0-4CE9-BB79-DFE843B15C5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C3DF-E6CF-4C3B-8330-F0EA9A24464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E10E-F890-481A-ADBB-D7E546D15AD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0A77-925E-47B7-9AA3-708FBECF9CD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03E0-D5DC-497A-8B0C-44893334D5D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39D6-B575-4802-AB23-41D1D002D9B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F578-7818-42C1-885F-1C681662EF9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B019-B51A-483A-A4F5-6D1BB186EAD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89E8-0D93-4D74-8FD8-830B0608CD7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61AC-B657-4686-A452-A8B365B2D95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3BA7-5694-4C56-85D8-6BB1A9F30E1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7A6F-ADB9-4D77-9CD7-36851908556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F78D-DC00-4102-92F2-69CD41EB58D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60D4-463C-4E9C-B6E5-BF329F01B8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A566-5843-4485-866C-19186BBDDC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C708-5CC7-4A55-B774-0BBE9B8E3E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1724-2898-4A19-9358-05A864A63A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DAF3-0482-4037-B175-E6400FA784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AD16-B52A-4FD7-A946-B5422366DE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3E74-5056-4A7C-A735-469EA14A48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477B-DF41-4908-9167-A8C9795532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AAE-EF0C-4CD6-8DA5-0B8C9838A6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7D70-B817-41EB-A46C-3D27D6F806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DA7-0127-4CD9-A380-280A4639B3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90DA-D501-4D03-B583-B2CBE5FBB5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DF44-503C-45F2-BCAC-E7AC082ADC6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2DC-6B2D-48A7-8ACA-5B39E357693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74DA-89FB-4D12-BB39-19E8F1E8021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393-BA7B-4AE0-9991-6026087AF4A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Box 2"/>
          <p:cNvSpPr/>
          <p:nvPr/>
        </p:nvSpPr>
        <p:spPr>
          <a:xfrm>
            <a:off x="2080440" y="160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"/>
          <p:cNvSpPr/>
          <p:nvPr/>
        </p:nvSpPr>
        <p:spPr>
          <a:xfrm>
            <a:off x="3311640" y="2395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4"/>
          <p:cNvSpPr/>
          <p:nvPr/>
        </p:nvSpPr>
        <p:spPr>
          <a:xfrm>
            <a:off x="1071720" y="32148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7"/>
          <p:cNvSpPr/>
          <p:nvPr/>
        </p:nvSpPr>
        <p:spPr>
          <a:xfrm>
            <a:off x="1073160" y="40291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696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任意多边形 2"/>
          <p:cNvSpPr/>
          <p:nvPr/>
        </p:nvSpPr>
        <p:spPr>
          <a:xfrm>
            <a:off x="1986120" y="2943360"/>
            <a:ext cx="596880" cy="65700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"/>
          <p:cNvSpPr/>
          <p:nvPr/>
        </p:nvSpPr>
        <p:spPr>
          <a:xfrm>
            <a:off x="2583000" y="2949480"/>
            <a:ext cx="6561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</a:t>
            </a:r>
            <a:r>
              <a:rPr b="0" lang="en-US" sz="2800" spc="-1" strike="noStrike">
                <a:solidFill>
                  <a:srgbClr val="ceeab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6"/>
          <p:cNvSpPr/>
          <p:nvPr/>
        </p:nvSpPr>
        <p:spPr>
          <a:xfrm>
            <a:off x="0" y="2182680"/>
            <a:ext cx="69008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直角三角形 5"/>
          <p:cNvSpPr/>
          <p:nvPr/>
        </p:nvSpPr>
        <p:spPr>
          <a:xfrm>
            <a:off x="6900840" y="2179800"/>
            <a:ext cx="7668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kan</cp:lastModifiedBy>
  <dcterms:modified xsi:type="dcterms:W3CDTF">2015-08-23T05:17:29Z</dcterms:modified>
  <cp:revision>2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