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6E2-C0B8-4B1F-AC8F-77BD3A04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DD8-84DF-49CA-BFBF-30C0F7D5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B283D-AA60-4439-A7A7-03975A78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3F99B-DCB0-49DE-87F4-F14C9502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AEF35-1E7D-4979-B34D-BADE6BB9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F1600-6612-4E41-A239-60803B96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9E422-B305-41C8-A967-E35BE40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67F10-CD60-45DA-8BA6-DA2DEB6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5205B-365C-4B91-83A3-92A9661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3626B-3EAE-4EE2-9065-CD40AC98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E4BF2-1A15-4BAB-92E4-EEE6A961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F2572-E95A-4C6B-A5DB-26DF8627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FE0-22E6-48C8-A647-73CEFFCA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9F8E-16FC-4E26-9633-4F65A045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60CB0-55EB-4B92-A41B-BD0C3EFE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D9012-3AEE-43E3-81F1-6084B66E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48240-B1E5-41A1-A31A-C6DB31B0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A772A-E3D5-493A-B7BB-C82712FB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1B3D5-6BF9-432B-936F-EB742DC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098E0-99EE-4DF1-AB1A-BEAF6D5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0DA16-ACB5-45E4-9905-9EA2926D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D1514-2A78-48FB-B289-9AE98D1D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2F202-35DF-4768-933A-A0649E6E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A1C-9620-435F-B69C-D70FFC5F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50167-DFAA-42B4-A871-F4274FE5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D9B8A-609E-4F11-A8FB-95600F95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F3E0E-C202-435A-A9B6-84F2EE52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0E52C-1E42-4058-ACC2-8EA6EDE0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5DBDD-C697-45C4-AD79-5B43FABC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5B0E3-F6BD-46DF-BFF9-2E6B3C7D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1A891-C45A-4260-B1EC-E591411F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FDB38-8EED-460F-B34D-BCF6D469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84E1B-1AC6-4B32-B302-EC0D111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273D6-7679-4EC4-8627-845B51DE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B3AE-39D2-42CF-931D-29CA4E4B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C7F3F-DA8D-4EAC-87B4-53F6F3F2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C6843-4FAB-4B3B-A259-F2DC5040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B23CB-9E7F-494F-B169-9822B177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59D4B-756C-4106-B8BA-7A604015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E9065-7790-4DB9-B154-0DEBDAB7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42FB8-26FB-46A3-BCB2-D12E2387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B0A31-8B69-4D97-A64A-83DBE4DB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5F4BB-E110-44A7-9DD5-1E0DA986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59ED1-83C1-4705-AFCE-E93ECC87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5877B-55AE-4EEE-B976-53485165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159E-5BAE-480C-9008-482BEA2B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3376B-E871-40C2-BF26-005FFACE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56612-2A37-47AC-A6B5-8063591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3D81B-B74C-4A29-8223-21421F5C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E84ED-7FB6-4C4C-9B49-3CA19E97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76C31-6A80-4439-B53D-8613832A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A3748-6407-45F6-A6F4-BCC61481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633DF-A5A5-4E89-AE23-113F84F5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33020-75C2-4CCD-8AD2-E60A6955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F8502-297B-497A-B177-2C3CAE2D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FD53C-049C-4EA4-B699-26F7E58A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BAF2-E446-4A21-8CFC-2393F657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DA985-B8D1-44F1-B069-D79D7BC5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3A993-E016-41E8-8DAD-F2A54483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0A062-F884-477F-A07C-BBFC0C24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08643-569A-4E6E-8353-5E8E129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7A021-E309-44FF-90D7-D9ACCC32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49F6E-B13D-4CDE-8ABC-343C0082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73380-4248-42E1-B1D7-2A12E6E9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8EB84-CBA8-495F-8FD1-27158DB5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2C177-C886-4462-BB9A-6BC49A30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F970B-F26C-4ABB-8FBD-F29C60E9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3D5C-4B9C-4FFD-920F-63F39BDC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04D3E-1CDD-46C9-93A3-8066AFC1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64642-8CE1-4F8C-9D73-EE926850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2B38F-CB98-4E02-9F23-01539418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3FFB7-A31F-4FA0-AC48-0159E7BA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B33D9-A8F3-4B3A-9F66-2A9B9EA6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F5D12-7C7B-4015-A695-BC6673E6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7C9AD-2E26-48B6-9394-268F1ABC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FFDC3-55C6-473B-8841-C85C9A6F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B2610-8630-48FA-82A4-B1A6D71E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492F-5DAD-4EC6-AEB1-FDE12B4F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77CC-7D6F-43FC-8346-6476C1B3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803D-9DD2-40AD-A2E7-096314DE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61B-5021-4D07-8E6A-3D977170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6C9D-ED27-49B7-B944-DFB389C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94F8-EAA5-452A-9C19-087C1617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F26C-321F-43EF-80D8-3C3CE0BB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7BA3-24FC-4254-9471-23926934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927E-99FB-4A6B-B7C1-3684536E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63B-584C-490C-B585-D9E9069D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9A9E-FAA8-40BD-987F-FA5F7CDA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FEEC-1DA9-42AF-AB89-A6230872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2C49-D86C-44EC-AED2-2F6C6180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A1E-CD38-496F-9969-46B2D8B6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3C2E-C274-4769-9375-7F53D0BB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478D-2C57-4D34-A306-EF147335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EC7F-F876-41A3-A43A-439EE970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7A6D-CF6D-4E50-80E3-3766D69F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3434-569F-4E2C-8C9B-E1F9F01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BD0F-074C-4C1A-BFD9-55A78E4E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FBED-B81F-4CDE-9970-6BD0C080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9DB2-9162-42C9-8CE2-C865D79A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AD44-5573-4804-A4CC-2CBEE52D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30D27-53C1-4C2C-9FB4-BF03B01E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1F0-85FE-4399-BC0E-DD0ABBE4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7F9C-8D88-45FC-BD46-D0CD4477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562FF-613E-45D1-A704-B29B0FD6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5C4C-F88A-4616-853B-6046C14E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2A21-8F26-4EE6-A715-E4630887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C5B1-6004-4AF5-BF5A-9E4B6998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24AE-8191-4596-8471-568D15BC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7F8A-3D3E-4467-B6EC-C6C8BE32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BEFB0-C2B4-42C3-BD64-02C8674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58B3-EA60-4163-83FD-505709E2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05BA-4892-413D-B79E-BAC311E5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030-1EC5-45B5-BEF1-3B608C68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A3E9-9C73-4E65-9D00-A64DFB7C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8EDDC-347E-49F9-AEF0-7E7745DE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8EAF-F6F6-400D-A911-3753CBC0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891C3-05C2-4BBE-9DA4-F67B7411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89F7F-EBBE-4208-BB73-A02D0214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7BA7B-CD59-410A-82FE-A23E2AC6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BAF0F-2E1F-486E-A907-E8FEC1E9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5DF72-672C-4319-AC19-A133753D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427D-720A-4ABF-A1C0-2A04017A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49AE3-6529-4EB1-A600-F7BAF7D3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4E4-3A77-4B57-9CCA-777081A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BDFE-7D26-4889-9B5E-40C49A3B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407D-2CE3-4BA9-A41D-1075F6AA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EA51-97E2-4754-91D1-0CEFBAF4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90BF-50B5-479F-BBAF-E325DD46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23334-F385-44A4-B133-3002864B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3477A-12C6-4E9B-A692-CED72AA6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FF332-5250-4D32-BFAA-B636E6AC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0657-4E63-46AA-B926-A6E23B91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B4B05-4171-4181-8679-8777205A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79A4A-8392-4F58-837E-2FF1D6C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C4B-3970-4EF6-B83E-2022B604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6F888-6532-4DBE-B9AE-62CBECE0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B90F2-F7A4-47FD-BC07-10705308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188BD-AFAF-4951-9FF5-EADB6292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946C6-2F59-4925-85B1-92E0C243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CFDF-464C-46C1-9CC8-25983426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0F938-5B38-4112-B461-535A3B17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B016B-1828-4A63-8E11-242EA3D8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0DD98-D6A1-4FAF-AA10-6F87C887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6DD67-E17E-4E66-B575-E10246CF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D36D-36F8-4826-8CAA-DB827FC0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9A8-FE58-42CE-9CF5-97C2903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0FCD4-3F3F-4974-AB38-D3F4498B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570A5-054F-492A-BB11-D8EBF8FB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B5E00-2EAA-4793-9AAB-DA0D2FE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0F84E-3861-449A-9A7F-6D56951A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83111-8AA6-4D8A-96C9-07D4EF00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D91BB-75BF-4560-BB08-E4CA4CEE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1CE19-E4ED-468F-8634-6B41AE2F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6BE34-E723-4133-94E4-5CF92954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416F3-C508-42A0-A755-ACE5DE6D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5D430-DBEB-4C84-BBCB-102B15E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68FC-A12A-4C87-90C1-E855E1160D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50C-1858-482D-8CAE-9A7CB76326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8912-56D2-4208-8BC4-9A4B6C9762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97E1-6E48-4FDE-BE33-EC472506DD6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F57-80C7-4007-8383-0BCA3DF294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4EF8-657E-4C07-B8A7-AD889F7D69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BBA-DC02-4A46-930D-023C1AAD46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0C67-AF50-467D-AEA1-7010ED6D51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A7F6-0190-4183-9BBC-E904D83196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D20F-AB26-456B-8D38-31B993BE39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A9D8-5625-47E9-B24A-62D04ABFB3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8A7-1FE2-441C-B571-B4F411864D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238F-B6A9-4D92-B908-3755695F70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6340320"/>
            <a:ext cx="12192120" cy="51768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595959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0" y="6392880"/>
            <a:ext cx="12192120" cy="46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B504-64F6-4DD6-8F96-F1DE43EA37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A872-99D0-4FFF-999D-F083530E4B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FEF-D0E8-4866-A36C-C3970EC0178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DFC3-66B2-4974-95BE-7CA1C078CA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FEC-A841-42FD-844B-038E33A2B8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F8C5-B6CD-48CA-B9AC-C2C3A14C44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53AC-D739-48BC-B5AB-15B2CE9693F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3E2-6438-4843-8EF8-945669CD41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72F7-2F93-45EA-9F09-A144FD2743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CDBA-E649-4F11-BD5F-737CB72174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D3E4-3C99-45A2-97C9-9C2FFDD845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0C96-C7B3-4266-A4C0-965841740E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236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矩形 5"/>
          <p:cNvGrpSpPr/>
          <p:nvPr/>
        </p:nvGrpSpPr>
        <p:grpSpPr>
          <a:xfrm>
            <a:off x="-152280" y="4780080"/>
            <a:ext cx="12515760" cy="461880"/>
            <a:chOff x="-152280" y="4780080"/>
            <a:chExt cx="12515760" cy="461880"/>
          </a:xfrm>
        </p:grpSpPr>
        <p:pic>
          <p:nvPicPr>
            <p:cNvPr id="577" name="矩形 5" descr=""/>
            <p:cNvPicPr/>
            <p:nvPr/>
          </p:nvPicPr>
          <p:blipFill>
            <a:blip r:embed="rId3"/>
            <a:stretch/>
          </p:blipFill>
          <p:spPr>
            <a:xfrm>
              <a:off x="-152280" y="4780080"/>
              <a:ext cx="125157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6"/>
            <p:cNvSpPr/>
            <p:nvPr/>
          </p:nvSpPr>
          <p:spPr>
            <a:xfrm>
              <a:off x="-25200" y="4905360"/>
              <a:ext cx="122616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Picture 4" descr=""/>
          <p:cNvPicPr/>
          <p:nvPr/>
        </p:nvPicPr>
        <p:blipFill>
          <a:blip r:embed="rId4"/>
          <a:stretch/>
        </p:blipFill>
        <p:spPr>
          <a:xfrm>
            <a:off x="-25560" y="5065560"/>
            <a:ext cx="12261960" cy="179244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580" name="图片 7" descr=""/>
          <p:cNvPicPr/>
          <p:nvPr/>
        </p:nvPicPr>
        <p:blipFill>
          <a:blip r:embed="rId5"/>
          <a:srcRect l="21035" t="16039" r="21917" b="41463"/>
          <a:stretch/>
        </p:blipFill>
        <p:spPr>
          <a:xfrm>
            <a:off x="5024520" y="779400"/>
            <a:ext cx="6837120" cy="33480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8" descr=""/>
          <p:cNvPicPr/>
          <p:nvPr/>
        </p:nvPicPr>
        <p:blipFill>
          <a:blip r:embed="rId6"/>
          <a:stretch/>
        </p:blipFill>
        <p:spPr>
          <a:xfrm>
            <a:off x="895320" y="1133640"/>
            <a:ext cx="4114800" cy="7765920"/>
          </a:xfrm>
          <a:prstGeom prst="rect">
            <a:avLst/>
          </a:prstGeom>
          <a:ln w="0">
            <a:noFill/>
          </a:ln>
        </p:spPr>
      </p:pic>
      <p:pic>
        <p:nvPicPr>
          <p:cNvPr id="582" name="文本框 10" descr=""/>
          <p:cNvPicPr/>
          <p:nvPr/>
        </p:nvPicPr>
        <p:blipFill>
          <a:blip r:embed="rId7"/>
          <a:stretch/>
        </p:blipFill>
        <p:spPr>
          <a:xfrm>
            <a:off x="5502240" y="2779560"/>
            <a:ext cx="5797440" cy="19209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1"/>
          <p:cNvSpPr/>
          <p:nvPr/>
        </p:nvSpPr>
        <p:spPr>
          <a:xfrm>
            <a:off x="6610320" y="4021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秀作品请在小小精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平行四边形 5"/>
          <p:cNvSpPr/>
          <p:nvPr/>
        </p:nvSpPr>
        <p:spPr>
          <a:xfrm>
            <a:off x="1515960" y="1982880"/>
            <a:ext cx="9104400" cy="2881080"/>
          </a:xfrm>
          <a:prstGeom prst="parallelogram">
            <a:avLst>
              <a:gd name="adj" fmla="val -8714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6"/>
          <p:cNvSpPr/>
          <p:nvPr/>
        </p:nvSpPr>
        <p:spPr>
          <a:xfrm>
            <a:off x="4797360" y="3038400"/>
            <a:ext cx="519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7"/>
          <p:cNvSpPr/>
          <p:nvPr/>
        </p:nvSpPr>
        <p:spPr>
          <a:xfrm>
            <a:off x="4797360" y="2319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8"/>
          <p:cNvSpPr/>
          <p:nvPr/>
        </p:nvSpPr>
        <p:spPr>
          <a:xfrm>
            <a:off x="4797360" y="266076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子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9"/>
          <p:cNvSpPr/>
          <p:nvPr/>
        </p:nvSpPr>
        <p:spPr>
          <a:xfrm>
            <a:off x="5005440" y="4183200"/>
            <a:ext cx="4888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椭圆 14"/>
          <p:cNvSpPr/>
          <p:nvPr/>
        </p:nvSpPr>
        <p:spPr>
          <a:xfrm>
            <a:off x="7578720" y="4181400"/>
            <a:ext cx="490680" cy="49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"/>
          <p:cNvSpPr/>
          <p:nvPr/>
        </p:nvSpPr>
        <p:spPr>
          <a:xfrm>
            <a:off x="5494320" y="4137120"/>
            <a:ext cx="16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"/>
          <p:cNvSpPr/>
          <p:nvPr/>
        </p:nvSpPr>
        <p:spPr>
          <a:xfrm>
            <a:off x="8177040" y="4137120"/>
            <a:ext cx="160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图片 17" descr=""/>
          <p:cNvPicPr/>
          <p:nvPr/>
        </p:nvPicPr>
        <p:blipFill>
          <a:blip r:embed="rId1"/>
          <a:stretch/>
        </p:blipFill>
        <p:spPr>
          <a:xfrm>
            <a:off x="1792440" y="2316240"/>
            <a:ext cx="27921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 rot="1788000">
            <a:off x="3671640" y="2327040"/>
            <a:ext cx="5216400" cy="4495680"/>
          </a:xfrm>
          <a:custGeom>
            <a:avLst/>
            <a:gdLst/>
            <a:ahLst/>
            <a:rect l="l" t="t" r="r" b="b"/>
            <a:pathLst>
              <a:path w="5215319" h="4495963">
                <a:moveTo>
                  <a:pt x="1259814" y="0"/>
                </a:moveTo>
                <a:lnTo>
                  <a:pt x="3955505" y="0"/>
                </a:lnTo>
                <a:lnTo>
                  <a:pt x="5215319" y="2247982"/>
                </a:lnTo>
                <a:lnTo>
                  <a:pt x="4732595" y="3109343"/>
                </a:lnTo>
                <a:lnTo>
                  <a:pt x="2311512" y="4495963"/>
                </a:lnTo>
                <a:lnTo>
                  <a:pt x="1259814" y="4495963"/>
                </a:lnTo>
                <a:lnTo>
                  <a:pt x="0" y="2247982"/>
                </a:lnTo>
                <a:lnTo>
                  <a:pt x="1259814" y="0"/>
                </a:ln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六边形 24"/>
          <p:cNvSpPr/>
          <p:nvPr/>
        </p:nvSpPr>
        <p:spPr>
          <a:xfrm rot="1788000">
            <a:off x="4565160" y="217296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六边形 25"/>
          <p:cNvSpPr/>
          <p:nvPr/>
        </p:nvSpPr>
        <p:spPr>
          <a:xfrm rot="1788000">
            <a:off x="8029080" y="409860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六边形 26"/>
          <p:cNvSpPr/>
          <p:nvPr/>
        </p:nvSpPr>
        <p:spPr>
          <a:xfrm rot="1788000">
            <a:off x="6854760" y="2172960"/>
            <a:ext cx="1106640" cy="952560"/>
          </a:xfrm>
          <a:prstGeom prst="hexagon">
            <a:avLst>
              <a:gd name="adj" fmla="val 28065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六边形 27"/>
          <p:cNvSpPr/>
          <p:nvPr/>
        </p:nvSpPr>
        <p:spPr>
          <a:xfrm rot="1788000">
            <a:off x="3436560" y="4098960"/>
            <a:ext cx="1104840" cy="952560"/>
          </a:xfrm>
          <a:prstGeom prst="hexagon">
            <a:avLst>
              <a:gd name="adj" fmla="val 28019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图片 28" descr=""/>
          <p:cNvPicPr/>
          <p:nvPr/>
        </p:nvPicPr>
        <p:blipFill>
          <a:blip r:embed="rId1"/>
          <a:stretch/>
        </p:blipFill>
        <p:spPr>
          <a:xfrm>
            <a:off x="3684600" y="43480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29" descr=""/>
          <p:cNvPicPr/>
          <p:nvPr/>
        </p:nvPicPr>
        <p:blipFill>
          <a:blip r:embed="rId2"/>
          <a:stretch/>
        </p:blipFill>
        <p:spPr>
          <a:xfrm>
            <a:off x="8348760" y="43876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30" descr=""/>
          <p:cNvPicPr/>
          <p:nvPr/>
        </p:nvPicPr>
        <p:blipFill>
          <a:blip r:embed="rId3"/>
          <a:stretch/>
        </p:blipFill>
        <p:spPr>
          <a:xfrm>
            <a:off x="7137360" y="234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31" descr=""/>
          <p:cNvPicPr/>
          <p:nvPr/>
        </p:nvPicPr>
        <p:blipFill>
          <a:blip r:embed="rId4"/>
          <a:stretch/>
        </p:blipFill>
        <p:spPr>
          <a:xfrm>
            <a:off x="4813200" y="2330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78"/>
          <p:cNvSpPr/>
          <p:nvPr/>
        </p:nvSpPr>
        <p:spPr>
          <a:xfrm>
            <a:off x="5021280" y="409428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流程图: 可选过程 33"/>
          <p:cNvSpPr/>
          <p:nvPr/>
        </p:nvSpPr>
        <p:spPr>
          <a:xfrm>
            <a:off x="5021280" y="3683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流程图: 可选过程 34"/>
          <p:cNvSpPr/>
          <p:nvPr/>
        </p:nvSpPr>
        <p:spPr>
          <a:xfrm>
            <a:off x="8024760" y="2324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流程图: 可选过程 35"/>
          <p:cNvSpPr/>
          <p:nvPr/>
        </p:nvSpPr>
        <p:spPr>
          <a:xfrm>
            <a:off x="9102600" y="434808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流程图: 可选过程 36"/>
          <p:cNvSpPr/>
          <p:nvPr/>
        </p:nvSpPr>
        <p:spPr>
          <a:xfrm>
            <a:off x="2454120" y="2444760"/>
            <a:ext cx="208152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流程图: 可选过程 37"/>
          <p:cNvSpPr/>
          <p:nvPr/>
        </p:nvSpPr>
        <p:spPr>
          <a:xfrm>
            <a:off x="1413000" y="437040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十字星 5"/>
          <p:cNvSpPr/>
          <p:nvPr/>
        </p:nvSpPr>
        <p:spPr>
          <a:xfrm>
            <a:off x="4362480" y="2000160"/>
            <a:ext cx="3465360" cy="3465720"/>
          </a:xfrm>
          <a:custGeom>
            <a:avLst/>
            <a:gdLst>
              <a:gd name="textAreaLeft" fmla="*/ 1192320 w 3465360"/>
              <a:gd name="textAreaRight" fmla="*/ 2273040 w 3465360"/>
              <a:gd name="textAreaTop" fmla="*/ 1192320 h 3465720"/>
              <a:gd name="textAreaBottom" fmla="*/ 2273400 h 346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431" y="7431"/>
                </a:lnTo>
                <a:lnTo>
                  <a:pt x="10800" y="0"/>
                </a:lnTo>
                <a:lnTo>
                  <a:pt x="14169" y="7431"/>
                </a:lnTo>
                <a:lnTo>
                  <a:pt x="21600" y="10800"/>
                </a:lnTo>
                <a:lnTo>
                  <a:pt x="14169" y="14169"/>
                </a:lnTo>
                <a:lnTo>
                  <a:pt x="10800" y="21600"/>
                </a:lnTo>
                <a:lnTo>
                  <a:pt x="7431" y="14169"/>
                </a:lnTo>
                <a:lnTo>
                  <a:pt x="0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6"/>
          <p:cNvSpPr/>
          <p:nvPr/>
        </p:nvSpPr>
        <p:spPr>
          <a:xfrm>
            <a:off x="5508720" y="1414440"/>
            <a:ext cx="1173240" cy="117144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7"/>
          <p:cNvSpPr/>
          <p:nvPr/>
        </p:nvSpPr>
        <p:spPr>
          <a:xfrm>
            <a:off x="7335720" y="3146400"/>
            <a:ext cx="117180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8"/>
          <p:cNvSpPr/>
          <p:nvPr/>
        </p:nvSpPr>
        <p:spPr>
          <a:xfrm>
            <a:off x="3683160" y="3146400"/>
            <a:ext cx="117144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9"/>
          <p:cNvSpPr/>
          <p:nvPr/>
        </p:nvSpPr>
        <p:spPr>
          <a:xfrm>
            <a:off x="5537160" y="4767120"/>
            <a:ext cx="1171440" cy="117180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椭圆 14"/>
          <p:cNvSpPr/>
          <p:nvPr/>
        </p:nvSpPr>
        <p:spPr>
          <a:xfrm>
            <a:off x="5483160" y="3083040"/>
            <a:ext cx="1173240" cy="1171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77"/>
          <p:cNvSpPr/>
          <p:nvPr/>
        </p:nvSpPr>
        <p:spPr>
          <a:xfrm>
            <a:off x="7070760" y="133020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77"/>
          <p:cNvSpPr/>
          <p:nvPr/>
        </p:nvSpPr>
        <p:spPr>
          <a:xfrm>
            <a:off x="8640720" y="33591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77"/>
          <p:cNvSpPr/>
          <p:nvPr/>
        </p:nvSpPr>
        <p:spPr>
          <a:xfrm>
            <a:off x="3124080" y="50385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77"/>
          <p:cNvSpPr/>
          <p:nvPr/>
        </p:nvSpPr>
        <p:spPr>
          <a:xfrm>
            <a:off x="1289160" y="331488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5"/>
          <p:cNvSpPr/>
          <p:nvPr/>
        </p:nvSpPr>
        <p:spPr>
          <a:xfrm>
            <a:off x="1827360" y="1438200"/>
            <a:ext cx="8424720" cy="4381560"/>
          </a:xfrm>
          <a:prstGeom prst="rect">
            <a:avLst/>
          </a:prstGeom>
          <a:solidFill>
            <a:srgbClr val="e80000"/>
          </a:solidFill>
          <a:ln w="1260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6" descr=""/>
          <p:cNvPicPr/>
          <p:nvPr/>
        </p:nvPicPr>
        <p:blipFill>
          <a:blip r:embed="rId1"/>
          <a:stretch/>
        </p:blipFill>
        <p:spPr>
          <a:xfrm>
            <a:off x="1816200" y="1414440"/>
            <a:ext cx="3024000" cy="44067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" descr=""/>
          <p:cNvPicPr/>
          <p:nvPr/>
        </p:nvPicPr>
        <p:blipFill>
          <a:blip r:embed="rId2"/>
          <a:stretch/>
        </p:blipFill>
        <p:spPr>
          <a:xfrm>
            <a:off x="7229520" y="1438200"/>
            <a:ext cx="3036960" cy="4395960"/>
          </a:xfrm>
          <a:prstGeom prst="rect">
            <a:avLst/>
          </a:prstGeom>
          <a:ln w="0">
            <a:noFill/>
          </a:ln>
        </p:spPr>
      </p:pic>
      <p:sp>
        <p:nvSpPr>
          <p:cNvPr id="835" name="文本框 13"/>
          <p:cNvSpPr/>
          <p:nvPr/>
        </p:nvSpPr>
        <p:spPr>
          <a:xfrm>
            <a:off x="4641840" y="2119320"/>
            <a:ext cx="2843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1"/>
          <p:cNvSpPr/>
          <p:nvPr/>
        </p:nvSpPr>
        <p:spPr>
          <a:xfrm flipH="1">
            <a:off x="1312200" y="1682640"/>
            <a:ext cx="240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1433520" y="255888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1"/>
          <p:cNvSpPr/>
          <p:nvPr/>
        </p:nvSpPr>
        <p:spPr>
          <a:xfrm flipH="1">
            <a:off x="1305000" y="3060720"/>
            <a:ext cx="251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直接连接符 8"/>
          <p:cNvSpPr/>
          <p:nvPr/>
        </p:nvSpPr>
        <p:spPr>
          <a:xfrm>
            <a:off x="1433520" y="389880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1"/>
          <p:cNvSpPr/>
          <p:nvPr/>
        </p:nvSpPr>
        <p:spPr>
          <a:xfrm flipH="1">
            <a:off x="1304280" y="4524480"/>
            <a:ext cx="25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14"/>
          <p:cNvSpPr/>
          <p:nvPr/>
        </p:nvSpPr>
        <p:spPr>
          <a:xfrm>
            <a:off x="1433520" y="5337000"/>
            <a:ext cx="445464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1"/>
          <p:cNvSpPr/>
          <p:nvPr/>
        </p:nvSpPr>
        <p:spPr>
          <a:xfrm flipH="1">
            <a:off x="8445600" y="1781280"/>
            <a:ext cx="22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16"/>
          <p:cNvSpPr/>
          <p:nvPr/>
        </p:nvSpPr>
        <p:spPr>
          <a:xfrm>
            <a:off x="7591320" y="2558880"/>
            <a:ext cx="3067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0"/>
          <p:cNvSpPr/>
          <p:nvPr/>
        </p:nvSpPr>
        <p:spPr>
          <a:xfrm flipH="1">
            <a:off x="8440560" y="402120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直接连接符 18"/>
          <p:cNvSpPr/>
          <p:nvPr/>
        </p:nvSpPr>
        <p:spPr>
          <a:xfrm>
            <a:off x="7122960" y="4822920"/>
            <a:ext cx="353556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0" name="组合 19"/>
          <p:cNvGrpSpPr/>
          <p:nvPr/>
        </p:nvGrpSpPr>
        <p:grpSpPr>
          <a:xfrm>
            <a:off x="2384280" y="1373040"/>
            <a:ext cx="6816960" cy="4797720"/>
            <a:chOff x="2384280" y="1373040"/>
            <a:chExt cx="6816960" cy="4797720"/>
          </a:xfrm>
        </p:grpSpPr>
        <p:grpSp>
          <p:nvGrpSpPr>
            <p:cNvPr id="851" name="椭圆 10"/>
            <p:cNvGrpSpPr/>
            <p:nvPr/>
          </p:nvGrpSpPr>
          <p:grpSpPr>
            <a:xfrm>
              <a:off x="2384280" y="3205080"/>
              <a:ext cx="6816960" cy="1184760"/>
              <a:chOff x="2384280" y="3205080"/>
              <a:chExt cx="6816960" cy="1184760"/>
            </a:xfrm>
          </p:grpSpPr>
          <p:pic>
            <p:nvPicPr>
              <p:cNvPr id="852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84280" y="3205080"/>
                <a:ext cx="6816960" cy="11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Text Box 19"/>
              <p:cNvSpPr/>
              <p:nvPr/>
            </p:nvSpPr>
            <p:spPr>
              <a:xfrm>
                <a:off x="3459240" y="3426480"/>
                <a:ext cx="459468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4" name="组合 21" descr=""/>
            <p:cNvPicPr/>
            <p:nvPr/>
          </p:nvPicPr>
          <p:blipFill>
            <a:blip r:embed="rId2"/>
            <a:stretch/>
          </p:blipFill>
          <p:spPr>
            <a:xfrm>
              <a:off x="3871800" y="1373040"/>
              <a:ext cx="3853080" cy="479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5"/>
          <p:cNvSpPr/>
          <p:nvPr/>
        </p:nvSpPr>
        <p:spPr>
          <a:xfrm>
            <a:off x="4524480" y="2009880"/>
            <a:ext cx="67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6"/>
          <p:cNvSpPr/>
          <p:nvPr/>
        </p:nvSpPr>
        <p:spPr>
          <a:xfrm>
            <a:off x="4524480" y="129708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7"/>
          <p:cNvSpPr/>
          <p:nvPr/>
        </p:nvSpPr>
        <p:spPr>
          <a:xfrm>
            <a:off x="4524480" y="16416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8"/>
          <p:cNvSpPr/>
          <p:nvPr/>
        </p:nvSpPr>
        <p:spPr>
          <a:xfrm>
            <a:off x="4923000" y="3362400"/>
            <a:ext cx="216360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9"/>
          <p:cNvSpPr/>
          <p:nvPr/>
        </p:nvSpPr>
        <p:spPr>
          <a:xfrm>
            <a:off x="8694720" y="3362400"/>
            <a:ext cx="216396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35"/>
          <p:cNvSpPr/>
          <p:nvPr/>
        </p:nvSpPr>
        <p:spPr>
          <a:xfrm>
            <a:off x="4819680" y="399744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35"/>
          <p:cNvSpPr/>
          <p:nvPr/>
        </p:nvSpPr>
        <p:spPr>
          <a:xfrm>
            <a:off x="8591400" y="399420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图片 16" descr=""/>
          <p:cNvPicPr/>
          <p:nvPr/>
        </p:nvPicPr>
        <p:blipFill>
          <a:blip r:embed="rId1"/>
          <a:stretch/>
        </p:blipFill>
        <p:spPr>
          <a:xfrm>
            <a:off x="785880" y="1641600"/>
            <a:ext cx="3560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六边形 5"/>
          <p:cNvSpPr/>
          <p:nvPr/>
        </p:nvSpPr>
        <p:spPr>
          <a:xfrm>
            <a:off x="4691160" y="184788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六边形 6"/>
          <p:cNvSpPr/>
          <p:nvPr/>
        </p:nvSpPr>
        <p:spPr>
          <a:xfrm>
            <a:off x="6116760" y="271152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六边形 7"/>
          <p:cNvSpPr/>
          <p:nvPr/>
        </p:nvSpPr>
        <p:spPr>
          <a:xfrm>
            <a:off x="4691160" y="351000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8"/>
          <p:cNvSpPr/>
          <p:nvPr/>
        </p:nvSpPr>
        <p:spPr>
          <a:xfrm>
            <a:off x="7120080" y="151920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9"/>
          <p:cNvSpPr/>
          <p:nvPr/>
        </p:nvSpPr>
        <p:spPr>
          <a:xfrm>
            <a:off x="6431040" y="437364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14"/>
          <p:cNvSpPr/>
          <p:nvPr/>
        </p:nvSpPr>
        <p:spPr>
          <a:xfrm>
            <a:off x="658800" y="2944800"/>
            <a:ext cx="432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图片 15" descr=""/>
          <p:cNvPicPr/>
          <p:nvPr/>
        </p:nvPicPr>
        <p:blipFill>
          <a:blip r:embed="rId1"/>
          <a:stretch/>
        </p:blipFill>
        <p:spPr>
          <a:xfrm>
            <a:off x="5186520" y="21891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6" descr=""/>
          <p:cNvPicPr/>
          <p:nvPr/>
        </p:nvPicPr>
        <p:blipFill>
          <a:blip r:embed="rId2"/>
          <a:stretch/>
        </p:blipFill>
        <p:spPr>
          <a:xfrm>
            <a:off x="6608880" y="30700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17" descr=""/>
          <p:cNvPicPr/>
          <p:nvPr/>
        </p:nvPicPr>
        <p:blipFill>
          <a:blip r:embed="rId3"/>
          <a:stretch/>
        </p:blipFill>
        <p:spPr>
          <a:xfrm>
            <a:off x="5183280" y="3884760"/>
            <a:ext cx="75564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14"/>
          <p:cNvGrpSpPr/>
          <p:nvPr/>
        </p:nvGrpSpPr>
        <p:grpSpPr>
          <a:xfrm>
            <a:off x="1041480" y="1247760"/>
            <a:ext cx="4270320" cy="4645080"/>
            <a:chOff x="1041480" y="1247760"/>
            <a:chExt cx="4270320" cy="4645080"/>
          </a:xfrm>
        </p:grpSpPr>
        <p:sp>
          <p:nvSpPr>
            <p:cNvPr id="602" name="流程图: 联系 15"/>
            <p:cNvSpPr/>
            <p:nvPr/>
          </p:nvSpPr>
          <p:spPr>
            <a:xfrm>
              <a:off x="2674080" y="12477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流程图: 联系 16"/>
            <p:cNvSpPr/>
            <p:nvPr/>
          </p:nvSpPr>
          <p:spPr>
            <a:xfrm>
              <a:off x="4306680" y="225324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流程图: 联系 17"/>
            <p:cNvSpPr/>
            <p:nvPr/>
          </p:nvSpPr>
          <p:spPr>
            <a:xfrm>
              <a:off x="4306680" y="388188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流程图: 联系 18"/>
            <p:cNvSpPr/>
            <p:nvPr/>
          </p:nvSpPr>
          <p:spPr>
            <a:xfrm>
              <a:off x="1193760" y="38775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流程图: 联系 19"/>
            <p:cNvSpPr/>
            <p:nvPr/>
          </p:nvSpPr>
          <p:spPr>
            <a:xfrm>
              <a:off x="2607840" y="488736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流程图: 联系 20"/>
            <p:cNvSpPr/>
            <p:nvPr/>
          </p:nvSpPr>
          <p:spPr>
            <a:xfrm>
              <a:off x="1041480" y="2253240"/>
              <a:ext cx="1005120" cy="1005480"/>
            </a:xfrm>
            <a:prstGeom prst="flowChartConnector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1"/>
            <p:cNvSpPr/>
            <p:nvPr/>
          </p:nvSpPr>
          <p:spPr>
            <a:xfrm>
              <a:off x="2046600" y="2755800"/>
              <a:ext cx="2259720" cy="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22"/>
            <p:cNvSpPr/>
            <p:nvPr/>
          </p:nvSpPr>
          <p:spPr>
            <a:xfrm>
              <a:off x="3531960" y="2106000"/>
              <a:ext cx="1276920" cy="177588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直接连接符 23"/>
            <p:cNvSpPr/>
            <p:nvPr/>
          </p:nvSpPr>
          <p:spPr>
            <a:xfrm>
              <a:off x="1899360" y="3111480"/>
              <a:ext cx="85572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直接连接符 24"/>
            <p:cNvSpPr/>
            <p:nvPr/>
          </p:nvSpPr>
          <p:spPr>
            <a:xfrm>
              <a:off x="2199240" y="4380480"/>
              <a:ext cx="2107440" cy="39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直接连接符 25"/>
            <p:cNvSpPr/>
            <p:nvPr/>
          </p:nvSpPr>
          <p:spPr>
            <a:xfrm flipV="1">
              <a:off x="1696680" y="2105640"/>
              <a:ext cx="1124640" cy="17715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26"/>
            <p:cNvSpPr/>
            <p:nvPr/>
          </p:nvSpPr>
          <p:spPr>
            <a:xfrm flipH="1">
              <a:off x="3465720" y="3111480"/>
              <a:ext cx="98748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流程图: 联系 27"/>
            <p:cNvSpPr/>
            <p:nvPr/>
          </p:nvSpPr>
          <p:spPr>
            <a:xfrm>
              <a:off x="2693520" y="2945520"/>
              <a:ext cx="1005120" cy="1005480"/>
            </a:xfrm>
            <a:prstGeom prst="flowChartConnector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28"/>
          <p:cNvSpPr/>
          <p:nvPr/>
        </p:nvSpPr>
        <p:spPr>
          <a:xfrm>
            <a:off x="2830680" y="15987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29"/>
          <p:cNvSpPr/>
          <p:nvPr/>
        </p:nvSpPr>
        <p:spPr>
          <a:xfrm>
            <a:off x="1235160" y="256068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0"/>
          <p:cNvSpPr/>
          <p:nvPr/>
        </p:nvSpPr>
        <p:spPr>
          <a:xfrm>
            <a:off x="1308240" y="41799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1"/>
          <p:cNvSpPr/>
          <p:nvPr/>
        </p:nvSpPr>
        <p:spPr>
          <a:xfrm>
            <a:off x="2774880" y="526248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32"/>
          <p:cNvSpPr/>
          <p:nvPr/>
        </p:nvSpPr>
        <p:spPr>
          <a:xfrm>
            <a:off x="4511520" y="421956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3"/>
          <p:cNvSpPr/>
          <p:nvPr/>
        </p:nvSpPr>
        <p:spPr>
          <a:xfrm>
            <a:off x="4470480" y="258588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34"/>
          <p:cNvSpPr/>
          <p:nvPr/>
        </p:nvSpPr>
        <p:spPr>
          <a:xfrm>
            <a:off x="2851200" y="32972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接连接符 35"/>
          <p:cNvSpPr/>
          <p:nvPr/>
        </p:nvSpPr>
        <p:spPr>
          <a:xfrm flipH="1">
            <a:off x="5779800" y="1247760"/>
            <a:ext cx="3240" cy="464508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78"/>
          <p:cNvSpPr/>
          <p:nvPr/>
        </p:nvSpPr>
        <p:spPr>
          <a:xfrm>
            <a:off x="6330960" y="2816280"/>
            <a:ext cx="529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7"/>
          <p:cNvSpPr/>
          <p:nvPr/>
        </p:nvSpPr>
        <p:spPr>
          <a:xfrm>
            <a:off x="6318360" y="23637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5"/>
          <p:cNvSpPr/>
          <p:nvPr/>
        </p:nvSpPr>
        <p:spPr>
          <a:xfrm>
            <a:off x="6937200" y="3971880"/>
            <a:ext cx="513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692"/>
          <p:cNvSpPr/>
          <p:nvPr/>
        </p:nvSpPr>
        <p:spPr>
          <a:xfrm>
            <a:off x="7286760" y="352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图片 7" descr=""/>
          <p:cNvPicPr/>
          <p:nvPr/>
        </p:nvPicPr>
        <p:blipFill>
          <a:blip r:embed="rId1"/>
          <a:stretch/>
        </p:blipFill>
        <p:spPr>
          <a:xfrm>
            <a:off x="10399680" y="2919240"/>
            <a:ext cx="839880" cy="8398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8" descr=""/>
          <p:cNvPicPr/>
          <p:nvPr/>
        </p:nvPicPr>
        <p:blipFill>
          <a:blip r:embed="rId2"/>
          <a:stretch/>
        </p:blipFill>
        <p:spPr>
          <a:xfrm>
            <a:off x="11356920" y="2701800"/>
            <a:ext cx="500040" cy="498600"/>
          </a:xfrm>
          <a:prstGeom prst="rect">
            <a:avLst/>
          </a:prstGeom>
          <a:ln w="0">
            <a:noFill/>
          </a:ln>
        </p:spPr>
      </p:pic>
      <p:sp>
        <p:nvSpPr>
          <p:cNvPr id="633" name="文本框 9"/>
          <p:cNvSpPr/>
          <p:nvPr/>
        </p:nvSpPr>
        <p:spPr>
          <a:xfrm>
            <a:off x="6934320" y="296064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图、中国地图中的每个国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省份均可自由编辑换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组合 14" descr=""/>
          <p:cNvPicPr/>
          <p:nvPr/>
        </p:nvPicPr>
        <p:blipFill>
          <a:blip r:embed="rId3"/>
          <a:stretch/>
        </p:blipFill>
        <p:spPr>
          <a:xfrm>
            <a:off x="146160" y="1011240"/>
            <a:ext cx="67910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6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7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11"/>
          <p:cNvSpPr/>
          <p:nvPr/>
        </p:nvSpPr>
        <p:spPr>
          <a:xfrm flipH="1">
            <a:off x="4757040" y="1906560"/>
            <a:ext cx="2833560" cy="4129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接连接符 12"/>
          <p:cNvSpPr/>
          <p:nvPr/>
        </p:nvSpPr>
        <p:spPr>
          <a:xfrm flipH="1">
            <a:off x="6173280" y="1327320"/>
            <a:ext cx="3240" cy="1374480"/>
          </a:xfrm>
          <a:prstGeom prst="line">
            <a:avLst/>
          </a:prstGeom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右中括号 13"/>
          <p:cNvSpPr/>
          <p:nvPr/>
        </p:nvSpPr>
        <p:spPr>
          <a:xfrm rot="16200000">
            <a:off x="6015600" y="-264240"/>
            <a:ext cx="317520" cy="6249960"/>
          </a:xfrm>
          <a:custGeom>
            <a:avLst/>
            <a:gdLst>
              <a:gd name="textAreaLeft" fmla="*/ 0 w 317520"/>
              <a:gd name="textAreaRight" fmla="*/ 222840 w 317520"/>
              <a:gd name="textAreaTop" fmla="*/ 12960 h 6249960"/>
              <a:gd name="textAreaBottom" fmla="*/ 6237000 h 62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6"/>
                  <a:pt x="21600" y="92"/>
                </a:cubicBezTo>
                <a:lnTo>
                  <a:pt x="21600" y="21508"/>
                </a:lnTo>
                <a:cubicBezTo>
                  <a:pt x="21600" y="21554"/>
                  <a:pt x="10800" y="21600"/>
                  <a:pt x="0" y="21600"/>
                </a:cubicBezTo>
              </a:path>
            </a:pathLst>
          </a:custGeom>
          <a:noFill/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14"/>
          <p:cNvSpPr/>
          <p:nvPr/>
        </p:nvSpPr>
        <p:spPr>
          <a:xfrm flipH="1">
            <a:off x="4757040" y="1111320"/>
            <a:ext cx="2833560" cy="4125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3" name="组合 15"/>
          <p:cNvGrpSpPr/>
          <p:nvPr/>
        </p:nvGrpSpPr>
        <p:grpSpPr>
          <a:xfrm>
            <a:off x="2101680" y="3019320"/>
            <a:ext cx="1895760" cy="2921040"/>
            <a:chOff x="2101680" y="3019320"/>
            <a:chExt cx="1895760" cy="2921040"/>
          </a:xfrm>
        </p:grpSpPr>
        <p:sp>
          <p:nvSpPr>
            <p:cNvPr id="644" name="流程图: 过程 16"/>
            <p:cNvSpPr/>
            <p:nvPr/>
          </p:nvSpPr>
          <p:spPr>
            <a:xfrm>
              <a:off x="2101680" y="3019320"/>
              <a:ext cx="189576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流程图: 过程 17"/>
            <p:cNvSpPr/>
            <p:nvPr/>
          </p:nvSpPr>
          <p:spPr>
            <a:xfrm>
              <a:off x="2101680" y="3019320"/>
              <a:ext cx="188028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18"/>
          <p:cNvGrpSpPr/>
          <p:nvPr/>
        </p:nvGrpSpPr>
        <p:grpSpPr>
          <a:xfrm>
            <a:off x="4176720" y="3019320"/>
            <a:ext cx="1895400" cy="2921040"/>
            <a:chOff x="4176720" y="3019320"/>
            <a:chExt cx="1895400" cy="2921040"/>
          </a:xfrm>
        </p:grpSpPr>
        <p:sp>
          <p:nvSpPr>
            <p:cNvPr id="647" name="流程图: 过程 19"/>
            <p:cNvSpPr/>
            <p:nvPr/>
          </p:nvSpPr>
          <p:spPr>
            <a:xfrm>
              <a:off x="417672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流程图: 过程 20"/>
            <p:cNvSpPr/>
            <p:nvPr/>
          </p:nvSpPr>
          <p:spPr>
            <a:xfrm>
              <a:off x="417672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组合 21"/>
          <p:cNvGrpSpPr/>
          <p:nvPr/>
        </p:nvGrpSpPr>
        <p:grpSpPr>
          <a:xfrm>
            <a:off x="6222960" y="3019320"/>
            <a:ext cx="1895400" cy="2921040"/>
            <a:chOff x="6222960" y="3019320"/>
            <a:chExt cx="1895400" cy="2921040"/>
          </a:xfrm>
        </p:grpSpPr>
        <p:sp>
          <p:nvSpPr>
            <p:cNvPr id="650" name="流程图: 过程 22"/>
            <p:cNvSpPr/>
            <p:nvPr/>
          </p:nvSpPr>
          <p:spPr>
            <a:xfrm>
              <a:off x="622296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流程图: 过程 23"/>
            <p:cNvSpPr/>
            <p:nvPr/>
          </p:nvSpPr>
          <p:spPr>
            <a:xfrm>
              <a:off x="622296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组合 24"/>
          <p:cNvGrpSpPr/>
          <p:nvPr/>
        </p:nvGrpSpPr>
        <p:grpSpPr>
          <a:xfrm>
            <a:off x="8288280" y="3019320"/>
            <a:ext cx="1895400" cy="2921040"/>
            <a:chOff x="8288280" y="3019320"/>
            <a:chExt cx="1895400" cy="2921040"/>
          </a:xfrm>
        </p:grpSpPr>
        <p:sp>
          <p:nvSpPr>
            <p:cNvPr id="653" name="流程图: 过程 25"/>
            <p:cNvSpPr/>
            <p:nvPr/>
          </p:nvSpPr>
          <p:spPr>
            <a:xfrm>
              <a:off x="828828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流程图: 过程 26"/>
            <p:cNvSpPr/>
            <p:nvPr/>
          </p:nvSpPr>
          <p:spPr>
            <a:xfrm>
              <a:off x="828828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文本框 27"/>
          <p:cNvSpPr/>
          <p:nvPr/>
        </p:nvSpPr>
        <p:spPr>
          <a:xfrm>
            <a:off x="5268960" y="111132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28"/>
          <p:cNvSpPr/>
          <p:nvPr/>
        </p:nvSpPr>
        <p:spPr>
          <a:xfrm>
            <a:off x="5268960" y="190656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9"/>
          <p:cNvSpPr/>
          <p:nvPr/>
        </p:nvSpPr>
        <p:spPr>
          <a:xfrm>
            <a:off x="2411280" y="302904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0"/>
          <p:cNvSpPr/>
          <p:nvPr/>
        </p:nvSpPr>
        <p:spPr>
          <a:xfrm>
            <a:off x="4546440" y="302904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1"/>
          <p:cNvSpPr/>
          <p:nvPr/>
        </p:nvSpPr>
        <p:spPr>
          <a:xfrm>
            <a:off x="6532560" y="303696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32"/>
          <p:cNvSpPr/>
          <p:nvPr/>
        </p:nvSpPr>
        <p:spPr>
          <a:xfrm>
            <a:off x="8669160" y="304956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2155680" y="3851280"/>
            <a:ext cx="182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424656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0"/>
          <p:cNvSpPr/>
          <p:nvPr/>
        </p:nvSpPr>
        <p:spPr>
          <a:xfrm>
            <a:off x="629280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0"/>
          <p:cNvSpPr/>
          <p:nvPr/>
        </p:nvSpPr>
        <p:spPr>
          <a:xfrm>
            <a:off x="838692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5" descr=""/>
          <p:cNvPicPr/>
          <p:nvPr/>
        </p:nvPicPr>
        <p:blipFill>
          <a:blip r:embed="rId1"/>
          <a:stretch/>
        </p:blipFill>
        <p:spPr>
          <a:xfrm>
            <a:off x="2054160" y="271296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70" name="文本框 16"/>
          <p:cNvSpPr/>
          <p:nvPr/>
        </p:nvSpPr>
        <p:spPr>
          <a:xfrm>
            <a:off x="2533680" y="351648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7"/>
          <p:cNvSpPr/>
          <p:nvPr/>
        </p:nvSpPr>
        <p:spPr>
          <a:xfrm>
            <a:off x="3994200" y="2817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8"/>
          <p:cNvSpPr/>
          <p:nvPr/>
        </p:nvSpPr>
        <p:spPr>
          <a:xfrm>
            <a:off x="5265720" y="3524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19"/>
          <p:cNvSpPr/>
          <p:nvPr/>
        </p:nvSpPr>
        <p:spPr>
          <a:xfrm>
            <a:off x="6491160" y="28353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20"/>
          <p:cNvSpPr/>
          <p:nvPr/>
        </p:nvSpPr>
        <p:spPr>
          <a:xfrm>
            <a:off x="7785000" y="36655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1"/>
          <p:cNvSpPr/>
          <p:nvPr/>
        </p:nvSpPr>
        <p:spPr>
          <a:xfrm>
            <a:off x="9123480" y="2835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222732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0"/>
          <p:cNvSpPr/>
          <p:nvPr/>
        </p:nvSpPr>
        <p:spPr>
          <a:xfrm>
            <a:off x="3419640" y="109872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4611600" y="443556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720576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0"/>
          <p:cNvSpPr/>
          <p:nvPr/>
        </p:nvSpPr>
        <p:spPr>
          <a:xfrm>
            <a:off x="5891040" y="114444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10"/>
          <p:cNvSpPr/>
          <p:nvPr/>
        </p:nvSpPr>
        <p:spPr>
          <a:xfrm>
            <a:off x="8459640" y="1093680"/>
            <a:ext cx="1697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空心弧 5"/>
          <p:cNvSpPr/>
          <p:nvPr/>
        </p:nvSpPr>
        <p:spPr>
          <a:xfrm rot="10800000">
            <a:off x="1318680" y="1819440"/>
            <a:ext cx="160668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空心弧 6"/>
          <p:cNvSpPr/>
          <p:nvPr/>
        </p:nvSpPr>
        <p:spPr>
          <a:xfrm rot="10451400">
            <a:off x="4016160" y="1819440"/>
            <a:ext cx="160632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空心弧 7"/>
          <p:cNvSpPr/>
          <p:nvPr/>
        </p:nvSpPr>
        <p:spPr>
          <a:xfrm rot="3078000">
            <a:off x="6362280" y="181908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空心弧 8"/>
          <p:cNvSpPr/>
          <p:nvPr/>
        </p:nvSpPr>
        <p:spPr>
          <a:xfrm rot="10800000">
            <a:off x="9212400" y="17427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9"/>
          <p:cNvSpPr/>
          <p:nvPr/>
        </p:nvSpPr>
        <p:spPr>
          <a:xfrm>
            <a:off x="172872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14"/>
          <p:cNvSpPr/>
          <p:nvPr/>
        </p:nvSpPr>
        <p:spPr>
          <a:xfrm>
            <a:off x="456084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15"/>
          <p:cNvSpPr/>
          <p:nvPr/>
        </p:nvSpPr>
        <p:spPr>
          <a:xfrm>
            <a:off x="6773760" y="2314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6"/>
          <p:cNvSpPr/>
          <p:nvPr/>
        </p:nvSpPr>
        <p:spPr>
          <a:xfrm>
            <a:off x="972648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组合 17"/>
          <p:cNvGrpSpPr/>
          <p:nvPr/>
        </p:nvGrpSpPr>
        <p:grpSpPr>
          <a:xfrm>
            <a:off x="3502080" y="1468440"/>
            <a:ext cx="115920" cy="4095720"/>
            <a:chOff x="3502080" y="1468440"/>
            <a:chExt cx="115920" cy="4095720"/>
          </a:xfrm>
        </p:grpSpPr>
        <p:sp>
          <p:nvSpPr>
            <p:cNvPr id="695" name="椭圆 18"/>
            <p:cNvSpPr/>
            <p:nvPr/>
          </p:nvSpPr>
          <p:spPr>
            <a:xfrm>
              <a:off x="35020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直接连接符 19"/>
            <p:cNvSpPr/>
            <p:nvPr/>
          </p:nvSpPr>
          <p:spPr>
            <a:xfrm>
              <a:off x="35535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椭圆 20"/>
            <p:cNvSpPr/>
            <p:nvPr/>
          </p:nvSpPr>
          <p:spPr>
            <a:xfrm>
              <a:off x="35146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21"/>
          <p:cNvGrpSpPr/>
          <p:nvPr/>
        </p:nvGrpSpPr>
        <p:grpSpPr>
          <a:xfrm>
            <a:off x="6167520" y="1468440"/>
            <a:ext cx="115920" cy="4095720"/>
            <a:chOff x="6167520" y="1468440"/>
            <a:chExt cx="115920" cy="4095720"/>
          </a:xfrm>
        </p:grpSpPr>
        <p:sp>
          <p:nvSpPr>
            <p:cNvPr id="699" name="椭圆 22"/>
            <p:cNvSpPr/>
            <p:nvPr/>
          </p:nvSpPr>
          <p:spPr>
            <a:xfrm>
              <a:off x="616752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直接连接符 23"/>
            <p:cNvSpPr/>
            <p:nvPr/>
          </p:nvSpPr>
          <p:spPr>
            <a:xfrm>
              <a:off x="621900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椭圆 24"/>
            <p:cNvSpPr/>
            <p:nvPr/>
          </p:nvSpPr>
          <p:spPr>
            <a:xfrm>
              <a:off x="618012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25"/>
          <p:cNvGrpSpPr/>
          <p:nvPr/>
        </p:nvGrpSpPr>
        <p:grpSpPr>
          <a:xfrm>
            <a:off x="8693280" y="1468440"/>
            <a:ext cx="115920" cy="4095720"/>
            <a:chOff x="8693280" y="1468440"/>
            <a:chExt cx="115920" cy="4095720"/>
          </a:xfrm>
        </p:grpSpPr>
        <p:sp>
          <p:nvSpPr>
            <p:cNvPr id="703" name="椭圆 26"/>
            <p:cNvSpPr/>
            <p:nvPr/>
          </p:nvSpPr>
          <p:spPr>
            <a:xfrm>
              <a:off x="86932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直接连接符 27"/>
            <p:cNvSpPr/>
            <p:nvPr/>
          </p:nvSpPr>
          <p:spPr>
            <a:xfrm>
              <a:off x="87447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87058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29"/>
          <p:cNvGrpSpPr/>
          <p:nvPr/>
        </p:nvGrpSpPr>
        <p:grpSpPr>
          <a:xfrm>
            <a:off x="1266840" y="3349800"/>
            <a:ext cx="1452600" cy="825120"/>
            <a:chOff x="1266840" y="3349800"/>
            <a:chExt cx="1452600" cy="825120"/>
          </a:xfrm>
        </p:grpSpPr>
        <p:grpSp>
          <p:nvGrpSpPr>
            <p:cNvPr id="707" name="组合 30"/>
            <p:cNvGrpSpPr/>
            <p:nvPr/>
          </p:nvGrpSpPr>
          <p:grpSpPr>
            <a:xfrm>
              <a:off x="1266840" y="3349800"/>
              <a:ext cx="641160" cy="825120"/>
              <a:chOff x="1266840" y="3349800"/>
              <a:chExt cx="641160" cy="825120"/>
            </a:xfrm>
          </p:grpSpPr>
          <p:sp>
            <p:nvSpPr>
              <p:cNvPr id="708" name="文本框 32"/>
              <p:cNvSpPr/>
              <p:nvPr/>
            </p:nvSpPr>
            <p:spPr>
              <a:xfrm>
                <a:off x="12668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b0f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直接连接符 33"/>
              <p:cNvSpPr/>
              <p:nvPr/>
            </p:nvSpPr>
            <p:spPr>
              <a:xfrm>
                <a:off x="1471320" y="3620160"/>
                <a:ext cx="0" cy="37944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31"/>
            <p:cNvSpPr/>
            <p:nvPr/>
          </p:nvSpPr>
          <p:spPr>
            <a:xfrm>
              <a:off x="15364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f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TextBox 10"/>
          <p:cNvSpPr/>
          <p:nvPr/>
        </p:nvSpPr>
        <p:spPr>
          <a:xfrm>
            <a:off x="11826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35"/>
          <p:cNvSpPr/>
          <p:nvPr/>
        </p:nvSpPr>
        <p:spPr>
          <a:xfrm>
            <a:off x="11746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36"/>
          <p:cNvGrpSpPr/>
          <p:nvPr/>
        </p:nvGrpSpPr>
        <p:grpSpPr>
          <a:xfrm>
            <a:off x="4060800" y="3422520"/>
            <a:ext cx="1451160" cy="825120"/>
            <a:chOff x="4060800" y="3422520"/>
            <a:chExt cx="1451160" cy="825120"/>
          </a:xfrm>
        </p:grpSpPr>
        <p:grpSp>
          <p:nvGrpSpPr>
            <p:cNvPr id="714" name="组合 37"/>
            <p:cNvGrpSpPr/>
            <p:nvPr/>
          </p:nvGrpSpPr>
          <p:grpSpPr>
            <a:xfrm>
              <a:off x="4060800" y="3422520"/>
              <a:ext cx="640440" cy="825120"/>
              <a:chOff x="4060800" y="3422520"/>
              <a:chExt cx="640440" cy="825120"/>
            </a:xfrm>
          </p:grpSpPr>
          <p:sp>
            <p:nvSpPr>
              <p:cNvPr id="715" name="文本框 39"/>
              <p:cNvSpPr/>
              <p:nvPr/>
            </p:nvSpPr>
            <p:spPr>
              <a:xfrm>
                <a:off x="4060800" y="342252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 40"/>
              <p:cNvSpPr/>
              <p:nvPr/>
            </p:nvSpPr>
            <p:spPr>
              <a:xfrm>
                <a:off x="4264920" y="3692880"/>
                <a:ext cx="0" cy="37980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7" name="文本框 38"/>
            <p:cNvSpPr/>
            <p:nvPr/>
          </p:nvSpPr>
          <p:spPr>
            <a:xfrm>
              <a:off x="4330080" y="36802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TextBox 10"/>
          <p:cNvSpPr/>
          <p:nvPr/>
        </p:nvSpPr>
        <p:spPr>
          <a:xfrm>
            <a:off x="3975120" y="45640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2"/>
          <p:cNvSpPr/>
          <p:nvPr/>
        </p:nvSpPr>
        <p:spPr>
          <a:xfrm>
            <a:off x="3968640" y="41497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组合 43"/>
          <p:cNvGrpSpPr/>
          <p:nvPr/>
        </p:nvGrpSpPr>
        <p:grpSpPr>
          <a:xfrm>
            <a:off x="6686640" y="3349800"/>
            <a:ext cx="1452600" cy="825120"/>
            <a:chOff x="6686640" y="3349800"/>
            <a:chExt cx="1452600" cy="825120"/>
          </a:xfrm>
        </p:grpSpPr>
        <p:grpSp>
          <p:nvGrpSpPr>
            <p:cNvPr id="721" name="组合 44"/>
            <p:cNvGrpSpPr/>
            <p:nvPr/>
          </p:nvGrpSpPr>
          <p:grpSpPr>
            <a:xfrm>
              <a:off x="6686640" y="3349800"/>
              <a:ext cx="641160" cy="825120"/>
              <a:chOff x="6686640" y="3349800"/>
              <a:chExt cx="641160" cy="825120"/>
            </a:xfrm>
          </p:grpSpPr>
          <p:sp>
            <p:nvSpPr>
              <p:cNvPr id="722" name="文本框 46"/>
              <p:cNvSpPr/>
              <p:nvPr/>
            </p:nvSpPr>
            <p:spPr>
              <a:xfrm>
                <a:off x="66866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0b83e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接连接符 47"/>
              <p:cNvSpPr/>
              <p:nvPr/>
            </p:nvSpPr>
            <p:spPr>
              <a:xfrm>
                <a:off x="6891120" y="3620160"/>
                <a:ext cx="0" cy="379440"/>
              </a:xfrm>
              <a:prstGeom prst="line">
                <a:avLst/>
              </a:prstGeom>
              <a:ln w="28440">
                <a:solidFill>
                  <a:srgbClr val="90b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文本框 45"/>
            <p:cNvSpPr/>
            <p:nvPr/>
          </p:nvSpPr>
          <p:spPr>
            <a:xfrm>
              <a:off x="69562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0b83e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TextBox 10"/>
          <p:cNvSpPr/>
          <p:nvPr/>
        </p:nvSpPr>
        <p:spPr>
          <a:xfrm>
            <a:off x="66024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49"/>
          <p:cNvSpPr/>
          <p:nvPr/>
        </p:nvSpPr>
        <p:spPr>
          <a:xfrm>
            <a:off x="65944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组合 50"/>
          <p:cNvGrpSpPr/>
          <p:nvPr/>
        </p:nvGrpSpPr>
        <p:grpSpPr>
          <a:xfrm>
            <a:off x="9255240" y="3349800"/>
            <a:ext cx="1450800" cy="825120"/>
            <a:chOff x="9255240" y="3349800"/>
            <a:chExt cx="1450800" cy="825120"/>
          </a:xfrm>
        </p:grpSpPr>
        <p:grpSp>
          <p:nvGrpSpPr>
            <p:cNvPr id="728" name="组合 51"/>
            <p:cNvGrpSpPr/>
            <p:nvPr/>
          </p:nvGrpSpPr>
          <p:grpSpPr>
            <a:xfrm>
              <a:off x="9255240" y="3349800"/>
              <a:ext cx="640440" cy="825120"/>
              <a:chOff x="9255240" y="3349800"/>
              <a:chExt cx="640440" cy="825120"/>
            </a:xfrm>
          </p:grpSpPr>
          <p:sp>
            <p:nvSpPr>
              <p:cNvPr id="729" name="文本框 53"/>
              <p:cNvSpPr/>
              <p:nvPr/>
            </p:nvSpPr>
            <p:spPr>
              <a:xfrm>
                <a:off x="9255240" y="33498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直接连接符 54"/>
              <p:cNvSpPr/>
              <p:nvPr/>
            </p:nvSpPr>
            <p:spPr>
              <a:xfrm>
                <a:off x="9459360" y="3620160"/>
                <a:ext cx="0" cy="37944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1" name="文本框 52"/>
            <p:cNvSpPr/>
            <p:nvPr/>
          </p:nvSpPr>
          <p:spPr>
            <a:xfrm>
              <a:off x="9524520" y="360756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2" name="TextBox 10"/>
          <p:cNvSpPr/>
          <p:nvPr/>
        </p:nvSpPr>
        <p:spPr>
          <a:xfrm>
            <a:off x="916956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6"/>
          <p:cNvSpPr/>
          <p:nvPr/>
        </p:nvSpPr>
        <p:spPr>
          <a:xfrm>
            <a:off x="9163080" y="407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8" name="组合 5"/>
          <p:cNvGrpSpPr/>
          <p:nvPr/>
        </p:nvGrpSpPr>
        <p:grpSpPr>
          <a:xfrm>
            <a:off x="2714760" y="1633680"/>
            <a:ext cx="1952640" cy="2300040"/>
            <a:chOff x="2714760" y="1633680"/>
            <a:chExt cx="1952640" cy="2300040"/>
          </a:xfrm>
        </p:grpSpPr>
        <p:sp>
          <p:nvSpPr>
            <p:cNvPr id="739" name="任意多边形 6"/>
            <p:cNvSpPr/>
            <p:nvPr/>
          </p:nvSpPr>
          <p:spPr>
            <a:xfrm>
              <a:off x="2714760" y="1633680"/>
              <a:ext cx="195264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文本框 7"/>
            <p:cNvSpPr/>
            <p:nvPr/>
          </p:nvSpPr>
          <p:spPr>
            <a:xfrm>
              <a:off x="3139560" y="1957320"/>
              <a:ext cx="110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TextBox 10"/>
            <p:cNvSpPr/>
            <p:nvPr/>
          </p:nvSpPr>
          <p:spPr>
            <a:xfrm>
              <a:off x="3020040" y="2404800"/>
              <a:ext cx="1341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组合 9"/>
          <p:cNvGrpSpPr/>
          <p:nvPr/>
        </p:nvGrpSpPr>
        <p:grpSpPr>
          <a:xfrm>
            <a:off x="7297560" y="1633680"/>
            <a:ext cx="1965600" cy="2300040"/>
            <a:chOff x="7297560" y="1633680"/>
            <a:chExt cx="1965600" cy="2300040"/>
          </a:xfrm>
        </p:grpSpPr>
        <p:sp>
          <p:nvSpPr>
            <p:cNvPr id="743" name="任意多边形 14"/>
            <p:cNvSpPr/>
            <p:nvPr/>
          </p:nvSpPr>
          <p:spPr>
            <a:xfrm flipH="1">
              <a:off x="7297560" y="1633680"/>
              <a:ext cx="196560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文本框 15"/>
            <p:cNvSpPr/>
            <p:nvPr/>
          </p:nvSpPr>
          <p:spPr>
            <a:xfrm>
              <a:off x="7878960" y="1957320"/>
              <a:ext cx="110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Box 10"/>
            <p:cNvSpPr/>
            <p:nvPr/>
          </p:nvSpPr>
          <p:spPr>
            <a:xfrm>
              <a:off x="7759440" y="2404800"/>
              <a:ext cx="1342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TextBox 10"/>
          <p:cNvSpPr/>
          <p:nvPr/>
        </p:nvSpPr>
        <p:spPr>
          <a:xfrm>
            <a:off x="4721400" y="2498760"/>
            <a:ext cx="2806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8"/>
          <p:cNvSpPr/>
          <p:nvPr/>
        </p:nvSpPr>
        <p:spPr>
          <a:xfrm>
            <a:off x="4743360" y="212868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2714760" y="4676760"/>
            <a:ext cx="690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20"/>
          <p:cNvSpPr/>
          <p:nvPr/>
        </p:nvSpPr>
        <p:spPr>
          <a:xfrm>
            <a:off x="2714760" y="4257720"/>
            <a:ext cx="16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5"/>
          <p:cNvGrpSpPr/>
          <p:nvPr/>
        </p:nvGrpSpPr>
        <p:grpSpPr>
          <a:xfrm>
            <a:off x="3044880" y="1434960"/>
            <a:ext cx="5554440" cy="695520"/>
            <a:chOff x="3044880" y="1434960"/>
            <a:chExt cx="5554440" cy="695520"/>
          </a:xfrm>
        </p:grpSpPr>
        <p:sp>
          <p:nvSpPr>
            <p:cNvPr id="755" name="矩形 6"/>
            <p:cNvSpPr/>
            <p:nvPr/>
          </p:nvSpPr>
          <p:spPr>
            <a:xfrm>
              <a:off x="3420360" y="1434960"/>
              <a:ext cx="4803480" cy="69552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矩形 7"/>
            <p:cNvSpPr/>
            <p:nvPr/>
          </p:nvSpPr>
          <p:spPr>
            <a:xfrm>
              <a:off x="3044880" y="1434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904160" y="1434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9"/>
          <p:cNvGrpSpPr/>
          <p:nvPr/>
        </p:nvGrpSpPr>
        <p:grpSpPr>
          <a:xfrm>
            <a:off x="3044880" y="2577960"/>
            <a:ext cx="5554440" cy="695520"/>
            <a:chOff x="3044880" y="2577960"/>
            <a:chExt cx="5554440" cy="695520"/>
          </a:xfrm>
        </p:grpSpPr>
        <p:sp>
          <p:nvSpPr>
            <p:cNvPr id="759" name="矩形 14"/>
            <p:cNvSpPr/>
            <p:nvPr/>
          </p:nvSpPr>
          <p:spPr>
            <a:xfrm>
              <a:off x="3420360" y="2577960"/>
              <a:ext cx="4803480" cy="69552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矩形 15"/>
            <p:cNvSpPr/>
            <p:nvPr/>
          </p:nvSpPr>
          <p:spPr>
            <a:xfrm>
              <a:off x="3044880" y="2577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椭圆 16"/>
            <p:cNvSpPr/>
            <p:nvPr/>
          </p:nvSpPr>
          <p:spPr>
            <a:xfrm>
              <a:off x="7904160" y="2577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17"/>
          <p:cNvGrpSpPr/>
          <p:nvPr/>
        </p:nvGrpSpPr>
        <p:grpSpPr>
          <a:xfrm>
            <a:off x="3044880" y="3722760"/>
            <a:ext cx="5554440" cy="695160"/>
            <a:chOff x="3044880" y="3722760"/>
            <a:chExt cx="5554440" cy="695160"/>
          </a:xfrm>
        </p:grpSpPr>
        <p:sp>
          <p:nvSpPr>
            <p:cNvPr id="763" name="矩形 18"/>
            <p:cNvSpPr/>
            <p:nvPr/>
          </p:nvSpPr>
          <p:spPr>
            <a:xfrm>
              <a:off x="3420360" y="3722760"/>
              <a:ext cx="4803480" cy="69516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矩形 19"/>
            <p:cNvSpPr/>
            <p:nvPr/>
          </p:nvSpPr>
          <p:spPr>
            <a:xfrm>
              <a:off x="3044880" y="3722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椭圆 20"/>
            <p:cNvSpPr/>
            <p:nvPr/>
          </p:nvSpPr>
          <p:spPr>
            <a:xfrm>
              <a:off x="7904160" y="3722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1"/>
          <p:cNvGrpSpPr/>
          <p:nvPr/>
        </p:nvGrpSpPr>
        <p:grpSpPr>
          <a:xfrm>
            <a:off x="3044880" y="4865760"/>
            <a:ext cx="5554440" cy="695160"/>
            <a:chOff x="3044880" y="4865760"/>
            <a:chExt cx="5554440" cy="695160"/>
          </a:xfrm>
        </p:grpSpPr>
        <p:sp>
          <p:nvSpPr>
            <p:cNvPr id="767" name="矩形 22"/>
            <p:cNvSpPr/>
            <p:nvPr/>
          </p:nvSpPr>
          <p:spPr>
            <a:xfrm>
              <a:off x="3420360" y="4865760"/>
              <a:ext cx="4803480" cy="6951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矩形 23"/>
            <p:cNvSpPr/>
            <p:nvPr/>
          </p:nvSpPr>
          <p:spPr>
            <a:xfrm>
              <a:off x="3044880" y="4865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椭圆 24"/>
            <p:cNvSpPr/>
            <p:nvPr/>
          </p:nvSpPr>
          <p:spPr>
            <a:xfrm>
              <a:off x="7904160" y="4865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0" name="图片 25" descr=""/>
          <p:cNvPicPr/>
          <p:nvPr/>
        </p:nvPicPr>
        <p:blipFill>
          <a:blip r:embed="rId1"/>
          <a:stretch/>
        </p:blipFill>
        <p:spPr>
          <a:xfrm>
            <a:off x="8026560" y="496728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6" descr=""/>
          <p:cNvPicPr/>
          <p:nvPr/>
        </p:nvPicPr>
        <p:blipFill>
          <a:blip r:embed="rId2"/>
          <a:stretch/>
        </p:blipFill>
        <p:spPr>
          <a:xfrm>
            <a:off x="8018640" y="3822840"/>
            <a:ext cx="492120" cy="49356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7" descr=""/>
          <p:cNvPicPr/>
          <p:nvPr/>
        </p:nvPicPr>
        <p:blipFill>
          <a:blip r:embed="rId3"/>
          <a:stretch/>
        </p:blipFill>
        <p:spPr>
          <a:xfrm>
            <a:off x="8026560" y="267984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28" descr=""/>
          <p:cNvPicPr/>
          <p:nvPr/>
        </p:nvPicPr>
        <p:blipFill>
          <a:blip r:embed="rId4"/>
          <a:stretch/>
        </p:blipFill>
        <p:spPr>
          <a:xfrm>
            <a:off x="8018640" y="1536840"/>
            <a:ext cx="492120" cy="49212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29"/>
          <p:cNvSpPr/>
          <p:nvPr/>
        </p:nvSpPr>
        <p:spPr>
          <a:xfrm>
            <a:off x="4038480" y="1415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4038480" y="1717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1"/>
          <p:cNvSpPr/>
          <p:nvPr/>
        </p:nvSpPr>
        <p:spPr>
          <a:xfrm>
            <a:off x="4038480" y="2558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4038480" y="2860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3"/>
          <p:cNvSpPr/>
          <p:nvPr/>
        </p:nvSpPr>
        <p:spPr>
          <a:xfrm>
            <a:off x="4033800" y="370368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0"/>
          <p:cNvSpPr/>
          <p:nvPr/>
        </p:nvSpPr>
        <p:spPr>
          <a:xfrm>
            <a:off x="4033800" y="40053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35"/>
          <p:cNvSpPr/>
          <p:nvPr/>
        </p:nvSpPr>
        <p:spPr>
          <a:xfrm>
            <a:off x="4033800" y="485316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0"/>
          <p:cNvSpPr/>
          <p:nvPr/>
        </p:nvSpPr>
        <p:spPr>
          <a:xfrm>
            <a:off x="4033800" y="515448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14:21:38Z</dcterms:created>
  <dc:creator>deeplm</dc:creator>
  <dc:description/>
  <cp:keywords/>
  <dc:language>en-US</dc:language>
  <cp:lastModifiedBy>administrator</cp:lastModifiedBy>
  <dcterms:modified xsi:type="dcterms:W3CDTF">2015-10-18T15:25:0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