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EAB3D-CB31-4DC9-B893-CA96848C9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EC434-D620-4469-9E3E-70679E1A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D6C7-5AC8-4ED5-847D-416507E38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2ABF9-1C40-4927-8417-02CB5B0E2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8EE13-296B-4BF5-A0E2-2B6723F0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577C-0D85-449A-938B-7A6521A17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E8E3-B5F2-45CF-8114-72B8D77FA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87AF9-1783-4375-BD1B-AB21660F6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E663A-95A0-48EF-9502-9BCCEE32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CECD-224C-421F-A58C-455BE7AB6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2D16-EC8C-43A4-9633-99D15FCC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4C8E-B53B-4515-B989-415AC19D4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17C5-6073-4C14-87F9-0B9541CEB56A}" type="datetime">
              <a:rPr b="0" lang="zh-CN" sz="1200" spc="-1" strike="noStrike">
                <a:solidFill>
                  <a:srgbClr val="ffffff"/>
                </a:solidFill>
                <a:latin typeface="Arial"/>
              </a:rPr>
              <a:t>26/7/31</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8F03-6727-4FF1-97F8-0E2633C919B6}"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940EDB52-C05D-48AE-B7DD-95AD2DDFB0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7871E6D5-3498-4D5B-8BC5-E30D4754E8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C587D751-917E-48CD-B46D-D5CDEFD5C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9FFE9921-2A32-4E8A-8A06-7F6E26367B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7C4274DA-731F-4C57-9FD3-85807189F6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