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D73-8863-4649-A51B-DB8E9877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E4E-B9AE-4F60-9DA8-7E6F176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D34-167B-41FC-8197-7616B793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0B5-48EC-48FA-9B1C-7608DF56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D2D-C081-4DF2-8D61-A0FD38C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ECE-246D-4EC8-944A-BD6B1047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0AE7-A7E3-4797-BF23-F60CD66D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3A9F-BC20-47FD-81E3-D69497C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CA2-6657-4453-AD2C-96B21B0B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470-8937-43D7-A7D1-2BD534CF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F481-F8C9-4B3B-B671-C02EC62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CCFF-A3F7-4A32-AF65-6A50186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BE6-E174-443B-80E9-520C01DF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FFD3-B4BA-4FB7-A9F2-FBF2AF5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E194-0026-4D91-9D6D-53D7588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0B3-33EF-48C0-B493-FDB2583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B901-D9F3-4B42-9F69-1EF28DB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6ED-A79D-4EBA-96C2-2781A6ED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C4B-C3C5-4439-9D10-C8D57F8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A5F-4A3B-43F6-819E-AC9FB09F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96C-6256-4BC1-9616-C8F2909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8E2-0093-44AD-8A06-AA9FDBC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DAD-8E68-499B-832A-AB3D189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681-BDE0-4595-B410-E9AC43D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6BD8-464C-43A0-8724-FC73B786DC95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09E2-3AD6-4837-9466-BF7504DF9A13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2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/>
  <dcterms:modified xsi:type="dcterms:W3CDTF">2014-07-19T07:15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_TemplateID">
    <vt:lpwstr>TC030310279991</vt:lpwstr>
  </property>
</Properties>
</file>