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F7E-0824-4550-8365-EFCE79F0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C4C-B5E8-4CEF-A1E6-C111143D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FE8-3D56-4909-9D84-3E8958F1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C58-2CA9-4231-BF2D-5FF97987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16A-DCB9-46CF-9D11-1487E5BC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4DD-E1B2-4724-86AC-D6EA1117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D00-05CE-4561-8687-8C82F3A7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2D0-49AE-4AB7-9626-2C243103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F0A-3450-42FF-BE76-8793A57B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D6B-0203-4394-A108-C4D9A1EB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16C-FDBF-44F9-9F5F-342B2437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83A-0DB1-454D-8B61-7FFCAC58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B477-5ADA-449F-8017-15B1B1F8B4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3908.WAV" TargetMode="External"/><Relationship Id="rId3" Type="http://schemas.microsoft.com/office/2007/relationships/media" Target="file:///tmp/home/.config/libreoffice/4/user/gallery/~PP390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audio" Target="file:///tmp/home/.config/libreoffice/4/user/gallery/~PP1343.WAV" TargetMode="External"/><Relationship Id="rId17" Type="http://schemas.microsoft.com/office/2007/relationships/media" Target="file:///tmp/home/.config/libreoffice/4/user/gallery/~PP1343.WAV" TargetMode="External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486400" y="46483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爸 爸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2952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I LOVE YOU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46840"/>
            <a:chOff x="0" y="0"/>
            <a:chExt cx="9144000" cy="684684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2680" y="5322960"/>
              <a:ext cx="1752840" cy="838080"/>
            </a:xfrm>
            <a:prstGeom prst="wedgeEllipseCallout">
              <a:avLst>
                <a:gd name="adj1" fmla="val -55615"/>
                <a:gd name="adj2" fmla="val -5549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我也要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503440"/>
              <a:ext cx="1447920" cy="685800"/>
            </a:xfrm>
            <a:prstGeom prst="wedgeEllipseCallout">
              <a:avLst>
                <a:gd name="adj1" fmla="val 30263"/>
                <a:gd name="adj2" fmla="val 77314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好好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4038480" y="35053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祝爸爸父亲节快乐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3716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3716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304920"/>
            <a:ext cx="6400800" cy="6095880"/>
            <a:chOff x="1371600" y="304920"/>
            <a:chExt cx="6400800" cy="6095880"/>
          </a:xfrm>
        </p:grpSpPr>
        <p:grpSp>
          <p:nvGrpSpPr>
            <p:cNvPr id="78" name=""/>
            <p:cNvGrpSpPr/>
            <p:nvPr/>
          </p:nvGrpSpPr>
          <p:grpSpPr>
            <a:xfrm>
              <a:off x="1371600" y="304920"/>
              <a:ext cx="6400800" cy="6095880"/>
              <a:chOff x="1371600" y="304920"/>
              <a:chExt cx="6400800" cy="6095880"/>
            </a:xfrm>
          </p:grpSpPr>
          <p:sp>
            <p:nvSpPr>
              <p:cNvPr id="79" name=""/>
              <p:cNvSpPr/>
              <p:nvPr/>
            </p:nvSpPr>
            <p:spPr>
              <a:xfrm>
                <a:off x="1371600" y="304920"/>
                <a:ext cx="6400800" cy="6095880"/>
              </a:xfrm>
              <a:custGeom>
                <a:avLst/>
                <a:gdLst/>
                <a:ahLst/>
                <a:rect l="l" t="t" r="r" b="b"/>
                <a:pathLst>
                  <a:path w="4032" h="3840">
                    <a:moveTo>
                      <a:pt x="2016" y="672"/>
                    </a:moveTo>
                    <a:lnTo>
                      <a:pt x="0" y="0"/>
                    </a:lnTo>
                    <a:lnTo>
                      <a:pt x="0" y="3120"/>
                    </a:lnTo>
                    <a:lnTo>
                      <a:pt x="0" y="3168"/>
                    </a:lnTo>
                    <a:lnTo>
                      <a:pt x="2016" y="3840"/>
                    </a:lnTo>
                    <a:lnTo>
                      <a:pt x="4032" y="3168"/>
                    </a:lnTo>
                    <a:lnTo>
                      <a:pt x="4032" y="0"/>
                    </a:lnTo>
                    <a:lnTo>
                      <a:pt x="2016" y="67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47920" y="11430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亲爱的爸爸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76520" y="2209680"/>
                <a:ext cx="579096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你是雄鹰，我是小鸟， 你是大树，我是小草；你是我老爸，我是你那位特调      皮捣蛋的孩子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您给了我一片蓝天，给了我一方沃土，  您是我生命里永远的太阳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祝父亲节快乐 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562720" y="38862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爱您的女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1752480" y="3276720"/>
              <a:ext cx="2667240" cy="20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7T12:05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