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F50-96E1-48F9-9252-2721D768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204-59A3-4316-A118-97EDEB0D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D50D-EC7E-490D-B7AF-9DE6853F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8A4-1032-444B-B980-5BDD81BD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AF94-55B5-4713-9CCE-D8E5390E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9135-0DFC-42A9-8CB4-5F985B61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40F2-AB10-4B69-936C-8220D99F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315-D3AC-4A74-86DF-DF416F56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788-7F85-4ADF-A597-728754F2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C16-F424-424B-8488-7FB7A9E9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2A31-0468-4CC0-929C-B08A1F70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671-18F3-45F7-B374-14CA9C6D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E459-724B-45E6-A9B2-E6C2373C5D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~PP3908.WAV" TargetMode="External"/><Relationship Id="rId3" Type="http://schemas.microsoft.com/office/2007/relationships/media" Target="file:///tmp/home/.config/libreoffice/4/user/gallery/~PP390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audio" Target="file:///tmp/home/.config/libreoffice/4/user/gallery/~PP1343.WAV" TargetMode="External"/><Relationship Id="rId17" Type="http://schemas.microsoft.com/office/2007/relationships/media" Target="file:///tmp/home/.config/libreoffice/4/user/gallery/~PP1343.WAV" TargetMode="External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803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0" y="350532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486400" y="4648320"/>
            <a:ext cx="3429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黑体"/>
              </a:rPr>
              <a:t>爸 爸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黑体"/>
              <a:ea typeface="黑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280" y="1295280"/>
            <a:ext cx="4267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黑体"/>
              </a:rPr>
              <a:t>I LOVE YOU!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黑体"/>
              <a:ea typeface="黑体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6846840"/>
            <a:chOff x="0" y="0"/>
            <a:chExt cx="9144000" cy="684684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352680" y="5322960"/>
              <a:ext cx="1752840" cy="838080"/>
            </a:xfrm>
            <a:prstGeom prst="wedgeEllipseCallout">
              <a:avLst>
                <a:gd name="adj1" fmla="val -55615"/>
                <a:gd name="adj2" fmla="val -5549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我也要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200" y="2503440"/>
              <a:ext cx="1447920" cy="685800"/>
            </a:xfrm>
            <a:prstGeom prst="wedgeEllipseCallout">
              <a:avLst>
                <a:gd name="adj1" fmla="val 30263"/>
                <a:gd name="adj2" fmla="val 77314"/>
              </a:avLst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好好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 txBox="1"/>
          <p:nvPr/>
        </p:nvSpPr>
        <p:spPr>
          <a:xfrm>
            <a:off x="4038480" y="3505320"/>
            <a:ext cx="4648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祝爸爸父亲节快乐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371600" y="3045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1371600" y="53337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3049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3045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572000" y="53337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3049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371600" y="304920"/>
            <a:ext cx="6400800" cy="6095880"/>
            <a:chOff x="1371600" y="304920"/>
            <a:chExt cx="6400800" cy="6095880"/>
          </a:xfrm>
        </p:grpSpPr>
        <p:grpSp>
          <p:nvGrpSpPr>
            <p:cNvPr id="78" name=""/>
            <p:cNvGrpSpPr/>
            <p:nvPr/>
          </p:nvGrpSpPr>
          <p:grpSpPr>
            <a:xfrm>
              <a:off x="1371600" y="304920"/>
              <a:ext cx="6400800" cy="6095880"/>
              <a:chOff x="1371600" y="304920"/>
              <a:chExt cx="6400800" cy="6095880"/>
            </a:xfrm>
          </p:grpSpPr>
          <p:sp>
            <p:nvSpPr>
              <p:cNvPr id="79" name=""/>
              <p:cNvSpPr/>
              <p:nvPr/>
            </p:nvSpPr>
            <p:spPr>
              <a:xfrm>
                <a:off x="1371600" y="304920"/>
                <a:ext cx="6400800" cy="6095880"/>
              </a:xfrm>
              <a:custGeom>
                <a:avLst/>
                <a:gdLst/>
                <a:ahLst/>
                <a:rect l="l" t="t" r="r" b="b"/>
                <a:pathLst>
                  <a:path w="4032" h="3840">
                    <a:moveTo>
                      <a:pt x="2016" y="672"/>
                    </a:moveTo>
                    <a:lnTo>
                      <a:pt x="0" y="0"/>
                    </a:lnTo>
                    <a:lnTo>
                      <a:pt x="0" y="3120"/>
                    </a:lnTo>
                    <a:lnTo>
                      <a:pt x="0" y="3168"/>
                    </a:lnTo>
                    <a:lnTo>
                      <a:pt x="2016" y="3840"/>
                    </a:lnTo>
                    <a:lnTo>
                      <a:pt x="4032" y="3168"/>
                    </a:lnTo>
                    <a:lnTo>
                      <a:pt x="4032" y="0"/>
                    </a:lnTo>
                    <a:lnTo>
                      <a:pt x="2016" y="672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447920" y="1143000"/>
                <a:ext cx="2057400" cy="609480"/>
              </a:xfrm>
              <a:prstGeom prst="flowChartTermina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亲爱的爸爸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76520" y="2209680"/>
                <a:ext cx="5790960" cy="10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你是雄鹰，我是小鸟， 你是大树，我是小草；你是我老爸，我是你那位特调      皮捣蛋的孩子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您给了我一片蓝天，给了我一方沃土，  您是我生命里永远的太阳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                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祝父亲节快乐 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562720" y="3886200"/>
                <a:ext cx="2057400" cy="609480"/>
              </a:xfrm>
              <a:prstGeom prst="flowChartTermina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爱您的女儿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1752480" y="3276720"/>
              <a:ext cx="2667240" cy="203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45720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17T12:05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