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CFC-AD90-43C1-8BA9-68AC182C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8ED-E4F3-432C-AF2A-7C206FF8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714-8D29-4684-A26E-5945C2E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6E4-732A-41D1-949A-A4D596AF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165-708F-4E18-BB95-76C564A2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5A4-202B-4E46-ABFF-660356C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462-217A-4A23-A805-C9200F7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2CB-28CD-4786-8114-869009ED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F81-B28E-4EE8-B2A1-F8FF4904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3E1-B55E-4F64-8168-25CB7EF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8B5-31E7-4D17-AA9E-31ED0290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168-27A2-47A8-8749-47647A02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5568-2EB2-442A-BEF0-F5445422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1"/>
          <p:cNvSpPr/>
          <p:nvPr/>
        </p:nvSpPr>
        <p:spPr>
          <a:xfrm>
            <a:off x="2195640" y="260280"/>
            <a:ext cx="3313080" cy="1511280"/>
          </a:xfrm>
          <a:prstGeom prst="cloudCallout">
            <a:avLst>
              <a:gd name="adj1" fmla="val 106060"/>
              <a:gd name="adj2" fmla="val 3403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539640" y="2060640"/>
            <a:ext cx="4248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28560" y="2041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700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203640" y="260280"/>
            <a:ext cx="2305080" cy="79236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"/>
          <p:cNvSpPr/>
          <p:nvPr/>
        </p:nvSpPr>
        <p:spPr>
          <a:xfrm>
            <a:off x="5305320" y="1825560"/>
            <a:ext cx="321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5T09:09:04Z</dcterms:created>
  <dc:creator>微软用户</dc:creator>
  <dc:description/>
  <dc:language>en-US</dc:language>
  <cp:lastModifiedBy>Administrator</cp:lastModifiedBy>
  <dcterms:modified xsi:type="dcterms:W3CDTF">2016-03-24T09:5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