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5758-4049-4957-95AB-D5EE59F51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7381-1DE7-4593-AA3D-5060BA5D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82C78-19BE-44E4-A55C-2181D301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2BB21-8A4B-4A31-8DB4-E5C3764B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9447D-A3A0-490E-8597-2EF25DE0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E1E9B-7D87-4260-9A5F-35EE5864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B8E84-D502-433C-8632-80C7D30F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4BBF9-14DC-4E5F-A40F-204E9D27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945A6-0AB5-4B3F-844F-AE1AC2AE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F3294-66D7-45B5-978F-AE4EBD160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E47B3-993F-4A45-895D-3CF2801F0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B8FFF-D9F3-4B0C-8B8D-878394869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2F44-757C-4DCB-B868-E3AA08C9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AF0FA-05C3-4CB7-BFA7-4ADB318F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899B1-F5A6-4DF8-94C2-A90322DE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7B7A2-1560-48BC-BDFB-708B3C29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79B92-B704-42E7-BEC1-EBF8766F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447D2-01C4-4CC3-BCD9-599D350F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4CA43-F6C4-4171-8108-1A56723C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26899-45B2-44B8-8FB7-142ABDF1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6CE23A-A3DF-44F4-8354-8137A87B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E7514-FB2F-4EC1-B609-FA842CBB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B64F8-C2DC-410D-8A11-A0B9BD14E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08B7-BD0F-492C-BE35-C2D37D676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4A22D-371E-4B18-81CE-6709EA1BF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99056C-39A7-4B29-94C0-5428B6E46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78A842-034A-4E81-9E5F-EB58D873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62F7D6-1E68-4296-A496-02497574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133D1-4B7F-455A-B4B7-8AE4AD3E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9FA89-336B-4430-95C1-FF8AB8E0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B54E9-EF05-42A7-AC16-D4BA6621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FFAF59-AA6F-441C-80C1-F939826F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492493-80D1-4FCD-9970-F12C4EF4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7843F-A2B1-4C20-84B4-D067EFB5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FF13-DC60-42CF-8A9D-FA9C04075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4929E-999C-439D-AE24-871323E9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9BCC2-25AC-4634-AD54-D2447071E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2BE3C-207A-4BA5-8EA5-93F6EAADE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6E8D6-D570-4358-A899-A54489154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38D8E-40C1-46CD-9108-7D55A9DE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19E90-5095-4339-8CD5-D2BE48C2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1B947-3288-4050-9194-AA1F405A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C6A79-1519-4811-ABC8-0E9FB81C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D128B-1376-4393-89E9-F691CF54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AC9F93-871E-47C3-A3EA-E9CDC6A7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7F19-6C7D-47AB-98EC-68FEC22D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90A24-40C1-462D-B9D3-7B4B5057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E8A5A-2AEF-47C7-8C06-989A5A9B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18299-5DB5-425A-AA39-792E5C45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033B3-6FF5-486C-9427-B462CFC8C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092F03-817F-4B5E-B135-2ECEE154A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545440-AA98-4B86-AC6C-C9E5DC8AD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8A09EF-1D24-46EE-ADF9-B5211127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0BBEA4-B644-4B64-B748-B5967FB3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096B4E-89B4-4768-BB28-BC15F60B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9E4C02-4979-4475-8B0F-0DDB4C85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B7E0-F75A-466F-A06A-F4EBA174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3D3549-9FE5-4E31-AC55-A9F9B80C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607D2F-0406-48D0-AB80-24E2C462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5017FE-60A0-4FB1-AF3B-D99ADCFE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B6928E-6DDD-41B2-BE84-9043DE58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89EB2E-222C-4400-B017-9AB04036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2CA105-3729-41AC-A038-2988947D5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CDB838-B178-41AC-894F-12347E9E2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0806C4-DB25-4723-9379-491F35677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249DA3-5991-4D6C-A933-121A5049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BAA489-0B89-4DCC-9BB5-48710649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B65D-49F7-4ED9-82ED-16469183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33E856-1C73-4B04-8991-DAADD827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467F91-2915-4245-8C56-ED9CF683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E44DE7-D4FB-4BFF-9645-25BA71E8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484175-98E7-4027-B62E-FAF6BA87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353745-3153-42F4-90AF-BF2774AC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3111BC-CAE9-494D-B064-869EEB46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1DA4C1-F1E2-421B-AB2D-59DC9387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C57AEE-1834-4210-BC74-54E035CFB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09973F-D87A-48D3-97A5-AD281E9F0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93DA46-9711-4EF9-BC9C-EE7B7A842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F910-B91C-4CE4-9F82-409A3AF9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0E44A7-D8DB-41D0-98A9-D7344C7D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639C52-D9B9-4FF8-A4DB-4E1E0E76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76CBBC-915E-4D30-9023-71FF31E1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788525-74A4-4306-BB48-6DEAB88A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FDE9C3-1EED-41D8-B0F5-724E910A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B4AE97-E3DF-4492-9FCA-95CC61CC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ED55E9-A28F-4AB8-928B-79A70A50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BAAE3A-8B3E-45C4-AF12-7E7E57C0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4F5E6E-0E21-4A9F-8A26-E608B1F5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43C555-A3D3-4F11-B5F9-58F5A5827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1D7B-3006-49C6-A736-DC8455A0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56E730-1619-4D11-A45A-50F079181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A418-3E60-4032-B2B5-C0B671D9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2757-2898-42F0-8061-80398A5F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1E32-07CB-4CFD-AB7B-EF475D80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5610-B819-47CF-A00D-EE69BA9D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0D5E-6782-4E78-87BD-D59AEB4B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FAD1-AD50-402F-B1CC-23AC2DEB1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1479-48DF-436D-B7E0-A069183C5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B57C-8D0E-45CD-ACFE-93070445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873FE-5EBA-4245-8286-636B9D5A2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9C526-7C72-4F44-B5F9-86FE84CA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5F301-452A-49D2-A6FA-BFF1AD01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779B-CB26-40D1-A9A8-1210AF78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39ACE-BF20-4FB0-BBDE-4E4B1772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43614-3FA4-42DC-BE5B-E71690DE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6543C-9279-4173-A2C6-2650D25A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AA215-DC3F-4009-865A-979253E2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2A105-D7C0-4821-A338-BAA86F04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F8AE4-212B-4CAC-A0E9-627647DF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CE7A3-D5DE-4F15-8963-883D3657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92958-B6EC-4973-AE33-059297B10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4C730-B377-4365-B7F8-8471FC1D8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A1A83-7154-491F-BADD-F128D067D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AD0E-14D4-46C7-93EB-EF907754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20EAC-C6D7-4709-B96F-91515C21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60BFF-C570-4C9E-9618-60B21925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B3963-5243-4A8B-9035-A1E67729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80752-ADB3-47B1-9599-9D86935A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9DF8D-B22B-4846-944B-CEBD75EC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3F55C-C60B-4489-8046-533975EF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889E6-1E17-4855-99F6-EAB9078A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0D125-7B89-48DA-A2D3-81835649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81A74-8216-47E9-9E31-183BA33C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7B147-F218-4B70-935B-EA09D2354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E497-F097-4134-AA53-7D41B6D1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F8791-DB1F-42B8-869E-636702BB9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54C83-C278-485F-BA36-2CBCA4E9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124BE-6A04-4321-9234-9A3C216A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532A1-4428-4518-B9F1-EF616DC7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C59D9-1424-482D-BF42-627952D9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22378-E58A-4E1E-B562-E7AABF8A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4118E-F124-41F6-8295-7568E7FA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D5BF6-E62A-424F-8748-989BB5F2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6D80A-195D-44A7-8FEF-FE3DFBA7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81F56-33C3-48CD-8B54-153A20DD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6B5A-9581-470B-803B-2EF17EEB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F5B6E-0CA7-48FF-9A6B-9591C2B5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CA2A0-C61F-492A-B227-4FA77C459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798EF-188A-4DE9-BB58-B5BB2983B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84FB4-1628-4305-B5EA-B05975936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196D7-67BC-4C8E-AF80-8D8AF711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612BA-21C1-453D-AE5E-B7F430D6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8B51A-D0E1-45A8-A5C2-FBC6D6A0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2C791-D6A2-40C6-8253-0395D033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81042-095D-4C5A-843A-5E7E9007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35D0E-69A1-4A96-81E3-3FE12EDC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195A-3A95-47FE-8E41-DB3DBC45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81D88-4716-4F55-BB09-3C0ACA1E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66B98-12BE-4287-B316-27FE276C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F2753-9CFA-4EDA-BD78-6F40FCB4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3CAA0-5E4D-4326-B5DE-1DA459377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4A4B9-2585-4F42-BA60-64C5E920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1374B-D397-4DAA-A18F-3988F3783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E51C8-C1BC-4953-8205-AEB3DCD8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896A1-DC6B-4BCA-8873-88A023D8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928BB-D99A-4B72-8FFC-D4A6CDF9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A857C-94CD-4B74-A900-43A11B2F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6B40-1976-4DF8-82F9-33BF0147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994E3-4997-463C-A3DE-4090B7F7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F9C64-C182-440B-92CD-7511C9D3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82AC9-C95C-43C5-9A87-974C07EC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B48B3-9BEA-458F-8E22-615241E3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72DAD-2BD2-4B20-92D0-8F853705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18C69-A564-4518-83F2-0D926ED96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5C382-41EF-49C3-AEDF-A1075A0E1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1DF30-F6D5-443D-BF67-54275ED57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95EF6-41BF-418A-B380-2083919A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F9B8D-0754-44CE-8BE9-2B64E41B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22FE-C2E7-44CC-AFC3-DB8C402776A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971C-13DF-41EA-BDC4-9A9692066D9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2AD8-02E9-4D3A-9DA2-A09C0B35C3E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34B0-EEF5-4E37-AE5C-48B8A831C8E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7AD1-8F0C-4771-9149-9994D79CD3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11CA-3311-41D3-B7D8-8D2B2BD0338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D14D-D78E-41BF-9CA2-55A5BB6633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94F4-06AD-429E-9BAD-09A93A8DB27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38A7-A5BC-4B74-A422-0040968BF6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CE8D-673F-4455-8B20-B18672AA25E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37AB-DDCC-4AF3-8582-C51E3D4066A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4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9995-4F5C-49DB-9FBB-F6009F068F7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4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4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85AC-92BC-471C-AE4E-FD10DA964BB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7E4D-DCC4-43FA-A0D3-BB772BF7E98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CD51-9005-47B2-9433-76C3D3ED4BC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55AF-C589-4C8E-A75E-B802D23778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83EE-1CB0-40B3-9A70-AA0F1AAD947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B79D-E0CC-4CEB-BB7E-B783A8BCD0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17BE-7AD3-4636-8BDD-2BEFC43BEA9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E9D9-AA28-4EB4-9C83-28A3DF1310E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6038-5028-42D6-A024-E68263FFFBE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EBF0-164A-4127-B452-D268732274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9CD8-437C-4D8B-91FC-243CAB334FE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46FB-4AE6-48C0-B6CD-82EEE4C645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40FD-CA3F-4249-B2E1-56F8C8389C6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9710-C57D-4F77-B314-E3380BC841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图片 3" descr=""/>
          <p:cNvPicPr/>
          <p:nvPr/>
        </p:nvPicPr>
        <p:blipFill>
          <a:blip r:embed="rId2"/>
          <a:srcRect l="33460" t="4937" r="0" b="34328"/>
          <a:stretch/>
        </p:blipFill>
        <p:spPr>
          <a:xfrm>
            <a:off x="-133200" y="2827440"/>
            <a:ext cx="6721200" cy="3752640"/>
          </a:xfrm>
          <a:prstGeom prst="rect">
            <a:avLst/>
          </a:prstGeom>
          <a:ln w="0">
            <a:noFill/>
          </a:ln>
        </p:spPr>
      </p:pic>
      <p:sp>
        <p:nvSpPr>
          <p:cNvPr id="614" name="文本框 21"/>
          <p:cNvSpPr/>
          <p:nvPr/>
        </p:nvSpPr>
        <p:spPr>
          <a:xfrm>
            <a:off x="2901960" y="1681200"/>
            <a:ext cx="652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美商务清新模板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文本框 22"/>
          <p:cNvSpPr/>
          <p:nvPr/>
        </p:nvSpPr>
        <p:spPr>
          <a:xfrm>
            <a:off x="2901960" y="2448000"/>
            <a:ext cx="474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秀作品请在稻壳儿搜索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6" name="图片 1" descr=""/>
          <p:cNvPicPr/>
          <p:nvPr/>
        </p:nvPicPr>
        <p:blipFill>
          <a:blip r:embed="rId3"/>
          <a:stretch/>
        </p:blipFill>
        <p:spPr>
          <a:xfrm>
            <a:off x="1477800" y="1569960"/>
            <a:ext cx="15415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8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829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1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椭圆 7"/>
          <p:cNvSpPr/>
          <p:nvPr/>
        </p:nvSpPr>
        <p:spPr>
          <a:xfrm>
            <a:off x="2182680" y="1709640"/>
            <a:ext cx="1266840" cy="1265400"/>
          </a:xfrm>
          <a:prstGeom prst="ellipse">
            <a:avLst/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椭圆 9"/>
          <p:cNvSpPr/>
          <p:nvPr/>
        </p:nvSpPr>
        <p:spPr>
          <a:xfrm>
            <a:off x="1249200" y="2975040"/>
            <a:ext cx="1265400" cy="1266840"/>
          </a:xfrm>
          <a:prstGeom prst="ellipse">
            <a:avLst/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椭圆 12"/>
          <p:cNvSpPr/>
          <p:nvPr/>
        </p:nvSpPr>
        <p:spPr>
          <a:xfrm>
            <a:off x="2182680" y="4273560"/>
            <a:ext cx="1266840" cy="1265400"/>
          </a:xfrm>
          <a:prstGeom prst="ellipse">
            <a:avLst/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TextBox 10"/>
          <p:cNvSpPr/>
          <p:nvPr/>
        </p:nvSpPr>
        <p:spPr>
          <a:xfrm>
            <a:off x="6788160" y="2343240"/>
            <a:ext cx="4300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6" name="组合 14" descr=""/>
          <p:cNvPicPr/>
          <p:nvPr/>
        </p:nvPicPr>
        <p:blipFill>
          <a:blip r:embed="rId1"/>
          <a:stretch/>
        </p:blipFill>
        <p:spPr>
          <a:xfrm>
            <a:off x="3255840" y="2365200"/>
            <a:ext cx="2863800" cy="2517840"/>
          </a:xfrm>
          <a:prstGeom prst="rect">
            <a:avLst/>
          </a:prstGeom>
          <a:ln w="0">
            <a:noFill/>
          </a:ln>
        </p:spPr>
      </p:pic>
      <p:sp>
        <p:nvSpPr>
          <p:cNvPr id="837" name="文本框 21"/>
          <p:cNvSpPr/>
          <p:nvPr/>
        </p:nvSpPr>
        <p:spPr>
          <a:xfrm>
            <a:off x="6757920" y="1973160"/>
            <a:ext cx="11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TextBox 10"/>
          <p:cNvSpPr/>
          <p:nvPr/>
        </p:nvSpPr>
        <p:spPr>
          <a:xfrm>
            <a:off x="6818400" y="3641760"/>
            <a:ext cx="4298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文本框 23"/>
          <p:cNvSpPr/>
          <p:nvPr/>
        </p:nvSpPr>
        <p:spPr>
          <a:xfrm>
            <a:off x="6786720" y="327168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Box 10"/>
          <p:cNvSpPr/>
          <p:nvPr/>
        </p:nvSpPr>
        <p:spPr>
          <a:xfrm>
            <a:off x="6818400" y="5002200"/>
            <a:ext cx="4298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文本框 25"/>
          <p:cNvSpPr/>
          <p:nvPr/>
        </p:nvSpPr>
        <p:spPr>
          <a:xfrm>
            <a:off x="6786720" y="463248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五角星 26"/>
          <p:cNvSpPr/>
          <p:nvPr/>
        </p:nvSpPr>
        <p:spPr>
          <a:xfrm>
            <a:off x="2625840" y="2382840"/>
            <a:ext cx="382320" cy="396720"/>
          </a:xfrm>
          <a:custGeom>
            <a:avLst/>
            <a:gdLst/>
            <a:ahLst/>
            <a:rect l="l" t="t" r="r" b="b"/>
            <a:pathLst>
              <a:path w="382358" h="397048">
                <a:moveTo>
                  <a:pt x="0" y="151658"/>
                </a:moveTo>
                <a:lnTo>
                  <a:pt x="146049" y="151660"/>
                </a:lnTo>
                <a:lnTo>
                  <a:pt x="191179" y="0"/>
                </a:lnTo>
                <a:lnTo>
                  <a:pt x="236309" y="151660"/>
                </a:lnTo>
                <a:lnTo>
                  <a:pt x="382358" y="151658"/>
                </a:lnTo>
                <a:lnTo>
                  <a:pt x="264202" y="245388"/>
                </a:lnTo>
                <a:lnTo>
                  <a:pt x="309334" y="397047"/>
                </a:lnTo>
                <a:lnTo>
                  <a:pt x="191179" y="303316"/>
                </a:lnTo>
                <a:lnTo>
                  <a:pt x="73024" y="397047"/>
                </a:lnTo>
                <a:lnTo>
                  <a:pt x="118156" y="245388"/>
                </a:lnTo>
                <a:lnTo>
                  <a:pt x="0" y="1516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文本框 27"/>
          <p:cNvSpPr/>
          <p:nvPr/>
        </p:nvSpPr>
        <p:spPr>
          <a:xfrm>
            <a:off x="2516040" y="19209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五角星 28"/>
          <p:cNvSpPr/>
          <p:nvPr/>
        </p:nvSpPr>
        <p:spPr>
          <a:xfrm>
            <a:off x="1650960" y="3622680"/>
            <a:ext cx="382680" cy="396720"/>
          </a:xfrm>
          <a:custGeom>
            <a:avLst/>
            <a:gdLst/>
            <a:ahLst/>
            <a:rect l="l" t="t" r="r" b="b"/>
            <a:pathLst>
              <a:path w="382358" h="397048">
                <a:moveTo>
                  <a:pt x="0" y="151658"/>
                </a:moveTo>
                <a:lnTo>
                  <a:pt x="146049" y="151660"/>
                </a:lnTo>
                <a:lnTo>
                  <a:pt x="191179" y="0"/>
                </a:lnTo>
                <a:lnTo>
                  <a:pt x="236309" y="151660"/>
                </a:lnTo>
                <a:lnTo>
                  <a:pt x="382358" y="151658"/>
                </a:lnTo>
                <a:lnTo>
                  <a:pt x="264202" y="245388"/>
                </a:lnTo>
                <a:lnTo>
                  <a:pt x="309334" y="397047"/>
                </a:lnTo>
                <a:lnTo>
                  <a:pt x="191179" y="303316"/>
                </a:lnTo>
                <a:lnTo>
                  <a:pt x="73024" y="397047"/>
                </a:lnTo>
                <a:lnTo>
                  <a:pt x="118156" y="245388"/>
                </a:lnTo>
                <a:lnTo>
                  <a:pt x="0" y="1516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文本框 29"/>
          <p:cNvSpPr/>
          <p:nvPr/>
        </p:nvSpPr>
        <p:spPr>
          <a:xfrm>
            <a:off x="1542960" y="31608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五角星 30"/>
          <p:cNvSpPr/>
          <p:nvPr/>
        </p:nvSpPr>
        <p:spPr>
          <a:xfrm>
            <a:off x="2637000" y="4957920"/>
            <a:ext cx="382320" cy="396720"/>
          </a:xfrm>
          <a:custGeom>
            <a:avLst/>
            <a:gdLst/>
            <a:ahLst/>
            <a:rect l="l" t="t" r="r" b="b"/>
            <a:pathLst>
              <a:path w="382358" h="397048">
                <a:moveTo>
                  <a:pt x="0" y="151658"/>
                </a:moveTo>
                <a:lnTo>
                  <a:pt x="146049" y="151660"/>
                </a:lnTo>
                <a:lnTo>
                  <a:pt x="191179" y="0"/>
                </a:lnTo>
                <a:lnTo>
                  <a:pt x="236309" y="151660"/>
                </a:lnTo>
                <a:lnTo>
                  <a:pt x="382358" y="151658"/>
                </a:lnTo>
                <a:lnTo>
                  <a:pt x="264202" y="245388"/>
                </a:lnTo>
                <a:lnTo>
                  <a:pt x="309334" y="397047"/>
                </a:lnTo>
                <a:lnTo>
                  <a:pt x="191179" y="303316"/>
                </a:lnTo>
                <a:lnTo>
                  <a:pt x="73024" y="397047"/>
                </a:lnTo>
                <a:lnTo>
                  <a:pt x="118156" y="245388"/>
                </a:lnTo>
                <a:lnTo>
                  <a:pt x="0" y="1516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文本框 31"/>
          <p:cNvSpPr/>
          <p:nvPr/>
        </p:nvSpPr>
        <p:spPr>
          <a:xfrm>
            <a:off x="2527200" y="44956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8" name="组合 32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849" name="矩形 33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矩形 34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矩形 35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2" name="组合 36"/>
          <p:cNvGrpSpPr/>
          <p:nvPr/>
        </p:nvGrpSpPr>
        <p:grpSpPr>
          <a:xfrm>
            <a:off x="152280" y="6786720"/>
            <a:ext cx="12192120" cy="223560"/>
            <a:chOff x="152280" y="6786720"/>
            <a:chExt cx="12192120" cy="223560"/>
          </a:xfrm>
        </p:grpSpPr>
        <p:sp>
          <p:nvSpPr>
            <p:cNvPr id="853" name="矩形 37"/>
            <p:cNvSpPr/>
            <p:nvPr/>
          </p:nvSpPr>
          <p:spPr>
            <a:xfrm>
              <a:off x="152280" y="6786720"/>
              <a:ext cx="3916440" cy="22356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矩形 38"/>
            <p:cNvSpPr/>
            <p:nvPr/>
          </p:nvSpPr>
          <p:spPr>
            <a:xfrm>
              <a:off x="4068720" y="6786720"/>
              <a:ext cx="3916440" cy="22356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矩形 39"/>
            <p:cNvSpPr/>
            <p:nvPr/>
          </p:nvSpPr>
          <p:spPr>
            <a:xfrm>
              <a:off x="7985160" y="6786720"/>
              <a:ext cx="4359240" cy="2235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8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859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1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2" name="组合 7"/>
          <p:cNvGrpSpPr/>
          <p:nvPr/>
        </p:nvGrpSpPr>
        <p:grpSpPr>
          <a:xfrm>
            <a:off x="1127160" y="1801800"/>
            <a:ext cx="2984400" cy="2840040"/>
            <a:chOff x="1127160" y="1801800"/>
            <a:chExt cx="2984400" cy="2840040"/>
          </a:xfrm>
        </p:grpSpPr>
        <p:sp>
          <p:nvSpPr>
            <p:cNvPr id="863" name="椭圆形标注 9"/>
            <p:cNvSpPr/>
            <p:nvPr/>
          </p:nvSpPr>
          <p:spPr>
            <a:xfrm>
              <a:off x="1127160" y="1801800"/>
              <a:ext cx="2984400" cy="2840040"/>
            </a:xfrm>
            <a:prstGeom prst="wedgeEllipseCallout">
              <a:avLst>
                <a:gd name="adj1" fmla="val -17379"/>
                <a:gd name="adj2" fmla="val 59777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64" name="图片 12" descr=""/>
            <p:cNvPicPr/>
            <p:nvPr/>
          </p:nvPicPr>
          <p:blipFill>
            <a:blip r:embed="rId1"/>
            <a:stretch/>
          </p:blipFill>
          <p:spPr>
            <a:xfrm>
              <a:off x="1487160" y="2108520"/>
              <a:ext cx="2237760" cy="226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5" name="组合 13"/>
          <p:cNvGrpSpPr/>
          <p:nvPr/>
        </p:nvGrpSpPr>
        <p:grpSpPr>
          <a:xfrm>
            <a:off x="5572080" y="3375000"/>
            <a:ext cx="5254560" cy="204840"/>
            <a:chOff x="5572080" y="3375000"/>
            <a:chExt cx="5254560" cy="204840"/>
          </a:xfrm>
        </p:grpSpPr>
        <p:sp>
          <p:nvSpPr>
            <p:cNvPr id="866" name="矩形 14"/>
            <p:cNvSpPr/>
            <p:nvPr/>
          </p:nvSpPr>
          <p:spPr>
            <a:xfrm>
              <a:off x="5572080" y="3375000"/>
              <a:ext cx="5254560" cy="2048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矩形 15"/>
            <p:cNvSpPr/>
            <p:nvPr/>
          </p:nvSpPr>
          <p:spPr>
            <a:xfrm>
              <a:off x="5572080" y="3375000"/>
              <a:ext cx="4185720" cy="20484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8" name="组合 16"/>
          <p:cNvGrpSpPr/>
          <p:nvPr/>
        </p:nvGrpSpPr>
        <p:grpSpPr>
          <a:xfrm>
            <a:off x="5572080" y="4060800"/>
            <a:ext cx="5254560" cy="206280"/>
            <a:chOff x="5572080" y="4060800"/>
            <a:chExt cx="5254560" cy="206280"/>
          </a:xfrm>
        </p:grpSpPr>
        <p:sp>
          <p:nvSpPr>
            <p:cNvPr id="869" name="矩形 17"/>
            <p:cNvSpPr/>
            <p:nvPr/>
          </p:nvSpPr>
          <p:spPr>
            <a:xfrm>
              <a:off x="5572080" y="4060800"/>
              <a:ext cx="5254560" cy="206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矩形 18"/>
            <p:cNvSpPr/>
            <p:nvPr/>
          </p:nvSpPr>
          <p:spPr>
            <a:xfrm>
              <a:off x="5572080" y="4060800"/>
              <a:ext cx="3374280" cy="20628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1" name="组合 19"/>
          <p:cNvGrpSpPr/>
          <p:nvPr/>
        </p:nvGrpSpPr>
        <p:grpSpPr>
          <a:xfrm>
            <a:off x="5572080" y="4746600"/>
            <a:ext cx="5254560" cy="206280"/>
            <a:chOff x="5572080" y="4746600"/>
            <a:chExt cx="5254560" cy="206280"/>
          </a:xfrm>
        </p:grpSpPr>
        <p:sp>
          <p:nvSpPr>
            <p:cNvPr id="872" name="矩形 20"/>
            <p:cNvSpPr/>
            <p:nvPr/>
          </p:nvSpPr>
          <p:spPr>
            <a:xfrm>
              <a:off x="5572080" y="4746600"/>
              <a:ext cx="5254560" cy="206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矩形 21"/>
            <p:cNvSpPr/>
            <p:nvPr/>
          </p:nvSpPr>
          <p:spPr>
            <a:xfrm>
              <a:off x="5572080" y="4746600"/>
              <a:ext cx="4803840" cy="2062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4" name="组合 22"/>
          <p:cNvGrpSpPr/>
          <p:nvPr/>
        </p:nvGrpSpPr>
        <p:grpSpPr>
          <a:xfrm>
            <a:off x="5572080" y="5630760"/>
            <a:ext cx="5254560" cy="206640"/>
            <a:chOff x="5572080" y="5630760"/>
            <a:chExt cx="5254560" cy="206640"/>
          </a:xfrm>
        </p:grpSpPr>
        <p:sp>
          <p:nvSpPr>
            <p:cNvPr id="875" name="矩形 23"/>
            <p:cNvSpPr/>
            <p:nvPr/>
          </p:nvSpPr>
          <p:spPr>
            <a:xfrm>
              <a:off x="5572080" y="5630760"/>
              <a:ext cx="5254560" cy="2066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矩形 24"/>
            <p:cNvSpPr/>
            <p:nvPr/>
          </p:nvSpPr>
          <p:spPr>
            <a:xfrm>
              <a:off x="5572080" y="5630760"/>
              <a:ext cx="4482000" cy="2066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7" name="TextBox 10"/>
          <p:cNvSpPr/>
          <p:nvPr/>
        </p:nvSpPr>
        <p:spPr>
          <a:xfrm>
            <a:off x="5572080" y="2152800"/>
            <a:ext cx="5254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文本框 26"/>
          <p:cNvSpPr/>
          <p:nvPr/>
        </p:nvSpPr>
        <p:spPr>
          <a:xfrm>
            <a:off x="5572080" y="184464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文本框 27"/>
          <p:cNvSpPr/>
          <p:nvPr/>
        </p:nvSpPr>
        <p:spPr>
          <a:xfrm>
            <a:off x="5572080" y="294948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文本框 28"/>
          <p:cNvSpPr/>
          <p:nvPr/>
        </p:nvSpPr>
        <p:spPr>
          <a:xfrm>
            <a:off x="5572080" y="368604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文本框 29"/>
          <p:cNvSpPr/>
          <p:nvPr/>
        </p:nvSpPr>
        <p:spPr>
          <a:xfrm>
            <a:off x="5572080" y="437976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文本框 30"/>
          <p:cNvSpPr/>
          <p:nvPr/>
        </p:nvSpPr>
        <p:spPr>
          <a:xfrm>
            <a:off x="5495760" y="526428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3" name="图片 33" descr=""/>
          <p:cNvPicPr/>
          <p:nvPr/>
        </p:nvPicPr>
        <p:blipFill>
          <a:blip r:embed="rId2"/>
          <a:stretch/>
        </p:blipFill>
        <p:spPr>
          <a:xfrm>
            <a:off x="1011240" y="5396040"/>
            <a:ext cx="512640" cy="512640"/>
          </a:xfrm>
          <a:prstGeom prst="rect">
            <a:avLst/>
          </a:prstGeom>
          <a:ln w="0">
            <a:noFill/>
          </a:ln>
        </p:spPr>
      </p:pic>
      <p:pic>
        <p:nvPicPr>
          <p:cNvPr id="884" name="图片 34" descr=""/>
          <p:cNvPicPr/>
          <p:nvPr/>
        </p:nvPicPr>
        <p:blipFill>
          <a:blip r:embed="rId3"/>
          <a:stretch/>
        </p:blipFill>
        <p:spPr>
          <a:xfrm>
            <a:off x="1927080" y="5396040"/>
            <a:ext cx="513000" cy="512640"/>
          </a:xfrm>
          <a:prstGeom prst="rect">
            <a:avLst/>
          </a:prstGeom>
          <a:ln w="0">
            <a:noFill/>
          </a:ln>
        </p:spPr>
      </p:pic>
      <p:pic>
        <p:nvPicPr>
          <p:cNvPr id="885" name="图片 35" descr=""/>
          <p:cNvPicPr/>
          <p:nvPr/>
        </p:nvPicPr>
        <p:blipFill>
          <a:blip r:embed="rId4"/>
          <a:stretch/>
        </p:blipFill>
        <p:spPr>
          <a:xfrm>
            <a:off x="2843280" y="5396040"/>
            <a:ext cx="514440" cy="512640"/>
          </a:xfrm>
          <a:prstGeom prst="rect">
            <a:avLst/>
          </a:prstGeom>
          <a:ln w="0">
            <a:noFill/>
          </a:ln>
        </p:spPr>
      </p:pic>
      <p:sp>
        <p:nvSpPr>
          <p:cNvPr id="886" name="文本框 36"/>
          <p:cNvSpPr/>
          <p:nvPr/>
        </p:nvSpPr>
        <p:spPr>
          <a:xfrm>
            <a:off x="1731960" y="4962600"/>
            <a:ext cx="11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7" name="组合 32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888" name="矩形 37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矩形 38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矩形 39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3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894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6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7" name="组合 7"/>
          <p:cNvGrpSpPr/>
          <p:nvPr/>
        </p:nvGrpSpPr>
        <p:grpSpPr>
          <a:xfrm>
            <a:off x="1481040" y="1622520"/>
            <a:ext cx="4533840" cy="4198680"/>
            <a:chOff x="1481040" y="1622520"/>
            <a:chExt cx="4533840" cy="4198680"/>
          </a:xfrm>
        </p:grpSpPr>
        <p:pic>
          <p:nvPicPr>
            <p:cNvPr id="898" name="图片 9" descr=""/>
            <p:cNvPicPr/>
            <p:nvPr/>
          </p:nvPicPr>
          <p:blipFill>
            <a:blip r:embed="rId1"/>
            <a:srcRect l="63386" t="0" r="0" b="0"/>
            <a:stretch/>
          </p:blipFill>
          <p:spPr>
            <a:xfrm>
              <a:off x="1481040" y="1622520"/>
              <a:ext cx="2460240" cy="41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9" name="矩形 12"/>
            <p:cNvSpPr/>
            <p:nvPr/>
          </p:nvSpPr>
          <p:spPr>
            <a:xfrm>
              <a:off x="3941280" y="1622520"/>
              <a:ext cx="2073600" cy="419868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0" name="组合 13"/>
          <p:cNvGrpSpPr/>
          <p:nvPr/>
        </p:nvGrpSpPr>
        <p:grpSpPr>
          <a:xfrm>
            <a:off x="6554880" y="1622520"/>
            <a:ext cx="4521240" cy="4198680"/>
            <a:chOff x="6554880" y="1622520"/>
            <a:chExt cx="4521240" cy="4198680"/>
          </a:xfrm>
        </p:grpSpPr>
        <p:pic>
          <p:nvPicPr>
            <p:cNvPr id="901" name="图片 14" descr=""/>
            <p:cNvPicPr/>
            <p:nvPr/>
          </p:nvPicPr>
          <p:blipFill>
            <a:blip r:embed="rId2"/>
            <a:srcRect l="63576" t="0" r="0" b="0"/>
            <a:stretch/>
          </p:blipFill>
          <p:spPr>
            <a:xfrm>
              <a:off x="6554880" y="1622520"/>
              <a:ext cx="2447280" cy="41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矩形 15"/>
            <p:cNvSpPr/>
            <p:nvPr/>
          </p:nvSpPr>
          <p:spPr>
            <a:xfrm>
              <a:off x="9002160" y="1622520"/>
              <a:ext cx="2073960" cy="419868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3" name="TextBox 10"/>
          <p:cNvSpPr/>
          <p:nvPr/>
        </p:nvSpPr>
        <p:spPr>
          <a:xfrm>
            <a:off x="4176720" y="2362320"/>
            <a:ext cx="166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文本框 17"/>
          <p:cNvSpPr/>
          <p:nvPr/>
        </p:nvSpPr>
        <p:spPr>
          <a:xfrm>
            <a:off x="4176720" y="2023920"/>
            <a:ext cx="110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TextBox 10"/>
          <p:cNvSpPr/>
          <p:nvPr/>
        </p:nvSpPr>
        <p:spPr>
          <a:xfrm>
            <a:off x="4170240" y="4116240"/>
            <a:ext cx="166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文本框 19"/>
          <p:cNvSpPr/>
          <p:nvPr/>
        </p:nvSpPr>
        <p:spPr>
          <a:xfrm>
            <a:off x="4170240" y="3778200"/>
            <a:ext cx="110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TextBox 10"/>
          <p:cNvSpPr/>
          <p:nvPr/>
        </p:nvSpPr>
        <p:spPr>
          <a:xfrm>
            <a:off x="9398160" y="2362320"/>
            <a:ext cx="166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文本框 21"/>
          <p:cNvSpPr/>
          <p:nvPr/>
        </p:nvSpPr>
        <p:spPr>
          <a:xfrm>
            <a:off x="9398160" y="2023920"/>
            <a:ext cx="110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TextBox 10"/>
          <p:cNvSpPr/>
          <p:nvPr/>
        </p:nvSpPr>
        <p:spPr>
          <a:xfrm>
            <a:off x="9391680" y="4116240"/>
            <a:ext cx="166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文本框 23"/>
          <p:cNvSpPr/>
          <p:nvPr/>
        </p:nvSpPr>
        <p:spPr>
          <a:xfrm>
            <a:off x="9391680" y="3778200"/>
            <a:ext cx="110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1" name="组合 24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912" name="矩形 25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矩形 26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矩形 27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7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918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0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直接连接符 7"/>
          <p:cNvSpPr/>
          <p:nvPr/>
        </p:nvSpPr>
        <p:spPr>
          <a:xfrm flipV="1">
            <a:off x="2828880" y="5660640"/>
            <a:ext cx="1870200" cy="56196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直接连接符 9"/>
          <p:cNvSpPr/>
          <p:nvPr/>
        </p:nvSpPr>
        <p:spPr>
          <a:xfrm flipH="1" flipV="1">
            <a:off x="3911760" y="5181480"/>
            <a:ext cx="801360" cy="46512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直接连接符 12"/>
          <p:cNvSpPr/>
          <p:nvPr/>
        </p:nvSpPr>
        <p:spPr>
          <a:xfrm flipV="1">
            <a:off x="3897360" y="4000680"/>
            <a:ext cx="2630520" cy="118080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直接连接符 13"/>
          <p:cNvSpPr/>
          <p:nvPr/>
        </p:nvSpPr>
        <p:spPr>
          <a:xfrm>
            <a:off x="6527880" y="4000680"/>
            <a:ext cx="722160" cy="661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直接连接符 14"/>
          <p:cNvSpPr/>
          <p:nvPr/>
        </p:nvSpPr>
        <p:spPr>
          <a:xfrm flipV="1">
            <a:off x="7250040" y="3606840"/>
            <a:ext cx="2049480" cy="105552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椭圆 15"/>
          <p:cNvSpPr/>
          <p:nvPr/>
        </p:nvSpPr>
        <p:spPr>
          <a:xfrm>
            <a:off x="4635360" y="5597640"/>
            <a:ext cx="127080" cy="126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椭圆 16"/>
          <p:cNvSpPr/>
          <p:nvPr/>
        </p:nvSpPr>
        <p:spPr>
          <a:xfrm>
            <a:off x="3882960" y="5132520"/>
            <a:ext cx="125640" cy="126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椭圆 17"/>
          <p:cNvSpPr/>
          <p:nvPr/>
        </p:nvSpPr>
        <p:spPr>
          <a:xfrm>
            <a:off x="6464160" y="3963960"/>
            <a:ext cx="127080" cy="1270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椭圆 18"/>
          <p:cNvSpPr/>
          <p:nvPr/>
        </p:nvSpPr>
        <p:spPr>
          <a:xfrm>
            <a:off x="7186680" y="4606920"/>
            <a:ext cx="127080" cy="1270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椭圆 19"/>
          <p:cNvSpPr/>
          <p:nvPr/>
        </p:nvSpPr>
        <p:spPr>
          <a:xfrm>
            <a:off x="2751120" y="6173640"/>
            <a:ext cx="127080" cy="1270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椭圆 20"/>
          <p:cNvSpPr/>
          <p:nvPr/>
        </p:nvSpPr>
        <p:spPr>
          <a:xfrm>
            <a:off x="9236160" y="3529080"/>
            <a:ext cx="127080" cy="1270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矩形标注 21"/>
          <p:cNvSpPr/>
          <p:nvPr/>
        </p:nvSpPr>
        <p:spPr>
          <a:xfrm>
            <a:off x="2630520" y="5568840"/>
            <a:ext cx="1027080" cy="368280"/>
          </a:xfrm>
          <a:prstGeom prst="wedgeRectCallout">
            <a:avLst>
              <a:gd name="adj1" fmla="val -30421"/>
              <a:gd name="adj2" fmla="val 82013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矩形标注 22"/>
          <p:cNvSpPr/>
          <p:nvPr/>
        </p:nvSpPr>
        <p:spPr>
          <a:xfrm>
            <a:off x="4549680" y="5046840"/>
            <a:ext cx="1027080" cy="368280"/>
          </a:xfrm>
          <a:prstGeom prst="wedgeRectCallout">
            <a:avLst>
              <a:gd name="adj1" fmla="val -30421"/>
              <a:gd name="adj2" fmla="val 82013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矩形标注 23"/>
          <p:cNvSpPr/>
          <p:nvPr/>
        </p:nvSpPr>
        <p:spPr>
          <a:xfrm>
            <a:off x="6319800" y="3389400"/>
            <a:ext cx="1027080" cy="368280"/>
          </a:xfrm>
          <a:prstGeom prst="wedgeRectCallout">
            <a:avLst>
              <a:gd name="adj1" fmla="val -30421"/>
              <a:gd name="adj2" fmla="val 82013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矩形标注 24"/>
          <p:cNvSpPr/>
          <p:nvPr/>
        </p:nvSpPr>
        <p:spPr>
          <a:xfrm>
            <a:off x="9097920" y="2933640"/>
            <a:ext cx="1027080" cy="368280"/>
          </a:xfrm>
          <a:prstGeom prst="wedgeRectCallout">
            <a:avLst>
              <a:gd name="adj1" fmla="val -30421"/>
              <a:gd name="adj2" fmla="val 82013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矩形标注 25"/>
          <p:cNvSpPr/>
          <p:nvPr/>
        </p:nvSpPr>
        <p:spPr>
          <a:xfrm>
            <a:off x="7165800" y="4905360"/>
            <a:ext cx="1027440" cy="366840"/>
          </a:xfrm>
          <a:prstGeom prst="wedgeRectCallout">
            <a:avLst>
              <a:gd name="adj1" fmla="val -37268"/>
              <a:gd name="adj2" fmla="val -86296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矩形标注 26"/>
          <p:cNvSpPr/>
          <p:nvPr/>
        </p:nvSpPr>
        <p:spPr>
          <a:xfrm>
            <a:off x="3657600" y="4368960"/>
            <a:ext cx="1027080" cy="368280"/>
          </a:xfrm>
          <a:prstGeom prst="wedgeRectCallout">
            <a:avLst>
              <a:gd name="adj1" fmla="val -27680"/>
              <a:gd name="adj2" fmla="val 104962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TextBox 10"/>
          <p:cNvSpPr/>
          <p:nvPr/>
        </p:nvSpPr>
        <p:spPr>
          <a:xfrm>
            <a:off x="1874880" y="1976400"/>
            <a:ext cx="8367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文本框 28"/>
          <p:cNvSpPr/>
          <p:nvPr/>
        </p:nvSpPr>
        <p:spPr>
          <a:xfrm>
            <a:off x="1868400" y="1560600"/>
            <a:ext cx="18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0" name="组合 29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941" name="矩形 30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2" name="矩形 31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矩形 32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6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947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9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直接连接符 7"/>
          <p:cNvSpPr/>
          <p:nvPr/>
        </p:nvSpPr>
        <p:spPr>
          <a:xfrm>
            <a:off x="1920960" y="3848040"/>
            <a:ext cx="8513640" cy="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椭圆 9"/>
          <p:cNvSpPr/>
          <p:nvPr/>
        </p:nvSpPr>
        <p:spPr>
          <a:xfrm>
            <a:off x="4406760" y="2932200"/>
            <a:ext cx="1816200" cy="1815840"/>
          </a:xfrm>
          <a:prstGeom prst="ellipse">
            <a:avLst/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椭圆 12"/>
          <p:cNvSpPr/>
          <p:nvPr/>
        </p:nvSpPr>
        <p:spPr>
          <a:xfrm>
            <a:off x="6040440" y="2932200"/>
            <a:ext cx="1816200" cy="18158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文本框 13"/>
          <p:cNvSpPr/>
          <p:nvPr/>
        </p:nvSpPr>
        <p:spPr>
          <a:xfrm>
            <a:off x="4527720" y="3656160"/>
            <a:ext cx="22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您的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文本框 14"/>
          <p:cNvSpPr/>
          <p:nvPr/>
        </p:nvSpPr>
        <p:spPr>
          <a:xfrm>
            <a:off x="6161040" y="3662280"/>
            <a:ext cx="22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您的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5" name="组合 15"/>
          <p:cNvGrpSpPr/>
          <p:nvPr/>
        </p:nvGrpSpPr>
        <p:grpSpPr>
          <a:xfrm>
            <a:off x="1889280" y="2214720"/>
            <a:ext cx="2022480" cy="1066320"/>
            <a:chOff x="1889280" y="2214720"/>
            <a:chExt cx="2022480" cy="1066320"/>
          </a:xfrm>
        </p:grpSpPr>
        <p:sp>
          <p:nvSpPr>
            <p:cNvPr id="956" name="文本框 16"/>
            <p:cNvSpPr/>
            <p:nvPr/>
          </p:nvSpPr>
          <p:spPr>
            <a:xfrm>
              <a:off x="1889280" y="2214720"/>
              <a:ext cx="11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TextBox 35"/>
            <p:cNvSpPr/>
            <p:nvPr/>
          </p:nvSpPr>
          <p:spPr>
            <a:xfrm>
              <a:off x="1890360" y="2639520"/>
              <a:ext cx="2021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8" name="组合 18"/>
          <p:cNvGrpSpPr/>
          <p:nvPr/>
        </p:nvGrpSpPr>
        <p:grpSpPr>
          <a:xfrm>
            <a:off x="8412120" y="2214720"/>
            <a:ext cx="2022480" cy="1066320"/>
            <a:chOff x="8412120" y="2214720"/>
            <a:chExt cx="2022480" cy="1066320"/>
          </a:xfrm>
        </p:grpSpPr>
        <p:sp>
          <p:nvSpPr>
            <p:cNvPr id="959" name="文本框 19"/>
            <p:cNvSpPr/>
            <p:nvPr/>
          </p:nvSpPr>
          <p:spPr>
            <a:xfrm>
              <a:off x="8412120" y="2214720"/>
              <a:ext cx="11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0" name="TextBox 35"/>
            <p:cNvSpPr/>
            <p:nvPr/>
          </p:nvSpPr>
          <p:spPr>
            <a:xfrm>
              <a:off x="8413200" y="2639520"/>
              <a:ext cx="2021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1" name="组合 21"/>
          <p:cNvGrpSpPr/>
          <p:nvPr/>
        </p:nvGrpSpPr>
        <p:grpSpPr>
          <a:xfrm>
            <a:off x="1889280" y="4135320"/>
            <a:ext cx="2022480" cy="1066320"/>
            <a:chOff x="1889280" y="4135320"/>
            <a:chExt cx="2022480" cy="1066320"/>
          </a:xfrm>
        </p:grpSpPr>
        <p:sp>
          <p:nvSpPr>
            <p:cNvPr id="962" name="文本框 22"/>
            <p:cNvSpPr/>
            <p:nvPr/>
          </p:nvSpPr>
          <p:spPr>
            <a:xfrm>
              <a:off x="1889280" y="4135320"/>
              <a:ext cx="11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TextBox 35"/>
            <p:cNvSpPr/>
            <p:nvPr/>
          </p:nvSpPr>
          <p:spPr>
            <a:xfrm>
              <a:off x="1890360" y="4560120"/>
              <a:ext cx="2021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4" name="组合 24"/>
          <p:cNvGrpSpPr/>
          <p:nvPr/>
        </p:nvGrpSpPr>
        <p:grpSpPr>
          <a:xfrm>
            <a:off x="8412120" y="4135320"/>
            <a:ext cx="2022480" cy="1066320"/>
            <a:chOff x="8412120" y="4135320"/>
            <a:chExt cx="2022480" cy="1066320"/>
          </a:xfrm>
        </p:grpSpPr>
        <p:sp>
          <p:nvSpPr>
            <p:cNvPr id="965" name="文本框 25"/>
            <p:cNvSpPr/>
            <p:nvPr/>
          </p:nvSpPr>
          <p:spPr>
            <a:xfrm>
              <a:off x="8412120" y="4135320"/>
              <a:ext cx="11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6" name="TextBox 35"/>
            <p:cNvSpPr/>
            <p:nvPr/>
          </p:nvSpPr>
          <p:spPr>
            <a:xfrm>
              <a:off x="8413200" y="4560120"/>
              <a:ext cx="2021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7" name="组合 27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968" name="矩形 28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9" name="矩形 29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0" name="矩形 30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任意多边形 23"/>
          <p:cNvSpPr/>
          <p:nvPr/>
        </p:nvSpPr>
        <p:spPr>
          <a:xfrm flipV="1">
            <a:off x="0" y="192600"/>
            <a:ext cx="12201480" cy="4081320"/>
          </a:xfrm>
          <a:custGeom>
            <a:avLst/>
            <a:gdLst/>
            <a:ahLst/>
            <a:rect l="l" t="t" r="r" b="b"/>
            <a:pathLst>
              <a:path w="12201987" h="4082606">
                <a:moveTo>
                  <a:pt x="804061" y="4082606"/>
                </a:moveTo>
                <a:lnTo>
                  <a:pt x="2047460" y="4082606"/>
                </a:lnTo>
                <a:lnTo>
                  <a:pt x="2623035" y="2638119"/>
                </a:lnTo>
                <a:lnTo>
                  <a:pt x="7328452" y="4082606"/>
                </a:lnTo>
                <a:lnTo>
                  <a:pt x="12201987" y="4082606"/>
                </a:lnTo>
                <a:lnTo>
                  <a:pt x="12201987" y="3915013"/>
                </a:lnTo>
                <a:lnTo>
                  <a:pt x="2132415" y="684186"/>
                </a:lnTo>
                <a:lnTo>
                  <a:pt x="804061" y="4082606"/>
                </a:lnTo>
                <a:close/>
                <a:moveTo>
                  <a:pt x="0" y="4082606"/>
                </a:moveTo>
                <a:lnTo>
                  <a:pt x="519489" y="4082606"/>
                </a:lnTo>
                <a:lnTo>
                  <a:pt x="1879555" y="603056"/>
                </a:lnTo>
                <a:lnTo>
                  <a:pt x="0" y="0"/>
                </a:lnTo>
                <a:lnTo>
                  <a:pt x="0" y="4082606"/>
                </a:lnTo>
                <a:close/>
              </a:path>
            </a:pathLst>
          </a:cu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任意多边形 21"/>
          <p:cNvSpPr/>
          <p:nvPr/>
        </p:nvSpPr>
        <p:spPr>
          <a:xfrm flipV="1" rot="10800000">
            <a:off x="-360" y="659160"/>
            <a:ext cx="12192120" cy="6761160"/>
          </a:xfrm>
          <a:custGeom>
            <a:avLst/>
            <a:gdLst/>
            <a:ahLst/>
            <a:rect l="l" t="t" r="r" b="b"/>
            <a:pathLst>
              <a:path w="12192000" h="6761344">
                <a:moveTo>
                  <a:pt x="3875109" y="1243330"/>
                </a:moveTo>
                <a:lnTo>
                  <a:pt x="1718260" y="6761344"/>
                </a:lnTo>
                <a:lnTo>
                  <a:pt x="12192000" y="6761344"/>
                </a:lnTo>
                <a:lnTo>
                  <a:pt x="12192000" y="3911808"/>
                </a:lnTo>
                <a:lnTo>
                  <a:pt x="3875109" y="1243330"/>
                </a:lnTo>
                <a:close/>
                <a:moveTo>
                  <a:pt x="0" y="0"/>
                </a:moveTo>
                <a:lnTo>
                  <a:pt x="0" y="6761344"/>
                </a:lnTo>
                <a:lnTo>
                  <a:pt x="1454836" y="6761344"/>
                </a:lnTo>
                <a:lnTo>
                  <a:pt x="3641039" y="1168229"/>
                </a:lnTo>
                <a:lnTo>
                  <a:pt x="0" y="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任意多边形 27"/>
          <p:cNvSpPr/>
          <p:nvPr/>
        </p:nvSpPr>
        <p:spPr>
          <a:xfrm>
            <a:off x="0" y="0"/>
            <a:ext cx="12201480" cy="193680"/>
          </a:xfrm>
          <a:custGeom>
            <a:avLst/>
            <a:gdLst/>
            <a:ahLst/>
            <a:rect l="l" t="t" r="r" b="b"/>
            <a:pathLst>
              <a:path w="12201987" h="193179">
                <a:moveTo>
                  <a:pt x="8831145" y="0"/>
                </a:moveTo>
                <a:lnTo>
                  <a:pt x="12201987" y="0"/>
                </a:lnTo>
                <a:lnTo>
                  <a:pt x="12201987" y="193179"/>
                </a:lnTo>
                <a:lnTo>
                  <a:pt x="8947310" y="193179"/>
                </a:lnTo>
                <a:lnTo>
                  <a:pt x="8831145" y="0"/>
                </a:lnTo>
                <a:close/>
                <a:moveTo>
                  <a:pt x="0" y="0"/>
                </a:moveTo>
                <a:lnTo>
                  <a:pt x="8516501" y="0"/>
                </a:lnTo>
                <a:lnTo>
                  <a:pt x="8632666" y="193179"/>
                </a:lnTo>
                <a:lnTo>
                  <a:pt x="0" y="193179"/>
                </a:lnTo>
                <a:lnTo>
                  <a:pt x="0" y="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文本框 25"/>
          <p:cNvSpPr/>
          <p:nvPr/>
        </p:nvSpPr>
        <p:spPr>
          <a:xfrm rot="20510400">
            <a:off x="2641680" y="2800440"/>
            <a:ext cx="618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 You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9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620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2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直接连接符 13"/>
          <p:cNvSpPr/>
          <p:nvPr/>
        </p:nvSpPr>
        <p:spPr>
          <a:xfrm>
            <a:off x="4368960" y="1106640"/>
            <a:ext cx="0" cy="515772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椭圆 14"/>
          <p:cNvSpPr/>
          <p:nvPr/>
        </p:nvSpPr>
        <p:spPr>
          <a:xfrm>
            <a:off x="4300560" y="1944720"/>
            <a:ext cx="128520" cy="128520"/>
          </a:xfrm>
          <a:prstGeom prst="ellips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椭圆 15"/>
          <p:cNvSpPr/>
          <p:nvPr/>
        </p:nvSpPr>
        <p:spPr>
          <a:xfrm>
            <a:off x="4300560" y="3621240"/>
            <a:ext cx="128520" cy="128520"/>
          </a:xfrm>
          <a:prstGeom prst="ellips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椭圆 16"/>
          <p:cNvSpPr/>
          <p:nvPr/>
        </p:nvSpPr>
        <p:spPr>
          <a:xfrm>
            <a:off x="4300560" y="5299200"/>
            <a:ext cx="128520" cy="128520"/>
          </a:xfrm>
          <a:prstGeom prst="ellips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7" name="组合 5"/>
          <p:cNvGrpSpPr/>
          <p:nvPr/>
        </p:nvGrpSpPr>
        <p:grpSpPr>
          <a:xfrm>
            <a:off x="2358360" y="1107000"/>
            <a:ext cx="1803960" cy="1803960"/>
            <a:chOff x="2358360" y="1107000"/>
            <a:chExt cx="1803960" cy="1803960"/>
          </a:xfrm>
        </p:grpSpPr>
        <p:sp>
          <p:nvSpPr>
            <p:cNvPr id="628" name="泪滴形 7"/>
            <p:cNvSpPr/>
            <p:nvPr/>
          </p:nvSpPr>
          <p:spPr>
            <a:xfrm rot="2700000">
              <a:off x="2622960" y="1370520"/>
              <a:ext cx="1274760" cy="1276200"/>
            </a:xfrm>
            <a:custGeom>
              <a:avLst/>
              <a:gdLst/>
              <a:ahLst/>
              <a:rect l="l" t="t" r="r" b="b"/>
              <a:pathLst>
                <a:path w="1275488" h="1275488">
                  <a:moveTo>
                    <a:pt x="0" y="637744"/>
                  </a:moveTo>
                  <a:cubicBezTo>
                    <a:pt x="0" y="285528"/>
                    <a:pt x="285528" y="0"/>
                    <a:pt x="637744" y="0"/>
                  </a:cubicBezTo>
                  <a:lnTo>
                    <a:pt x="1275488" y="0"/>
                  </a:lnTo>
                  <a:lnTo>
                    <a:pt x="1275488" y="637744"/>
                  </a:lnTo>
                  <a:cubicBezTo>
                    <a:pt x="1275488" y="989960"/>
                    <a:pt x="989960" y="1275488"/>
                    <a:pt x="637744" y="1275488"/>
                  </a:cubicBezTo>
                  <a:cubicBezTo>
                    <a:pt x="285528" y="1275488"/>
                    <a:pt x="0" y="989960"/>
                    <a:pt x="0" y="637744"/>
                  </a:cubicBezTo>
                  <a:close/>
                </a:path>
              </a:pathLst>
            </a:cu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文本框 17"/>
            <p:cNvSpPr/>
            <p:nvPr/>
          </p:nvSpPr>
          <p:spPr>
            <a:xfrm>
              <a:off x="2951640" y="1809000"/>
              <a:ext cx="87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0" name="组合 28"/>
          <p:cNvGrpSpPr/>
          <p:nvPr/>
        </p:nvGrpSpPr>
        <p:grpSpPr>
          <a:xfrm>
            <a:off x="2358000" y="2783880"/>
            <a:ext cx="1805040" cy="1804680"/>
            <a:chOff x="2358000" y="2783880"/>
            <a:chExt cx="1805040" cy="1804680"/>
          </a:xfrm>
        </p:grpSpPr>
        <p:sp>
          <p:nvSpPr>
            <p:cNvPr id="631" name="泪滴形 9"/>
            <p:cNvSpPr/>
            <p:nvPr/>
          </p:nvSpPr>
          <p:spPr>
            <a:xfrm rot="2700000">
              <a:off x="2622240" y="3048120"/>
              <a:ext cx="1276200" cy="1276200"/>
            </a:xfrm>
            <a:custGeom>
              <a:avLst/>
              <a:gdLst/>
              <a:ahLst/>
              <a:rect l="l" t="t" r="r" b="b"/>
              <a:pathLst>
                <a:path w="1275488" h="1275488">
                  <a:moveTo>
                    <a:pt x="0" y="637744"/>
                  </a:moveTo>
                  <a:cubicBezTo>
                    <a:pt x="0" y="285528"/>
                    <a:pt x="285528" y="0"/>
                    <a:pt x="637744" y="0"/>
                  </a:cubicBezTo>
                  <a:lnTo>
                    <a:pt x="1275488" y="0"/>
                  </a:lnTo>
                  <a:lnTo>
                    <a:pt x="1275488" y="637744"/>
                  </a:lnTo>
                  <a:cubicBezTo>
                    <a:pt x="1275488" y="989960"/>
                    <a:pt x="989960" y="1275488"/>
                    <a:pt x="637744" y="1275488"/>
                  </a:cubicBezTo>
                  <a:cubicBezTo>
                    <a:pt x="285528" y="1275488"/>
                    <a:pt x="0" y="989960"/>
                    <a:pt x="0" y="637744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文本框 18"/>
            <p:cNvSpPr/>
            <p:nvPr/>
          </p:nvSpPr>
          <p:spPr>
            <a:xfrm>
              <a:off x="2954160" y="3485880"/>
              <a:ext cx="87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3" name="组合 29"/>
          <p:cNvGrpSpPr/>
          <p:nvPr/>
        </p:nvGrpSpPr>
        <p:grpSpPr>
          <a:xfrm>
            <a:off x="2357640" y="4460040"/>
            <a:ext cx="1805040" cy="1805040"/>
            <a:chOff x="2357640" y="4460040"/>
            <a:chExt cx="1805040" cy="1805040"/>
          </a:xfrm>
        </p:grpSpPr>
        <p:sp>
          <p:nvSpPr>
            <p:cNvPr id="634" name="泪滴形 12"/>
            <p:cNvSpPr/>
            <p:nvPr/>
          </p:nvSpPr>
          <p:spPr>
            <a:xfrm rot="2700000">
              <a:off x="2621880" y="4724280"/>
              <a:ext cx="1276560" cy="1276200"/>
            </a:xfrm>
            <a:custGeom>
              <a:avLst/>
              <a:gdLst/>
              <a:ahLst/>
              <a:rect l="l" t="t" r="r" b="b"/>
              <a:pathLst>
                <a:path w="1275488" h="1275488">
                  <a:moveTo>
                    <a:pt x="0" y="637744"/>
                  </a:moveTo>
                  <a:cubicBezTo>
                    <a:pt x="0" y="285528"/>
                    <a:pt x="285528" y="0"/>
                    <a:pt x="637744" y="0"/>
                  </a:cubicBezTo>
                  <a:lnTo>
                    <a:pt x="1275488" y="0"/>
                  </a:lnTo>
                  <a:lnTo>
                    <a:pt x="1275488" y="637744"/>
                  </a:lnTo>
                  <a:cubicBezTo>
                    <a:pt x="1275488" y="989960"/>
                    <a:pt x="989960" y="1275488"/>
                    <a:pt x="637744" y="1275488"/>
                  </a:cubicBezTo>
                  <a:cubicBezTo>
                    <a:pt x="285528" y="1275488"/>
                    <a:pt x="0" y="989960"/>
                    <a:pt x="0" y="637744"/>
                  </a:cubicBezTo>
                  <a:close/>
                </a:path>
              </a:pathLst>
            </a:cu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文本框 19"/>
            <p:cNvSpPr/>
            <p:nvPr/>
          </p:nvSpPr>
          <p:spPr>
            <a:xfrm>
              <a:off x="2954160" y="5162400"/>
              <a:ext cx="87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6" name="矩形 20"/>
          <p:cNvSpPr/>
          <p:nvPr/>
        </p:nvSpPr>
        <p:spPr>
          <a:xfrm>
            <a:off x="4756320" y="1592280"/>
            <a:ext cx="2730240" cy="376200"/>
          </a:xfrm>
          <a:prstGeom prst="rect">
            <a:avLst/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您的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TextBox 10"/>
          <p:cNvSpPr/>
          <p:nvPr/>
        </p:nvSpPr>
        <p:spPr>
          <a:xfrm>
            <a:off x="4635360" y="2044800"/>
            <a:ext cx="480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矩形 22"/>
          <p:cNvSpPr/>
          <p:nvPr/>
        </p:nvSpPr>
        <p:spPr>
          <a:xfrm>
            <a:off x="4756320" y="3352680"/>
            <a:ext cx="2730240" cy="378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您的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TextBox 10"/>
          <p:cNvSpPr/>
          <p:nvPr/>
        </p:nvSpPr>
        <p:spPr>
          <a:xfrm>
            <a:off x="4635360" y="3807000"/>
            <a:ext cx="480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矩形 24"/>
          <p:cNvSpPr/>
          <p:nvPr/>
        </p:nvSpPr>
        <p:spPr>
          <a:xfrm>
            <a:off x="4756320" y="4973760"/>
            <a:ext cx="2730240" cy="377640"/>
          </a:xfrm>
          <a:prstGeom prst="rect">
            <a:avLst/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您的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Box 10"/>
          <p:cNvSpPr/>
          <p:nvPr/>
        </p:nvSpPr>
        <p:spPr>
          <a:xfrm>
            <a:off x="4635360" y="5427720"/>
            <a:ext cx="480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2" name="组合 2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643" name="矩形 1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矩形 26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矩形 27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8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649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1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2" name="组合 7"/>
          <p:cNvGrpSpPr/>
          <p:nvPr/>
        </p:nvGrpSpPr>
        <p:grpSpPr>
          <a:xfrm>
            <a:off x="3921120" y="1881360"/>
            <a:ext cx="2093760" cy="3398760"/>
            <a:chOff x="3921120" y="1881360"/>
            <a:chExt cx="2093760" cy="3398760"/>
          </a:xfrm>
        </p:grpSpPr>
        <p:sp>
          <p:nvSpPr>
            <p:cNvPr id="653" name="上箭头 9"/>
            <p:cNvSpPr/>
            <p:nvPr/>
          </p:nvSpPr>
          <p:spPr>
            <a:xfrm>
              <a:off x="4208400" y="2035440"/>
              <a:ext cx="1550880" cy="3128760"/>
            </a:xfrm>
            <a:prstGeom prst="upArrow">
              <a:avLst>
                <a:gd name="adj1" fmla="val 50000"/>
                <a:gd name="adj2" fmla="val 49968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上箭头 12"/>
            <p:cNvSpPr/>
            <p:nvPr/>
          </p:nvSpPr>
          <p:spPr>
            <a:xfrm>
              <a:off x="3921120" y="1881360"/>
              <a:ext cx="2093760" cy="3398760"/>
            </a:xfrm>
            <a:prstGeom prst="upArrow">
              <a:avLst>
                <a:gd name="adj1" fmla="val 50000"/>
                <a:gd name="adj2" fmla="val 49968"/>
              </a:avLst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5" name="组合 13"/>
          <p:cNvGrpSpPr/>
          <p:nvPr/>
        </p:nvGrpSpPr>
        <p:grpSpPr>
          <a:xfrm>
            <a:off x="6113520" y="2246040"/>
            <a:ext cx="2093760" cy="3398760"/>
            <a:chOff x="6113520" y="2246040"/>
            <a:chExt cx="2093760" cy="3398760"/>
          </a:xfrm>
        </p:grpSpPr>
        <p:sp>
          <p:nvSpPr>
            <p:cNvPr id="656" name="上箭头 14"/>
            <p:cNvSpPr/>
            <p:nvPr/>
          </p:nvSpPr>
          <p:spPr>
            <a:xfrm rot="10800000">
              <a:off x="6369120" y="2361960"/>
              <a:ext cx="1550880" cy="3128760"/>
            </a:xfrm>
            <a:prstGeom prst="upArrow">
              <a:avLst>
                <a:gd name="adj1" fmla="val 50000"/>
                <a:gd name="adj2" fmla="val 49968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上箭头 15"/>
            <p:cNvSpPr/>
            <p:nvPr/>
          </p:nvSpPr>
          <p:spPr>
            <a:xfrm rot="10800000">
              <a:off x="6113520" y="2246040"/>
              <a:ext cx="2093760" cy="3398760"/>
            </a:xfrm>
            <a:prstGeom prst="upArrow">
              <a:avLst>
                <a:gd name="adj1" fmla="val 50000"/>
                <a:gd name="adj2" fmla="val 49968"/>
              </a:avLst>
            </a:prstGeom>
            <a:noFill/>
            <a:ln w="1260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8" name="椭圆 16"/>
          <p:cNvSpPr/>
          <p:nvPr/>
        </p:nvSpPr>
        <p:spPr>
          <a:xfrm>
            <a:off x="6892920" y="4700520"/>
            <a:ext cx="503280" cy="501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7492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椭圆 17"/>
          <p:cNvSpPr/>
          <p:nvPr/>
        </p:nvSpPr>
        <p:spPr>
          <a:xfrm>
            <a:off x="6892920" y="3660840"/>
            <a:ext cx="503280" cy="501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7492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椭圆 18"/>
          <p:cNvSpPr/>
          <p:nvPr/>
        </p:nvSpPr>
        <p:spPr>
          <a:xfrm>
            <a:off x="6892920" y="2622600"/>
            <a:ext cx="503280" cy="501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7492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椭圆 19"/>
          <p:cNvSpPr/>
          <p:nvPr/>
        </p:nvSpPr>
        <p:spPr>
          <a:xfrm>
            <a:off x="4702320" y="2359080"/>
            <a:ext cx="502920" cy="501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7492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椭圆 20"/>
          <p:cNvSpPr/>
          <p:nvPr/>
        </p:nvSpPr>
        <p:spPr>
          <a:xfrm>
            <a:off x="4702320" y="3443400"/>
            <a:ext cx="502920" cy="501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7492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椭圆 21"/>
          <p:cNvSpPr/>
          <p:nvPr/>
        </p:nvSpPr>
        <p:spPr>
          <a:xfrm>
            <a:off x="4732200" y="4527720"/>
            <a:ext cx="503280" cy="471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7492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文本框 22"/>
          <p:cNvSpPr/>
          <p:nvPr/>
        </p:nvSpPr>
        <p:spPr>
          <a:xfrm>
            <a:off x="6558120" y="174960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e7492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文本框 23"/>
          <p:cNvSpPr/>
          <p:nvPr/>
        </p:nvSpPr>
        <p:spPr>
          <a:xfrm>
            <a:off x="4413240" y="532908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e7492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10"/>
          <p:cNvSpPr/>
          <p:nvPr/>
        </p:nvSpPr>
        <p:spPr>
          <a:xfrm>
            <a:off x="674640" y="2035080"/>
            <a:ext cx="2884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10"/>
          <p:cNvSpPr/>
          <p:nvPr/>
        </p:nvSpPr>
        <p:spPr>
          <a:xfrm>
            <a:off x="674640" y="3252960"/>
            <a:ext cx="2884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Box 10"/>
          <p:cNvSpPr/>
          <p:nvPr/>
        </p:nvSpPr>
        <p:spPr>
          <a:xfrm>
            <a:off x="733320" y="4530600"/>
            <a:ext cx="2884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8510760" y="2035080"/>
            <a:ext cx="2885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Box 10"/>
          <p:cNvSpPr/>
          <p:nvPr/>
        </p:nvSpPr>
        <p:spPr>
          <a:xfrm>
            <a:off x="8510760" y="3252960"/>
            <a:ext cx="2885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Box 10"/>
          <p:cNvSpPr/>
          <p:nvPr/>
        </p:nvSpPr>
        <p:spPr>
          <a:xfrm>
            <a:off x="8569440" y="4530600"/>
            <a:ext cx="2884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2" name="组合 30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673" name="矩形 31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矩形 32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矩形 33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8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679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1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组合 7" descr=""/>
          <p:cNvPicPr/>
          <p:nvPr/>
        </p:nvPicPr>
        <p:blipFill>
          <a:blip r:embed="rId1"/>
          <a:stretch/>
        </p:blipFill>
        <p:spPr>
          <a:xfrm>
            <a:off x="1700280" y="2852640"/>
            <a:ext cx="8272440" cy="1596960"/>
          </a:xfrm>
          <a:prstGeom prst="rect">
            <a:avLst/>
          </a:prstGeom>
          <a:ln w="0">
            <a:noFill/>
          </a:ln>
        </p:spPr>
      </p:pic>
      <p:sp>
        <p:nvSpPr>
          <p:cNvPr id="683" name="文本框 17"/>
          <p:cNvSpPr/>
          <p:nvPr/>
        </p:nvSpPr>
        <p:spPr>
          <a:xfrm>
            <a:off x="2178000" y="3656160"/>
            <a:ext cx="7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文本框 18"/>
          <p:cNvSpPr/>
          <p:nvPr/>
        </p:nvSpPr>
        <p:spPr>
          <a:xfrm>
            <a:off x="3638520" y="29574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文本框 19"/>
          <p:cNvSpPr/>
          <p:nvPr/>
        </p:nvSpPr>
        <p:spPr>
          <a:xfrm>
            <a:off x="4910040" y="366408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文本框 20"/>
          <p:cNvSpPr/>
          <p:nvPr/>
        </p:nvSpPr>
        <p:spPr>
          <a:xfrm>
            <a:off x="6135840" y="297324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文本框 21"/>
          <p:cNvSpPr/>
          <p:nvPr/>
        </p:nvSpPr>
        <p:spPr>
          <a:xfrm>
            <a:off x="7429680" y="38052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文本框 22"/>
          <p:cNvSpPr/>
          <p:nvPr/>
        </p:nvSpPr>
        <p:spPr>
          <a:xfrm>
            <a:off x="8767800" y="297324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Box 10"/>
          <p:cNvSpPr/>
          <p:nvPr/>
        </p:nvSpPr>
        <p:spPr>
          <a:xfrm>
            <a:off x="1871640" y="4573440"/>
            <a:ext cx="169848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TextBox 10"/>
          <p:cNvSpPr/>
          <p:nvPr/>
        </p:nvSpPr>
        <p:spPr>
          <a:xfrm>
            <a:off x="3063960" y="1238400"/>
            <a:ext cx="169848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TextBox 10"/>
          <p:cNvSpPr/>
          <p:nvPr/>
        </p:nvSpPr>
        <p:spPr>
          <a:xfrm>
            <a:off x="4255920" y="4573440"/>
            <a:ext cx="16988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TextBox 10"/>
          <p:cNvSpPr/>
          <p:nvPr/>
        </p:nvSpPr>
        <p:spPr>
          <a:xfrm>
            <a:off x="6850080" y="4573440"/>
            <a:ext cx="169848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TextBox 10"/>
          <p:cNvSpPr/>
          <p:nvPr/>
        </p:nvSpPr>
        <p:spPr>
          <a:xfrm>
            <a:off x="5535720" y="1282680"/>
            <a:ext cx="169848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Box 10"/>
          <p:cNvSpPr/>
          <p:nvPr/>
        </p:nvSpPr>
        <p:spPr>
          <a:xfrm>
            <a:off x="8104320" y="1231920"/>
            <a:ext cx="169704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5" name="组合 29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696" name="矩形 30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矩形 31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矩形 32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1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702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4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5" name="组合 13"/>
          <p:cNvGrpSpPr/>
          <p:nvPr/>
        </p:nvGrpSpPr>
        <p:grpSpPr>
          <a:xfrm>
            <a:off x="1941120" y="2646000"/>
            <a:ext cx="1703520" cy="4212000"/>
            <a:chOff x="1941120" y="2646000"/>
            <a:chExt cx="1703520" cy="4212000"/>
          </a:xfrm>
        </p:grpSpPr>
        <p:sp>
          <p:nvSpPr>
            <p:cNvPr id="706" name="弧形 14"/>
            <p:cNvSpPr/>
            <p:nvPr/>
          </p:nvSpPr>
          <p:spPr>
            <a:xfrm rot="8206800">
              <a:off x="2155320" y="2928960"/>
              <a:ext cx="1274760" cy="1131120"/>
            </a:xfrm>
            <a:custGeom>
              <a:avLst/>
              <a:gdLst/>
              <a:ahLst/>
              <a:rect l="l" t="t" r="r" b="b"/>
              <a:pathLst>
                <a:path stroke="0" w="1274603" h="1130864">
                  <a:moveTo>
                    <a:pt x="637301" y="0"/>
                  </a:moveTo>
                  <a:cubicBezTo>
                    <a:pt x="989273" y="0"/>
                    <a:pt x="1274603" y="253153"/>
                    <a:pt x="1274603" y="565432"/>
                  </a:cubicBezTo>
                  <a:lnTo>
                    <a:pt x="637302" y="565432"/>
                  </a:lnTo>
                  <a:cubicBezTo>
                    <a:pt x="637302" y="376955"/>
                    <a:pt x="637301" y="188477"/>
                    <a:pt x="637301" y="0"/>
                  </a:cubicBezTo>
                  <a:close/>
                </a:path>
                <a:path fill="none" w="1274603" h="1130864">
                  <a:moveTo>
                    <a:pt x="637301" y="0"/>
                  </a:moveTo>
                  <a:cubicBezTo>
                    <a:pt x="989273" y="0"/>
                    <a:pt x="1274603" y="253153"/>
                    <a:pt x="1274603" y="565432"/>
                  </a:cubicBezTo>
                </a:path>
              </a:pathLst>
            </a:custGeom>
            <a:noFill/>
            <a:ln w="6480">
              <a:solidFill>
                <a:srgbClr val="0094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直接连接符 15"/>
            <p:cNvSpPr/>
            <p:nvPr/>
          </p:nvSpPr>
          <p:spPr>
            <a:xfrm>
              <a:off x="2741400" y="4075560"/>
              <a:ext cx="0" cy="278244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8" name="椭圆 16"/>
          <p:cNvSpPr/>
          <p:nvPr/>
        </p:nvSpPr>
        <p:spPr>
          <a:xfrm>
            <a:off x="2286000" y="3044880"/>
            <a:ext cx="901800" cy="901800"/>
          </a:xfrm>
          <a:prstGeom prst="ellipse">
            <a:avLst/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9" name="组合 17"/>
          <p:cNvGrpSpPr/>
          <p:nvPr/>
        </p:nvGrpSpPr>
        <p:grpSpPr>
          <a:xfrm>
            <a:off x="3501720" y="1821600"/>
            <a:ext cx="1703160" cy="5036400"/>
            <a:chOff x="3501720" y="1821600"/>
            <a:chExt cx="1703160" cy="5036400"/>
          </a:xfrm>
        </p:grpSpPr>
        <p:sp>
          <p:nvSpPr>
            <p:cNvPr id="710" name="弧形 18"/>
            <p:cNvSpPr/>
            <p:nvPr/>
          </p:nvSpPr>
          <p:spPr>
            <a:xfrm rot="8206800">
              <a:off x="3715560" y="2104560"/>
              <a:ext cx="1274760" cy="1130760"/>
            </a:xfrm>
            <a:custGeom>
              <a:avLst/>
              <a:gdLst/>
              <a:ahLst/>
              <a:rect l="l" t="t" r="r" b="b"/>
              <a:pathLst>
                <a:path stroke="0" w="1274603" h="1130864">
                  <a:moveTo>
                    <a:pt x="637301" y="0"/>
                  </a:moveTo>
                  <a:cubicBezTo>
                    <a:pt x="989273" y="0"/>
                    <a:pt x="1274603" y="253153"/>
                    <a:pt x="1274603" y="565432"/>
                  </a:cubicBezTo>
                  <a:lnTo>
                    <a:pt x="637302" y="565432"/>
                  </a:lnTo>
                  <a:cubicBezTo>
                    <a:pt x="637302" y="376955"/>
                    <a:pt x="637301" y="188477"/>
                    <a:pt x="637301" y="0"/>
                  </a:cubicBezTo>
                  <a:close/>
                </a:path>
                <a:path fill="none" w="1274603" h="1130864">
                  <a:moveTo>
                    <a:pt x="637301" y="0"/>
                  </a:moveTo>
                  <a:cubicBezTo>
                    <a:pt x="989273" y="0"/>
                    <a:pt x="1274603" y="253153"/>
                    <a:pt x="1274603" y="565432"/>
                  </a:cubicBezTo>
                </a:path>
              </a:pathLst>
            </a:custGeom>
            <a:noFill/>
            <a:ln w="6480">
              <a:solidFill>
                <a:srgbClr val="0094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直接连接符 19"/>
            <p:cNvSpPr/>
            <p:nvPr/>
          </p:nvSpPr>
          <p:spPr>
            <a:xfrm>
              <a:off x="4302000" y="3258000"/>
              <a:ext cx="0" cy="360000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2" name="椭圆 20"/>
          <p:cNvSpPr/>
          <p:nvPr/>
        </p:nvSpPr>
        <p:spPr>
          <a:xfrm>
            <a:off x="3757680" y="2013120"/>
            <a:ext cx="1087200" cy="1087200"/>
          </a:xfrm>
          <a:prstGeom prst="ellipse">
            <a:avLst/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3" name="组合 21"/>
          <p:cNvGrpSpPr/>
          <p:nvPr/>
        </p:nvGrpSpPr>
        <p:grpSpPr>
          <a:xfrm>
            <a:off x="4887720" y="2646000"/>
            <a:ext cx="1703520" cy="4212000"/>
            <a:chOff x="4887720" y="2646000"/>
            <a:chExt cx="1703520" cy="4212000"/>
          </a:xfrm>
        </p:grpSpPr>
        <p:sp>
          <p:nvSpPr>
            <p:cNvPr id="714" name="弧形 22"/>
            <p:cNvSpPr/>
            <p:nvPr/>
          </p:nvSpPr>
          <p:spPr>
            <a:xfrm rot="8206800">
              <a:off x="5101920" y="2928960"/>
              <a:ext cx="1274760" cy="1131120"/>
            </a:xfrm>
            <a:custGeom>
              <a:avLst/>
              <a:gdLst/>
              <a:ahLst/>
              <a:rect l="l" t="t" r="r" b="b"/>
              <a:pathLst>
                <a:path stroke="0" w="1274603" h="1130864">
                  <a:moveTo>
                    <a:pt x="637301" y="0"/>
                  </a:moveTo>
                  <a:cubicBezTo>
                    <a:pt x="989273" y="0"/>
                    <a:pt x="1274603" y="253153"/>
                    <a:pt x="1274603" y="565432"/>
                  </a:cubicBezTo>
                  <a:lnTo>
                    <a:pt x="637302" y="565432"/>
                  </a:lnTo>
                  <a:cubicBezTo>
                    <a:pt x="637302" y="376955"/>
                    <a:pt x="637301" y="188477"/>
                    <a:pt x="637301" y="0"/>
                  </a:cubicBezTo>
                  <a:close/>
                </a:path>
                <a:path fill="none" w="1274603" h="1130864">
                  <a:moveTo>
                    <a:pt x="637301" y="0"/>
                  </a:moveTo>
                  <a:cubicBezTo>
                    <a:pt x="989273" y="0"/>
                    <a:pt x="1274603" y="253153"/>
                    <a:pt x="1274603" y="565432"/>
                  </a:cubicBezTo>
                </a:path>
              </a:pathLst>
            </a:custGeom>
            <a:noFill/>
            <a:ln w="6480">
              <a:solidFill>
                <a:srgbClr val="0094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直接连接符 23"/>
            <p:cNvSpPr/>
            <p:nvPr/>
          </p:nvSpPr>
          <p:spPr>
            <a:xfrm>
              <a:off x="5688000" y="4075560"/>
              <a:ext cx="0" cy="278244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6" name="椭圆 24"/>
          <p:cNvSpPr/>
          <p:nvPr/>
        </p:nvSpPr>
        <p:spPr>
          <a:xfrm>
            <a:off x="5237280" y="3102120"/>
            <a:ext cx="901440" cy="901440"/>
          </a:xfrm>
          <a:prstGeom prst="ellips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7" name="图片 25" descr=""/>
          <p:cNvPicPr/>
          <p:nvPr/>
        </p:nvPicPr>
        <p:blipFill>
          <a:blip r:embed="rId2"/>
          <a:stretch/>
        </p:blipFill>
        <p:spPr>
          <a:xfrm>
            <a:off x="5478480" y="3348000"/>
            <a:ext cx="419040" cy="419040"/>
          </a:xfrm>
          <a:prstGeom prst="rect">
            <a:avLst/>
          </a:prstGeom>
          <a:ln w="0">
            <a:noFill/>
          </a:ln>
        </p:spPr>
      </p:pic>
      <p:pic>
        <p:nvPicPr>
          <p:cNvPr id="718" name="图片 26" descr=""/>
          <p:cNvPicPr/>
          <p:nvPr/>
        </p:nvPicPr>
        <p:blipFill>
          <a:blip r:embed="rId3"/>
          <a:stretch/>
        </p:blipFill>
        <p:spPr>
          <a:xfrm>
            <a:off x="2446200" y="323676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719" name="图片 27" descr=""/>
          <p:cNvPicPr/>
          <p:nvPr/>
        </p:nvPicPr>
        <p:blipFill>
          <a:blip r:embed="rId4"/>
          <a:stretch/>
        </p:blipFill>
        <p:spPr>
          <a:xfrm>
            <a:off x="3913200" y="2224080"/>
            <a:ext cx="776160" cy="774720"/>
          </a:xfrm>
          <a:prstGeom prst="rect">
            <a:avLst/>
          </a:prstGeom>
          <a:ln w="0">
            <a:noFill/>
          </a:ln>
        </p:spPr>
      </p:pic>
      <p:sp>
        <p:nvSpPr>
          <p:cNvPr id="720" name="文本框 78"/>
          <p:cNvSpPr/>
          <p:nvPr/>
        </p:nvSpPr>
        <p:spPr>
          <a:xfrm>
            <a:off x="7283520" y="2998800"/>
            <a:ext cx="2843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除了模板的发布与定制，我们还为您准备了使用教程，希望能够能够更好的使用该作品，授人以鱼不如授人以渔，希望您在下班之余，能够和我们一起进步，共同感受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巨大魅力与价值。我们诚祝您在工作中事事顺心，步步高升！最后让我们谨记：最重要的不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流程图: 可选过程 29"/>
          <p:cNvSpPr/>
          <p:nvPr/>
        </p:nvSpPr>
        <p:spPr>
          <a:xfrm>
            <a:off x="7202520" y="2487600"/>
            <a:ext cx="1299960" cy="4111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2" name="组合 30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723" name="矩形 31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矩形 32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矩形 33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8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729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1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2" name="组合 7"/>
          <p:cNvGrpSpPr/>
          <p:nvPr/>
        </p:nvGrpSpPr>
        <p:grpSpPr>
          <a:xfrm>
            <a:off x="2297160" y="1922400"/>
            <a:ext cx="7074000" cy="3881520"/>
            <a:chOff x="2297160" y="1922400"/>
            <a:chExt cx="7074000" cy="3881520"/>
          </a:xfrm>
        </p:grpSpPr>
        <p:sp>
          <p:nvSpPr>
            <p:cNvPr id="733" name="矩形 9"/>
            <p:cNvSpPr/>
            <p:nvPr/>
          </p:nvSpPr>
          <p:spPr>
            <a:xfrm>
              <a:off x="2297160" y="3348720"/>
              <a:ext cx="2227680" cy="100440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直接连接符 12"/>
            <p:cNvSpPr/>
            <p:nvPr/>
          </p:nvSpPr>
          <p:spPr>
            <a:xfrm flipV="1">
              <a:off x="4524840" y="2742840"/>
              <a:ext cx="605160" cy="1107720"/>
            </a:xfrm>
            <a:prstGeom prst="line">
              <a:avLst/>
            </a:prstGeom>
            <a:ln w="648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直接连接符 13"/>
            <p:cNvSpPr/>
            <p:nvPr/>
          </p:nvSpPr>
          <p:spPr>
            <a:xfrm>
              <a:off x="4524840" y="3850920"/>
              <a:ext cx="605160" cy="1094760"/>
            </a:xfrm>
            <a:prstGeom prst="line">
              <a:avLst/>
            </a:prstGeom>
            <a:ln w="648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矩形 14"/>
            <p:cNvSpPr/>
            <p:nvPr/>
          </p:nvSpPr>
          <p:spPr>
            <a:xfrm>
              <a:off x="5130000" y="2414880"/>
              <a:ext cx="1661040" cy="65664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矩形 15"/>
            <p:cNvSpPr/>
            <p:nvPr/>
          </p:nvSpPr>
          <p:spPr>
            <a:xfrm>
              <a:off x="5130000" y="4630320"/>
              <a:ext cx="1661040" cy="65664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矩形 16"/>
            <p:cNvSpPr/>
            <p:nvPr/>
          </p:nvSpPr>
          <p:spPr>
            <a:xfrm>
              <a:off x="7705800" y="1922400"/>
              <a:ext cx="1661040" cy="6566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矩形 17"/>
            <p:cNvSpPr/>
            <p:nvPr/>
          </p:nvSpPr>
          <p:spPr>
            <a:xfrm>
              <a:off x="7710120" y="2950920"/>
              <a:ext cx="1661040" cy="6566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40" name="组合 18"/>
            <p:cNvGrpSpPr/>
            <p:nvPr/>
          </p:nvGrpSpPr>
          <p:grpSpPr>
            <a:xfrm>
              <a:off x="6786000" y="4398120"/>
              <a:ext cx="914040" cy="1077480"/>
              <a:chOff x="6786000" y="4398120"/>
              <a:chExt cx="914040" cy="1077480"/>
            </a:xfrm>
          </p:grpSpPr>
          <p:sp>
            <p:nvSpPr>
              <p:cNvPr id="741" name="直接连接符 31"/>
              <p:cNvSpPr/>
              <p:nvPr/>
            </p:nvSpPr>
            <p:spPr>
              <a:xfrm flipV="1">
                <a:off x="6786000" y="4398120"/>
                <a:ext cx="914040" cy="541080"/>
              </a:xfrm>
              <a:prstGeom prst="line">
                <a:avLst/>
              </a:prstGeom>
              <a:ln w="6480">
                <a:solidFill>
                  <a:srgbClr val="5b9b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2" name="直接连接符 32"/>
              <p:cNvSpPr/>
              <p:nvPr/>
            </p:nvSpPr>
            <p:spPr>
              <a:xfrm>
                <a:off x="6786000" y="4939560"/>
                <a:ext cx="908640" cy="536040"/>
              </a:xfrm>
              <a:prstGeom prst="line">
                <a:avLst/>
              </a:prstGeom>
              <a:ln w="6480">
                <a:solidFill>
                  <a:srgbClr val="5b9b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3" name="矩形 19"/>
            <p:cNvSpPr/>
            <p:nvPr/>
          </p:nvSpPr>
          <p:spPr>
            <a:xfrm>
              <a:off x="7705800" y="4118400"/>
              <a:ext cx="1661040" cy="6566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矩形 20"/>
            <p:cNvSpPr/>
            <p:nvPr/>
          </p:nvSpPr>
          <p:spPr>
            <a:xfrm>
              <a:off x="7710120" y="5147280"/>
              <a:ext cx="1661040" cy="6566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文本框 21"/>
            <p:cNvSpPr/>
            <p:nvPr/>
          </p:nvSpPr>
          <p:spPr>
            <a:xfrm>
              <a:off x="2494080" y="3651120"/>
              <a:ext cx="183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本信息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46" name="组合 22"/>
            <p:cNvGrpSpPr/>
            <p:nvPr/>
          </p:nvGrpSpPr>
          <p:grpSpPr>
            <a:xfrm>
              <a:off x="6793560" y="2202120"/>
              <a:ext cx="914040" cy="1077480"/>
              <a:chOff x="6793560" y="2202120"/>
              <a:chExt cx="914040" cy="1077480"/>
            </a:xfrm>
          </p:grpSpPr>
          <p:sp>
            <p:nvSpPr>
              <p:cNvPr id="747" name="直接连接符 29"/>
              <p:cNvSpPr/>
              <p:nvPr/>
            </p:nvSpPr>
            <p:spPr>
              <a:xfrm flipV="1">
                <a:off x="6793560" y="2202120"/>
                <a:ext cx="914040" cy="541080"/>
              </a:xfrm>
              <a:prstGeom prst="line">
                <a:avLst/>
              </a:prstGeom>
              <a:ln w="6480">
                <a:solidFill>
                  <a:srgbClr val="5b9b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8" name="直接连接符 30"/>
              <p:cNvSpPr/>
              <p:nvPr/>
            </p:nvSpPr>
            <p:spPr>
              <a:xfrm>
                <a:off x="6793560" y="2743560"/>
                <a:ext cx="908640" cy="536040"/>
              </a:xfrm>
              <a:prstGeom prst="line">
                <a:avLst/>
              </a:prstGeom>
              <a:ln w="6480">
                <a:solidFill>
                  <a:srgbClr val="5b9b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9" name="TextBox 1"/>
            <p:cNvSpPr/>
            <p:nvPr/>
          </p:nvSpPr>
          <p:spPr>
            <a:xfrm>
              <a:off x="5186160" y="2512440"/>
              <a:ext cx="160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TextBox 1"/>
            <p:cNvSpPr/>
            <p:nvPr/>
          </p:nvSpPr>
          <p:spPr>
            <a:xfrm>
              <a:off x="7759440" y="2032560"/>
              <a:ext cx="160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TextBox 1"/>
            <p:cNvSpPr/>
            <p:nvPr/>
          </p:nvSpPr>
          <p:spPr>
            <a:xfrm>
              <a:off x="7732800" y="3033000"/>
              <a:ext cx="160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TextBox 1"/>
            <p:cNvSpPr/>
            <p:nvPr/>
          </p:nvSpPr>
          <p:spPr>
            <a:xfrm>
              <a:off x="7719480" y="4215960"/>
              <a:ext cx="160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TextBox 1"/>
            <p:cNvSpPr/>
            <p:nvPr/>
          </p:nvSpPr>
          <p:spPr>
            <a:xfrm>
              <a:off x="5184000" y="4767480"/>
              <a:ext cx="160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TextBox 1"/>
            <p:cNvSpPr/>
            <p:nvPr/>
          </p:nvSpPr>
          <p:spPr>
            <a:xfrm>
              <a:off x="7742880" y="5244840"/>
              <a:ext cx="160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想要的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5" name="组合 33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756" name="矩形 34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矩形 35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矩形 36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1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762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4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5" name="图片 7" descr=""/>
          <p:cNvPicPr/>
          <p:nvPr/>
        </p:nvPicPr>
        <p:blipFill>
          <a:blip r:embed="rId1"/>
          <a:stretch/>
        </p:blipFill>
        <p:spPr>
          <a:xfrm>
            <a:off x="3833640" y="2097000"/>
            <a:ext cx="2202120" cy="2090880"/>
          </a:xfrm>
          <a:prstGeom prst="rect">
            <a:avLst/>
          </a:prstGeom>
          <a:ln w="0">
            <a:noFill/>
          </a:ln>
        </p:spPr>
      </p:pic>
      <p:pic>
        <p:nvPicPr>
          <p:cNvPr id="766" name="图片 9" descr=""/>
          <p:cNvPicPr/>
          <p:nvPr/>
        </p:nvPicPr>
        <p:blipFill>
          <a:blip r:embed="rId2"/>
          <a:stretch/>
        </p:blipFill>
        <p:spPr>
          <a:xfrm>
            <a:off x="6242040" y="2066760"/>
            <a:ext cx="2201760" cy="2121120"/>
          </a:xfrm>
          <a:prstGeom prst="rect">
            <a:avLst/>
          </a:prstGeom>
          <a:ln w="0">
            <a:noFill/>
          </a:ln>
        </p:spPr>
      </p:pic>
      <p:pic>
        <p:nvPicPr>
          <p:cNvPr id="767" name="图片 12" descr=""/>
          <p:cNvPicPr/>
          <p:nvPr/>
        </p:nvPicPr>
        <p:blipFill>
          <a:blip r:embed="rId3"/>
          <a:stretch/>
        </p:blipFill>
        <p:spPr>
          <a:xfrm>
            <a:off x="1425600" y="2084400"/>
            <a:ext cx="2201760" cy="2103480"/>
          </a:xfrm>
          <a:prstGeom prst="rect">
            <a:avLst/>
          </a:prstGeom>
          <a:ln w="0">
            <a:noFill/>
          </a:ln>
        </p:spPr>
      </p:pic>
      <p:pic>
        <p:nvPicPr>
          <p:cNvPr id="768" name="图片 13" descr=""/>
          <p:cNvPicPr/>
          <p:nvPr/>
        </p:nvPicPr>
        <p:blipFill>
          <a:blip r:embed="rId4"/>
          <a:stretch/>
        </p:blipFill>
        <p:spPr>
          <a:xfrm>
            <a:off x="8650440" y="2066760"/>
            <a:ext cx="2201760" cy="2121120"/>
          </a:xfrm>
          <a:prstGeom prst="rect">
            <a:avLst/>
          </a:prstGeom>
          <a:ln w="0">
            <a:noFill/>
          </a:ln>
        </p:spPr>
      </p:pic>
      <p:sp>
        <p:nvSpPr>
          <p:cNvPr id="769" name="椭圆 18"/>
          <p:cNvSpPr/>
          <p:nvPr/>
        </p:nvSpPr>
        <p:spPr>
          <a:xfrm>
            <a:off x="2300400" y="1547640"/>
            <a:ext cx="450720" cy="451080"/>
          </a:xfrm>
          <a:prstGeom prst="ellipse">
            <a:avLst/>
          </a:prstGeom>
          <a:solidFill>
            <a:srgbClr val="008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椭圆 19"/>
          <p:cNvSpPr/>
          <p:nvPr/>
        </p:nvSpPr>
        <p:spPr>
          <a:xfrm>
            <a:off x="4710240" y="1547640"/>
            <a:ext cx="449280" cy="451080"/>
          </a:xfrm>
          <a:prstGeom prst="ellipse">
            <a:avLst/>
          </a:prstGeom>
          <a:solidFill>
            <a:srgbClr val="008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椭圆 20"/>
          <p:cNvSpPr/>
          <p:nvPr/>
        </p:nvSpPr>
        <p:spPr>
          <a:xfrm>
            <a:off x="7077240" y="1547640"/>
            <a:ext cx="450720" cy="451080"/>
          </a:xfrm>
          <a:prstGeom prst="ellipse">
            <a:avLst/>
          </a:prstGeom>
          <a:solidFill>
            <a:srgbClr val="008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椭圆 21"/>
          <p:cNvSpPr/>
          <p:nvPr/>
        </p:nvSpPr>
        <p:spPr>
          <a:xfrm>
            <a:off x="9513720" y="1547640"/>
            <a:ext cx="451080" cy="451080"/>
          </a:xfrm>
          <a:prstGeom prst="ellipse">
            <a:avLst/>
          </a:prstGeom>
          <a:solidFill>
            <a:srgbClr val="008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TextBox 10"/>
          <p:cNvSpPr/>
          <p:nvPr/>
        </p:nvSpPr>
        <p:spPr>
          <a:xfrm>
            <a:off x="1574640" y="4594320"/>
            <a:ext cx="1903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Box 10"/>
          <p:cNvSpPr/>
          <p:nvPr/>
        </p:nvSpPr>
        <p:spPr>
          <a:xfrm>
            <a:off x="1727280" y="4746600"/>
            <a:ext cx="1903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extBox 10"/>
          <p:cNvSpPr/>
          <p:nvPr/>
        </p:nvSpPr>
        <p:spPr>
          <a:xfrm>
            <a:off x="3970440" y="4594320"/>
            <a:ext cx="1903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Box 10"/>
          <p:cNvSpPr/>
          <p:nvPr/>
        </p:nvSpPr>
        <p:spPr>
          <a:xfrm>
            <a:off x="6391440" y="4594320"/>
            <a:ext cx="1903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Box 10"/>
          <p:cNvSpPr/>
          <p:nvPr/>
        </p:nvSpPr>
        <p:spPr>
          <a:xfrm>
            <a:off x="8809200" y="4594320"/>
            <a:ext cx="1903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8" name="图片 1" descr=""/>
          <p:cNvPicPr/>
          <p:nvPr/>
        </p:nvPicPr>
        <p:blipFill>
          <a:blip r:embed="rId5"/>
          <a:stretch/>
        </p:blipFill>
        <p:spPr>
          <a:xfrm>
            <a:off x="2360520" y="4187880"/>
            <a:ext cx="7547040" cy="208080"/>
          </a:xfrm>
          <a:prstGeom prst="rect">
            <a:avLst/>
          </a:prstGeom>
          <a:ln w="0">
            <a:noFill/>
          </a:ln>
        </p:spPr>
      </p:pic>
      <p:grpSp>
        <p:nvGrpSpPr>
          <p:cNvPr id="779" name="组合 27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780" name="矩形 28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矩形 29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矩形 30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5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786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8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9" name="组合 7"/>
          <p:cNvGrpSpPr/>
          <p:nvPr/>
        </p:nvGrpSpPr>
        <p:grpSpPr>
          <a:xfrm>
            <a:off x="7263360" y="2398680"/>
            <a:ext cx="3442320" cy="3442320"/>
            <a:chOff x="7263360" y="2398680"/>
            <a:chExt cx="3442320" cy="3442320"/>
          </a:xfrm>
        </p:grpSpPr>
        <p:sp>
          <p:nvSpPr>
            <p:cNvPr id="790" name="同心圆 9"/>
            <p:cNvSpPr/>
            <p:nvPr/>
          </p:nvSpPr>
          <p:spPr>
            <a:xfrm>
              <a:off x="7683480" y="2819520"/>
              <a:ext cx="2602080" cy="2601720"/>
            </a:xfrm>
            <a:custGeom>
              <a:avLst/>
              <a:gdLst/>
              <a:ahLst/>
              <a:rect l="l" t="t" r="r" b="b"/>
              <a:pathLst>
                <a:path w="2601532" h="2601532">
                  <a:moveTo>
                    <a:pt x="0" y="1300766"/>
                  </a:moveTo>
                  <a:cubicBezTo>
                    <a:pt x="0" y="582373"/>
                    <a:pt x="582373" y="0"/>
                    <a:pt x="1300766" y="0"/>
                  </a:cubicBezTo>
                  <a:cubicBezTo>
                    <a:pt x="2019159" y="0"/>
                    <a:pt x="2601532" y="582373"/>
                    <a:pt x="2601532" y="1300766"/>
                  </a:cubicBezTo>
                  <a:cubicBezTo>
                    <a:pt x="2601532" y="2019159"/>
                    <a:pt x="2019159" y="2601532"/>
                    <a:pt x="1300766" y="2601532"/>
                  </a:cubicBezTo>
                  <a:cubicBezTo>
                    <a:pt x="582373" y="2601532"/>
                    <a:pt x="0" y="2019159"/>
                    <a:pt x="0" y="1300766"/>
                  </a:cubicBezTo>
                  <a:close/>
                  <a:moveTo>
                    <a:pt x="479462" y="1300766"/>
                  </a:moveTo>
                  <a:cubicBezTo>
                    <a:pt x="479462" y="1754360"/>
                    <a:pt x="847172" y="2122070"/>
                    <a:pt x="1300766" y="2122070"/>
                  </a:cubicBezTo>
                  <a:cubicBezTo>
                    <a:pt x="1754360" y="2122070"/>
                    <a:pt x="2122070" y="1754360"/>
                    <a:pt x="2122070" y="1300766"/>
                  </a:cubicBezTo>
                  <a:cubicBezTo>
                    <a:pt x="2122070" y="847172"/>
                    <a:pt x="1754360" y="479462"/>
                    <a:pt x="1300766" y="479462"/>
                  </a:cubicBezTo>
                  <a:cubicBezTo>
                    <a:pt x="847172" y="479462"/>
                    <a:pt x="479462" y="847172"/>
                    <a:pt x="479462" y="1300766"/>
                  </a:cubicBezTo>
                  <a:close/>
                </a:path>
              </a:pathLst>
            </a:custGeom>
            <a:solidFill>
              <a:srgbClr val="008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空心弧 12"/>
            <p:cNvSpPr/>
            <p:nvPr/>
          </p:nvSpPr>
          <p:spPr>
            <a:xfrm rot="14741400">
              <a:off x="7683480" y="2818800"/>
              <a:ext cx="2601720" cy="2602080"/>
            </a:xfrm>
            <a:custGeom>
              <a:avLst/>
              <a:gdLst/>
              <a:ahLst/>
              <a:rect l="l" t="t" r="r" b="b"/>
              <a:pathLst>
                <a:path w="2601532" h="2601532">
                  <a:moveTo>
                    <a:pt x="492477" y="281619"/>
                  </a:moveTo>
                  <a:cubicBezTo>
                    <a:pt x="880549" y="-26162"/>
                    <a:pt x="1409739" y="-86838"/>
                    <a:pt x="1857403" y="125119"/>
                  </a:cubicBezTo>
                  <a:cubicBezTo>
                    <a:pt x="2305067" y="337076"/>
                    <a:pt x="2593507" y="784877"/>
                    <a:pt x="2601368" y="1280122"/>
                  </a:cubicBezTo>
                  <a:lnTo>
                    <a:pt x="2120249" y="1287758"/>
                  </a:lnTo>
                  <a:cubicBezTo>
                    <a:pt x="2115296" y="975714"/>
                    <a:pt x="1933555" y="693563"/>
                    <a:pt x="1651491" y="560014"/>
                  </a:cubicBezTo>
                  <a:cubicBezTo>
                    <a:pt x="1369427" y="426464"/>
                    <a:pt x="1035994" y="464695"/>
                    <a:pt x="791478" y="658622"/>
                  </a:cubicBezTo>
                  <a:lnTo>
                    <a:pt x="492477" y="281619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2" name="组合 13"/>
          <p:cNvGrpSpPr/>
          <p:nvPr/>
        </p:nvGrpSpPr>
        <p:grpSpPr>
          <a:xfrm>
            <a:off x="1732680" y="2437200"/>
            <a:ext cx="3441960" cy="3441960"/>
            <a:chOff x="1732680" y="2437200"/>
            <a:chExt cx="3441960" cy="3441960"/>
          </a:xfrm>
        </p:grpSpPr>
        <p:sp>
          <p:nvSpPr>
            <p:cNvPr id="793" name="同心圆 14"/>
            <p:cNvSpPr/>
            <p:nvPr/>
          </p:nvSpPr>
          <p:spPr>
            <a:xfrm>
              <a:off x="2152800" y="2857680"/>
              <a:ext cx="2601720" cy="2601720"/>
            </a:xfrm>
            <a:custGeom>
              <a:avLst/>
              <a:gdLst/>
              <a:ahLst/>
              <a:rect l="l" t="t" r="r" b="b"/>
              <a:pathLst>
                <a:path w="2601532" h="2601532">
                  <a:moveTo>
                    <a:pt x="0" y="1300766"/>
                  </a:moveTo>
                  <a:cubicBezTo>
                    <a:pt x="0" y="582373"/>
                    <a:pt x="582373" y="0"/>
                    <a:pt x="1300766" y="0"/>
                  </a:cubicBezTo>
                  <a:cubicBezTo>
                    <a:pt x="2019159" y="0"/>
                    <a:pt x="2601532" y="582373"/>
                    <a:pt x="2601532" y="1300766"/>
                  </a:cubicBezTo>
                  <a:cubicBezTo>
                    <a:pt x="2601532" y="2019159"/>
                    <a:pt x="2019159" y="2601532"/>
                    <a:pt x="1300766" y="2601532"/>
                  </a:cubicBezTo>
                  <a:cubicBezTo>
                    <a:pt x="582373" y="2601532"/>
                    <a:pt x="0" y="2019159"/>
                    <a:pt x="0" y="1300766"/>
                  </a:cubicBezTo>
                  <a:close/>
                  <a:moveTo>
                    <a:pt x="479462" y="1300766"/>
                  </a:moveTo>
                  <a:cubicBezTo>
                    <a:pt x="479462" y="1754360"/>
                    <a:pt x="847172" y="2122070"/>
                    <a:pt x="1300766" y="2122070"/>
                  </a:cubicBezTo>
                  <a:cubicBezTo>
                    <a:pt x="1754360" y="2122070"/>
                    <a:pt x="2122070" y="1754360"/>
                    <a:pt x="2122070" y="1300766"/>
                  </a:cubicBezTo>
                  <a:cubicBezTo>
                    <a:pt x="2122070" y="847172"/>
                    <a:pt x="1754360" y="479462"/>
                    <a:pt x="1300766" y="479462"/>
                  </a:cubicBezTo>
                  <a:cubicBezTo>
                    <a:pt x="847172" y="479462"/>
                    <a:pt x="479462" y="847172"/>
                    <a:pt x="479462" y="1300766"/>
                  </a:cubicBezTo>
                  <a:close/>
                </a:path>
              </a:pathLst>
            </a:custGeom>
            <a:solidFill>
              <a:srgbClr val="008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空心弧 15"/>
            <p:cNvSpPr/>
            <p:nvPr/>
          </p:nvSpPr>
          <p:spPr>
            <a:xfrm rot="14741400">
              <a:off x="2152800" y="2856960"/>
              <a:ext cx="2601720" cy="2601720"/>
            </a:xfrm>
            <a:custGeom>
              <a:avLst/>
              <a:gdLst/>
              <a:ahLst/>
              <a:rect l="l" t="t" r="r" b="b"/>
              <a:pathLst>
                <a:path w="2601532" h="2601532">
                  <a:moveTo>
                    <a:pt x="1848431" y="120912"/>
                  </a:moveTo>
                  <a:cubicBezTo>
                    <a:pt x="2300939" y="330957"/>
                    <a:pt x="2593450" y="781302"/>
                    <a:pt x="2601369" y="1280121"/>
                  </a:cubicBezTo>
                  <a:lnTo>
                    <a:pt x="2120249" y="1287758"/>
                  </a:lnTo>
                  <a:cubicBezTo>
                    <a:pt x="2115260" y="973462"/>
                    <a:pt x="1930954" y="689709"/>
                    <a:pt x="1645838" y="557363"/>
                  </a:cubicBezTo>
                  <a:lnTo>
                    <a:pt x="1848431" y="12091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5" name="组合 16"/>
          <p:cNvGrpSpPr/>
          <p:nvPr/>
        </p:nvGrpSpPr>
        <p:grpSpPr>
          <a:xfrm>
            <a:off x="5614920" y="3849480"/>
            <a:ext cx="908280" cy="441360"/>
            <a:chOff x="5614920" y="3849480"/>
            <a:chExt cx="908280" cy="441360"/>
          </a:xfrm>
        </p:grpSpPr>
        <p:sp>
          <p:nvSpPr>
            <p:cNvPr id="796" name="等腰三角形 17"/>
            <p:cNvSpPr/>
            <p:nvPr/>
          </p:nvSpPr>
          <p:spPr>
            <a:xfrm rot="5400000">
              <a:off x="6112440" y="3880080"/>
              <a:ext cx="441000" cy="380160"/>
            </a:xfrm>
            <a:prstGeom prst="triangle">
              <a:avLst>
                <a:gd name="adj" fmla="val 50000"/>
              </a:avLst>
            </a:prstGeom>
            <a:solidFill>
              <a:srgbClr val="008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等腰三角形 18"/>
            <p:cNvSpPr/>
            <p:nvPr/>
          </p:nvSpPr>
          <p:spPr>
            <a:xfrm rot="16200000">
              <a:off x="5584320" y="3879720"/>
              <a:ext cx="441000" cy="380160"/>
            </a:xfrm>
            <a:prstGeom prst="triangle">
              <a:avLst>
                <a:gd name="adj" fmla="val 50000"/>
              </a:avLst>
            </a:prstGeom>
            <a:solidFill>
              <a:srgbClr val="008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8" name="文本框 19"/>
          <p:cNvSpPr/>
          <p:nvPr/>
        </p:nvSpPr>
        <p:spPr>
          <a:xfrm>
            <a:off x="3084480" y="3936960"/>
            <a:ext cx="8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文本框 20"/>
          <p:cNvSpPr/>
          <p:nvPr/>
        </p:nvSpPr>
        <p:spPr>
          <a:xfrm>
            <a:off x="8543880" y="3859200"/>
            <a:ext cx="8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文本框 21"/>
          <p:cNvSpPr/>
          <p:nvPr/>
        </p:nvSpPr>
        <p:spPr>
          <a:xfrm>
            <a:off x="2886120" y="5587920"/>
            <a:ext cx="12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文本框 22"/>
          <p:cNvSpPr/>
          <p:nvPr/>
        </p:nvSpPr>
        <p:spPr>
          <a:xfrm>
            <a:off x="8639280" y="5510160"/>
            <a:ext cx="12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TextBox 10"/>
          <p:cNvSpPr/>
          <p:nvPr/>
        </p:nvSpPr>
        <p:spPr>
          <a:xfrm>
            <a:off x="1577880" y="1871640"/>
            <a:ext cx="389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TextBox 10"/>
          <p:cNvSpPr/>
          <p:nvPr/>
        </p:nvSpPr>
        <p:spPr>
          <a:xfrm>
            <a:off x="7002360" y="1870200"/>
            <a:ext cx="370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4" name="组合 25"/>
          <p:cNvGrpSpPr/>
          <p:nvPr/>
        </p:nvGrpSpPr>
        <p:grpSpPr>
          <a:xfrm>
            <a:off x="0" y="6634080"/>
            <a:ext cx="12192120" cy="223920"/>
            <a:chOff x="0" y="6634080"/>
            <a:chExt cx="12192120" cy="223920"/>
          </a:xfrm>
        </p:grpSpPr>
        <p:sp>
          <p:nvSpPr>
            <p:cNvPr id="805" name="矩形 26"/>
            <p:cNvSpPr/>
            <p:nvPr/>
          </p:nvSpPr>
          <p:spPr>
            <a:xfrm>
              <a:off x="0" y="6634080"/>
              <a:ext cx="3916440" cy="22392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矩形 27"/>
            <p:cNvSpPr/>
            <p:nvPr/>
          </p:nvSpPr>
          <p:spPr>
            <a:xfrm>
              <a:off x="3916440" y="6634080"/>
              <a:ext cx="3916440" cy="22392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矩形 28"/>
            <p:cNvSpPr/>
            <p:nvPr/>
          </p:nvSpPr>
          <p:spPr>
            <a:xfrm>
              <a:off x="7832880" y="6634080"/>
              <a:ext cx="4359240" cy="223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8" name="组合 29"/>
          <p:cNvGrpSpPr/>
          <p:nvPr/>
        </p:nvGrpSpPr>
        <p:grpSpPr>
          <a:xfrm>
            <a:off x="152280" y="6786720"/>
            <a:ext cx="12192120" cy="223560"/>
            <a:chOff x="152280" y="6786720"/>
            <a:chExt cx="12192120" cy="223560"/>
          </a:xfrm>
        </p:grpSpPr>
        <p:sp>
          <p:nvSpPr>
            <p:cNvPr id="809" name="矩形 30"/>
            <p:cNvSpPr/>
            <p:nvPr/>
          </p:nvSpPr>
          <p:spPr>
            <a:xfrm>
              <a:off x="152280" y="6786720"/>
              <a:ext cx="3916440" cy="223560"/>
            </a:xfrm>
            <a:prstGeom prst="rect">
              <a:avLst/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矩形 31"/>
            <p:cNvSpPr/>
            <p:nvPr/>
          </p:nvSpPr>
          <p:spPr>
            <a:xfrm>
              <a:off x="4068720" y="6786720"/>
              <a:ext cx="3916440" cy="223560"/>
            </a:xfrm>
            <a:prstGeom prst="rect">
              <a:avLst/>
            </a:prstGeom>
            <a:solidFill>
              <a:srgbClr val="05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矩形 32"/>
            <p:cNvSpPr/>
            <p:nvPr/>
          </p:nvSpPr>
          <p:spPr>
            <a:xfrm>
              <a:off x="7985160" y="6786720"/>
              <a:ext cx="4359240" cy="2235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平行四边形 3"/>
          <p:cNvSpPr/>
          <p:nvPr/>
        </p:nvSpPr>
        <p:spPr>
          <a:xfrm>
            <a:off x="347760" y="231840"/>
            <a:ext cx="476280" cy="412560"/>
          </a:xfrm>
          <a:prstGeom prst="parallelogram">
            <a:avLst>
              <a:gd name="adj" fmla="val 37439"/>
            </a:avLst>
          </a:prstGeom>
          <a:solidFill>
            <a:srgbClr val="0094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平行四边形 4"/>
          <p:cNvSpPr/>
          <p:nvPr/>
        </p:nvSpPr>
        <p:spPr>
          <a:xfrm>
            <a:off x="773280" y="231840"/>
            <a:ext cx="475920" cy="412560"/>
          </a:xfrm>
          <a:prstGeom prst="parallelogram">
            <a:avLst>
              <a:gd name="adj" fmla="val 37411"/>
            </a:avLst>
          </a:prstGeom>
          <a:solidFill>
            <a:srgbClr val="05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4" name="组合 10"/>
          <p:cNvGrpSpPr/>
          <p:nvPr/>
        </p:nvGrpSpPr>
        <p:grpSpPr>
          <a:xfrm>
            <a:off x="1011240" y="450720"/>
            <a:ext cx="5029200" cy="181080"/>
            <a:chOff x="1011240" y="450720"/>
            <a:chExt cx="5029200" cy="181080"/>
          </a:xfrm>
        </p:grpSpPr>
        <p:sp>
          <p:nvSpPr>
            <p:cNvPr id="815" name="直接连接符 6"/>
            <p:cNvSpPr/>
            <p:nvPr/>
          </p:nvSpPr>
          <p:spPr>
            <a:xfrm>
              <a:off x="1011240" y="631800"/>
              <a:ext cx="5003640" cy="0"/>
            </a:xfrm>
            <a:prstGeom prst="line">
              <a:avLst/>
            </a:prstGeom>
            <a:ln w="6480">
              <a:solidFill>
                <a:srgbClr val="0094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等腰三角形 8"/>
            <p:cNvSpPr/>
            <p:nvPr/>
          </p:nvSpPr>
          <p:spPr>
            <a:xfrm>
              <a:off x="5628600" y="450720"/>
              <a:ext cx="411840" cy="181080"/>
            </a:xfrm>
            <a:prstGeom prst="triangle">
              <a:avLst>
                <a:gd name="adj" fmla="val 0"/>
              </a:avLst>
            </a:prstGeom>
            <a:solidFill>
              <a:srgbClr val="009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7" name="文本框 11"/>
          <p:cNvSpPr/>
          <p:nvPr/>
        </p:nvSpPr>
        <p:spPr>
          <a:xfrm>
            <a:off x="1577880" y="14112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同心圆 7"/>
          <p:cNvSpPr/>
          <p:nvPr/>
        </p:nvSpPr>
        <p:spPr>
          <a:xfrm>
            <a:off x="4753080" y="2467080"/>
            <a:ext cx="2523960" cy="2523960"/>
          </a:xfrm>
          <a:custGeom>
            <a:avLst/>
            <a:gdLst/>
            <a:ahLst/>
            <a:rect l="l" t="t" r="r" b="b"/>
            <a:pathLst>
              <a:path w="2524259" h="2524259">
                <a:moveTo>
                  <a:pt x="0" y="1262130"/>
                </a:moveTo>
                <a:cubicBezTo>
                  <a:pt x="0" y="565075"/>
                  <a:pt x="565075" y="0"/>
                  <a:pt x="1262130" y="0"/>
                </a:cubicBezTo>
                <a:cubicBezTo>
                  <a:pt x="1959185" y="0"/>
                  <a:pt x="2524260" y="565075"/>
                  <a:pt x="2524260" y="1262130"/>
                </a:cubicBezTo>
                <a:cubicBezTo>
                  <a:pt x="2524260" y="1959185"/>
                  <a:pt x="1959185" y="2524260"/>
                  <a:pt x="1262130" y="2524260"/>
                </a:cubicBezTo>
                <a:cubicBezTo>
                  <a:pt x="565075" y="2524260"/>
                  <a:pt x="0" y="1959185"/>
                  <a:pt x="0" y="1262130"/>
                </a:cubicBezTo>
                <a:close/>
                <a:moveTo>
                  <a:pt x="294833" y="1262130"/>
                </a:moveTo>
                <a:cubicBezTo>
                  <a:pt x="294833" y="1796353"/>
                  <a:pt x="727906" y="2229426"/>
                  <a:pt x="1262129" y="2229426"/>
                </a:cubicBezTo>
                <a:cubicBezTo>
                  <a:pt x="1796352" y="2229426"/>
                  <a:pt x="2229425" y="1796353"/>
                  <a:pt x="2229425" y="1262130"/>
                </a:cubicBezTo>
                <a:cubicBezTo>
                  <a:pt x="2229425" y="727907"/>
                  <a:pt x="1796352" y="294834"/>
                  <a:pt x="1262129" y="294834"/>
                </a:cubicBezTo>
                <a:cubicBezTo>
                  <a:pt x="727906" y="294834"/>
                  <a:pt x="294833" y="727907"/>
                  <a:pt x="294833" y="1262130"/>
                </a:cubicBez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50000">
                <a:srgbClr val="0082b0"/>
              </a:gs>
              <a:gs pos="100000">
                <a:srgbClr val="00b0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任意多边形 9"/>
          <p:cNvSpPr/>
          <p:nvPr/>
        </p:nvSpPr>
        <p:spPr>
          <a:xfrm>
            <a:off x="6173640" y="2340000"/>
            <a:ext cx="3686400" cy="523800"/>
          </a:xfrm>
          <a:custGeom>
            <a:avLst/>
            <a:gdLst/>
            <a:ahLst/>
            <a:rect l="l" t="t" r="r" b="b"/>
            <a:pathLst>
              <a:path w="3686997" h="523478">
                <a:moveTo>
                  <a:pt x="37916" y="0"/>
                </a:moveTo>
                <a:lnTo>
                  <a:pt x="3425258" y="0"/>
                </a:lnTo>
                <a:cubicBezTo>
                  <a:pt x="3569812" y="0"/>
                  <a:pt x="3686997" y="117185"/>
                  <a:pt x="3686997" y="261739"/>
                </a:cubicBezTo>
                <a:lnTo>
                  <a:pt x="3686996" y="261739"/>
                </a:lnTo>
                <a:cubicBezTo>
                  <a:pt x="3686996" y="406293"/>
                  <a:pt x="3569811" y="523478"/>
                  <a:pt x="3425257" y="523478"/>
                </a:cubicBezTo>
                <a:lnTo>
                  <a:pt x="946197" y="523477"/>
                </a:lnTo>
                <a:lnTo>
                  <a:pt x="898204" y="459297"/>
                </a:lnTo>
                <a:cubicBezTo>
                  <a:pt x="692432" y="209960"/>
                  <a:pt x="392762" y="40987"/>
                  <a:pt x="53329" y="6515"/>
                </a:cubicBezTo>
                <a:lnTo>
                  <a:pt x="0" y="3823"/>
                </a:lnTo>
                <a:lnTo>
                  <a:pt x="37916" y="0"/>
                </a:ln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50000">
                <a:srgbClr val="0082b0"/>
              </a:gs>
              <a:gs pos="100000">
                <a:srgbClr val="00b0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任意多边形 12"/>
          <p:cNvSpPr/>
          <p:nvPr/>
        </p:nvSpPr>
        <p:spPr>
          <a:xfrm rot="10800000">
            <a:off x="2168280" y="4593960"/>
            <a:ext cx="3686040" cy="523800"/>
          </a:xfrm>
          <a:custGeom>
            <a:avLst/>
            <a:gdLst/>
            <a:ahLst/>
            <a:rect l="l" t="t" r="r" b="b"/>
            <a:pathLst>
              <a:path w="3686997" h="523478">
                <a:moveTo>
                  <a:pt x="37916" y="0"/>
                </a:moveTo>
                <a:lnTo>
                  <a:pt x="3425258" y="0"/>
                </a:lnTo>
                <a:cubicBezTo>
                  <a:pt x="3569812" y="0"/>
                  <a:pt x="3686997" y="117185"/>
                  <a:pt x="3686997" y="261739"/>
                </a:cubicBezTo>
                <a:lnTo>
                  <a:pt x="3686996" y="261739"/>
                </a:lnTo>
                <a:cubicBezTo>
                  <a:pt x="3686996" y="406293"/>
                  <a:pt x="3569811" y="523478"/>
                  <a:pt x="3425257" y="523478"/>
                </a:cubicBezTo>
                <a:lnTo>
                  <a:pt x="946197" y="523477"/>
                </a:lnTo>
                <a:lnTo>
                  <a:pt x="898204" y="459297"/>
                </a:lnTo>
                <a:cubicBezTo>
                  <a:pt x="692432" y="209960"/>
                  <a:pt x="392762" y="40987"/>
                  <a:pt x="53329" y="6515"/>
                </a:cubicBezTo>
                <a:lnTo>
                  <a:pt x="0" y="3823"/>
                </a:lnTo>
                <a:lnTo>
                  <a:pt x="37916" y="0"/>
                </a:ln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50000">
                <a:srgbClr val="0082b0"/>
              </a:gs>
              <a:gs pos="100000">
                <a:srgbClr val="00b0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文本框 13"/>
          <p:cNvSpPr/>
          <p:nvPr/>
        </p:nvSpPr>
        <p:spPr>
          <a:xfrm>
            <a:off x="7589880" y="2417760"/>
            <a:ext cx="16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文本框 14"/>
          <p:cNvSpPr/>
          <p:nvPr/>
        </p:nvSpPr>
        <p:spPr>
          <a:xfrm>
            <a:off x="2806560" y="4670280"/>
            <a:ext cx="16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Box 10"/>
          <p:cNvSpPr/>
          <p:nvPr/>
        </p:nvSpPr>
        <p:spPr>
          <a:xfrm>
            <a:off x="2689200" y="2943360"/>
            <a:ext cx="1866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Box 10"/>
          <p:cNvSpPr/>
          <p:nvPr/>
        </p:nvSpPr>
        <p:spPr>
          <a:xfrm>
            <a:off x="7472520" y="3024360"/>
            <a:ext cx="186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5" name="图片 17" descr=""/>
          <p:cNvPicPr/>
          <p:nvPr/>
        </p:nvPicPr>
        <p:blipFill>
          <a:blip r:embed="rId1"/>
          <a:stretch/>
        </p:blipFill>
        <p:spPr>
          <a:xfrm>
            <a:off x="5405400" y="3119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5T10:04:21Z</dcterms:created>
  <dc:creator>admin</dc:creator>
  <dc:description/>
  <dc:language>en-US</dc:language>
  <cp:lastModifiedBy>大蛀虫</cp:lastModifiedBy>
  <dcterms:modified xsi:type="dcterms:W3CDTF">2015-06-28T11:53:37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