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12B-9391-431E-AEA5-6BD43FBA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9AC-7813-49EC-8E66-0E5BB518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3CBAB-570F-466C-88C2-0D9E2673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3EDD-F2E9-4290-8922-8DDDE12A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0A5C-FFB5-4A95-8D62-B1D77E8D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6D6E3-6382-4D98-9763-28584A5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20BF6-C054-4E16-9F30-4C56428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CA35D-FB56-4A8F-AFFD-6749C997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7F93-0DF3-4759-B5BB-5FC69E34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991D-1223-4795-98F7-6A212026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EDCD2-EA84-45E1-A03A-9A7B2E85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000E1-0B67-47AE-A768-836886F9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6BA-4293-4A50-A801-885BFE9C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DCF9E-113B-4BBE-AA3E-446742D5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E78A4-A727-4DC1-A46F-A6481CCF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7D8F6-5797-4E3C-AAB3-2325B87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3C6DB-0510-4623-887D-E54BFF5F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AF23B-4AF6-480B-8376-FF3916E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3C978-4FA8-49C8-8A05-ADA0BE8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089CB-11DA-49D5-BCCE-DE1ECF7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74AFF-EC11-4B24-ACEE-643F462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A0A9B-60C3-4305-A5AC-0C843FF1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004B2-1837-47AB-8C21-F0104D93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09B-E105-43B3-BFE7-8F6A5AFC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DBDE3-4E8B-4ACC-BF43-44CB6282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7C226-C96F-4A4F-81BB-6F8FC882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45EA9-DE26-494E-BD7A-01063ECC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D4597-B90D-4DE7-A437-13FAC168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3BA90-65A8-488B-B94B-A06BDA86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D1A9A-B6E7-4980-9B2B-D1D7F5A8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7DA2E-42C8-474E-812F-589B322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910FB-2790-4A43-8F2F-12078B36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01D76-1B30-4825-BBDB-0C37C1F4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590AC-94F9-4AB2-9E9B-580AA55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855F-B94B-430A-91D1-00C4DA72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C65D3-8BD2-42ED-860D-5695A0E8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4AD65-758D-44D3-A7CB-249650C1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65EF4-9EB4-48B1-B3E4-6C903DF8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17E2C-975D-419A-9A65-8ECDCE8C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9D3DF-61D1-474C-A041-846B58C8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DC171-8DE9-4AC4-9D65-7310168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4ED2-CDE9-4412-8915-643542FC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44E6E-693C-4DE0-8C58-99480915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47A9D-BCF9-41C8-818C-18FC6134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13115-05A7-4664-A42E-53AF4B7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7DCD-CC4E-4DBE-9F46-299EC97E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63BAC-C23D-4113-A96E-02F6866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81537-B644-4341-8938-2449881A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D8D97-CDA9-45D9-A534-2CDB279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3FB5E-A940-45A8-AC36-3137701B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7EFF2-DD4D-446F-9FE5-BF4A451E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13048-E14F-48BB-805D-61C1BD9A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135F3-BABF-4281-B10A-64B6EBFC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85792-9378-4BE2-8BF1-F14C794D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4FFD3-50F3-4184-9906-7B7F909C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24982-460D-4BD7-8013-42E27785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C46F-2A85-461A-9BB8-64A8D454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19BC0-9DF5-424B-A5FD-D8277EE3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CDEF5-422F-41AB-A050-E2AC2AD4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B1D76-C13C-4A0A-8BC4-9F8C363E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27339-3784-454B-98AB-3863C15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97E77-EDCE-468C-B83A-410E7594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E79E8-1B8D-44A2-AD68-51148640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21831-BED4-4C31-AA79-CD117DD3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53DF7-0590-439A-87A0-1DC0F8FF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46F64-33B0-4BD7-931A-FAB83A2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91097-B9B8-4436-9A91-B6418132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B97B-CE7C-4F09-9325-F45283F1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19440-8998-4A59-B93F-ADEAF126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C8F9D-94FE-4F99-AA1E-56080A4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003FF-CFD3-4852-892C-2414ED47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C8B35-7F7E-4520-94E3-D8E2C9A9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C8BCD-2C2B-495E-87B2-74ED654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7E3A49-ECA3-47B2-BF66-6DE6E18C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E0487-91D8-4C1E-8DC6-37B91DBD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7D193-DF06-4AEB-9358-ED5B0DE7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02396-C356-4EBD-9B91-BEAE8E30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3F968-2445-4CC7-9022-68667C90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3A8D-0FAB-46AA-A20E-3CD41255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D7A335-6B65-40E8-A40A-2B57845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0B85B-AEEC-4FDD-A1AA-9E3CC59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A639E-F5B2-407C-907D-7AB70855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8C44E-E976-40B0-994D-865CA757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0D259-EF6E-4553-B8BE-8E3373F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8920B-44C4-4F58-AB69-348EB2B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99856-A5EF-412E-9D5F-671192D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C4B1C-5A43-4E2D-87A6-39A48CFE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67801-9B52-4E6D-AA20-CD285FAD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62819-CA36-488A-97D1-0E520A10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AC23-ECDB-419B-84F9-27B24C58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8CF72-B8A7-44F7-B986-67A1F009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1757-5DA0-49D3-A02C-E7E01D5E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376-26C5-46D7-9676-56E8621C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48FC-B444-4CE5-9655-8A6835E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7ED7-4AB4-4FF1-89CE-1C9A0F6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891E-493B-4538-B39C-AFD3A00C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EA75-36FE-4C3D-858B-07D90E36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EE65-4553-473F-AF8C-C26B9DE1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F1F-F3E1-4A85-851A-8306E42B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74DF-6855-48D5-AA04-CE7A1B73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97AB-1DC9-466A-8567-69F4D18A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3ED3-B625-4E31-99D3-844C1406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C1D-A449-4EA4-9C2D-B764DBC6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0BE1-5C3A-4632-B95C-B4163B18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D5CD-74EC-4A4C-99C9-5C39D0A8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F9B1-CE06-46FC-8972-578D6351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B7B3-8CD7-41ED-8437-1B843DC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2578-B5C5-412D-90B4-5A79634A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A921-8BAE-4AFC-A560-754F08A4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95B2-24AC-4527-AC34-6191729C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94D3-F37E-4C87-AA3D-A0363715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97D5-A33F-4C98-B67F-F1E0E3B8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63F17-7EA6-4D4C-B99D-AB84170C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4E6-F0C3-4A34-808B-0D4521AA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D944B-5B15-4583-A3F4-C901734F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0BC0-D412-4D04-A999-C3BE6359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C4DF-DD0B-4E23-842A-A11A2B85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8C256-599A-4DE7-9081-F96373F1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45D5-8912-4B6F-8AC8-B76FA635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4F36-746E-4371-AD92-9E38B6D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710D4-99D9-41DB-A045-3D4121FD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9C0A-4FF1-4B98-9607-240D5BE2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B0267-59E2-438C-881A-E0C2E78E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8887-3DC8-476D-9E3B-2AA3C65C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409-DD95-475F-874A-5F769E79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F884-6116-4668-A5DD-43E8A620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0AF9C-8B10-4450-8921-4B67F091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BED1D-270D-44E4-B9C1-69567F1D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0774-0232-49C1-B432-CE641DEA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59691-0AC7-4BDD-BD4E-CA94A86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A61CE-C8DC-45D5-9AFA-EF58CC9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7D8B7-69FC-4FFB-A2A3-B1E77AE9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C2D1A-A87D-4BD0-9894-ECC99FB6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89D2-56EF-41CA-9E70-B2B9E4A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1442D-4E6C-46CA-8544-390F7664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E50-D5CD-4F13-A4FF-228E6CBF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3423-D19D-4B3D-8E3A-BC759A1A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4D2A-AB2E-413E-9FDB-DCF9D3FB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0AF6-423E-4759-9BD5-5D99BAA6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2D5E9-D854-4A40-BCC0-825153FF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5710-74C6-4495-979E-5F647227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E2125-1905-4CA4-AB08-272A9C62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4F5B0-77F6-4493-8224-8866133A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0A94C-D0FE-496C-AF73-597F872A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2859-EA0D-4D64-B0A1-45FA923B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5F62-E3AF-4168-A134-5EFAF2B2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C30-03AF-4470-9893-F603D22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8CBF5-5122-4815-A87F-B0D1DB96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E1B5C-4C20-4FC6-8C75-EC40D8F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06CCF-2048-44D9-9E75-386C3544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12727-AB6E-46F5-831C-00FE9F93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C1010-A28C-4737-8D70-3CEF85B5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5DFE-87B2-41AA-8E06-0BB0574B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23D3A-88DD-4C18-B040-64537A60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411D3-2E76-46D8-AB19-45F47D6E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0ECA5-1157-4329-AE31-4A6CE056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00DD5-E952-4C7A-82EE-1F4CAD8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D80-0E02-47D9-8759-12E648F4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D8917-6523-45D6-877A-25043FD7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DD67-1344-43B7-BD9C-78CCB338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48C5-3B9E-4EA3-BE01-6D53DAD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9D299-0ABC-48E2-93E3-59CB80CA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BAE2-CAB0-436E-9020-E01A4904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6F78-5632-4996-9ADD-B44FABF7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5953-6F74-4F64-B118-6A4BB1CB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E3F0E-270B-4561-A9A8-CD9077C7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83BB7-01B5-4520-A433-0AC1204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FE5D-7A31-4FA9-B31F-61528E35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85B1-E536-4A95-96D0-463E12890F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87B-A27E-4853-94E3-7E8767E3E6C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8B6-F7F6-4C2C-87E2-256A212133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4CF5-91DC-4D4F-A9F7-B9E358D5FED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F603-FEC9-4BFB-A24A-D9483A3D85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FAF-2E03-4307-9204-A1023FC8071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33D7-7EE8-4A35-ADC2-B7F94AA944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BF3A-ED2E-4C33-82DB-14C945A7C1B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5DCF-AE72-4DD1-822E-F633CA9175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767C-FC15-4464-ADFD-C83B6E7F20A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FE1C-015A-4A34-99B3-4D4542BFA3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C745-0E44-4D89-97FC-2D078C916BE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88C3-B76A-442A-AC3A-FE43B4F5A8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BAD7-6761-4E39-9D4B-1B4C63EC6B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21B-74EE-4B81-AB3F-9DE2B390F2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7A59-7B6E-4380-B4AA-0E4524ECD2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9CB6-D075-4600-B554-94A4D1D4A9E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5F9E-64B7-4CB6-9C28-68EBE570F5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5B96-04FB-4798-BFFD-489ADED233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B621-394B-4CA9-B888-C94D77E040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0F22-438E-4E40-BE9F-7EABE68887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5A1-7959-49DC-AB04-6734AFCAE1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2541-10BB-455E-98FC-85D399322C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8DE6-B2D3-458D-A4D3-FBA69457B4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5AB5-DB10-4097-97E5-D9A321776F0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85E7-D88D-475D-8DD4-0EDBDD4AE4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3" descr=""/>
          <p:cNvPicPr/>
          <p:nvPr/>
        </p:nvPicPr>
        <p:blipFill>
          <a:blip r:embed="rId2"/>
          <a:srcRect l="33460" t="4937" r="0" b="34328"/>
          <a:stretch/>
        </p:blipFill>
        <p:spPr>
          <a:xfrm>
            <a:off x="-133200" y="2827440"/>
            <a:ext cx="6721200" cy="37526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1"/>
          <p:cNvSpPr/>
          <p:nvPr/>
        </p:nvSpPr>
        <p:spPr>
          <a:xfrm>
            <a:off x="2901960" y="1681200"/>
            <a:ext cx="652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商务清新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22"/>
          <p:cNvSpPr/>
          <p:nvPr/>
        </p:nvSpPr>
        <p:spPr>
          <a:xfrm>
            <a:off x="2901960" y="2448000"/>
            <a:ext cx="47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1" descr=""/>
          <p:cNvPicPr/>
          <p:nvPr/>
        </p:nvPicPr>
        <p:blipFill>
          <a:blip r:embed="rId3"/>
          <a:stretch/>
        </p:blipFill>
        <p:spPr>
          <a:xfrm>
            <a:off x="1477800" y="1569960"/>
            <a:ext cx="154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椭圆 7"/>
          <p:cNvSpPr/>
          <p:nvPr/>
        </p:nvSpPr>
        <p:spPr>
          <a:xfrm>
            <a:off x="2182680" y="170964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椭圆 9"/>
          <p:cNvSpPr/>
          <p:nvPr/>
        </p:nvSpPr>
        <p:spPr>
          <a:xfrm>
            <a:off x="1249200" y="2975040"/>
            <a:ext cx="1265400" cy="126684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椭圆 12"/>
          <p:cNvSpPr/>
          <p:nvPr/>
        </p:nvSpPr>
        <p:spPr>
          <a:xfrm>
            <a:off x="2182680" y="427356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6788160" y="2343240"/>
            <a:ext cx="430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组合 14" descr=""/>
          <p:cNvPicPr/>
          <p:nvPr/>
        </p:nvPicPr>
        <p:blipFill>
          <a:blip r:embed="rId1"/>
          <a:stretch/>
        </p:blipFill>
        <p:spPr>
          <a:xfrm>
            <a:off x="3255840" y="2365200"/>
            <a:ext cx="2863800" cy="2517840"/>
          </a:xfrm>
          <a:prstGeom prst="rect">
            <a:avLst/>
          </a:prstGeom>
          <a:ln w="0">
            <a:noFill/>
          </a:ln>
        </p:spPr>
      </p:pic>
      <p:sp>
        <p:nvSpPr>
          <p:cNvPr id="837" name="文本框 21"/>
          <p:cNvSpPr/>
          <p:nvPr/>
        </p:nvSpPr>
        <p:spPr>
          <a:xfrm>
            <a:off x="6757920" y="197316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0"/>
          <p:cNvSpPr/>
          <p:nvPr/>
        </p:nvSpPr>
        <p:spPr>
          <a:xfrm>
            <a:off x="6818400" y="364176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23"/>
          <p:cNvSpPr/>
          <p:nvPr/>
        </p:nvSpPr>
        <p:spPr>
          <a:xfrm>
            <a:off x="6786720" y="3271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0"/>
          <p:cNvSpPr/>
          <p:nvPr/>
        </p:nvSpPr>
        <p:spPr>
          <a:xfrm>
            <a:off x="6818400" y="500220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25"/>
          <p:cNvSpPr/>
          <p:nvPr/>
        </p:nvSpPr>
        <p:spPr>
          <a:xfrm>
            <a:off x="6786720" y="46324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五角星 26"/>
          <p:cNvSpPr/>
          <p:nvPr/>
        </p:nvSpPr>
        <p:spPr>
          <a:xfrm>
            <a:off x="2625840" y="238284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27"/>
          <p:cNvSpPr/>
          <p:nvPr/>
        </p:nvSpPr>
        <p:spPr>
          <a:xfrm>
            <a:off x="2516040" y="1920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五角星 28"/>
          <p:cNvSpPr/>
          <p:nvPr/>
        </p:nvSpPr>
        <p:spPr>
          <a:xfrm>
            <a:off x="1650960" y="3622680"/>
            <a:ext cx="38268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29"/>
          <p:cNvSpPr/>
          <p:nvPr/>
        </p:nvSpPr>
        <p:spPr>
          <a:xfrm>
            <a:off x="1542960" y="316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五角星 30"/>
          <p:cNvSpPr/>
          <p:nvPr/>
        </p:nvSpPr>
        <p:spPr>
          <a:xfrm>
            <a:off x="2637000" y="495792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31"/>
          <p:cNvSpPr/>
          <p:nvPr/>
        </p:nvSpPr>
        <p:spPr>
          <a:xfrm>
            <a:off x="2527200" y="4495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8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49" name="矩形 33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矩形 34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矩形 35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组合 36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53" name="矩形 37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矩形 38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39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5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组合 7"/>
          <p:cNvGrpSpPr/>
          <p:nvPr/>
        </p:nvGrpSpPr>
        <p:grpSpPr>
          <a:xfrm>
            <a:off x="1127160" y="1801800"/>
            <a:ext cx="2984400" cy="2840040"/>
            <a:chOff x="1127160" y="1801800"/>
            <a:chExt cx="2984400" cy="2840040"/>
          </a:xfrm>
        </p:grpSpPr>
        <p:sp>
          <p:nvSpPr>
            <p:cNvPr id="863" name="椭圆形标注 9"/>
            <p:cNvSpPr/>
            <p:nvPr/>
          </p:nvSpPr>
          <p:spPr>
            <a:xfrm>
              <a:off x="1127160" y="1801800"/>
              <a:ext cx="2984400" cy="2840040"/>
            </a:xfrm>
            <a:prstGeom prst="wedgeEllipseCallout">
              <a:avLst>
                <a:gd name="adj1" fmla="val -17379"/>
                <a:gd name="adj2" fmla="val 5977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4" name="图片 12" descr=""/>
            <p:cNvPicPr/>
            <p:nvPr/>
          </p:nvPicPr>
          <p:blipFill>
            <a:blip r:embed="rId1"/>
            <a:stretch/>
          </p:blipFill>
          <p:spPr>
            <a:xfrm>
              <a:off x="1487160" y="2108520"/>
              <a:ext cx="2237760" cy="22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组合 13"/>
          <p:cNvGrpSpPr/>
          <p:nvPr/>
        </p:nvGrpSpPr>
        <p:grpSpPr>
          <a:xfrm>
            <a:off x="5572080" y="3375000"/>
            <a:ext cx="5254560" cy="204840"/>
            <a:chOff x="5572080" y="3375000"/>
            <a:chExt cx="5254560" cy="204840"/>
          </a:xfrm>
        </p:grpSpPr>
        <p:sp>
          <p:nvSpPr>
            <p:cNvPr id="866" name="矩形 14"/>
            <p:cNvSpPr/>
            <p:nvPr/>
          </p:nvSpPr>
          <p:spPr>
            <a:xfrm>
              <a:off x="5572080" y="3375000"/>
              <a:ext cx="5254560" cy="2048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矩形 15"/>
            <p:cNvSpPr/>
            <p:nvPr/>
          </p:nvSpPr>
          <p:spPr>
            <a:xfrm>
              <a:off x="5572080" y="3375000"/>
              <a:ext cx="4185720" cy="2048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8" name="组合 16"/>
          <p:cNvGrpSpPr/>
          <p:nvPr/>
        </p:nvGrpSpPr>
        <p:grpSpPr>
          <a:xfrm>
            <a:off x="5572080" y="4060800"/>
            <a:ext cx="5254560" cy="206280"/>
            <a:chOff x="5572080" y="4060800"/>
            <a:chExt cx="5254560" cy="206280"/>
          </a:xfrm>
        </p:grpSpPr>
        <p:sp>
          <p:nvSpPr>
            <p:cNvPr id="869" name="矩形 17"/>
            <p:cNvSpPr/>
            <p:nvPr/>
          </p:nvSpPr>
          <p:spPr>
            <a:xfrm>
              <a:off x="5572080" y="40608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矩形 18"/>
            <p:cNvSpPr/>
            <p:nvPr/>
          </p:nvSpPr>
          <p:spPr>
            <a:xfrm>
              <a:off x="5572080" y="4060800"/>
              <a:ext cx="3374280" cy="206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1" name="组合 19"/>
          <p:cNvGrpSpPr/>
          <p:nvPr/>
        </p:nvGrpSpPr>
        <p:grpSpPr>
          <a:xfrm>
            <a:off x="5572080" y="4746600"/>
            <a:ext cx="5254560" cy="206280"/>
            <a:chOff x="5572080" y="4746600"/>
            <a:chExt cx="5254560" cy="206280"/>
          </a:xfrm>
        </p:grpSpPr>
        <p:sp>
          <p:nvSpPr>
            <p:cNvPr id="872" name="矩形 20"/>
            <p:cNvSpPr/>
            <p:nvPr/>
          </p:nvSpPr>
          <p:spPr>
            <a:xfrm>
              <a:off x="5572080" y="47466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矩形 21"/>
            <p:cNvSpPr/>
            <p:nvPr/>
          </p:nvSpPr>
          <p:spPr>
            <a:xfrm>
              <a:off x="5572080" y="4746600"/>
              <a:ext cx="4803840" cy="206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4" name="组合 22"/>
          <p:cNvGrpSpPr/>
          <p:nvPr/>
        </p:nvGrpSpPr>
        <p:grpSpPr>
          <a:xfrm>
            <a:off x="5572080" y="5630760"/>
            <a:ext cx="5254560" cy="206640"/>
            <a:chOff x="5572080" y="5630760"/>
            <a:chExt cx="5254560" cy="206640"/>
          </a:xfrm>
        </p:grpSpPr>
        <p:sp>
          <p:nvSpPr>
            <p:cNvPr id="875" name="矩形 23"/>
            <p:cNvSpPr/>
            <p:nvPr/>
          </p:nvSpPr>
          <p:spPr>
            <a:xfrm>
              <a:off x="5572080" y="5630760"/>
              <a:ext cx="5254560" cy="20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矩形 24"/>
            <p:cNvSpPr/>
            <p:nvPr/>
          </p:nvSpPr>
          <p:spPr>
            <a:xfrm>
              <a:off x="5572080" y="5630760"/>
              <a:ext cx="4482000" cy="20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7" name="TextBox 10"/>
          <p:cNvSpPr/>
          <p:nvPr/>
        </p:nvSpPr>
        <p:spPr>
          <a:xfrm>
            <a:off x="5572080" y="215280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26"/>
          <p:cNvSpPr/>
          <p:nvPr/>
        </p:nvSpPr>
        <p:spPr>
          <a:xfrm>
            <a:off x="5572080" y="1844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27"/>
          <p:cNvSpPr/>
          <p:nvPr/>
        </p:nvSpPr>
        <p:spPr>
          <a:xfrm>
            <a:off x="5572080" y="29494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28"/>
          <p:cNvSpPr/>
          <p:nvPr/>
        </p:nvSpPr>
        <p:spPr>
          <a:xfrm>
            <a:off x="5572080" y="36860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29"/>
          <p:cNvSpPr/>
          <p:nvPr/>
        </p:nvSpPr>
        <p:spPr>
          <a:xfrm>
            <a:off x="5572080" y="43797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30"/>
          <p:cNvSpPr/>
          <p:nvPr/>
        </p:nvSpPr>
        <p:spPr>
          <a:xfrm>
            <a:off x="5495760" y="5264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图片 33" descr=""/>
          <p:cNvPicPr/>
          <p:nvPr/>
        </p:nvPicPr>
        <p:blipFill>
          <a:blip r:embed="rId2"/>
          <a:stretch/>
        </p:blipFill>
        <p:spPr>
          <a:xfrm>
            <a:off x="1011240" y="539604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34" descr=""/>
          <p:cNvPicPr/>
          <p:nvPr/>
        </p:nvPicPr>
        <p:blipFill>
          <a:blip r:embed="rId3"/>
          <a:stretch/>
        </p:blipFill>
        <p:spPr>
          <a:xfrm>
            <a:off x="1927080" y="5396040"/>
            <a:ext cx="513000" cy="51264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35" descr=""/>
          <p:cNvPicPr/>
          <p:nvPr/>
        </p:nvPicPr>
        <p:blipFill>
          <a:blip r:embed="rId4"/>
          <a:stretch/>
        </p:blipFill>
        <p:spPr>
          <a:xfrm>
            <a:off x="2843280" y="5396040"/>
            <a:ext cx="514440" cy="512640"/>
          </a:xfrm>
          <a:prstGeom prst="rect">
            <a:avLst/>
          </a:prstGeom>
          <a:ln w="0">
            <a:noFill/>
          </a:ln>
        </p:spPr>
      </p:pic>
      <p:sp>
        <p:nvSpPr>
          <p:cNvPr id="886" name="文本框 36"/>
          <p:cNvSpPr/>
          <p:nvPr/>
        </p:nvSpPr>
        <p:spPr>
          <a:xfrm>
            <a:off x="1731960" y="4962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88" name="矩形 37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矩形 38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矩形 39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94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6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组合 7"/>
          <p:cNvGrpSpPr/>
          <p:nvPr/>
        </p:nvGrpSpPr>
        <p:grpSpPr>
          <a:xfrm>
            <a:off x="1481040" y="1622520"/>
            <a:ext cx="4533840" cy="4198680"/>
            <a:chOff x="1481040" y="1622520"/>
            <a:chExt cx="4533840" cy="4198680"/>
          </a:xfrm>
        </p:grpSpPr>
        <p:pic>
          <p:nvPicPr>
            <p:cNvPr id="898" name="图片 9" descr=""/>
            <p:cNvPicPr/>
            <p:nvPr/>
          </p:nvPicPr>
          <p:blipFill>
            <a:blip r:embed="rId1"/>
            <a:srcRect l="63386" t="0" r="0" b="0"/>
            <a:stretch/>
          </p:blipFill>
          <p:spPr>
            <a:xfrm>
              <a:off x="1481040" y="1622520"/>
              <a:ext cx="246024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矩形 12"/>
            <p:cNvSpPr/>
            <p:nvPr/>
          </p:nvSpPr>
          <p:spPr>
            <a:xfrm>
              <a:off x="3941280" y="1622520"/>
              <a:ext cx="2073600" cy="419868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13"/>
          <p:cNvGrpSpPr/>
          <p:nvPr/>
        </p:nvGrpSpPr>
        <p:grpSpPr>
          <a:xfrm>
            <a:off x="6554880" y="1622520"/>
            <a:ext cx="4521240" cy="4198680"/>
            <a:chOff x="6554880" y="1622520"/>
            <a:chExt cx="4521240" cy="4198680"/>
          </a:xfrm>
        </p:grpSpPr>
        <p:pic>
          <p:nvPicPr>
            <p:cNvPr id="901" name="图片 14" descr=""/>
            <p:cNvPicPr/>
            <p:nvPr/>
          </p:nvPicPr>
          <p:blipFill>
            <a:blip r:embed="rId2"/>
            <a:srcRect l="63576" t="0" r="0" b="0"/>
            <a:stretch/>
          </p:blipFill>
          <p:spPr>
            <a:xfrm>
              <a:off x="6554880" y="1622520"/>
              <a:ext cx="244728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矩形 15"/>
            <p:cNvSpPr/>
            <p:nvPr/>
          </p:nvSpPr>
          <p:spPr>
            <a:xfrm>
              <a:off x="9002160" y="1622520"/>
              <a:ext cx="2073960" cy="41986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3" name="TextBox 10"/>
          <p:cNvSpPr/>
          <p:nvPr/>
        </p:nvSpPr>
        <p:spPr>
          <a:xfrm>
            <a:off x="4176720" y="236232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17"/>
          <p:cNvSpPr/>
          <p:nvPr/>
        </p:nvSpPr>
        <p:spPr>
          <a:xfrm>
            <a:off x="417672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0"/>
          <p:cNvSpPr/>
          <p:nvPr/>
        </p:nvSpPr>
        <p:spPr>
          <a:xfrm>
            <a:off x="417024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19"/>
          <p:cNvSpPr/>
          <p:nvPr/>
        </p:nvSpPr>
        <p:spPr>
          <a:xfrm>
            <a:off x="4170240" y="3778200"/>
            <a:ext cx="11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0"/>
          <p:cNvSpPr/>
          <p:nvPr/>
        </p:nvSpPr>
        <p:spPr>
          <a:xfrm>
            <a:off x="9398160" y="2362320"/>
            <a:ext cx="166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文本框 21"/>
          <p:cNvSpPr/>
          <p:nvPr/>
        </p:nvSpPr>
        <p:spPr>
          <a:xfrm>
            <a:off x="939816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0"/>
          <p:cNvSpPr/>
          <p:nvPr/>
        </p:nvSpPr>
        <p:spPr>
          <a:xfrm>
            <a:off x="939168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23"/>
          <p:cNvSpPr/>
          <p:nvPr/>
        </p:nvSpPr>
        <p:spPr>
          <a:xfrm>
            <a:off x="9391680" y="3778200"/>
            <a:ext cx="11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24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12" name="矩形 25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18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0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直接连接符 7"/>
          <p:cNvSpPr/>
          <p:nvPr/>
        </p:nvSpPr>
        <p:spPr>
          <a:xfrm flipV="1">
            <a:off x="2828880" y="5660640"/>
            <a:ext cx="1870200" cy="5619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直接连接符 9"/>
          <p:cNvSpPr/>
          <p:nvPr/>
        </p:nvSpPr>
        <p:spPr>
          <a:xfrm flipH="1" flipV="1">
            <a:off x="3911760" y="5181480"/>
            <a:ext cx="801360" cy="4651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直接连接符 12"/>
          <p:cNvSpPr/>
          <p:nvPr/>
        </p:nvSpPr>
        <p:spPr>
          <a:xfrm flipV="1">
            <a:off x="3897360" y="4000680"/>
            <a:ext cx="2630520" cy="1180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直接连接符 13"/>
          <p:cNvSpPr/>
          <p:nvPr/>
        </p:nvSpPr>
        <p:spPr>
          <a:xfrm>
            <a:off x="6527880" y="4000680"/>
            <a:ext cx="722160" cy="661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直接连接符 14"/>
          <p:cNvSpPr/>
          <p:nvPr/>
        </p:nvSpPr>
        <p:spPr>
          <a:xfrm flipV="1">
            <a:off x="7250040" y="3606840"/>
            <a:ext cx="2049480" cy="10555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椭圆 15"/>
          <p:cNvSpPr/>
          <p:nvPr/>
        </p:nvSpPr>
        <p:spPr>
          <a:xfrm>
            <a:off x="4635360" y="5597640"/>
            <a:ext cx="12708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椭圆 16"/>
          <p:cNvSpPr/>
          <p:nvPr/>
        </p:nvSpPr>
        <p:spPr>
          <a:xfrm>
            <a:off x="3882960" y="5132520"/>
            <a:ext cx="12564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椭圆 17"/>
          <p:cNvSpPr/>
          <p:nvPr/>
        </p:nvSpPr>
        <p:spPr>
          <a:xfrm>
            <a:off x="6464160" y="396396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椭圆 18"/>
          <p:cNvSpPr/>
          <p:nvPr/>
        </p:nvSpPr>
        <p:spPr>
          <a:xfrm>
            <a:off x="7186680" y="460692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椭圆 19"/>
          <p:cNvSpPr/>
          <p:nvPr/>
        </p:nvSpPr>
        <p:spPr>
          <a:xfrm>
            <a:off x="2751120" y="617364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椭圆 20"/>
          <p:cNvSpPr/>
          <p:nvPr/>
        </p:nvSpPr>
        <p:spPr>
          <a:xfrm>
            <a:off x="9236160" y="352908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标注 21"/>
          <p:cNvSpPr/>
          <p:nvPr/>
        </p:nvSpPr>
        <p:spPr>
          <a:xfrm>
            <a:off x="2630520" y="5568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标注 22"/>
          <p:cNvSpPr/>
          <p:nvPr/>
        </p:nvSpPr>
        <p:spPr>
          <a:xfrm>
            <a:off x="4549680" y="5046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标注 23"/>
          <p:cNvSpPr/>
          <p:nvPr/>
        </p:nvSpPr>
        <p:spPr>
          <a:xfrm>
            <a:off x="6319800" y="338940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矩形标注 24"/>
          <p:cNvSpPr/>
          <p:nvPr/>
        </p:nvSpPr>
        <p:spPr>
          <a:xfrm>
            <a:off x="9097920" y="29336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矩形标注 25"/>
          <p:cNvSpPr/>
          <p:nvPr/>
        </p:nvSpPr>
        <p:spPr>
          <a:xfrm>
            <a:off x="7165800" y="4905360"/>
            <a:ext cx="1027440" cy="366840"/>
          </a:xfrm>
          <a:prstGeom prst="wedgeRectCallout">
            <a:avLst>
              <a:gd name="adj1" fmla="val -37268"/>
              <a:gd name="adj2" fmla="val -8629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标注 26"/>
          <p:cNvSpPr/>
          <p:nvPr/>
        </p:nvSpPr>
        <p:spPr>
          <a:xfrm>
            <a:off x="3657600" y="4368960"/>
            <a:ext cx="1027080" cy="368280"/>
          </a:xfrm>
          <a:prstGeom prst="wedgeRectCallout">
            <a:avLst>
              <a:gd name="adj1" fmla="val -27680"/>
              <a:gd name="adj2" fmla="val 10496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10"/>
          <p:cNvSpPr/>
          <p:nvPr/>
        </p:nvSpPr>
        <p:spPr>
          <a:xfrm>
            <a:off x="1874880" y="1976400"/>
            <a:ext cx="836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28"/>
          <p:cNvSpPr/>
          <p:nvPr/>
        </p:nvSpPr>
        <p:spPr>
          <a:xfrm>
            <a:off x="1868400" y="1560600"/>
            <a:ext cx="18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0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41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47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直接连接符 7"/>
          <p:cNvSpPr/>
          <p:nvPr/>
        </p:nvSpPr>
        <p:spPr>
          <a:xfrm>
            <a:off x="1920960" y="3848040"/>
            <a:ext cx="85136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椭圆 9"/>
          <p:cNvSpPr/>
          <p:nvPr/>
        </p:nvSpPr>
        <p:spPr>
          <a:xfrm>
            <a:off x="4406760" y="2932200"/>
            <a:ext cx="1816200" cy="181584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椭圆 12"/>
          <p:cNvSpPr/>
          <p:nvPr/>
        </p:nvSpPr>
        <p:spPr>
          <a:xfrm>
            <a:off x="6040440" y="2932200"/>
            <a:ext cx="1816200" cy="1815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文本框 13"/>
          <p:cNvSpPr/>
          <p:nvPr/>
        </p:nvSpPr>
        <p:spPr>
          <a:xfrm>
            <a:off x="4527720" y="365616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文本框 14"/>
          <p:cNvSpPr/>
          <p:nvPr/>
        </p:nvSpPr>
        <p:spPr>
          <a:xfrm>
            <a:off x="6161040" y="366228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5"/>
          <p:cNvGrpSpPr/>
          <p:nvPr/>
        </p:nvGrpSpPr>
        <p:grpSpPr>
          <a:xfrm>
            <a:off x="1889280" y="2214720"/>
            <a:ext cx="2022480" cy="1066320"/>
            <a:chOff x="1889280" y="2214720"/>
            <a:chExt cx="2022480" cy="1066320"/>
          </a:xfrm>
        </p:grpSpPr>
        <p:sp>
          <p:nvSpPr>
            <p:cNvPr id="956" name="文本框 16"/>
            <p:cNvSpPr/>
            <p:nvPr/>
          </p:nvSpPr>
          <p:spPr>
            <a:xfrm>
              <a:off x="188928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TextBox 35"/>
            <p:cNvSpPr/>
            <p:nvPr/>
          </p:nvSpPr>
          <p:spPr>
            <a:xfrm>
              <a:off x="189036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8" name="组合 18"/>
          <p:cNvGrpSpPr/>
          <p:nvPr/>
        </p:nvGrpSpPr>
        <p:grpSpPr>
          <a:xfrm>
            <a:off x="8412120" y="2214720"/>
            <a:ext cx="2022480" cy="1066320"/>
            <a:chOff x="8412120" y="2214720"/>
            <a:chExt cx="2022480" cy="1066320"/>
          </a:xfrm>
        </p:grpSpPr>
        <p:sp>
          <p:nvSpPr>
            <p:cNvPr id="959" name="文本框 19"/>
            <p:cNvSpPr/>
            <p:nvPr/>
          </p:nvSpPr>
          <p:spPr>
            <a:xfrm>
              <a:off x="841212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TextBox 35"/>
            <p:cNvSpPr/>
            <p:nvPr/>
          </p:nvSpPr>
          <p:spPr>
            <a:xfrm>
              <a:off x="841320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1" name="组合 21"/>
          <p:cNvGrpSpPr/>
          <p:nvPr/>
        </p:nvGrpSpPr>
        <p:grpSpPr>
          <a:xfrm>
            <a:off x="1889280" y="4135320"/>
            <a:ext cx="2022480" cy="1066320"/>
            <a:chOff x="1889280" y="4135320"/>
            <a:chExt cx="2022480" cy="1066320"/>
          </a:xfrm>
        </p:grpSpPr>
        <p:sp>
          <p:nvSpPr>
            <p:cNvPr id="962" name="文本框 22"/>
            <p:cNvSpPr/>
            <p:nvPr/>
          </p:nvSpPr>
          <p:spPr>
            <a:xfrm>
              <a:off x="188928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TextBox 35"/>
            <p:cNvSpPr/>
            <p:nvPr/>
          </p:nvSpPr>
          <p:spPr>
            <a:xfrm>
              <a:off x="189036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4" name="组合 24"/>
          <p:cNvGrpSpPr/>
          <p:nvPr/>
        </p:nvGrpSpPr>
        <p:grpSpPr>
          <a:xfrm>
            <a:off x="8412120" y="4135320"/>
            <a:ext cx="2022480" cy="1066320"/>
            <a:chOff x="8412120" y="4135320"/>
            <a:chExt cx="2022480" cy="1066320"/>
          </a:xfrm>
        </p:grpSpPr>
        <p:sp>
          <p:nvSpPr>
            <p:cNvPr id="965" name="文本框 25"/>
            <p:cNvSpPr/>
            <p:nvPr/>
          </p:nvSpPr>
          <p:spPr>
            <a:xfrm>
              <a:off x="841212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TextBox 35"/>
            <p:cNvSpPr/>
            <p:nvPr/>
          </p:nvSpPr>
          <p:spPr>
            <a:xfrm>
              <a:off x="841320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7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68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任意多边形 23"/>
          <p:cNvSpPr/>
          <p:nvPr/>
        </p:nvSpPr>
        <p:spPr>
          <a:xfrm flipV="1">
            <a:off x="0" y="192600"/>
            <a:ext cx="12201480" cy="4081320"/>
          </a:xfrm>
          <a:custGeom>
            <a:avLst/>
            <a:gdLst/>
            <a:ahLst/>
            <a:rect l="l" t="t" r="r" b="b"/>
            <a:pathLst>
              <a:path w="12201987" h="4082606">
                <a:moveTo>
                  <a:pt x="804061" y="4082606"/>
                </a:moveTo>
                <a:lnTo>
                  <a:pt x="2047460" y="4082606"/>
                </a:lnTo>
                <a:lnTo>
                  <a:pt x="2623035" y="2638119"/>
                </a:lnTo>
                <a:lnTo>
                  <a:pt x="7328452" y="4082606"/>
                </a:lnTo>
                <a:lnTo>
                  <a:pt x="12201987" y="4082606"/>
                </a:lnTo>
                <a:lnTo>
                  <a:pt x="12201987" y="3915013"/>
                </a:lnTo>
                <a:lnTo>
                  <a:pt x="2132415" y="684186"/>
                </a:lnTo>
                <a:lnTo>
                  <a:pt x="804061" y="4082606"/>
                </a:lnTo>
                <a:close/>
                <a:moveTo>
                  <a:pt x="0" y="4082606"/>
                </a:moveTo>
                <a:lnTo>
                  <a:pt x="519489" y="4082606"/>
                </a:lnTo>
                <a:lnTo>
                  <a:pt x="1879555" y="603056"/>
                </a:lnTo>
                <a:lnTo>
                  <a:pt x="0" y="0"/>
                </a:lnTo>
                <a:lnTo>
                  <a:pt x="0" y="4082606"/>
                </a:lnTo>
                <a:close/>
              </a:path>
            </a:pathLst>
          </a:cu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任意多边形 21"/>
          <p:cNvSpPr/>
          <p:nvPr/>
        </p:nvSpPr>
        <p:spPr>
          <a:xfrm flipV="1" rot="10800000">
            <a:off x="-360" y="659160"/>
            <a:ext cx="12192120" cy="6761160"/>
          </a:xfrm>
          <a:custGeom>
            <a:avLst/>
            <a:gdLst/>
            <a:ahLst/>
            <a:rect l="l" t="t" r="r" b="b"/>
            <a:pathLst>
              <a:path w="12192000" h="6761344">
                <a:moveTo>
                  <a:pt x="3875109" y="1243330"/>
                </a:moveTo>
                <a:lnTo>
                  <a:pt x="1718260" y="6761344"/>
                </a:lnTo>
                <a:lnTo>
                  <a:pt x="12192000" y="6761344"/>
                </a:lnTo>
                <a:lnTo>
                  <a:pt x="12192000" y="3911808"/>
                </a:lnTo>
                <a:lnTo>
                  <a:pt x="3875109" y="1243330"/>
                </a:lnTo>
                <a:close/>
                <a:moveTo>
                  <a:pt x="0" y="0"/>
                </a:moveTo>
                <a:lnTo>
                  <a:pt x="0" y="6761344"/>
                </a:lnTo>
                <a:lnTo>
                  <a:pt x="1454836" y="6761344"/>
                </a:lnTo>
                <a:lnTo>
                  <a:pt x="3641039" y="116822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任意多边形 27"/>
          <p:cNvSpPr/>
          <p:nvPr/>
        </p:nvSpPr>
        <p:spPr>
          <a:xfrm>
            <a:off x="0" y="0"/>
            <a:ext cx="12201480" cy="193680"/>
          </a:xfrm>
          <a:custGeom>
            <a:avLst/>
            <a:gdLst/>
            <a:ahLst/>
            <a:rect l="l" t="t" r="r" b="b"/>
            <a:pathLst>
              <a:path w="12201987" h="193179">
                <a:moveTo>
                  <a:pt x="8831145" y="0"/>
                </a:moveTo>
                <a:lnTo>
                  <a:pt x="12201987" y="0"/>
                </a:lnTo>
                <a:lnTo>
                  <a:pt x="12201987" y="193179"/>
                </a:lnTo>
                <a:lnTo>
                  <a:pt x="8947310" y="193179"/>
                </a:lnTo>
                <a:lnTo>
                  <a:pt x="8831145" y="0"/>
                </a:lnTo>
                <a:close/>
                <a:moveTo>
                  <a:pt x="0" y="0"/>
                </a:moveTo>
                <a:lnTo>
                  <a:pt x="8516501" y="0"/>
                </a:lnTo>
                <a:lnTo>
                  <a:pt x="8632666" y="193179"/>
                </a:lnTo>
                <a:lnTo>
                  <a:pt x="0" y="19317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文本框 25"/>
          <p:cNvSpPr/>
          <p:nvPr/>
        </p:nvSpPr>
        <p:spPr>
          <a:xfrm rot="20510400">
            <a:off x="2641680" y="2800440"/>
            <a:ext cx="618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20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接连接符 13"/>
          <p:cNvSpPr/>
          <p:nvPr/>
        </p:nvSpPr>
        <p:spPr>
          <a:xfrm>
            <a:off x="4368960" y="1106640"/>
            <a:ext cx="0" cy="5157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椭圆 14"/>
          <p:cNvSpPr/>
          <p:nvPr/>
        </p:nvSpPr>
        <p:spPr>
          <a:xfrm>
            <a:off x="4300560" y="194472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椭圆 15"/>
          <p:cNvSpPr/>
          <p:nvPr/>
        </p:nvSpPr>
        <p:spPr>
          <a:xfrm>
            <a:off x="4300560" y="362124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椭圆 16"/>
          <p:cNvSpPr/>
          <p:nvPr/>
        </p:nvSpPr>
        <p:spPr>
          <a:xfrm>
            <a:off x="4300560" y="529920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2358360" y="1107000"/>
            <a:ext cx="1803960" cy="1803960"/>
            <a:chOff x="2358360" y="1107000"/>
            <a:chExt cx="1803960" cy="1803960"/>
          </a:xfrm>
        </p:grpSpPr>
        <p:sp>
          <p:nvSpPr>
            <p:cNvPr id="628" name="泪滴形 7"/>
            <p:cNvSpPr/>
            <p:nvPr/>
          </p:nvSpPr>
          <p:spPr>
            <a:xfrm rot="2700000">
              <a:off x="2622960" y="1370520"/>
              <a:ext cx="12747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文本框 17"/>
            <p:cNvSpPr/>
            <p:nvPr/>
          </p:nvSpPr>
          <p:spPr>
            <a:xfrm>
              <a:off x="2951640" y="18090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组合 28"/>
          <p:cNvGrpSpPr/>
          <p:nvPr/>
        </p:nvGrpSpPr>
        <p:grpSpPr>
          <a:xfrm>
            <a:off x="2358000" y="2783880"/>
            <a:ext cx="1805040" cy="1804680"/>
            <a:chOff x="2358000" y="2783880"/>
            <a:chExt cx="1805040" cy="1804680"/>
          </a:xfrm>
        </p:grpSpPr>
        <p:sp>
          <p:nvSpPr>
            <p:cNvPr id="631" name="泪滴形 9"/>
            <p:cNvSpPr/>
            <p:nvPr/>
          </p:nvSpPr>
          <p:spPr>
            <a:xfrm rot="2700000">
              <a:off x="2622240" y="3048120"/>
              <a:ext cx="127620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文本框 18"/>
            <p:cNvSpPr/>
            <p:nvPr/>
          </p:nvSpPr>
          <p:spPr>
            <a:xfrm>
              <a:off x="2954160" y="348588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组合 29"/>
          <p:cNvGrpSpPr/>
          <p:nvPr/>
        </p:nvGrpSpPr>
        <p:grpSpPr>
          <a:xfrm>
            <a:off x="2357640" y="4460040"/>
            <a:ext cx="1805040" cy="1805040"/>
            <a:chOff x="2357640" y="4460040"/>
            <a:chExt cx="1805040" cy="1805040"/>
          </a:xfrm>
        </p:grpSpPr>
        <p:sp>
          <p:nvSpPr>
            <p:cNvPr id="634" name="泪滴形 12"/>
            <p:cNvSpPr/>
            <p:nvPr/>
          </p:nvSpPr>
          <p:spPr>
            <a:xfrm rot="2700000">
              <a:off x="2621880" y="4724280"/>
              <a:ext cx="12765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文本框 19"/>
            <p:cNvSpPr/>
            <p:nvPr/>
          </p:nvSpPr>
          <p:spPr>
            <a:xfrm>
              <a:off x="2954160" y="51624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矩形 20"/>
          <p:cNvSpPr/>
          <p:nvPr/>
        </p:nvSpPr>
        <p:spPr>
          <a:xfrm>
            <a:off x="4756320" y="1592280"/>
            <a:ext cx="2730240" cy="37620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4635360" y="20448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4756320" y="3352680"/>
            <a:ext cx="2730240" cy="37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0"/>
          <p:cNvSpPr/>
          <p:nvPr/>
        </p:nvSpPr>
        <p:spPr>
          <a:xfrm>
            <a:off x="4635360" y="38070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4"/>
          <p:cNvSpPr/>
          <p:nvPr/>
        </p:nvSpPr>
        <p:spPr>
          <a:xfrm>
            <a:off x="4756320" y="4973760"/>
            <a:ext cx="2730240" cy="37764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4635360" y="542772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43" name="矩形 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4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7"/>
          <p:cNvGrpSpPr/>
          <p:nvPr/>
        </p:nvGrpSpPr>
        <p:grpSpPr>
          <a:xfrm>
            <a:off x="3921120" y="1881360"/>
            <a:ext cx="2093760" cy="3398760"/>
            <a:chOff x="3921120" y="1881360"/>
            <a:chExt cx="2093760" cy="3398760"/>
          </a:xfrm>
        </p:grpSpPr>
        <p:sp>
          <p:nvSpPr>
            <p:cNvPr id="653" name="上箭头 9"/>
            <p:cNvSpPr/>
            <p:nvPr/>
          </p:nvSpPr>
          <p:spPr>
            <a:xfrm>
              <a:off x="4208400" y="203544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上箭头 12"/>
            <p:cNvSpPr/>
            <p:nvPr/>
          </p:nvSpPr>
          <p:spPr>
            <a:xfrm>
              <a:off x="3921120" y="188136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3"/>
          <p:cNvGrpSpPr/>
          <p:nvPr/>
        </p:nvGrpSpPr>
        <p:grpSpPr>
          <a:xfrm>
            <a:off x="6113520" y="2246040"/>
            <a:ext cx="2093760" cy="3398760"/>
            <a:chOff x="6113520" y="2246040"/>
            <a:chExt cx="2093760" cy="3398760"/>
          </a:xfrm>
        </p:grpSpPr>
        <p:sp>
          <p:nvSpPr>
            <p:cNvPr id="656" name="上箭头 14"/>
            <p:cNvSpPr/>
            <p:nvPr/>
          </p:nvSpPr>
          <p:spPr>
            <a:xfrm rot="10800000">
              <a:off x="6369120" y="236196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上箭头 15"/>
            <p:cNvSpPr/>
            <p:nvPr/>
          </p:nvSpPr>
          <p:spPr>
            <a:xfrm rot="10800000">
              <a:off x="6113520" y="224604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椭圆 16"/>
          <p:cNvSpPr/>
          <p:nvPr/>
        </p:nvSpPr>
        <p:spPr>
          <a:xfrm>
            <a:off x="6892920" y="4700520"/>
            <a:ext cx="503280" cy="50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17"/>
          <p:cNvSpPr/>
          <p:nvPr/>
        </p:nvSpPr>
        <p:spPr>
          <a:xfrm>
            <a:off x="6892920" y="366084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8"/>
          <p:cNvSpPr/>
          <p:nvPr/>
        </p:nvSpPr>
        <p:spPr>
          <a:xfrm>
            <a:off x="6892920" y="262260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19"/>
          <p:cNvSpPr/>
          <p:nvPr/>
        </p:nvSpPr>
        <p:spPr>
          <a:xfrm>
            <a:off x="4702320" y="235908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20"/>
          <p:cNvSpPr/>
          <p:nvPr/>
        </p:nvSpPr>
        <p:spPr>
          <a:xfrm>
            <a:off x="4702320" y="344340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21"/>
          <p:cNvSpPr/>
          <p:nvPr/>
        </p:nvSpPr>
        <p:spPr>
          <a:xfrm>
            <a:off x="4732200" y="4527720"/>
            <a:ext cx="503280" cy="47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22"/>
          <p:cNvSpPr/>
          <p:nvPr/>
        </p:nvSpPr>
        <p:spPr>
          <a:xfrm>
            <a:off x="6558120" y="1749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23"/>
          <p:cNvSpPr/>
          <p:nvPr/>
        </p:nvSpPr>
        <p:spPr>
          <a:xfrm>
            <a:off x="4413240" y="5329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674640" y="203508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0"/>
          <p:cNvSpPr/>
          <p:nvPr/>
        </p:nvSpPr>
        <p:spPr>
          <a:xfrm>
            <a:off x="674640" y="325296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0"/>
          <p:cNvSpPr/>
          <p:nvPr/>
        </p:nvSpPr>
        <p:spPr>
          <a:xfrm>
            <a:off x="733320" y="453060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8510760" y="203508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0"/>
          <p:cNvSpPr/>
          <p:nvPr/>
        </p:nvSpPr>
        <p:spPr>
          <a:xfrm>
            <a:off x="8510760" y="325296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0"/>
          <p:cNvSpPr/>
          <p:nvPr/>
        </p:nvSpPr>
        <p:spPr>
          <a:xfrm>
            <a:off x="8569440" y="4530600"/>
            <a:ext cx="2884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7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7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组合 7" descr=""/>
          <p:cNvPicPr/>
          <p:nvPr/>
        </p:nvPicPr>
        <p:blipFill>
          <a:blip r:embed="rId1"/>
          <a:stretch/>
        </p:blipFill>
        <p:spPr>
          <a:xfrm>
            <a:off x="1700280" y="285264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17"/>
          <p:cNvSpPr/>
          <p:nvPr/>
        </p:nvSpPr>
        <p:spPr>
          <a:xfrm>
            <a:off x="2178000" y="365616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18"/>
          <p:cNvSpPr/>
          <p:nvPr/>
        </p:nvSpPr>
        <p:spPr>
          <a:xfrm>
            <a:off x="3638520" y="2957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9"/>
          <p:cNvSpPr/>
          <p:nvPr/>
        </p:nvSpPr>
        <p:spPr>
          <a:xfrm>
            <a:off x="4910040" y="36640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20"/>
          <p:cNvSpPr/>
          <p:nvPr/>
        </p:nvSpPr>
        <p:spPr>
          <a:xfrm>
            <a:off x="613584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21"/>
          <p:cNvSpPr/>
          <p:nvPr/>
        </p:nvSpPr>
        <p:spPr>
          <a:xfrm>
            <a:off x="7429680" y="3805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22"/>
          <p:cNvSpPr/>
          <p:nvPr/>
        </p:nvSpPr>
        <p:spPr>
          <a:xfrm>
            <a:off x="876780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0"/>
          <p:cNvSpPr/>
          <p:nvPr/>
        </p:nvSpPr>
        <p:spPr>
          <a:xfrm>
            <a:off x="187164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0"/>
          <p:cNvSpPr/>
          <p:nvPr/>
        </p:nvSpPr>
        <p:spPr>
          <a:xfrm>
            <a:off x="3063960" y="123840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4255920" y="4573440"/>
            <a:ext cx="1698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685008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0"/>
          <p:cNvSpPr/>
          <p:nvPr/>
        </p:nvSpPr>
        <p:spPr>
          <a:xfrm>
            <a:off x="5535720" y="128268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0"/>
          <p:cNvSpPr/>
          <p:nvPr/>
        </p:nvSpPr>
        <p:spPr>
          <a:xfrm>
            <a:off x="8104320" y="1231920"/>
            <a:ext cx="16970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96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0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5" name="组合 13"/>
          <p:cNvGrpSpPr/>
          <p:nvPr/>
        </p:nvGrpSpPr>
        <p:grpSpPr>
          <a:xfrm>
            <a:off x="1941120" y="2646000"/>
            <a:ext cx="1703520" cy="4212000"/>
            <a:chOff x="1941120" y="2646000"/>
            <a:chExt cx="1703520" cy="4212000"/>
          </a:xfrm>
        </p:grpSpPr>
        <p:sp>
          <p:nvSpPr>
            <p:cNvPr id="706" name="弧形 14"/>
            <p:cNvSpPr/>
            <p:nvPr/>
          </p:nvSpPr>
          <p:spPr>
            <a:xfrm rot="8206800">
              <a:off x="21553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接连接符 15"/>
            <p:cNvSpPr/>
            <p:nvPr/>
          </p:nvSpPr>
          <p:spPr>
            <a:xfrm>
              <a:off x="27414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8" name="椭圆 16"/>
          <p:cNvSpPr/>
          <p:nvPr/>
        </p:nvSpPr>
        <p:spPr>
          <a:xfrm>
            <a:off x="2286000" y="3044880"/>
            <a:ext cx="901800" cy="9018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组合 17"/>
          <p:cNvGrpSpPr/>
          <p:nvPr/>
        </p:nvGrpSpPr>
        <p:grpSpPr>
          <a:xfrm>
            <a:off x="3501720" y="1821600"/>
            <a:ext cx="1703160" cy="5036400"/>
            <a:chOff x="3501720" y="1821600"/>
            <a:chExt cx="1703160" cy="5036400"/>
          </a:xfrm>
        </p:grpSpPr>
        <p:sp>
          <p:nvSpPr>
            <p:cNvPr id="710" name="弧形 18"/>
            <p:cNvSpPr/>
            <p:nvPr/>
          </p:nvSpPr>
          <p:spPr>
            <a:xfrm rot="8206800">
              <a:off x="3715560" y="2104560"/>
              <a:ext cx="1274760" cy="113076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接连接符 19"/>
            <p:cNvSpPr/>
            <p:nvPr/>
          </p:nvSpPr>
          <p:spPr>
            <a:xfrm>
              <a:off x="4302000" y="3258000"/>
              <a:ext cx="0" cy="360000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椭圆 20"/>
          <p:cNvSpPr/>
          <p:nvPr/>
        </p:nvSpPr>
        <p:spPr>
          <a:xfrm>
            <a:off x="3757680" y="2013120"/>
            <a:ext cx="1087200" cy="108720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21"/>
          <p:cNvGrpSpPr/>
          <p:nvPr/>
        </p:nvGrpSpPr>
        <p:grpSpPr>
          <a:xfrm>
            <a:off x="4887720" y="2646000"/>
            <a:ext cx="1703520" cy="4212000"/>
            <a:chOff x="4887720" y="2646000"/>
            <a:chExt cx="1703520" cy="4212000"/>
          </a:xfrm>
        </p:grpSpPr>
        <p:sp>
          <p:nvSpPr>
            <p:cNvPr id="714" name="弧形 22"/>
            <p:cNvSpPr/>
            <p:nvPr/>
          </p:nvSpPr>
          <p:spPr>
            <a:xfrm rot="8206800">
              <a:off x="51019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23"/>
            <p:cNvSpPr/>
            <p:nvPr/>
          </p:nvSpPr>
          <p:spPr>
            <a:xfrm>
              <a:off x="56880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椭圆 24"/>
          <p:cNvSpPr/>
          <p:nvPr/>
        </p:nvSpPr>
        <p:spPr>
          <a:xfrm>
            <a:off x="5237280" y="3102120"/>
            <a:ext cx="901440" cy="9014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图片 25" descr=""/>
          <p:cNvPicPr/>
          <p:nvPr/>
        </p:nvPicPr>
        <p:blipFill>
          <a:blip r:embed="rId2"/>
          <a:stretch/>
        </p:blipFill>
        <p:spPr>
          <a:xfrm>
            <a:off x="5478480" y="33480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26" descr=""/>
          <p:cNvPicPr/>
          <p:nvPr/>
        </p:nvPicPr>
        <p:blipFill>
          <a:blip r:embed="rId3"/>
          <a:stretch/>
        </p:blipFill>
        <p:spPr>
          <a:xfrm>
            <a:off x="2446200" y="32367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27" descr=""/>
          <p:cNvPicPr/>
          <p:nvPr/>
        </p:nvPicPr>
        <p:blipFill>
          <a:blip r:embed="rId4"/>
          <a:stretch/>
        </p:blipFill>
        <p:spPr>
          <a:xfrm>
            <a:off x="3913200" y="2224080"/>
            <a:ext cx="776160" cy="77472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78"/>
          <p:cNvSpPr/>
          <p:nvPr/>
        </p:nvSpPr>
        <p:spPr>
          <a:xfrm>
            <a:off x="7283520" y="29988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流程图: 可选过程 29"/>
          <p:cNvSpPr/>
          <p:nvPr/>
        </p:nvSpPr>
        <p:spPr>
          <a:xfrm>
            <a:off x="7202520" y="2487600"/>
            <a:ext cx="12999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2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组合 7"/>
          <p:cNvGrpSpPr/>
          <p:nvPr/>
        </p:nvGrpSpPr>
        <p:grpSpPr>
          <a:xfrm>
            <a:off x="2297160" y="1922400"/>
            <a:ext cx="7074000" cy="3881520"/>
            <a:chOff x="2297160" y="1922400"/>
            <a:chExt cx="7074000" cy="3881520"/>
          </a:xfrm>
        </p:grpSpPr>
        <p:sp>
          <p:nvSpPr>
            <p:cNvPr id="733" name="矩形 9"/>
            <p:cNvSpPr/>
            <p:nvPr/>
          </p:nvSpPr>
          <p:spPr>
            <a:xfrm>
              <a:off x="2297160" y="3348720"/>
              <a:ext cx="2227680" cy="100440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12"/>
            <p:cNvSpPr/>
            <p:nvPr/>
          </p:nvSpPr>
          <p:spPr>
            <a:xfrm flipV="1">
              <a:off x="4524840" y="2742840"/>
              <a:ext cx="605160" cy="110772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13"/>
            <p:cNvSpPr/>
            <p:nvPr/>
          </p:nvSpPr>
          <p:spPr>
            <a:xfrm>
              <a:off x="4524840" y="3850920"/>
              <a:ext cx="605160" cy="109476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矩形 14"/>
            <p:cNvSpPr/>
            <p:nvPr/>
          </p:nvSpPr>
          <p:spPr>
            <a:xfrm>
              <a:off x="5130000" y="241488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矩形 15"/>
            <p:cNvSpPr/>
            <p:nvPr/>
          </p:nvSpPr>
          <p:spPr>
            <a:xfrm>
              <a:off x="5130000" y="463032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矩形 16"/>
            <p:cNvSpPr/>
            <p:nvPr/>
          </p:nvSpPr>
          <p:spPr>
            <a:xfrm>
              <a:off x="7705800" y="1922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17"/>
            <p:cNvSpPr/>
            <p:nvPr/>
          </p:nvSpPr>
          <p:spPr>
            <a:xfrm>
              <a:off x="7710120" y="295092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18"/>
            <p:cNvGrpSpPr/>
            <p:nvPr/>
          </p:nvGrpSpPr>
          <p:grpSpPr>
            <a:xfrm>
              <a:off x="6786000" y="4398120"/>
              <a:ext cx="914040" cy="1077480"/>
              <a:chOff x="6786000" y="4398120"/>
              <a:chExt cx="914040" cy="1077480"/>
            </a:xfrm>
          </p:grpSpPr>
          <p:sp>
            <p:nvSpPr>
              <p:cNvPr id="741" name="直接连接符 31"/>
              <p:cNvSpPr/>
              <p:nvPr/>
            </p:nvSpPr>
            <p:spPr>
              <a:xfrm flipV="1">
                <a:off x="6786000" y="4398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直接连接符 32"/>
              <p:cNvSpPr/>
              <p:nvPr/>
            </p:nvSpPr>
            <p:spPr>
              <a:xfrm>
                <a:off x="6786000" y="4939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矩形 19"/>
            <p:cNvSpPr/>
            <p:nvPr/>
          </p:nvSpPr>
          <p:spPr>
            <a:xfrm>
              <a:off x="7705800" y="4118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矩形 20"/>
            <p:cNvSpPr/>
            <p:nvPr/>
          </p:nvSpPr>
          <p:spPr>
            <a:xfrm>
              <a:off x="7710120" y="514728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文本框 21"/>
            <p:cNvSpPr/>
            <p:nvPr/>
          </p:nvSpPr>
          <p:spPr>
            <a:xfrm>
              <a:off x="2494080" y="3651120"/>
              <a:ext cx="18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6" name="组合 22"/>
            <p:cNvGrpSpPr/>
            <p:nvPr/>
          </p:nvGrpSpPr>
          <p:grpSpPr>
            <a:xfrm>
              <a:off x="6793560" y="2202120"/>
              <a:ext cx="914040" cy="1077480"/>
              <a:chOff x="6793560" y="2202120"/>
              <a:chExt cx="914040" cy="1077480"/>
            </a:xfrm>
          </p:grpSpPr>
          <p:sp>
            <p:nvSpPr>
              <p:cNvPr id="747" name="直接连接符 29"/>
              <p:cNvSpPr/>
              <p:nvPr/>
            </p:nvSpPr>
            <p:spPr>
              <a:xfrm flipV="1">
                <a:off x="6793560" y="2202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直接连接符 30"/>
              <p:cNvSpPr/>
              <p:nvPr/>
            </p:nvSpPr>
            <p:spPr>
              <a:xfrm>
                <a:off x="6793560" y="2743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9" name="TextBox 1"/>
            <p:cNvSpPr/>
            <p:nvPr/>
          </p:nvSpPr>
          <p:spPr>
            <a:xfrm>
              <a:off x="5186160" y="25124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Box 1"/>
            <p:cNvSpPr/>
            <p:nvPr/>
          </p:nvSpPr>
          <p:spPr>
            <a:xfrm>
              <a:off x="7759440" y="20325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TextBox 1"/>
            <p:cNvSpPr/>
            <p:nvPr/>
          </p:nvSpPr>
          <p:spPr>
            <a:xfrm>
              <a:off x="7732800" y="303300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TextBox 1"/>
            <p:cNvSpPr/>
            <p:nvPr/>
          </p:nvSpPr>
          <p:spPr>
            <a:xfrm>
              <a:off x="7719480" y="42159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TextBox 1"/>
            <p:cNvSpPr/>
            <p:nvPr/>
          </p:nvSpPr>
          <p:spPr>
            <a:xfrm>
              <a:off x="5184000" y="476748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Box 1"/>
            <p:cNvSpPr/>
            <p:nvPr/>
          </p:nvSpPr>
          <p:spPr>
            <a:xfrm>
              <a:off x="7742880" y="52448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33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56" name="矩形 34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35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6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6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图片 7" descr=""/>
          <p:cNvPicPr/>
          <p:nvPr/>
        </p:nvPicPr>
        <p:blipFill>
          <a:blip r:embed="rId1"/>
          <a:stretch/>
        </p:blipFill>
        <p:spPr>
          <a:xfrm>
            <a:off x="3833640" y="2097000"/>
            <a:ext cx="2202120" cy="2090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2"/>
          <a:stretch/>
        </p:blipFill>
        <p:spPr>
          <a:xfrm>
            <a:off x="6242040" y="2066760"/>
            <a:ext cx="2201760" cy="212112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12" descr=""/>
          <p:cNvPicPr/>
          <p:nvPr/>
        </p:nvPicPr>
        <p:blipFill>
          <a:blip r:embed="rId3"/>
          <a:stretch/>
        </p:blipFill>
        <p:spPr>
          <a:xfrm>
            <a:off x="1425600" y="2084400"/>
            <a:ext cx="2201760" cy="21034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13" descr=""/>
          <p:cNvPicPr/>
          <p:nvPr/>
        </p:nvPicPr>
        <p:blipFill>
          <a:blip r:embed="rId4"/>
          <a:stretch/>
        </p:blipFill>
        <p:spPr>
          <a:xfrm>
            <a:off x="8650440" y="2066760"/>
            <a:ext cx="2201760" cy="2121120"/>
          </a:xfrm>
          <a:prstGeom prst="rect">
            <a:avLst/>
          </a:prstGeom>
          <a:ln w="0">
            <a:noFill/>
          </a:ln>
        </p:spPr>
      </p:pic>
      <p:sp>
        <p:nvSpPr>
          <p:cNvPr id="769" name="椭圆 18"/>
          <p:cNvSpPr/>
          <p:nvPr/>
        </p:nvSpPr>
        <p:spPr>
          <a:xfrm>
            <a:off x="230040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9"/>
          <p:cNvSpPr/>
          <p:nvPr/>
        </p:nvSpPr>
        <p:spPr>
          <a:xfrm>
            <a:off x="4710240" y="1547640"/>
            <a:ext cx="4492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20"/>
          <p:cNvSpPr/>
          <p:nvPr/>
        </p:nvSpPr>
        <p:spPr>
          <a:xfrm>
            <a:off x="707724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椭圆 21"/>
          <p:cNvSpPr/>
          <p:nvPr/>
        </p:nvSpPr>
        <p:spPr>
          <a:xfrm>
            <a:off x="9513720" y="1547640"/>
            <a:ext cx="4510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0"/>
          <p:cNvSpPr/>
          <p:nvPr/>
        </p:nvSpPr>
        <p:spPr>
          <a:xfrm>
            <a:off x="1574640" y="4594320"/>
            <a:ext cx="190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0"/>
          <p:cNvSpPr/>
          <p:nvPr/>
        </p:nvSpPr>
        <p:spPr>
          <a:xfrm>
            <a:off x="1727280" y="474660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3970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6391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880920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图片 1" descr=""/>
          <p:cNvPicPr/>
          <p:nvPr/>
        </p:nvPicPr>
        <p:blipFill>
          <a:blip r:embed="rId5"/>
          <a:stretch/>
        </p:blipFill>
        <p:spPr>
          <a:xfrm>
            <a:off x="2360520" y="4187880"/>
            <a:ext cx="7547040" cy="208080"/>
          </a:xfrm>
          <a:prstGeom prst="rect">
            <a:avLst/>
          </a:prstGeom>
          <a:ln w="0">
            <a:noFill/>
          </a:ln>
        </p:spPr>
      </p:pic>
      <p:grpSp>
        <p:nvGrpSpPr>
          <p:cNvPr id="779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80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86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9" name="组合 7"/>
          <p:cNvGrpSpPr/>
          <p:nvPr/>
        </p:nvGrpSpPr>
        <p:grpSpPr>
          <a:xfrm>
            <a:off x="7263360" y="2398680"/>
            <a:ext cx="3442320" cy="3442320"/>
            <a:chOff x="7263360" y="2398680"/>
            <a:chExt cx="3442320" cy="3442320"/>
          </a:xfrm>
        </p:grpSpPr>
        <p:sp>
          <p:nvSpPr>
            <p:cNvPr id="790" name="同心圆 9"/>
            <p:cNvSpPr/>
            <p:nvPr/>
          </p:nvSpPr>
          <p:spPr>
            <a:xfrm>
              <a:off x="7683480" y="2819520"/>
              <a:ext cx="260208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空心弧 12"/>
            <p:cNvSpPr/>
            <p:nvPr/>
          </p:nvSpPr>
          <p:spPr>
            <a:xfrm rot="14741400">
              <a:off x="7683480" y="2818800"/>
              <a:ext cx="2601720" cy="260208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492477" y="281619"/>
                  </a:moveTo>
                  <a:cubicBezTo>
                    <a:pt x="880549" y="-26162"/>
                    <a:pt x="1409739" y="-86838"/>
                    <a:pt x="1857403" y="125119"/>
                  </a:cubicBezTo>
                  <a:cubicBezTo>
                    <a:pt x="2305067" y="337076"/>
                    <a:pt x="2593507" y="784877"/>
                    <a:pt x="2601368" y="1280122"/>
                  </a:cubicBezTo>
                  <a:lnTo>
                    <a:pt x="2120249" y="1287758"/>
                  </a:lnTo>
                  <a:cubicBezTo>
                    <a:pt x="2115296" y="975714"/>
                    <a:pt x="1933555" y="693563"/>
                    <a:pt x="1651491" y="560014"/>
                  </a:cubicBezTo>
                  <a:cubicBezTo>
                    <a:pt x="1369427" y="426464"/>
                    <a:pt x="1035994" y="464695"/>
                    <a:pt x="791478" y="658622"/>
                  </a:cubicBezTo>
                  <a:lnTo>
                    <a:pt x="492477" y="2816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1732680" y="2437200"/>
            <a:ext cx="3441960" cy="3441960"/>
            <a:chOff x="1732680" y="2437200"/>
            <a:chExt cx="3441960" cy="3441960"/>
          </a:xfrm>
        </p:grpSpPr>
        <p:sp>
          <p:nvSpPr>
            <p:cNvPr id="793" name="同心圆 14"/>
            <p:cNvSpPr/>
            <p:nvPr/>
          </p:nvSpPr>
          <p:spPr>
            <a:xfrm>
              <a:off x="2152800" y="285768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空心弧 15"/>
            <p:cNvSpPr/>
            <p:nvPr/>
          </p:nvSpPr>
          <p:spPr>
            <a:xfrm rot="14741400">
              <a:off x="2152800" y="285696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1848431" y="120912"/>
                  </a:moveTo>
                  <a:cubicBezTo>
                    <a:pt x="2300939" y="330957"/>
                    <a:pt x="2593450" y="781302"/>
                    <a:pt x="2601369" y="1280121"/>
                  </a:cubicBezTo>
                  <a:lnTo>
                    <a:pt x="2120249" y="1287758"/>
                  </a:lnTo>
                  <a:cubicBezTo>
                    <a:pt x="2115260" y="973462"/>
                    <a:pt x="1930954" y="689709"/>
                    <a:pt x="1645838" y="557363"/>
                  </a:cubicBezTo>
                  <a:lnTo>
                    <a:pt x="1848431" y="12091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5" name="组合 16"/>
          <p:cNvGrpSpPr/>
          <p:nvPr/>
        </p:nvGrpSpPr>
        <p:grpSpPr>
          <a:xfrm>
            <a:off x="5614920" y="3849480"/>
            <a:ext cx="908280" cy="441360"/>
            <a:chOff x="5614920" y="3849480"/>
            <a:chExt cx="908280" cy="441360"/>
          </a:xfrm>
        </p:grpSpPr>
        <p:sp>
          <p:nvSpPr>
            <p:cNvPr id="796" name="等腰三角形 17"/>
            <p:cNvSpPr/>
            <p:nvPr/>
          </p:nvSpPr>
          <p:spPr>
            <a:xfrm rot="5400000">
              <a:off x="6112440" y="388008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18"/>
            <p:cNvSpPr/>
            <p:nvPr/>
          </p:nvSpPr>
          <p:spPr>
            <a:xfrm rot="16200000">
              <a:off x="5584320" y="387972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8" name="文本框 19"/>
          <p:cNvSpPr/>
          <p:nvPr/>
        </p:nvSpPr>
        <p:spPr>
          <a:xfrm>
            <a:off x="3084480" y="393696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20"/>
          <p:cNvSpPr/>
          <p:nvPr/>
        </p:nvSpPr>
        <p:spPr>
          <a:xfrm>
            <a:off x="8543880" y="3859200"/>
            <a:ext cx="8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1"/>
          <p:cNvSpPr/>
          <p:nvPr/>
        </p:nvSpPr>
        <p:spPr>
          <a:xfrm>
            <a:off x="2886120" y="55879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22"/>
          <p:cNvSpPr/>
          <p:nvPr/>
        </p:nvSpPr>
        <p:spPr>
          <a:xfrm>
            <a:off x="8639280" y="55101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0"/>
          <p:cNvSpPr/>
          <p:nvPr/>
        </p:nvSpPr>
        <p:spPr>
          <a:xfrm>
            <a:off x="1577880" y="1871640"/>
            <a:ext cx="38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0"/>
          <p:cNvSpPr/>
          <p:nvPr/>
        </p:nvSpPr>
        <p:spPr>
          <a:xfrm>
            <a:off x="7002360" y="1870200"/>
            <a:ext cx="37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25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05" name="矩形 26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矩形 27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矩形 28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组合 29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09" name="矩形 30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矩形 31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矩形 32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15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同心圆 7"/>
          <p:cNvSpPr/>
          <p:nvPr/>
        </p:nvSpPr>
        <p:spPr>
          <a:xfrm>
            <a:off x="4753080" y="2467080"/>
            <a:ext cx="2523960" cy="2523960"/>
          </a:xfrm>
          <a:custGeom>
            <a:avLst/>
            <a:gdLst/>
            <a:ahLst/>
            <a:rect l="l" t="t" r="r" b="b"/>
            <a:pathLst>
              <a:path w="2524259" h="2524259">
                <a:moveTo>
                  <a:pt x="0" y="1262130"/>
                </a:moveTo>
                <a:cubicBezTo>
                  <a:pt x="0" y="565075"/>
                  <a:pt x="565075" y="0"/>
                  <a:pt x="1262130" y="0"/>
                </a:cubicBezTo>
                <a:cubicBezTo>
                  <a:pt x="1959185" y="0"/>
                  <a:pt x="2524260" y="565075"/>
                  <a:pt x="2524260" y="1262130"/>
                </a:cubicBezTo>
                <a:cubicBezTo>
                  <a:pt x="2524260" y="1959185"/>
                  <a:pt x="1959185" y="2524260"/>
                  <a:pt x="1262130" y="2524260"/>
                </a:cubicBezTo>
                <a:cubicBezTo>
                  <a:pt x="565075" y="2524260"/>
                  <a:pt x="0" y="1959185"/>
                  <a:pt x="0" y="1262130"/>
                </a:cubicBezTo>
                <a:close/>
                <a:moveTo>
                  <a:pt x="294833" y="1262130"/>
                </a:moveTo>
                <a:cubicBezTo>
                  <a:pt x="294833" y="1796353"/>
                  <a:pt x="727906" y="2229426"/>
                  <a:pt x="1262129" y="2229426"/>
                </a:cubicBezTo>
                <a:cubicBezTo>
                  <a:pt x="1796352" y="2229426"/>
                  <a:pt x="2229425" y="1796353"/>
                  <a:pt x="2229425" y="1262130"/>
                </a:cubicBezTo>
                <a:cubicBezTo>
                  <a:pt x="2229425" y="727907"/>
                  <a:pt x="1796352" y="294834"/>
                  <a:pt x="1262129" y="294834"/>
                </a:cubicBezTo>
                <a:cubicBezTo>
                  <a:pt x="727906" y="294834"/>
                  <a:pt x="294833" y="727907"/>
                  <a:pt x="294833" y="126213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任意多边形 9"/>
          <p:cNvSpPr/>
          <p:nvPr/>
        </p:nvSpPr>
        <p:spPr>
          <a:xfrm>
            <a:off x="6173640" y="2340000"/>
            <a:ext cx="368640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任意多边形 12"/>
          <p:cNvSpPr/>
          <p:nvPr/>
        </p:nvSpPr>
        <p:spPr>
          <a:xfrm rot="10800000">
            <a:off x="2168280" y="4593960"/>
            <a:ext cx="368604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13"/>
          <p:cNvSpPr/>
          <p:nvPr/>
        </p:nvSpPr>
        <p:spPr>
          <a:xfrm>
            <a:off x="7589880" y="241776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4"/>
          <p:cNvSpPr/>
          <p:nvPr/>
        </p:nvSpPr>
        <p:spPr>
          <a:xfrm>
            <a:off x="2806560" y="46702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0"/>
          <p:cNvSpPr/>
          <p:nvPr/>
        </p:nvSpPr>
        <p:spPr>
          <a:xfrm>
            <a:off x="2689200" y="2943360"/>
            <a:ext cx="186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0"/>
          <p:cNvSpPr/>
          <p:nvPr/>
        </p:nvSpPr>
        <p:spPr>
          <a:xfrm>
            <a:off x="7472520" y="3024360"/>
            <a:ext cx="186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17" descr=""/>
          <p:cNvPicPr/>
          <p:nvPr/>
        </p:nvPicPr>
        <p:blipFill>
          <a:blip r:embed="rId1"/>
          <a:stretch/>
        </p:blipFill>
        <p:spPr>
          <a:xfrm>
            <a:off x="5405400" y="3119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0:04:21Z</dcterms:created>
  <dc:creator>admin</dc:creator>
  <dc:description/>
  <dc:language>en-US</dc:language>
  <cp:lastModifiedBy>大蛀虫</cp:lastModifiedBy>
  <dcterms:modified xsi:type="dcterms:W3CDTF">2015-06-28T11:53:3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