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27F-C53D-4BA3-A568-BA3086CE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CBD-B62C-4000-9021-15A8C8C8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EA818-75C2-49A2-8115-25F7E936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FB23F-206E-461C-9B58-DC67F889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954F2-701A-4A18-9544-3BE721AA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CD2C1-2A9B-4B8F-87B9-9C152BDA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D8A0D-9E2B-4C0B-B1CF-4650EB16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8A6C6-A35F-447E-BF8B-16103A54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D6D9A-0C88-4977-8BD1-AE241162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BD7C8-8376-433C-8F8F-0804ABFB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ABF77-7A52-4EF1-886B-127B270B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82C36-477C-4DAE-AD72-CD003071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75F-DC2B-4CE3-9A52-6D0E2F6D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D42B5-38CF-4528-A2F6-92422DF8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DCA2F-DAD8-474B-99DD-9A32E810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34217-F752-4B50-BE95-34266813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F1C49-6D72-4169-97FF-31083FDB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221FF-D113-47DD-97D1-C1B2D079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75ED6-46CF-41AD-AC70-0C3622D7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44DDE-2986-4CC7-BF04-0550F12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F9626-9914-417E-ADC5-3728403B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F242C-4F39-463E-AE2F-C0F96005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CEB20-A752-4314-B94B-C0F4D821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DC4-14A3-4FB5-B1F2-F5F287DD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421CC-AE2F-4A1F-9D3D-59A05725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CCDF8-655D-4583-AB74-D3C761C4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9003E-53BC-4531-A561-3704F89A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38B7D-0A09-46B3-BEC6-E8CE4E25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5E717-64FD-4299-8112-6D944D79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348D3-C7C3-4418-BA36-B9425304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84474-5106-4192-8B35-1A9FC2CC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9517F-0D47-47B3-8669-6060D032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743B6-77CA-458C-AF09-85A40E9F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C3F0A-00B3-41C0-A650-50686F9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2DE8-F141-446F-9007-2C6B2566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0916E-1111-45E4-8FB9-B3B42282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9847C-1E91-40FB-9719-69CE19C3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DF769-DC61-4F32-94C3-3436CF6C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A9D2E-4324-4CF6-B784-B08C77B4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A5AC7-84A9-4994-921C-D1994257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0BB9C-2F07-41DB-8732-C6BD86D1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F21E6-9236-4652-AC2E-AE901711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72A48-5FFF-4AEE-BCA6-6A5D93BE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A01D7-151F-4220-A97B-BE30B3EB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08E47-9C17-4B91-912A-FE238456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AE29-72AD-4259-9711-D4DD0984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28ED2-ECBE-4148-ADD0-1D2476F0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0A50D-C88C-4B96-B65B-C5C24E23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BCE17-A792-4099-93E4-6A31C1BD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382BE-CB2F-4995-A6C5-2A3C5F52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0E490-A205-47C9-B79D-D53B1B4B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AB6FC-8BF8-4832-9732-021BE99B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348E2-0A15-46A5-9678-2746AA25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67134-265D-41D2-94D1-F2E501AD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2D5C1-35CC-4F54-A2A9-4D37A4AA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E2D3B-7EBD-4E37-AC6F-F97E88D4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A31E-1EB2-4EAB-8069-F822109F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6D555-3E48-4625-A4F3-15503206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439B0-7153-4549-9D3D-612DD2A4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86CC8-F493-4914-9EC8-FB432685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165F6-D892-4C84-9BB3-ECA508AD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A2105-DB5D-429E-B16E-09953502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392D2-32B1-4F65-A47D-85CF1574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4903C-DDE2-417C-85F4-218C704F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8B555-5AF2-4FD7-AA43-07A21C39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2E758-5F90-4A04-9CC0-52320CFB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CD881-6520-4506-98FB-D172DA81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DB22-274C-4685-9566-DBA9AA71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DDEAA-98EB-4FE8-827A-36253396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4AB53-B9F4-4D57-87E7-7ADF0CEC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0E071-891E-4230-AD63-E89B1DEC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B7C84-AD03-4D25-8640-BCC68A12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9047E-E56A-4D22-AA99-EA52F8DC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0B05D-8B8E-46E9-922A-3798E28F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D7C77-C92F-42EA-A0F8-51770FB8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17BCC-FF7F-45C2-844A-CE348027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EBE91-0231-4B33-809F-A151C2C9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15A0-960A-4AFD-A387-BFFCBB0D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36D8-B5C1-4D1E-A683-FCBF3578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E3D6-34D5-47BE-8958-06B60FB8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CFA-8F07-4C95-A042-C9C070C5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24E9-B77F-4635-9E43-0AEEF1C6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0B92-FBFD-4CB9-961A-FFFE8F3F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3272-B6ED-49A1-AE43-6DD43C2C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28E3-2BFB-4A37-A8C4-08D317B2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E615-5562-4A2C-A9C3-04B403C6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0222-0FA1-49C9-B5F3-3EA25A9E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66B7-0AC4-479A-BA1A-D0E0684A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CD31-0BFE-495D-BAF6-4DD40702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EA650-00E4-41FE-8997-D679016C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5757-B8AC-4C08-BE36-9C1226C8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898-8D47-4052-8088-644B42C9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5F51-43E8-4528-8ED1-56B295A5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B9DD-0214-4527-96D6-6D3F22F2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87F3-C0C1-4732-AD27-B1F36530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D6EC4-475F-4A2B-A823-BEFB447F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FB937-FD68-429F-BB4F-108B7BC3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6590-9D52-4891-8666-D95E897F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B483-13F0-4FCC-9BE2-44CF1826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7C546-6B39-42F6-B575-E84B6964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10F44-4EFB-4177-BABE-543833B1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E04B0-94E8-4581-AA2D-6037510C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116-16F2-4C91-B128-CBFF198E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F4664-B5AD-4E0A-B5C3-6BF6C065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23EB0-CC62-46C9-A450-E9CEB06A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AC228-5B15-4A3A-9A88-5B47E563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0722-5016-4DF8-8ADF-B500F5C2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BB8E6-A85C-4691-AC00-CA2CA37E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E84CB-476A-4A16-97EE-D05B9ADE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88B39-67DC-4FF1-9975-6F6B1989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E4105-EC38-4406-BB64-EEC4388A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87615-7A9C-465F-82A1-896DF4BE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9EBE3-33D0-49B2-9790-DC1B1B32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667-966F-4F27-BF9B-105196DB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F4E1A-4EE6-4816-8380-F4C181D2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DA5DE-441E-4279-8A13-E6CFE69B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00056-1D6A-44CB-9A5D-4EC70D2A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647C7-A10F-4A7A-B7FA-883CD45D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978AA-FAEC-4890-B190-BFD35930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C0FB-70AF-4496-AED7-141F2F02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56534-4DDF-4BFC-84D9-46A484C4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982D2-5ED8-4D52-B9E1-6E756FF7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9BEE2-BE6B-4E75-BBDE-D936066A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8E99-B9EF-4DE9-8ACB-E0F097A5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ED3-59F3-40D8-A6B3-5135C9FC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15F8-D51E-4DA9-808B-B30556B8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7E87E-F756-41EE-B203-70680B4D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511A0-C222-46FC-849B-53EE4FAA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BB2B7-FB4C-4AE0-8642-FAF826E3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BBEAE-A1CF-4749-8EFA-23AAFAEC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E77D8-E05B-4874-B696-2363E36B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D08E4-609A-42FD-B1CB-B286F8E0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23C28-7DBB-438E-B113-29C6A8D6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DCC23-C91D-4E1A-AB07-0783BE17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DBA21-EACF-40FB-9A0B-CB07452E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F07-EF14-418E-9E16-C960F70B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364E1-5FEB-44BC-A252-2F15CBAE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D3AE4-091D-450D-A893-C10C7476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AB2A8-2ABA-4CCA-98D7-F73C443A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21003-B8D0-4A93-A141-EAD779D8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662A2-C0FE-461D-8374-1035B4B8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52A1A-F6B4-4537-9FEE-16AAEF01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C8F41-394D-4FCC-8829-5D446974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068D8-51FF-4874-8EB6-D83875FC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783DA-3FC0-42D2-9B50-C23ADD0A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4D68C-25AE-4E89-9842-C277FF11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199-87E6-4AD5-A058-62D550F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5CED5-D481-4861-B74A-28261FEE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11B12-4AB4-47DF-8DE6-184178D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B62D8-3538-4E71-8A5D-90A3A6D6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C2878-DEEB-449B-B07D-2AA4B326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4B52D-4BB7-4B67-A4A6-F98B0557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6ACEE-D5F8-457F-8664-031EA2F1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DF217-6A51-433D-820D-DDFE9106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122E4-DED9-48A6-87BB-4122E141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E7545-87F8-4FE7-B0E3-B74943C8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D2DAE-6CD6-404E-98FE-D9616027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EB1-B3B2-4A64-B140-360A0E72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D2654-F859-452A-8220-CF60E25D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60BBB-3D0C-4229-9425-6898BCE8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7A5E5-78BD-4B10-AFCB-B82C2D1E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A8ED0-3EF6-415B-9CDD-8E9AEBD5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38BED-1E91-4FE9-B325-DBCBB1C9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F4B0F-69A3-47AA-8068-B0CAB48F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E5B6D-473B-4995-8A98-E17949B9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8F1B0-29DD-466A-9C0C-27DD1A18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2E7D7-BFF0-473A-B0F4-D5CCF93B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008B6-8A15-4FCC-A6DE-DD2E39FC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295B-0744-4632-A4D4-0A2DB6AD2E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7A97-9285-48D8-B738-E9F12F73247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C935-84D2-4493-8578-FABE769D237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90DE-EFC6-4FCE-9A9A-F1570929E3E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E0BF-CCC3-44E9-B305-FCF30E0B93F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A00A-FF55-4AD4-B4DB-F9C17815E16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E20B-2082-4C93-9C84-9E79B4267BE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80EA-A38C-47E4-8329-E9412F7EDFC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27AE-612D-4B10-9A71-612F692C752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E031-6F65-44D5-835D-BBB1EC21802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C634-68A9-4B88-A9F0-0FE75A18FAD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4744-A023-46D3-92FF-D6798ABC6D5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5F77-861E-4385-9F6A-F6EE6CC42FF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8965800" y="4844880"/>
            <a:ext cx="3225960" cy="2013120"/>
            <a:chOff x="8965800" y="4844880"/>
            <a:chExt cx="3225960" cy="2013120"/>
          </a:xfrm>
        </p:grpSpPr>
        <p:pic>
          <p:nvPicPr>
            <p:cNvPr id="84" name="图片 8" descr=""/>
            <p:cNvPicPr/>
            <p:nvPr/>
          </p:nvPicPr>
          <p:blipFill>
            <a:blip r:embed="rId3"/>
            <a:srcRect l="39601" t="35249" r="1382" b="0"/>
            <a:stretch/>
          </p:blipFill>
          <p:spPr>
            <a:xfrm flipH="1">
              <a:off x="8965800" y="4844880"/>
              <a:ext cx="3225960" cy="20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5"/>
            <p:cNvGrpSpPr/>
            <p:nvPr/>
          </p:nvGrpSpPr>
          <p:grpSpPr>
            <a:xfrm>
              <a:off x="10802880" y="4852440"/>
              <a:ext cx="1228680" cy="1032840"/>
              <a:chOff x="10802880" y="4852440"/>
              <a:chExt cx="1228680" cy="1032840"/>
            </a:xfrm>
          </p:grpSpPr>
          <p:sp>
            <p:nvSpPr>
              <p:cNvPr id="86" name="等腰三角形 7"/>
              <p:cNvSpPr/>
              <p:nvPr/>
            </p:nvSpPr>
            <p:spPr>
              <a:xfrm flipH="1" rot="21036000">
                <a:off x="11190600" y="4908960"/>
                <a:ext cx="770760" cy="919080"/>
              </a:xfrm>
              <a:custGeom>
                <a:avLst/>
                <a:gdLst/>
                <a:ahLst/>
                <a:rect l="l" t="t" r="r" b="b"/>
                <a:pathLst>
                  <a:path w="1917445" h="2261578">
                    <a:moveTo>
                      <a:pt x="0" y="2261578"/>
                    </a:moveTo>
                    <a:lnTo>
                      <a:pt x="1111164" y="0"/>
                    </a:lnTo>
                    <a:lnTo>
                      <a:pt x="1917445" y="2111215"/>
                    </a:lnTo>
                    <a:lnTo>
                      <a:pt x="0" y="22615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等腰三角形 11"/>
              <p:cNvSpPr/>
              <p:nvPr/>
            </p:nvSpPr>
            <p:spPr>
              <a:xfrm flipH="1" flipV="1" rot="19035000">
                <a:off x="10992240" y="5113080"/>
                <a:ext cx="727200" cy="526680"/>
              </a:xfrm>
              <a:prstGeom prst="triangle">
                <a:avLst>
                  <a:gd name="adj" fmla="val 99361"/>
                </a:avLst>
              </a:prstGeom>
              <a:solidFill>
                <a:srgbClr val="ffff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等腰三角形 9"/>
              <p:cNvSpPr/>
              <p:nvPr/>
            </p:nvSpPr>
            <p:spPr>
              <a:xfrm flipH="1" flipV="1" rot="16795200">
                <a:off x="10895400" y="5376240"/>
                <a:ext cx="352080" cy="484920"/>
              </a:xfrm>
              <a:custGeom>
                <a:avLst/>
                <a:gdLst/>
                <a:ahLst/>
                <a:rect l="l" t="t" r="r" b="b"/>
                <a:pathLst>
                  <a:path w="864980" h="1174242">
                    <a:moveTo>
                      <a:pt x="0" y="1068232"/>
                    </a:moveTo>
                    <a:lnTo>
                      <a:pt x="846930" y="0"/>
                    </a:lnTo>
                    <a:cubicBezTo>
                      <a:pt x="848678" y="339796"/>
                      <a:pt x="863232" y="834446"/>
                      <a:pt x="864980" y="1174242"/>
                    </a:cubicBezTo>
                    <a:lnTo>
                      <a:pt x="0" y="1068232"/>
                    </a:lnTo>
                    <a:close/>
                  </a:path>
                </a:pathLst>
              </a:custGeom>
              <a:solidFill>
                <a:srgbClr val="ffffff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" name="Group 9"/>
          <p:cNvGrpSpPr/>
          <p:nvPr/>
        </p:nvGrpSpPr>
        <p:grpSpPr>
          <a:xfrm>
            <a:off x="166320" y="-205920"/>
            <a:ext cx="1432440" cy="1438200"/>
            <a:chOff x="166320" y="-205920"/>
            <a:chExt cx="1432440" cy="1438200"/>
          </a:xfrm>
        </p:grpSpPr>
        <p:pic>
          <p:nvPicPr>
            <p:cNvPr id="90" name="图片 14" descr=""/>
            <p:cNvPicPr/>
            <p:nvPr/>
          </p:nvPicPr>
          <p:blipFill>
            <a:blip r:embed="rId4"/>
            <a:srcRect l="64198" t="0" r="9510" b="56272"/>
            <a:stretch/>
          </p:blipFill>
          <p:spPr>
            <a:xfrm rot="13699200">
              <a:off x="357120" y="21960"/>
              <a:ext cx="10508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等腰三角形 14"/>
            <p:cNvSpPr/>
            <p:nvPr/>
          </p:nvSpPr>
          <p:spPr>
            <a:xfrm flipH="1" rot="7105800">
              <a:off x="457920" y="259560"/>
              <a:ext cx="382680" cy="67104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908C-68EC-4CEB-BCB0-8A31DDD17DD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D4E8-5695-4030-AB51-AC1E20C1F78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5E65-4FD1-4024-B6B1-22F46DA592E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5AC8-2E79-4992-B010-A77044FE99B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D966-678D-4A0D-B922-297A6683569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975C-FB92-41C6-9DE9-DE5736DE5C7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6681-54E5-4FEA-9FB7-8B3130B7646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6B74-2804-41B2-9C0E-7F3873FE26A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A521-B615-4366-9E1E-E5FB6D3D1A1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F9C4-EA67-458E-AE26-9A6651E700F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E8C8-D009-4875-A4E1-01E628E34FC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5DF6-D29D-49B8-B042-ABE0CE68B99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087D-3333-40EB-80BD-3ECA0F9200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586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7"/>
          <p:cNvSpPr/>
          <p:nvPr/>
        </p:nvSpPr>
        <p:spPr>
          <a:xfrm>
            <a:off x="5823000" y="2021040"/>
            <a:ext cx="62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</a:t>
            </a:r>
            <a:r>
              <a:rPr b="1" lang="en-US" sz="6600" spc="-1" strike="noStrike">
                <a:solidFill>
                  <a:srgbClr val="2b8c74"/>
                </a:solidFill>
                <a:latin typeface="微软雅黑"/>
                <a:ea typeface="微软雅黑"/>
              </a:rPr>
              <a:t>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8"/>
          <p:cNvSpPr/>
          <p:nvPr/>
        </p:nvSpPr>
        <p:spPr>
          <a:xfrm>
            <a:off x="7480440" y="3241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20"/>
          <p:cNvSpPr/>
          <p:nvPr/>
        </p:nvSpPr>
        <p:spPr>
          <a:xfrm>
            <a:off x="5994360" y="3129120"/>
            <a:ext cx="575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594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596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598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1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泪滴形 4"/>
          <p:cNvSpPr/>
          <p:nvPr/>
        </p:nvSpPr>
        <p:spPr>
          <a:xfrm rot="8100000">
            <a:off x="8512920" y="1906200"/>
            <a:ext cx="25606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5" descr=""/>
          <p:cNvPicPr/>
          <p:nvPr/>
        </p:nvPicPr>
        <p:blipFill>
          <a:blip r:embed="rId2"/>
          <a:stretch/>
        </p:blipFill>
        <p:spPr>
          <a:xfrm>
            <a:off x="8675640" y="2109960"/>
            <a:ext cx="2238480" cy="2201760"/>
          </a:xfrm>
          <a:prstGeom prst="rect">
            <a:avLst/>
          </a:prstGeom>
          <a:ln w="0">
            <a:noFill/>
          </a:ln>
        </p:spPr>
      </p:pic>
      <p:sp>
        <p:nvSpPr>
          <p:cNvPr id="761" name="泪滴形 7"/>
          <p:cNvSpPr/>
          <p:nvPr/>
        </p:nvSpPr>
        <p:spPr>
          <a:xfrm rot="8100000">
            <a:off x="3405240" y="1905840"/>
            <a:ext cx="25588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图片 8" descr=""/>
          <p:cNvPicPr/>
          <p:nvPr/>
        </p:nvPicPr>
        <p:blipFill>
          <a:blip r:embed="rId3"/>
          <a:stretch/>
        </p:blipFill>
        <p:spPr>
          <a:xfrm>
            <a:off x="3587760" y="2128680"/>
            <a:ext cx="2193840" cy="218304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"/>
          <p:cNvSpPr/>
          <p:nvPr/>
        </p:nvSpPr>
        <p:spPr>
          <a:xfrm>
            <a:off x="6099120" y="2444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0"/>
          <p:cNvSpPr/>
          <p:nvPr/>
        </p:nvSpPr>
        <p:spPr>
          <a:xfrm>
            <a:off x="6099120" y="2925720"/>
            <a:ext cx="22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1"/>
          <p:cNvSpPr/>
          <p:nvPr/>
        </p:nvSpPr>
        <p:spPr>
          <a:xfrm>
            <a:off x="1042920" y="24447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0"/>
          <p:cNvSpPr/>
          <p:nvPr/>
        </p:nvSpPr>
        <p:spPr>
          <a:xfrm>
            <a:off x="1042920" y="292572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泪滴形 3"/>
          <p:cNvSpPr/>
          <p:nvPr/>
        </p:nvSpPr>
        <p:spPr>
          <a:xfrm rot="2700000">
            <a:off x="2745360" y="1433880"/>
            <a:ext cx="127620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泪滴形 4"/>
          <p:cNvSpPr/>
          <p:nvPr/>
        </p:nvSpPr>
        <p:spPr>
          <a:xfrm rot="2700000">
            <a:off x="2746080" y="311148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泪滴形 5"/>
          <p:cNvSpPr/>
          <p:nvPr/>
        </p:nvSpPr>
        <p:spPr>
          <a:xfrm rot="2700000">
            <a:off x="2746080" y="478800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6"/>
          <p:cNvSpPr/>
          <p:nvPr/>
        </p:nvSpPr>
        <p:spPr>
          <a:xfrm>
            <a:off x="4491000" y="1170000"/>
            <a:ext cx="0" cy="515772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4424400" y="2006640"/>
            <a:ext cx="128520" cy="1299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椭圆 8"/>
          <p:cNvSpPr/>
          <p:nvPr/>
        </p:nvSpPr>
        <p:spPr>
          <a:xfrm>
            <a:off x="4424400" y="368460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4424400" y="536112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10"/>
          <p:cNvSpPr/>
          <p:nvPr/>
        </p:nvSpPr>
        <p:spPr>
          <a:xfrm>
            <a:off x="3075120" y="18716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11"/>
          <p:cNvSpPr/>
          <p:nvPr/>
        </p:nvSpPr>
        <p:spPr>
          <a:xfrm>
            <a:off x="3078000" y="354816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12"/>
          <p:cNvSpPr/>
          <p:nvPr/>
        </p:nvSpPr>
        <p:spPr>
          <a:xfrm>
            <a:off x="3078000" y="522432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4878360" y="1654200"/>
            <a:ext cx="2730600" cy="37764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759200" y="21081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17"/>
          <p:cNvSpPr/>
          <p:nvPr/>
        </p:nvSpPr>
        <p:spPr>
          <a:xfrm>
            <a:off x="4878360" y="341640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759200" y="38685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矩形 19"/>
          <p:cNvSpPr/>
          <p:nvPr/>
        </p:nvSpPr>
        <p:spPr>
          <a:xfrm>
            <a:off x="4878360" y="503712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4759200" y="548964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六边形 77"/>
          <p:cNvSpPr/>
          <p:nvPr/>
        </p:nvSpPr>
        <p:spPr>
          <a:xfrm>
            <a:off x="4321080" y="2022480"/>
            <a:ext cx="3457800" cy="29811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六边形 10"/>
          <p:cNvSpPr/>
          <p:nvPr/>
        </p:nvSpPr>
        <p:spPr>
          <a:xfrm>
            <a:off x="2994120" y="2249640"/>
            <a:ext cx="16272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六边形 10"/>
          <p:cNvSpPr/>
          <p:nvPr/>
        </p:nvSpPr>
        <p:spPr>
          <a:xfrm rot="10800000">
            <a:off x="7478280" y="2249640"/>
            <a:ext cx="16290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oup 7"/>
          <p:cNvGrpSpPr/>
          <p:nvPr/>
        </p:nvGrpSpPr>
        <p:grpSpPr>
          <a:xfrm>
            <a:off x="4967280" y="2513160"/>
            <a:ext cx="2166840" cy="829080"/>
            <a:chOff x="4967280" y="2513160"/>
            <a:chExt cx="2166840" cy="829080"/>
          </a:xfrm>
        </p:grpSpPr>
        <p:sp>
          <p:nvSpPr>
            <p:cNvPr id="791" name="TextBox 10"/>
            <p:cNvSpPr/>
            <p:nvPr/>
          </p:nvSpPr>
          <p:spPr>
            <a:xfrm>
              <a:off x="4967280" y="306576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文本框 82"/>
            <p:cNvSpPr/>
            <p:nvPr/>
          </p:nvSpPr>
          <p:spPr>
            <a:xfrm>
              <a:off x="546444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695160" y="2513160"/>
            <a:ext cx="1952640" cy="676800"/>
            <a:chOff x="695160" y="2513160"/>
            <a:chExt cx="1952640" cy="676800"/>
          </a:xfrm>
        </p:grpSpPr>
        <p:sp>
          <p:nvSpPr>
            <p:cNvPr id="794" name="TextBox 10"/>
            <p:cNvSpPr/>
            <p:nvPr/>
          </p:nvSpPr>
          <p:spPr>
            <a:xfrm>
              <a:off x="695160" y="2913480"/>
              <a:ext cx="195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文本框 85"/>
            <p:cNvSpPr/>
            <p:nvPr/>
          </p:nvSpPr>
          <p:spPr>
            <a:xfrm>
              <a:off x="69516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9453600" y="2481120"/>
            <a:ext cx="1950840" cy="676800"/>
            <a:chOff x="9453600" y="2481120"/>
            <a:chExt cx="1950840" cy="676800"/>
          </a:xfrm>
        </p:grpSpPr>
        <p:sp>
          <p:nvSpPr>
            <p:cNvPr id="797" name="TextBox 10"/>
            <p:cNvSpPr/>
            <p:nvPr/>
          </p:nvSpPr>
          <p:spPr>
            <a:xfrm>
              <a:off x="9453600" y="2881440"/>
              <a:ext cx="19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文本框 88"/>
            <p:cNvSpPr/>
            <p:nvPr/>
          </p:nvSpPr>
          <p:spPr>
            <a:xfrm>
              <a:off x="9453600" y="24811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2171880" y="1306440"/>
            <a:ext cx="2255760" cy="3294000"/>
            <a:chOff x="2171880" y="1306440"/>
            <a:chExt cx="2255760" cy="3294000"/>
          </a:xfrm>
        </p:grpSpPr>
        <p:pic>
          <p:nvPicPr>
            <p:cNvPr id="802" name="图片 4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2171880" y="1845720"/>
              <a:ext cx="22557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矩形 5"/>
            <p:cNvSpPr/>
            <p:nvPr/>
          </p:nvSpPr>
          <p:spPr>
            <a:xfrm>
              <a:off x="2171880" y="1306440"/>
              <a:ext cx="22557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7"/>
          <p:cNvGrpSpPr/>
          <p:nvPr/>
        </p:nvGrpSpPr>
        <p:grpSpPr>
          <a:xfrm>
            <a:off x="4937040" y="1306440"/>
            <a:ext cx="2254320" cy="3294000"/>
            <a:chOff x="4937040" y="1306440"/>
            <a:chExt cx="2254320" cy="3294000"/>
          </a:xfrm>
        </p:grpSpPr>
        <p:pic>
          <p:nvPicPr>
            <p:cNvPr id="805" name="图片 7" descr=""/>
            <p:cNvPicPr/>
            <p:nvPr/>
          </p:nvPicPr>
          <p:blipFill>
            <a:blip r:embed="rId3">
              <a:alphaModFix amt="36000"/>
            </a:blip>
            <a:stretch/>
          </p:blipFill>
          <p:spPr>
            <a:xfrm>
              <a:off x="4938840" y="1845720"/>
              <a:ext cx="225252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矩形 8"/>
            <p:cNvSpPr/>
            <p:nvPr/>
          </p:nvSpPr>
          <p:spPr>
            <a:xfrm>
              <a:off x="4937040" y="1306440"/>
              <a:ext cx="225432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Group 10"/>
          <p:cNvGrpSpPr/>
          <p:nvPr/>
        </p:nvGrpSpPr>
        <p:grpSpPr>
          <a:xfrm>
            <a:off x="7702560" y="1306440"/>
            <a:ext cx="2257560" cy="3294000"/>
            <a:chOff x="7702560" y="1306440"/>
            <a:chExt cx="2257560" cy="3294000"/>
          </a:xfrm>
        </p:grpSpPr>
        <p:pic>
          <p:nvPicPr>
            <p:cNvPr id="808" name="图片 10" descr=""/>
            <p:cNvPicPr/>
            <p:nvPr/>
          </p:nvPicPr>
          <p:blipFill>
            <a:blip r:embed="rId4">
              <a:alphaModFix amt="36000"/>
            </a:blip>
            <a:stretch/>
          </p:blipFill>
          <p:spPr>
            <a:xfrm>
              <a:off x="7702560" y="1845720"/>
              <a:ext cx="22575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矩形 11"/>
            <p:cNvSpPr/>
            <p:nvPr/>
          </p:nvSpPr>
          <p:spPr>
            <a:xfrm>
              <a:off x="7702560" y="1306440"/>
              <a:ext cx="22575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TextBox 10"/>
          <p:cNvSpPr/>
          <p:nvPr/>
        </p:nvSpPr>
        <p:spPr>
          <a:xfrm>
            <a:off x="217188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0"/>
          <p:cNvSpPr/>
          <p:nvPr/>
        </p:nvSpPr>
        <p:spPr>
          <a:xfrm>
            <a:off x="497052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0"/>
          <p:cNvSpPr/>
          <p:nvPr/>
        </p:nvSpPr>
        <p:spPr>
          <a:xfrm>
            <a:off x="776916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1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椭圆 3"/>
          <p:cNvSpPr/>
          <p:nvPr/>
        </p:nvSpPr>
        <p:spPr>
          <a:xfrm>
            <a:off x="1514520" y="175896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椭圆 4"/>
          <p:cNvSpPr/>
          <p:nvPr/>
        </p:nvSpPr>
        <p:spPr>
          <a:xfrm>
            <a:off x="310032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5"/>
          <p:cNvSpPr/>
          <p:nvPr/>
        </p:nvSpPr>
        <p:spPr>
          <a:xfrm>
            <a:off x="468468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椭圆 6"/>
          <p:cNvSpPr/>
          <p:nvPr/>
        </p:nvSpPr>
        <p:spPr>
          <a:xfrm>
            <a:off x="1514520" y="383220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7"/>
          <p:cNvSpPr/>
          <p:nvPr/>
        </p:nvSpPr>
        <p:spPr>
          <a:xfrm>
            <a:off x="310032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8"/>
          <p:cNvSpPr/>
          <p:nvPr/>
        </p:nvSpPr>
        <p:spPr>
          <a:xfrm>
            <a:off x="468468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9"/>
          <p:cNvSpPr/>
          <p:nvPr/>
        </p:nvSpPr>
        <p:spPr>
          <a:xfrm>
            <a:off x="158112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0"/>
          <p:cNvSpPr/>
          <p:nvPr/>
        </p:nvSpPr>
        <p:spPr>
          <a:xfrm>
            <a:off x="3209760" y="30672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11"/>
          <p:cNvSpPr/>
          <p:nvPr/>
        </p:nvSpPr>
        <p:spPr>
          <a:xfrm>
            <a:off x="483876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12"/>
          <p:cNvSpPr/>
          <p:nvPr/>
        </p:nvSpPr>
        <p:spPr>
          <a:xfrm>
            <a:off x="158112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13"/>
          <p:cNvSpPr/>
          <p:nvPr/>
        </p:nvSpPr>
        <p:spPr>
          <a:xfrm>
            <a:off x="3209760" y="514044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483876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图片 17" descr=""/>
          <p:cNvPicPr/>
          <p:nvPr/>
        </p:nvPicPr>
        <p:blipFill>
          <a:blip r:embed="rId2"/>
          <a:stretch/>
        </p:blipFill>
        <p:spPr>
          <a:xfrm>
            <a:off x="177480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8" descr=""/>
          <p:cNvPicPr/>
          <p:nvPr/>
        </p:nvPicPr>
        <p:blipFill>
          <a:blip r:embed="rId3"/>
          <a:stretch/>
        </p:blipFill>
        <p:spPr>
          <a:xfrm>
            <a:off x="335916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9" descr=""/>
          <p:cNvPicPr/>
          <p:nvPr/>
        </p:nvPicPr>
        <p:blipFill>
          <a:blip r:embed="rId4"/>
          <a:stretch/>
        </p:blipFill>
        <p:spPr>
          <a:xfrm>
            <a:off x="4943520" y="4149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20" descr=""/>
          <p:cNvPicPr/>
          <p:nvPr/>
        </p:nvPicPr>
        <p:blipFill>
          <a:blip r:embed="rId5"/>
          <a:stretch/>
        </p:blipFill>
        <p:spPr>
          <a:xfrm>
            <a:off x="1749600" y="2016000"/>
            <a:ext cx="761760" cy="7686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1" descr=""/>
          <p:cNvPicPr/>
          <p:nvPr/>
        </p:nvPicPr>
        <p:blipFill>
          <a:blip r:embed="rId6"/>
          <a:stretch/>
        </p:blipFill>
        <p:spPr>
          <a:xfrm>
            <a:off x="3359160" y="2019240"/>
            <a:ext cx="768240" cy="7621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2" descr=""/>
          <p:cNvPicPr/>
          <p:nvPr/>
        </p:nvPicPr>
        <p:blipFill>
          <a:blip r:embed="rId7"/>
          <a:stretch/>
        </p:blipFill>
        <p:spPr>
          <a:xfrm>
            <a:off x="4962600" y="2019240"/>
            <a:ext cx="761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22"/>
          <p:cNvGrpSpPr/>
          <p:nvPr/>
        </p:nvGrpSpPr>
        <p:grpSpPr>
          <a:xfrm>
            <a:off x="7078680" y="1922400"/>
            <a:ext cx="3654360" cy="661680"/>
            <a:chOff x="7078680" y="1922400"/>
            <a:chExt cx="3654360" cy="661680"/>
          </a:xfrm>
        </p:grpSpPr>
        <p:sp>
          <p:nvSpPr>
            <p:cNvPr id="834" name="TextBox 10"/>
            <p:cNvSpPr/>
            <p:nvPr/>
          </p:nvSpPr>
          <p:spPr>
            <a:xfrm>
              <a:off x="7078680" y="232272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文本框 25"/>
            <p:cNvSpPr/>
            <p:nvPr/>
          </p:nvSpPr>
          <p:spPr>
            <a:xfrm>
              <a:off x="7078680" y="192240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6" name="Group 25"/>
          <p:cNvGrpSpPr/>
          <p:nvPr/>
        </p:nvGrpSpPr>
        <p:grpSpPr>
          <a:xfrm>
            <a:off x="7078680" y="3114720"/>
            <a:ext cx="3654360" cy="661680"/>
            <a:chOff x="7078680" y="3114720"/>
            <a:chExt cx="3654360" cy="661680"/>
          </a:xfrm>
        </p:grpSpPr>
        <p:sp>
          <p:nvSpPr>
            <p:cNvPr id="837" name="TextBox 10"/>
            <p:cNvSpPr/>
            <p:nvPr/>
          </p:nvSpPr>
          <p:spPr>
            <a:xfrm>
              <a:off x="7078680" y="351504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文本框 28"/>
            <p:cNvSpPr/>
            <p:nvPr/>
          </p:nvSpPr>
          <p:spPr>
            <a:xfrm>
              <a:off x="7078680" y="311472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Group 28"/>
          <p:cNvGrpSpPr/>
          <p:nvPr/>
        </p:nvGrpSpPr>
        <p:grpSpPr>
          <a:xfrm>
            <a:off x="7078680" y="4340160"/>
            <a:ext cx="3654360" cy="829440"/>
            <a:chOff x="7078680" y="4340160"/>
            <a:chExt cx="3654360" cy="829440"/>
          </a:xfrm>
        </p:grpSpPr>
        <p:sp>
          <p:nvSpPr>
            <p:cNvPr id="840" name="TextBox 10"/>
            <p:cNvSpPr/>
            <p:nvPr/>
          </p:nvSpPr>
          <p:spPr>
            <a:xfrm>
              <a:off x="7078680" y="4740840"/>
              <a:ext cx="365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31"/>
            <p:cNvSpPr/>
            <p:nvPr/>
          </p:nvSpPr>
          <p:spPr>
            <a:xfrm>
              <a:off x="7078680" y="4340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4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10600" y="2034360"/>
            <a:ext cx="4578480" cy="2688840"/>
            <a:chOff x="1110600" y="2034360"/>
            <a:chExt cx="4578480" cy="2688840"/>
          </a:xfrm>
        </p:grpSpPr>
        <p:sp>
          <p:nvSpPr>
            <p:cNvPr id="845" name="矩形 4"/>
            <p:cNvSpPr/>
            <p:nvPr/>
          </p:nvSpPr>
          <p:spPr>
            <a:xfrm rot="2734200">
              <a:off x="1363320" y="22874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矩形 5"/>
            <p:cNvSpPr/>
            <p:nvPr/>
          </p:nvSpPr>
          <p:spPr>
            <a:xfrm rot="2734200">
              <a:off x="2282040" y="32378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6"/>
            <p:cNvSpPr/>
            <p:nvPr/>
          </p:nvSpPr>
          <p:spPr>
            <a:xfrm rot="2734200">
              <a:off x="3263400" y="229752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7"/>
            <p:cNvSpPr/>
            <p:nvPr/>
          </p:nvSpPr>
          <p:spPr>
            <a:xfrm rot="2734200">
              <a:off x="4213440" y="324828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"/>
          <p:cNvSpPr/>
          <p:nvPr/>
        </p:nvSpPr>
        <p:spPr>
          <a:xfrm>
            <a:off x="6480000" y="246384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图片 9" descr=""/>
          <p:cNvPicPr/>
          <p:nvPr/>
        </p:nvPicPr>
        <p:blipFill>
          <a:blip r:embed="rId2"/>
          <a:stretch/>
        </p:blipFill>
        <p:spPr>
          <a:xfrm>
            <a:off x="1782720" y="2425680"/>
            <a:ext cx="382680" cy="38088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0" descr=""/>
          <p:cNvPicPr/>
          <p:nvPr/>
        </p:nvPicPr>
        <p:blipFill>
          <a:blip r:embed="rId3"/>
          <a:stretch/>
        </p:blipFill>
        <p:spPr>
          <a:xfrm>
            <a:off x="3627360" y="2374920"/>
            <a:ext cx="459000" cy="45864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1" descr=""/>
          <p:cNvPicPr/>
          <p:nvPr/>
        </p:nvPicPr>
        <p:blipFill>
          <a:blip r:embed="rId4"/>
          <a:stretch/>
        </p:blipFill>
        <p:spPr>
          <a:xfrm>
            <a:off x="2622600" y="3319560"/>
            <a:ext cx="565200" cy="5634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" descr=""/>
          <p:cNvPicPr/>
          <p:nvPr/>
        </p:nvPicPr>
        <p:blipFill>
          <a:blip r:embed="rId5"/>
          <a:stretch/>
        </p:blipFill>
        <p:spPr>
          <a:xfrm>
            <a:off x="4532400" y="329724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854" name="文本框 13"/>
          <p:cNvSpPr/>
          <p:nvPr/>
        </p:nvSpPr>
        <p:spPr>
          <a:xfrm>
            <a:off x="350532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5"/>
          <p:cNvSpPr/>
          <p:nvPr/>
        </p:nvSpPr>
        <p:spPr>
          <a:xfrm>
            <a:off x="4516560" y="39798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7"/>
          <p:cNvSpPr/>
          <p:nvPr/>
        </p:nvSpPr>
        <p:spPr>
          <a:xfrm>
            <a:off x="2550960" y="39798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8"/>
          <p:cNvSpPr/>
          <p:nvPr/>
        </p:nvSpPr>
        <p:spPr>
          <a:xfrm>
            <a:off x="161280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9"/>
          <p:cNvSpPr/>
          <p:nvPr/>
        </p:nvSpPr>
        <p:spPr>
          <a:xfrm>
            <a:off x="6480000" y="2055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20"/>
          <p:cNvSpPr/>
          <p:nvPr/>
        </p:nvSpPr>
        <p:spPr>
          <a:xfrm>
            <a:off x="6480000" y="397980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21"/>
          <p:cNvSpPr/>
          <p:nvPr/>
        </p:nvSpPr>
        <p:spPr>
          <a:xfrm>
            <a:off x="6480000" y="3570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863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5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866" name="文本框 17"/>
          <p:cNvSpPr/>
          <p:nvPr/>
        </p:nvSpPr>
        <p:spPr>
          <a:xfrm>
            <a:off x="7826400" y="2011320"/>
            <a:ext cx="40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2766f"/>
                </a:solidFill>
                <a:latin typeface="方正兰亭特黑_GBK"/>
                <a:ea typeface="方正兰亭特黑_GBK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18"/>
          <p:cNvSpPr/>
          <p:nvPr/>
        </p:nvSpPr>
        <p:spPr>
          <a:xfrm>
            <a:off x="7893000" y="3238560"/>
            <a:ext cx="35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0"/>
          <p:cNvSpPr/>
          <p:nvPr/>
        </p:nvSpPr>
        <p:spPr>
          <a:xfrm>
            <a:off x="7826400" y="3129120"/>
            <a:ext cx="392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871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873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875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78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文本框 68" descr=""/>
          <p:cNvPicPr/>
          <p:nvPr/>
        </p:nvPicPr>
        <p:blipFill>
          <a:blip r:embed="rId2"/>
          <a:stretch/>
        </p:blipFill>
        <p:spPr>
          <a:xfrm>
            <a:off x="1109520" y="1079640"/>
            <a:ext cx="5089680" cy="63817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5"/>
          <p:cNvGrpSpPr/>
          <p:nvPr/>
        </p:nvGrpSpPr>
        <p:grpSpPr>
          <a:xfrm>
            <a:off x="1459440" y="1662120"/>
            <a:ext cx="4353840" cy="4353480"/>
            <a:chOff x="1459440" y="1662120"/>
            <a:chExt cx="4353840" cy="4353480"/>
          </a:xfrm>
        </p:grpSpPr>
        <p:sp>
          <p:nvSpPr>
            <p:cNvPr id="606" name="空心弧 70"/>
            <p:cNvSpPr/>
            <p:nvPr/>
          </p:nvSpPr>
          <p:spPr>
            <a:xfrm rot="4927200">
              <a:off x="1706040" y="1908360"/>
              <a:ext cx="3860640" cy="3861000"/>
            </a:xfrm>
            <a:custGeom>
              <a:avLst/>
              <a:gdLst/>
              <a:ahLst/>
              <a:rect l="l" t="t" r="r" b="b"/>
              <a:pathLst>
                <a:path w="3860471" h="3860471">
                  <a:moveTo>
                    <a:pt x="95233" y="1331424"/>
                  </a:moveTo>
                  <a:cubicBezTo>
                    <a:pt x="384873" y="443850"/>
                    <a:pt x="1268251" y="-109192"/>
                    <a:pt x="2193185" y="17994"/>
                  </a:cubicBezTo>
                  <a:cubicBezTo>
                    <a:pt x="3118119" y="145180"/>
                    <a:pt x="3819437" y="916131"/>
                    <a:pt x="3858759" y="1848940"/>
                  </a:cubicBezTo>
                  <a:lnTo>
                    <a:pt x="3812011" y="1850910"/>
                  </a:lnTo>
                  <a:cubicBezTo>
                    <a:pt x="3773642" y="940712"/>
                    <a:pt x="3089323" y="188449"/>
                    <a:pt x="2186810" y="64346"/>
                  </a:cubicBezTo>
                  <a:cubicBezTo>
                    <a:pt x="1284297" y="-59757"/>
                    <a:pt x="422331" y="479880"/>
                    <a:pt x="139713" y="1345939"/>
                  </a:cubicBezTo>
                  <a:lnTo>
                    <a:pt x="95233" y="1331424"/>
                  </a:lnTo>
                  <a:close/>
                </a:path>
              </a:pathLst>
            </a:cu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等腰三角形 71"/>
            <p:cNvSpPr/>
            <p:nvPr/>
          </p:nvSpPr>
          <p:spPr>
            <a:xfrm rot="17497200">
              <a:off x="3825720" y="1838160"/>
              <a:ext cx="239400" cy="2062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椭圆 72"/>
          <p:cNvSpPr/>
          <p:nvPr/>
        </p:nvSpPr>
        <p:spPr>
          <a:xfrm>
            <a:off x="4740120" y="481644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73"/>
          <p:cNvSpPr/>
          <p:nvPr/>
        </p:nvSpPr>
        <p:spPr>
          <a:xfrm>
            <a:off x="5234040" y="3487680"/>
            <a:ext cx="5792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74"/>
          <p:cNvSpPr/>
          <p:nvPr/>
        </p:nvSpPr>
        <p:spPr>
          <a:xfrm>
            <a:off x="4740120" y="215892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75"/>
          <p:cNvSpPr/>
          <p:nvPr/>
        </p:nvSpPr>
        <p:spPr>
          <a:xfrm>
            <a:off x="5321160" y="21160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任意多边形 76"/>
          <p:cNvSpPr/>
          <p:nvPr/>
        </p:nvSpPr>
        <p:spPr>
          <a:xfrm>
            <a:off x="5778360" y="3467160"/>
            <a:ext cx="3362400" cy="59832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77"/>
          <p:cNvSpPr/>
          <p:nvPr/>
        </p:nvSpPr>
        <p:spPr>
          <a:xfrm>
            <a:off x="5321160" y="48592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5440320" y="2208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5899320" y="35701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5440320" y="49514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梯形 3"/>
          <p:cNvSpPr/>
          <p:nvPr/>
        </p:nvSpPr>
        <p:spPr>
          <a:xfrm rot="5400000">
            <a:off x="192564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梯形 4"/>
          <p:cNvSpPr/>
          <p:nvPr/>
        </p:nvSpPr>
        <p:spPr>
          <a:xfrm rot="5400000">
            <a:off x="391140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梯形 5"/>
          <p:cNvSpPr/>
          <p:nvPr/>
        </p:nvSpPr>
        <p:spPr>
          <a:xfrm rot="5400000">
            <a:off x="589752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梯形 6"/>
          <p:cNvSpPr/>
          <p:nvPr/>
        </p:nvSpPr>
        <p:spPr>
          <a:xfrm rot="5400000">
            <a:off x="788328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流程图: 过程 7"/>
          <p:cNvSpPr/>
          <p:nvPr/>
        </p:nvSpPr>
        <p:spPr>
          <a:xfrm>
            <a:off x="144360" y="3886200"/>
            <a:ext cx="7923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流程图: 过程 8"/>
          <p:cNvSpPr/>
          <p:nvPr/>
        </p:nvSpPr>
        <p:spPr>
          <a:xfrm>
            <a:off x="11193480" y="3886200"/>
            <a:ext cx="7905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0"/>
          <p:cNvSpPr/>
          <p:nvPr/>
        </p:nvSpPr>
        <p:spPr>
          <a:xfrm>
            <a:off x="2127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411336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0"/>
          <p:cNvSpPr/>
          <p:nvPr/>
        </p:nvSpPr>
        <p:spPr>
          <a:xfrm>
            <a:off x="6099120" y="3568680"/>
            <a:ext cx="16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8085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13"/>
          <p:cNvSpPr/>
          <p:nvPr/>
        </p:nvSpPr>
        <p:spPr>
          <a:xfrm>
            <a:off x="2289240" y="2278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5"/>
          <p:cNvSpPr/>
          <p:nvPr/>
        </p:nvSpPr>
        <p:spPr>
          <a:xfrm>
            <a:off x="4275000" y="22780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7"/>
          <p:cNvSpPr/>
          <p:nvPr/>
        </p:nvSpPr>
        <p:spPr>
          <a:xfrm>
            <a:off x="6259680" y="2278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8"/>
          <p:cNvSpPr/>
          <p:nvPr/>
        </p:nvSpPr>
        <p:spPr>
          <a:xfrm>
            <a:off x="8334360" y="22780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1714680"/>
            <a:ext cx="6276960" cy="3836880"/>
            <a:chOff x="0" y="1714680"/>
            <a:chExt cx="6276960" cy="3836880"/>
          </a:xfrm>
        </p:grpSpPr>
        <p:pic>
          <p:nvPicPr>
            <p:cNvPr id="636" name="图片 4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6276960" cy="38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5" descr=""/>
            <p:cNvPicPr/>
            <p:nvPr/>
          </p:nvPicPr>
          <p:blipFill>
            <a:blip r:embed="rId3"/>
            <a:stretch/>
          </p:blipFill>
          <p:spPr>
            <a:xfrm>
              <a:off x="1032840" y="2043720"/>
              <a:ext cx="4192560" cy="23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椭圆 6"/>
          <p:cNvSpPr/>
          <p:nvPr/>
        </p:nvSpPr>
        <p:spPr>
          <a:xfrm>
            <a:off x="6156360" y="267984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7"/>
          <p:cNvSpPr/>
          <p:nvPr/>
        </p:nvSpPr>
        <p:spPr>
          <a:xfrm>
            <a:off x="6156360" y="381492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8"/>
          <p:cNvSpPr/>
          <p:nvPr/>
        </p:nvSpPr>
        <p:spPr>
          <a:xfrm>
            <a:off x="6156360" y="4948200"/>
            <a:ext cx="563400" cy="565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6727680" y="301320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0"/>
          <p:cNvSpPr/>
          <p:nvPr/>
        </p:nvSpPr>
        <p:spPr>
          <a:xfrm>
            <a:off x="6719760" y="25970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0"/>
          <p:cNvSpPr/>
          <p:nvPr/>
        </p:nvSpPr>
        <p:spPr>
          <a:xfrm>
            <a:off x="6748560" y="411156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2"/>
          <p:cNvSpPr/>
          <p:nvPr/>
        </p:nvSpPr>
        <p:spPr>
          <a:xfrm>
            <a:off x="6740640" y="3697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6769080" y="521172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5"/>
          <p:cNvSpPr/>
          <p:nvPr/>
        </p:nvSpPr>
        <p:spPr>
          <a:xfrm>
            <a:off x="6762600" y="4795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17"/>
          <p:cNvSpPr/>
          <p:nvPr/>
        </p:nvSpPr>
        <p:spPr>
          <a:xfrm>
            <a:off x="6156360" y="124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6194520" y="1660680"/>
            <a:ext cx="535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3"/>
          <p:cNvSpPr/>
          <p:nvPr/>
        </p:nvSpPr>
        <p:spPr>
          <a:xfrm>
            <a:off x="4905360" y="1596960"/>
            <a:ext cx="2538360" cy="2538360"/>
          </a:xfrm>
          <a:prstGeom prst="ellipse">
            <a:avLst/>
          </a:prstGeom>
          <a:noFill/>
          <a:ln w="38160">
            <a:solidFill>
              <a:srgbClr val="ffffff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4"/>
          <p:cNvSpPr/>
          <p:nvPr/>
        </p:nvSpPr>
        <p:spPr>
          <a:xfrm>
            <a:off x="4237200" y="2363760"/>
            <a:ext cx="117144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5"/>
          <p:cNvSpPr/>
          <p:nvPr/>
        </p:nvSpPr>
        <p:spPr>
          <a:xfrm>
            <a:off x="6940440" y="2363760"/>
            <a:ext cx="117180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5815080" y="2533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085240" y="2292480"/>
            <a:ext cx="988920" cy="1311120"/>
            <a:chOff x="8085240" y="2292480"/>
            <a:chExt cx="988920" cy="1311120"/>
          </a:xfrm>
        </p:grpSpPr>
        <p:sp>
          <p:nvSpPr>
            <p:cNvPr id="656" name="直接连接符 8"/>
            <p:cNvSpPr/>
            <p:nvPr/>
          </p:nvSpPr>
          <p:spPr>
            <a:xfrm flipV="1">
              <a:off x="8085240" y="2292480"/>
              <a:ext cx="988920" cy="725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9"/>
            <p:cNvSpPr/>
            <p:nvPr/>
          </p:nvSpPr>
          <p:spPr>
            <a:xfrm>
              <a:off x="8085240" y="3018240"/>
              <a:ext cx="988920" cy="5853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3278160" y="2257200"/>
            <a:ext cx="959040" cy="1432080"/>
            <a:chOff x="3278160" y="2257200"/>
            <a:chExt cx="959040" cy="1432080"/>
          </a:xfrm>
        </p:grpSpPr>
        <p:sp>
          <p:nvSpPr>
            <p:cNvPr id="659" name="直接连接符 11"/>
            <p:cNvSpPr/>
            <p:nvPr/>
          </p:nvSpPr>
          <p:spPr>
            <a:xfrm flipH="1" flipV="1">
              <a:off x="3278160" y="2257200"/>
              <a:ext cx="959040" cy="71604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12"/>
            <p:cNvSpPr/>
            <p:nvPr/>
          </p:nvSpPr>
          <p:spPr>
            <a:xfrm flipH="1">
              <a:off x="3278160" y="2973600"/>
              <a:ext cx="959040" cy="71568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椭圆 13"/>
          <p:cNvSpPr/>
          <p:nvPr/>
        </p:nvSpPr>
        <p:spPr>
          <a:xfrm>
            <a:off x="2533680" y="1714680"/>
            <a:ext cx="7891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2513160" y="3395520"/>
            <a:ext cx="78876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17"/>
          <p:cNvSpPr/>
          <p:nvPr/>
        </p:nvSpPr>
        <p:spPr>
          <a:xfrm>
            <a:off x="9036000" y="1714680"/>
            <a:ext cx="7873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椭圆 18"/>
          <p:cNvSpPr/>
          <p:nvPr/>
        </p:nvSpPr>
        <p:spPr>
          <a:xfrm>
            <a:off x="9047160" y="3395520"/>
            <a:ext cx="78912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19"/>
          <p:cNvSpPr/>
          <p:nvPr/>
        </p:nvSpPr>
        <p:spPr>
          <a:xfrm>
            <a:off x="2944800" y="5108400"/>
            <a:ext cx="1301760" cy="411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3057480" y="5499000"/>
            <a:ext cx="67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五边形 25"/>
          <p:cNvSpPr/>
          <p:nvPr/>
        </p:nvSpPr>
        <p:spPr>
          <a:xfrm rot="5400000">
            <a:off x="2621160" y="2599560"/>
            <a:ext cx="1022400" cy="12618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五边形 26"/>
          <p:cNvSpPr/>
          <p:nvPr/>
        </p:nvSpPr>
        <p:spPr>
          <a:xfrm rot="5400000">
            <a:off x="4501440" y="2599560"/>
            <a:ext cx="1022400" cy="1262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五边形 27"/>
          <p:cNvSpPr/>
          <p:nvPr/>
        </p:nvSpPr>
        <p:spPr>
          <a:xfrm rot="5400000">
            <a:off x="637812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8"/>
          <p:cNvSpPr/>
          <p:nvPr/>
        </p:nvSpPr>
        <p:spPr>
          <a:xfrm rot="5400000">
            <a:off x="825768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0"/>
          <p:cNvSpPr/>
          <p:nvPr/>
        </p:nvSpPr>
        <p:spPr>
          <a:xfrm>
            <a:off x="2405160" y="4275000"/>
            <a:ext cx="14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4272120" y="4275000"/>
            <a:ext cx="148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0"/>
          <p:cNvSpPr/>
          <p:nvPr/>
        </p:nvSpPr>
        <p:spPr>
          <a:xfrm>
            <a:off x="802944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614988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3"/>
          <p:cNvSpPr/>
          <p:nvPr/>
        </p:nvSpPr>
        <p:spPr>
          <a:xfrm>
            <a:off x="240516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4"/>
          <p:cNvSpPr/>
          <p:nvPr/>
        </p:nvSpPr>
        <p:spPr>
          <a:xfrm>
            <a:off x="4272120" y="3914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35"/>
          <p:cNvSpPr/>
          <p:nvPr/>
        </p:nvSpPr>
        <p:spPr>
          <a:xfrm>
            <a:off x="614988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36"/>
          <p:cNvSpPr/>
          <p:nvPr/>
        </p:nvSpPr>
        <p:spPr>
          <a:xfrm>
            <a:off x="8029440" y="3914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16"/>
          <p:cNvGrpSpPr/>
          <p:nvPr/>
        </p:nvGrpSpPr>
        <p:grpSpPr>
          <a:xfrm>
            <a:off x="3133800" y="2371680"/>
            <a:ext cx="1877760" cy="347760"/>
            <a:chOff x="3133800" y="2371680"/>
            <a:chExt cx="1877760" cy="347760"/>
          </a:xfrm>
        </p:grpSpPr>
        <p:sp>
          <p:nvSpPr>
            <p:cNvPr id="682" name="直接连接符 38"/>
            <p:cNvSpPr/>
            <p:nvPr/>
          </p:nvSpPr>
          <p:spPr>
            <a:xfrm>
              <a:off x="313380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接连接符 39"/>
            <p:cNvSpPr/>
            <p:nvPr/>
          </p:nvSpPr>
          <p:spPr>
            <a:xfrm>
              <a:off x="501156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40"/>
            <p:cNvSpPr/>
            <p:nvPr/>
          </p:nvSpPr>
          <p:spPr>
            <a:xfrm>
              <a:off x="3133800" y="237168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6891480" y="2365200"/>
            <a:ext cx="1877760" cy="347760"/>
            <a:chOff x="6891480" y="2365200"/>
            <a:chExt cx="1877760" cy="347760"/>
          </a:xfrm>
        </p:grpSpPr>
        <p:sp>
          <p:nvSpPr>
            <p:cNvPr id="686" name="直接连接符 42"/>
            <p:cNvSpPr/>
            <p:nvPr/>
          </p:nvSpPr>
          <p:spPr>
            <a:xfrm>
              <a:off x="689148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接连接符 43"/>
            <p:cNvSpPr/>
            <p:nvPr/>
          </p:nvSpPr>
          <p:spPr>
            <a:xfrm>
              <a:off x="876924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接连接符 44"/>
            <p:cNvSpPr/>
            <p:nvPr/>
          </p:nvSpPr>
          <p:spPr>
            <a:xfrm>
              <a:off x="6891480" y="236520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文本框 45"/>
          <p:cNvSpPr/>
          <p:nvPr/>
        </p:nvSpPr>
        <p:spPr>
          <a:xfrm>
            <a:off x="3292560" y="192096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>
            <a:off x="7050240" y="1957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>
            <a:off x="2841480" y="29653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5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8"/>
          <p:cNvSpPr/>
          <p:nvPr/>
        </p:nvSpPr>
        <p:spPr>
          <a:xfrm>
            <a:off x="475920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6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49"/>
          <p:cNvSpPr/>
          <p:nvPr/>
        </p:nvSpPr>
        <p:spPr>
          <a:xfrm>
            <a:off x="653724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0"/>
          <p:cNvSpPr/>
          <p:nvPr/>
        </p:nvSpPr>
        <p:spPr>
          <a:xfrm>
            <a:off x="8437680" y="2965320"/>
            <a:ext cx="7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9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图片 3" descr=""/>
          <p:cNvPicPr/>
          <p:nvPr/>
        </p:nvPicPr>
        <p:blipFill>
          <a:blip r:embed="rId2"/>
          <a:srcRect l="3771" t="0" r="3271" b="7008"/>
          <a:stretch/>
        </p:blipFill>
        <p:spPr>
          <a:xfrm>
            <a:off x="1627200" y="1898640"/>
            <a:ext cx="3100320" cy="34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8" name="矩形 5"/>
          <p:cNvSpPr/>
          <p:nvPr/>
        </p:nvSpPr>
        <p:spPr>
          <a:xfrm>
            <a:off x="5692680" y="16542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6"/>
          <p:cNvSpPr/>
          <p:nvPr/>
        </p:nvSpPr>
        <p:spPr>
          <a:xfrm>
            <a:off x="7456320" y="2079720"/>
            <a:ext cx="307836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"/>
          <p:cNvSpPr/>
          <p:nvPr/>
        </p:nvSpPr>
        <p:spPr>
          <a:xfrm>
            <a:off x="5600880" y="21985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9"/>
          <p:cNvSpPr/>
          <p:nvPr/>
        </p:nvSpPr>
        <p:spPr>
          <a:xfrm>
            <a:off x="587376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10"/>
          <p:cNvSpPr/>
          <p:nvPr/>
        </p:nvSpPr>
        <p:spPr>
          <a:xfrm>
            <a:off x="599292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12"/>
          <p:cNvSpPr/>
          <p:nvPr/>
        </p:nvSpPr>
        <p:spPr>
          <a:xfrm>
            <a:off x="7631280" y="3284640"/>
            <a:ext cx="90612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13"/>
          <p:cNvSpPr/>
          <p:nvPr/>
        </p:nvSpPr>
        <p:spPr>
          <a:xfrm>
            <a:off x="775008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椭圆 17"/>
          <p:cNvSpPr/>
          <p:nvPr/>
        </p:nvSpPr>
        <p:spPr>
          <a:xfrm>
            <a:off x="938844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950760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20"/>
          <p:cNvSpPr/>
          <p:nvPr/>
        </p:nvSpPr>
        <p:spPr>
          <a:xfrm>
            <a:off x="5700600" y="43308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直接连接符 21"/>
          <p:cNvSpPr/>
          <p:nvPr/>
        </p:nvSpPr>
        <p:spPr>
          <a:xfrm>
            <a:off x="7464600" y="4754520"/>
            <a:ext cx="307800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5608800" y="48751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368360" y="1635120"/>
            <a:ext cx="2573280" cy="3846600"/>
            <a:chOff x="1368360" y="1635120"/>
            <a:chExt cx="2573280" cy="3846600"/>
          </a:xfrm>
        </p:grpSpPr>
        <p:sp>
          <p:nvSpPr>
            <p:cNvPr id="713" name="六边形 4"/>
            <p:cNvSpPr/>
            <p:nvPr/>
          </p:nvSpPr>
          <p:spPr>
            <a:xfrm>
              <a:off x="2518920" y="2946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六边形 5"/>
            <p:cNvSpPr/>
            <p:nvPr/>
          </p:nvSpPr>
          <p:spPr>
            <a:xfrm>
              <a:off x="2488680" y="425556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六边形 6"/>
            <p:cNvSpPr/>
            <p:nvPr/>
          </p:nvSpPr>
          <p:spPr>
            <a:xfrm>
              <a:off x="1368360" y="36007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六边形 7"/>
            <p:cNvSpPr/>
            <p:nvPr/>
          </p:nvSpPr>
          <p:spPr>
            <a:xfrm>
              <a:off x="1380960" y="2298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六边形 8"/>
            <p:cNvSpPr/>
            <p:nvPr/>
          </p:nvSpPr>
          <p:spPr>
            <a:xfrm>
              <a:off x="2518920" y="16351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Group 10"/>
          <p:cNvGrpSpPr/>
          <p:nvPr/>
        </p:nvGrpSpPr>
        <p:grpSpPr>
          <a:xfrm>
            <a:off x="2079720" y="1212840"/>
            <a:ext cx="3375000" cy="1084320"/>
            <a:chOff x="2079720" y="1212840"/>
            <a:chExt cx="3375000" cy="1084320"/>
          </a:xfrm>
        </p:grpSpPr>
        <p:sp>
          <p:nvSpPr>
            <p:cNvPr id="719" name="直接连接符 10"/>
            <p:cNvSpPr/>
            <p:nvPr/>
          </p:nvSpPr>
          <p:spPr>
            <a:xfrm flipV="1">
              <a:off x="2079720" y="1212840"/>
              <a:ext cx="653400" cy="108432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1"/>
            <p:cNvSpPr/>
            <p:nvPr/>
          </p:nvSpPr>
          <p:spPr>
            <a:xfrm>
              <a:off x="2720520" y="121284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直接连接符 12"/>
          <p:cNvSpPr/>
          <p:nvPr/>
        </p:nvSpPr>
        <p:spPr>
          <a:xfrm>
            <a:off x="3941640" y="2247840"/>
            <a:ext cx="172728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13"/>
          <p:cNvSpPr/>
          <p:nvPr/>
        </p:nvSpPr>
        <p:spPr>
          <a:xfrm>
            <a:off x="3941640" y="3551400"/>
            <a:ext cx="219564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15"/>
          <p:cNvSpPr/>
          <p:nvPr/>
        </p:nvSpPr>
        <p:spPr>
          <a:xfrm>
            <a:off x="3911760" y="4862520"/>
            <a:ext cx="172692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Group 16"/>
          <p:cNvGrpSpPr/>
          <p:nvPr/>
        </p:nvGrpSpPr>
        <p:grpSpPr>
          <a:xfrm>
            <a:off x="2079720" y="4827600"/>
            <a:ext cx="3375000" cy="1073160"/>
            <a:chOff x="2079720" y="4827600"/>
            <a:chExt cx="3375000" cy="1073160"/>
          </a:xfrm>
        </p:grpSpPr>
        <p:sp>
          <p:nvSpPr>
            <p:cNvPr id="725" name="直接连接符 18"/>
            <p:cNvSpPr/>
            <p:nvPr/>
          </p:nvSpPr>
          <p:spPr>
            <a:xfrm>
              <a:off x="2079720" y="4827600"/>
              <a:ext cx="653400" cy="10731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 19"/>
            <p:cNvSpPr/>
            <p:nvPr/>
          </p:nvSpPr>
          <p:spPr>
            <a:xfrm>
              <a:off x="2720520" y="590040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文本框 20"/>
          <p:cNvSpPr/>
          <p:nvPr/>
        </p:nvSpPr>
        <p:spPr>
          <a:xfrm>
            <a:off x="2670120" y="20606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21"/>
          <p:cNvSpPr/>
          <p:nvPr/>
        </p:nvSpPr>
        <p:spPr>
          <a:xfrm>
            <a:off x="2679840" y="3373560"/>
            <a:ext cx="11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22"/>
          <p:cNvSpPr/>
          <p:nvPr/>
        </p:nvSpPr>
        <p:spPr>
          <a:xfrm>
            <a:off x="2657520" y="46688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1533600" y="27147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1506600" y="402912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25"/>
          <p:cNvSpPr/>
          <p:nvPr/>
        </p:nvSpPr>
        <p:spPr>
          <a:xfrm>
            <a:off x="5681520" y="9669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26"/>
          <p:cNvSpPr/>
          <p:nvPr/>
        </p:nvSpPr>
        <p:spPr>
          <a:xfrm>
            <a:off x="5794200" y="2060640"/>
            <a:ext cx="457200" cy="455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27"/>
          <p:cNvSpPr/>
          <p:nvPr/>
        </p:nvSpPr>
        <p:spPr>
          <a:xfrm>
            <a:off x="6251400" y="33717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椭圆 28"/>
          <p:cNvSpPr/>
          <p:nvPr/>
        </p:nvSpPr>
        <p:spPr>
          <a:xfrm>
            <a:off x="5681520" y="462600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29"/>
          <p:cNvSpPr/>
          <p:nvPr/>
        </p:nvSpPr>
        <p:spPr>
          <a:xfrm>
            <a:off x="5506920" y="568008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oup 29"/>
          <p:cNvGrpSpPr/>
          <p:nvPr/>
        </p:nvGrpSpPr>
        <p:grpSpPr>
          <a:xfrm>
            <a:off x="7805880" y="1658880"/>
            <a:ext cx="2724120" cy="4021200"/>
            <a:chOff x="7805880" y="1658880"/>
            <a:chExt cx="2724120" cy="4021200"/>
          </a:xfrm>
        </p:grpSpPr>
        <p:pic>
          <p:nvPicPr>
            <p:cNvPr id="738" name="图片 31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7805880" y="2078640"/>
              <a:ext cx="2724120" cy="36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32"/>
            <p:cNvSpPr/>
            <p:nvPr/>
          </p:nvSpPr>
          <p:spPr>
            <a:xfrm>
              <a:off x="7805880" y="1658880"/>
              <a:ext cx="2724120" cy="43272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信息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4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4"/>
          <p:cNvGrpSpPr/>
          <p:nvPr/>
        </p:nvGrpSpPr>
        <p:grpSpPr>
          <a:xfrm>
            <a:off x="1925640" y="1003320"/>
            <a:ext cx="7773840" cy="5130720"/>
            <a:chOff x="1925640" y="1003320"/>
            <a:chExt cx="7773840" cy="5130720"/>
          </a:xfrm>
        </p:grpSpPr>
        <p:grpSp>
          <p:nvGrpSpPr>
            <p:cNvPr id="743" name="Group 5"/>
            <p:cNvGrpSpPr/>
            <p:nvPr/>
          </p:nvGrpSpPr>
          <p:grpSpPr>
            <a:xfrm>
              <a:off x="2486160" y="1561680"/>
              <a:ext cx="6657840" cy="4023000"/>
              <a:chOff x="2486160" y="1561680"/>
              <a:chExt cx="6657840" cy="4023000"/>
            </a:xfrm>
          </p:grpSpPr>
          <p:sp>
            <p:nvSpPr>
              <p:cNvPr id="744" name="任意多边形 9"/>
              <p:cNvSpPr/>
              <p:nvPr/>
            </p:nvSpPr>
            <p:spPr>
              <a:xfrm>
                <a:off x="2486160" y="1561680"/>
                <a:ext cx="6657840" cy="3101040"/>
              </a:xfrm>
              <a:custGeom>
                <a:avLst/>
                <a:gdLst/>
                <a:ahLst/>
                <a:rect l="l" t="t" r="r" b="b"/>
                <a:pathLst>
                  <a:path w="5718220" h="2987899">
                    <a:moveTo>
                      <a:pt x="0" y="0"/>
                    </a:moveTo>
                    <a:lnTo>
                      <a:pt x="5718220" y="0"/>
                    </a:lnTo>
                    <a:lnTo>
                      <a:pt x="5718220" y="2485623"/>
                    </a:lnTo>
                    <a:lnTo>
                      <a:pt x="3181082" y="2485623"/>
                    </a:lnTo>
                    <a:lnTo>
                      <a:pt x="2859110" y="2987899"/>
                    </a:lnTo>
                    <a:lnTo>
                      <a:pt x="2537138" y="2485623"/>
                    </a:lnTo>
                    <a:lnTo>
                      <a:pt x="0" y="24856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任意多边形 10"/>
              <p:cNvSpPr/>
              <p:nvPr/>
            </p:nvSpPr>
            <p:spPr>
              <a:xfrm>
                <a:off x="2486160" y="4274640"/>
                <a:ext cx="326880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1"/>
              <p:cNvSpPr/>
              <p:nvPr/>
            </p:nvSpPr>
            <p:spPr>
              <a:xfrm flipV="1" rot="10800000">
                <a:off x="5882400" y="4260240"/>
                <a:ext cx="326124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矩形 5"/>
            <p:cNvSpPr/>
            <p:nvPr/>
          </p:nvSpPr>
          <p:spPr>
            <a:xfrm>
              <a:off x="1925640" y="100332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6"/>
            <p:cNvSpPr/>
            <p:nvPr/>
          </p:nvSpPr>
          <p:spPr>
            <a:xfrm>
              <a:off x="9126360" y="556056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7"/>
            <p:cNvSpPr/>
            <p:nvPr/>
          </p:nvSpPr>
          <p:spPr>
            <a:xfrm>
              <a:off x="9126360" y="114552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8"/>
            <p:cNvSpPr/>
            <p:nvPr/>
          </p:nvSpPr>
          <p:spPr>
            <a:xfrm>
              <a:off x="2080800" y="557388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文本框 78"/>
          <p:cNvSpPr/>
          <p:nvPr/>
        </p:nvSpPr>
        <p:spPr>
          <a:xfrm>
            <a:off x="2806560" y="2166840"/>
            <a:ext cx="601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53"/>
          <p:cNvSpPr/>
          <p:nvPr/>
        </p:nvSpPr>
        <p:spPr>
          <a:xfrm>
            <a:off x="2664000" y="18162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15" descr=""/>
          <p:cNvPicPr/>
          <p:nvPr/>
        </p:nvPicPr>
        <p:blipFill>
          <a:blip r:embed="rId2"/>
          <a:stretch/>
        </p:blipFill>
        <p:spPr>
          <a:xfrm>
            <a:off x="2664000" y="459108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7" descr=""/>
          <p:cNvPicPr/>
          <p:nvPr/>
        </p:nvPicPr>
        <p:blipFill>
          <a:blip r:embed="rId3"/>
          <a:stretch/>
        </p:blipFill>
        <p:spPr>
          <a:xfrm>
            <a:off x="6367320" y="4579920"/>
            <a:ext cx="613080" cy="612720"/>
          </a:xfrm>
          <a:prstGeom prst="rect">
            <a:avLst/>
          </a:prstGeom>
          <a:ln w="0">
            <a:noFill/>
          </a:ln>
        </p:spPr>
      </p:pic>
      <p:sp>
        <p:nvSpPr>
          <p:cNvPr id="755" name="TextBox 53"/>
          <p:cNvSpPr/>
          <p:nvPr/>
        </p:nvSpPr>
        <p:spPr>
          <a:xfrm>
            <a:off x="3181320" y="470304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53"/>
          <p:cNvSpPr/>
          <p:nvPr/>
        </p:nvSpPr>
        <p:spPr>
          <a:xfrm>
            <a:off x="6970680" y="474336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2T13:53:01Z</dcterms:created>
  <dc:creator/>
  <dc:description/>
  <dc:language>en-US</dc:language>
  <cp:lastModifiedBy>Administrator</cp:lastModifiedBy>
  <dcterms:modified xsi:type="dcterms:W3CDTF">2016-05-02T14:03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