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C73-6DC7-4165-955C-1C4FED75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C03-40C1-447E-A518-63B7BE66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ABC-6531-47BD-869B-80D85B7A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FE5-5BAB-4B4D-9FB2-170C19C3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8C0-E3C9-4F74-9DBD-F38EB266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121-D7F9-458C-A698-F8BCC04A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862-A7F5-42E2-A3D7-733E5BFA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059-D2C0-41DE-A374-9F948510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7F0-AD77-457E-9DFF-E37F576D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CE8-942B-4B3D-B45B-04C9EF16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653-152B-458D-AC22-20AE4CC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A9D-8E21-4857-88FC-4182723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65E7-867F-41B7-A968-EA11D8F2E5C0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F556-6026-4107-9B87-2FB39EE2DE8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b013129"/>
          <p:cNvPicPr/>
          <p:nvPr/>
        </p:nvPicPr>
        <p:blipFill>
          <a:blip r:embed="rId1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AD62-EC59-42B0-8ADB-9A5B3A3C524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74DB-0873-46AA-A064-0B6441A8D2B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6D20-7B3D-427D-86E8-6334EAFD652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4687-9451-4FF4-B9E0-DA355335DB8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51F4-39BF-40FE-8A99-8705BE4F5C4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C6B5-D174-41A4-9C65-4546866825A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9158-1DF0-4EFE-B545-E28218B2223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DC71-B000-4E01-AB7A-0762561D3B4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952D-9E26-4E2E-AC0D-F2C189A8D93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131C-C7A4-46F4-BD58-94556EB8983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C745-6A4F-4E57-AA34-00EDE05A3FA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E5C1-A737-4AFE-8B90-53D448B823C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E92-B22C-4EB6-A457-C2FCB3253B9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403D-C53C-4CB9-A903-82201206EF1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C2F-E0D1-438E-BEAC-8922D67D012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3D04-B481-43D6-BE87-375E5530CF2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98CC-8489-43C2-B6A4-B94A56AF258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ECC4-BE38-4441-B53A-DBDE225AF53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C9BF-EB73-4D21-A26B-606A79DF8AB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0DE4-51F4-4BC4-BAFE-E63E25C4774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D5DC-FB2E-415E-9CAE-27B92535391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8A48-4841-4C55-8800-4A6F0AB47D5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AB44-E8E5-4FFE-AB4E-BA0C029DF2D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63C2-9FFA-4ECA-ABF2-E0BAC7857B6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4708-A499-4E0E-B4A3-073B3D15E53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DAB3-9B9D-4AB0-9BE1-11B1A2BFA69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2:02Z</dcterms:modified>
  <cp:revision>2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