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A34A-9B39-4925-B01E-45E753AB82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5AB0-86CD-4347-AC94-CBA0033B0F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539-11A4-466B-B7CD-E5C2B7E5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E41-CCC6-402A-8B1F-64D52BF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4CB-FC83-48F6-ABDE-71B75AB8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417-4DB9-4D2A-AE57-C5D0D2CC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804-F59B-42F2-978B-69623F7D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71F-0A14-4136-91D6-E4C3122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D05-03F9-4DCF-A9F6-7DE091B7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D97-F32E-4D68-9D4A-BF2473B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86D-84DF-455C-BB00-2C840395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0E7-1575-4396-AE8A-F49F99A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50B-2DEA-417A-8BB0-17D8181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9C2-EED5-4B5E-8A7E-BE910BA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A7C-F59B-4423-B02F-A34FD25D3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Microsoft</cp:lastModifiedBy>
  <dcterms:modified xsi:type="dcterms:W3CDTF">2016-04-20T05:10:30Z</dcterms:modified>
  <cp:revision>76</cp:revision>
  <dc:subject/>
  <dc:title>幻灯片 1</dc:title>
</cp:coreProperties>
</file>