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C1A-38D8-47CA-BEAD-826DC5CB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F14-4AC9-4F0B-A2D9-D56DD35E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0E8-CD56-4794-ABC2-9903D7E2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D75-1FBD-4113-AF50-72C26B1D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C0B-BDDF-4DDE-954C-388E02A9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BBD-543B-4398-8B98-285FD6C0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593-CB06-44B7-B219-EF7FE5C6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F80-551E-48B4-B865-92CF8D66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099-1FE0-47B9-A23B-19A5723A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C8F-9BDD-4F9D-8B59-66318FE9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06D-E5D5-4EE0-999E-E3CF4EBA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A05-D02F-4A8D-A0C0-71156F98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776D-E1E9-41BB-BA2B-2D758B12F2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28800" y="4773600"/>
            <a:ext cx="10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4071960" y="477360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7286760" y="4773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C:\Documents and Settings\meihu\桌面\新建文件夹 (2)\ppt\0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meihu\桌面\新建文件夹 (2)\ppt\016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meihu\桌面\新建文件夹 (2)\ppt\017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meihu\桌面\新建文件夹 (2)\ppt\018.jpg"/>
          <p:cNvPicPr/>
          <p:nvPr/>
        </p:nvPicPr>
        <p:blipFill>
          <a:blip r:embed="rId1"/>
          <a:stretch/>
        </p:blipFill>
        <p:spPr>
          <a:xfrm>
            <a:off x="15840" y="-7920"/>
            <a:ext cx="12192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Documents and Settings\meihu\桌面\新建文件夹 (2)\ppt\019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meihu\桌面\新建文件夹 (2)\ppt\020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26:1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