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F03-2E51-4D28-897E-BF4946C2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031C-6FF1-440E-8FCE-F7CCC01C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DA2-CBD6-4E2A-B997-CA1F1E87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633-B159-4634-A288-90E17233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809-CD34-484E-A2EA-77859410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934-7B13-4198-9A9D-99C71482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24E-0568-40C8-BEA8-1B928D90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2B8-E22C-41B3-89EA-E0238386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C8F-32A0-4A0F-B268-C575DF70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C36-084E-4166-A6E9-2D5B095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14B-05E8-4226-A58C-7FBA8DAF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251-A188-4E48-ABB0-E3FDDA23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0D4C-AF5C-435B-9C9D-2E6A78807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image" Target="../media/image22.png"/><Relationship Id="rId7" Type="http://schemas.openxmlformats.org/officeDocument/2006/relationships/image" Target="../media/image9.wmf"/><Relationship Id="rId8" Type="http://schemas.openxmlformats.org/officeDocument/2006/relationships/image" Target="../media/image22.png"/><Relationship Id="rId9" Type="http://schemas.openxmlformats.org/officeDocument/2006/relationships/image" Target="../media/image9.wmf"/><Relationship Id="rId10" Type="http://schemas.openxmlformats.org/officeDocument/2006/relationships/image" Target="../media/image22.png"/><Relationship Id="rId11" Type="http://schemas.openxmlformats.org/officeDocument/2006/relationships/image" Target="../media/image9.wmf"/><Relationship Id="rId12" Type="http://schemas.openxmlformats.org/officeDocument/2006/relationships/image" Target="../media/image22.png"/><Relationship Id="rId13" Type="http://schemas.openxmlformats.org/officeDocument/2006/relationships/image" Target="../media/image9.wmf"/><Relationship Id="rId14" Type="http://schemas.openxmlformats.org/officeDocument/2006/relationships/image" Target="../media/image22.png"/><Relationship Id="rId15" Type="http://schemas.openxmlformats.org/officeDocument/2006/relationships/image" Target="../media/image9.wmf"/><Relationship Id="rId16" Type="http://schemas.openxmlformats.org/officeDocument/2006/relationships/image" Target="../media/image22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9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wmf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604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084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4160"/>
            <a:ext cx="412920" cy="479520"/>
            <a:chOff x="6814440" y="1064160"/>
            <a:chExt cx="412920" cy="47952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432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2160"/>
              <a:ext cx="368280" cy="443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394"/>
                  <a:lnTo>
                    <a:pt x="15503" y="21302"/>
                  </a:lnTo>
                  <a:lnTo>
                    <a:pt x="21600" y="16775"/>
                  </a:lnTo>
                  <a:lnTo>
                    <a:pt x="15503" y="11652"/>
                  </a:lnTo>
                  <a:lnTo>
                    <a:pt x="15503" y="14362"/>
                  </a:lnTo>
                  <a:arcTo wR="21600" hR="7330" stAng="7855606" swAng="2594046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561"/>
                  <a:lnTo>
                    <a:pt x="15468" y="21279"/>
                  </a:lnTo>
                  <a:lnTo>
                    <a:pt x="21600" y="17391"/>
                  </a:lnTo>
                  <a:lnTo>
                    <a:pt x="15468" y="12860"/>
                  </a:lnTo>
                  <a:lnTo>
                    <a:pt x="15468" y="15283"/>
                  </a:lnTo>
                  <a:arcTo wR="21600" hR="7802" stAng="7760439" swAng="2748170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9360" y="2071800"/>
            <a:ext cx="2312640" cy="1713960"/>
            <a:chOff x="5499360" y="2071800"/>
            <a:chExt cx="2312640" cy="171396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9360" y="2559960"/>
              <a:ext cx="1299960" cy="1225800"/>
              <a:chOff x="5499360" y="2559960"/>
              <a:chExt cx="1299960" cy="122580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35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84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26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56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560" y="2823840"/>
                <a:ext cx="864000" cy="356400"/>
                <a:chOff x="6226560" y="2823840"/>
                <a:chExt cx="864000" cy="35640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3840"/>
                  <a:ext cx="712800" cy="331920"/>
                  <a:chOff x="6377760" y="282384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0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15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560" y="2833920"/>
                  <a:ext cx="711000" cy="346320"/>
                  <a:chOff x="6226560" y="2833920"/>
                  <a:chExt cx="71100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110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202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11560" y="2071800"/>
            <a:ext cx="2312640" cy="1713960"/>
            <a:chOff x="511560" y="2071800"/>
            <a:chExt cx="2312640" cy="171396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440"/>
              <a:ext cx="227016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360"/>
              <a:ext cx="225396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11560" y="2559960"/>
              <a:ext cx="1299960" cy="1225800"/>
              <a:chOff x="511560" y="2559960"/>
              <a:chExt cx="1299960" cy="122580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576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3060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484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80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4880"/>
              <a:ext cx="146304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760" y="2823840"/>
                <a:ext cx="864000" cy="356400"/>
                <a:chOff x="1238760" y="2823840"/>
                <a:chExt cx="864000" cy="35640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3840"/>
                  <a:ext cx="712800" cy="331920"/>
                  <a:chOff x="1389960" y="282384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280" y="27316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3760" y="27691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760" y="2833920"/>
                  <a:ext cx="711000" cy="346320"/>
                  <a:chOff x="1238760" y="2833920"/>
                  <a:chExt cx="71100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324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44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4840" y="2071800"/>
            <a:ext cx="2313720" cy="1713960"/>
            <a:chOff x="2994840" y="2071800"/>
            <a:chExt cx="2313720" cy="171396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440"/>
              <a:ext cx="2271600" cy="11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1800"/>
              <a:ext cx="2255400" cy="115956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4840" y="2559960"/>
              <a:ext cx="1299960" cy="1225800"/>
              <a:chOff x="2994840" y="2559960"/>
              <a:chExt cx="1299960" cy="122580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9040" y="25297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3880" y="2682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8120" y="27522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1080" y="283212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4880"/>
              <a:ext cx="1463760" cy="97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080"/>
              <a:chOff x="3643200" y="2071800"/>
              <a:chExt cx="1072080" cy="110808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140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0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0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200"/>
                <a:ext cx="864360" cy="355680"/>
                <a:chOff x="3721320" y="282420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200"/>
                  <a:ext cx="712800" cy="331920"/>
                  <a:chOff x="3872880" y="282420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3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4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560"/>
                  <a:ext cx="711360" cy="346320"/>
                  <a:chOff x="3721320" y="2833560"/>
                  <a:chExt cx="71136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616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0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880" y="27680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4120" y="3987720"/>
            <a:ext cx="2309400" cy="1714320"/>
            <a:chOff x="1734120" y="3987720"/>
            <a:chExt cx="2309400" cy="171432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4120" y="4476240"/>
              <a:ext cx="1299960" cy="1225800"/>
              <a:chOff x="1734120" y="4476240"/>
              <a:chExt cx="1299960" cy="122580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832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316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776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36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000"/>
              <a:chOff x="2377080" y="3987720"/>
              <a:chExt cx="1072440" cy="110700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560" y="4738680"/>
                <a:ext cx="866160" cy="356040"/>
                <a:chOff x="2455560" y="4738680"/>
                <a:chExt cx="866160" cy="35604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560" y="4738680"/>
                  <a:ext cx="713160" cy="330840"/>
                  <a:chOff x="2608560" y="4738680"/>
                  <a:chExt cx="713160" cy="33084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96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204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60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560" y="4748040"/>
                  <a:ext cx="711360" cy="346680"/>
                  <a:chOff x="2455560" y="4748040"/>
                  <a:chExt cx="711360" cy="34668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48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4840" y="3987720"/>
            <a:ext cx="2309400" cy="1714320"/>
            <a:chOff x="4254840" y="3987720"/>
            <a:chExt cx="2309400" cy="171432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280"/>
              <a:ext cx="2270160" cy="11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560"/>
              <a:ext cx="2253960" cy="115740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4840" y="4476240"/>
              <a:ext cx="1299960" cy="1225800"/>
              <a:chOff x="4254840" y="4476240"/>
              <a:chExt cx="1299960" cy="122580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9040" y="44460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880" y="459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8480" y="4668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1080" y="47494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080"/>
              <a:ext cx="1463040" cy="97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000"/>
              <a:chOff x="4897800" y="3987720"/>
              <a:chExt cx="1072440" cy="110700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399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396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20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280" y="4738680"/>
                <a:ext cx="866160" cy="356040"/>
                <a:chOff x="4976280" y="4738680"/>
                <a:chExt cx="866160" cy="35604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280" y="4738680"/>
                  <a:ext cx="713160" cy="330840"/>
                  <a:chOff x="5129280" y="4738680"/>
                  <a:chExt cx="713160" cy="33084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2680" y="4645800"/>
                    <a:ext cx="133560" cy="5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760" y="46771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252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320" y="468720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280" y="4748040"/>
                  <a:ext cx="711360" cy="346680"/>
                  <a:chOff x="4976280" y="4748040"/>
                  <a:chExt cx="711360" cy="34668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20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476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7200" y="4681080"/>
                    <a:ext cx="133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080"/>
                    <a:ext cx="133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49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520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2952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61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2988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576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664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20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560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008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92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164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64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66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8160" cy="42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85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816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51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2988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816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50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776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41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2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90"/>
          <p:cNvSpPr/>
          <p:nvPr/>
        </p:nvSpPr>
        <p:spPr>
          <a:xfrm>
            <a:off x="5213520" y="2575080"/>
            <a:ext cx="7761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4"/>
          <p:cNvGrpSpPr/>
          <p:nvPr/>
        </p:nvGrpSpPr>
        <p:grpSpPr>
          <a:xfrm>
            <a:off x="-360" y="1988640"/>
            <a:ext cx="9144360" cy="1254240"/>
            <a:chOff x="-360" y="1988640"/>
            <a:chExt cx="9144360" cy="125424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2960"/>
              <a:ext cx="1035360" cy="360"/>
              <a:chOff x="-360" y="26229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29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29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2960"/>
              <a:ext cx="810000" cy="360"/>
              <a:chOff x="6094080" y="26229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29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29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4400" y="1713240"/>
              <a:ext cx="6548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5640" y="1709640"/>
              <a:ext cx="66420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2960"/>
              <a:ext cx="787680" cy="360"/>
              <a:chOff x="4157280" y="26229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29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29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20056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2960"/>
              <a:ext cx="1093680" cy="360"/>
              <a:chOff x="8050320" y="26229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29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29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2960"/>
              <a:ext cx="830160" cy="360"/>
              <a:chOff x="2185920" y="26229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29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29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906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5120"/>
            <a:chOff x="1096920" y="2101680"/>
            <a:chExt cx="1041480" cy="109512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000" cy="366120"/>
              <a:chOff x="1150200" y="2830680"/>
              <a:chExt cx="909000" cy="36612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320" cy="346320"/>
                <a:chOff x="1307880" y="2830680"/>
                <a:chExt cx="75132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3600" y="27309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8240" y="2771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360"/>
                <a:ext cx="750240" cy="361440"/>
                <a:chOff x="1150200" y="2835360"/>
                <a:chExt cx="75024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7720" y="2777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32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5120"/>
            <a:chOff x="3060720" y="2093760"/>
            <a:chExt cx="1041480" cy="109512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000" cy="366120"/>
              <a:chOff x="3114000" y="2822760"/>
              <a:chExt cx="909000" cy="36612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320" cy="346320"/>
                <a:chOff x="3271680" y="2822760"/>
                <a:chExt cx="75132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7400" y="2723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2040" y="27633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440"/>
                <a:ext cx="750240" cy="361440"/>
                <a:chOff x="3114000" y="2827440"/>
                <a:chExt cx="75024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520" y="2769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52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600"/>
            <a:chOff x="4998960" y="2104920"/>
            <a:chExt cx="1041480" cy="107460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6120"/>
              <a:chOff x="5052600" y="2813400"/>
              <a:chExt cx="909000" cy="36612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8080"/>
                <a:ext cx="750240" cy="361440"/>
                <a:chOff x="5052600" y="281808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600"/>
            <a:chOff x="6961320" y="2097000"/>
            <a:chExt cx="1041120" cy="107460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000" cy="366120"/>
              <a:chOff x="7014600" y="2805480"/>
              <a:chExt cx="909000" cy="36612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320" cy="346320"/>
                <a:chOff x="7172280" y="2805480"/>
                <a:chExt cx="75132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000" y="2705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640" y="27460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10160"/>
                <a:ext cx="750240" cy="361440"/>
                <a:chOff x="7014600" y="2810160"/>
                <a:chExt cx="75024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120" y="27522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8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420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9600"/>
                <a:ext cx="907920" cy="31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第一PPT模板网-WWW.1PPT.COM</dc:creator>
  <dc:description>第一PPT模板网-WWW.1PPT.COM</dc:description>
  <dc:language>en-US</dc:language>
  <cp:lastModifiedBy>Administrator</cp:lastModifiedBy>
  <dcterms:modified xsi:type="dcterms:W3CDTF">2016-04-21T13:35:37Z</dcterms:modified>
  <cp:revision>24</cp:revision>
  <dc:subject>第一PPT模板网-WWW.1PPT.COM</dc:subject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