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7FB-659C-4D2C-A9F6-602A0F1B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7B5-DDD4-4E8C-BA42-065C63B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380F-DD0C-40D5-9EE2-47801EC7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306-9783-41CD-9B0C-DE000CA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6B46-F415-4BF4-80BA-59663029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221-6438-4471-99B0-F470B2EC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C0E-B46F-4319-A9AF-27595C2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DDC-5491-4D1B-B022-05CA9B0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995-F8BA-4CA7-8266-D1646A0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D1A-0834-4A45-A3E4-95567413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A2C-7ABD-4914-A104-8945D320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B9F-6737-4C8C-93C0-3BE6D3F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37EE-028E-48CA-BF68-BA1E99C4C1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046560" y="150012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45720" y="428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81840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0T03:40:37Z</dcterms:modified>
  <cp:revision>33</cp:revision>
  <dc:subject/>
  <dc:title>幻灯片 1</dc:title>
</cp:coreProperties>
</file>