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3.png" ContentType="image/png"/>
  <Override PartName="/ppt/media/image2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99E-C457-49EA-8A7F-9E6D51DD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3B94-84BD-4F8F-A731-B641F006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9B9-0F4B-48A9-8F64-CB0B82B1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285-3BDB-48A4-89A7-29C36739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B52-65B1-4DD6-83E2-2DD5C79F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635-6A6D-4BE3-A52E-492724AE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90AD-76D3-45A3-8F60-DC46EF3D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C9EE-1472-4D9A-8C1E-506E24C7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0B61-A38E-497B-9F3D-5A94D261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D3A-3871-4319-8201-72A53D5C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2C60-3CBE-4C46-8AEF-AC61C0D1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2C84-0D33-46AE-B29B-032A6F88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45C1-1D69-42BC-99A3-0733E411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E258-5AB9-4AEF-9363-DF9DF8EB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08AC-358D-413C-B250-C74584F5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3A08-6818-40F6-90D1-C79C16F3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D553-A583-40FA-B307-C0AB67C6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53CC-0131-4547-B566-8BD09DB2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9784-1AA4-496E-ABEC-AEC7082C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1BF8D-FA00-4FB3-8592-6ACB0D06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BCD-C783-41D2-A02A-940F1A9F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1E5D7-C947-4502-8D03-DE3E3E8B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7796A-FE74-42F7-A897-813A99B4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DAC7F-C596-4049-9D09-21EDBBD0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A2DF-0430-4A2D-9EEE-19E0FC18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DB2F-A6FC-4BAD-849A-9A28B69C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77A7-000E-4304-89CD-765EAAC8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1416D-3D28-4776-A3BC-FDD21FF6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84CBB-9607-48A7-A0C8-B889E2BF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7CCA-A87F-4ACF-9F3B-5082A319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50256-CF4F-4D33-945C-B1B8B7C8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9A3-B03E-4DCE-AD5C-B83F59F4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56302-BC74-40B8-92C3-E30BFB3E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2B09F-B739-4258-A38D-DF0FE393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ED19-BA2A-4582-8EB8-D9C6AB63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05ED4-86BA-4182-9AE3-2D169AC6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1EA90-FB39-485A-AC50-09C278AD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37141-7CF9-48F6-A4DC-2E160643E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E0EBB-F8E9-4F64-ABDA-CCCE813D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7F1F5-9133-4B11-A920-9A04C2D0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34732-5603-428B-BFFE-5B994EEC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0A715-FDC0-4600-87BC-4CB8C310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A33-C57D-417F-985B-26528630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CBCA4-CC2D-441B-8B34-E90DD30B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CF31A-D697-4C98-B6B1-D3AC668D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DEFF9-F7A1-459B-BF08-2CB39C53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5BFAA-3BBF-4A0E-8DFE-BFE06860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FDA26-F8C3-4B59-844A-591E7BBD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3B7CA-854E-433E-93DF-31520A9B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31DB7-32A1-4E91-89DE-993BA12E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26081-FB44-44F6-A27A-B7DDD0E7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A04D6-67FA-406E-A80B-90D5B758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8D94D-C115-48C0-8FB5-BD99CD80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66B-2B4B-4B33-9ABF-7E490218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D91DF-FFB9-466A-871F-8F95548D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4E801-4753-4FDF-A333-8136E0E0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DEDAE-70F7-4A72-8B59-DC207CD8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72339-912C-4F71-8350-AA175F01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5C70-B671-4915-BA46-E040C228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86E-E88A-44C1-A115-36CE4950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黄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 rot="20211000">
            <a:off x="236160" y="980640"/>
            <a:ext cx="85899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F82E-A87D-4EA2-BD6D-314A8B2438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5" descr="上面的"/>
          <p:cNvPicPr/>
          <p:nvPr/>
        </p:nvPicPr>
        <p:blipFill>
          <a:blip r:embed="rId3"/>
          <a:stretch/>
        </p:blipFill>
        <p:spPr>
          <a:xfrm>
            <a:off x="0" y="0"/>
            <a:ext cx="18288000" cy="3124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下面的"/>
          <p:cNvPicPr/>
          <p:nvPr/>
        </p:nvPicPr>
        <p:blipFill>
          <a:blip r:embed="rId4"/>
          <a:stretch/>
        </p:blipFill>
        <p:spPr>
          <a:xfrm>
            <a:off x="-9142560" y="4343400"/>
            <a:ext cx="18286560" cy="2514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橙色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白色上边"/>
          <p:cNvPicPr/>
          <p:nvPr/>
        </p:nvPicPr>
        <p:blipFill>
          <a:blip r:embed="rId3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蓝3"/>
          <p:cNvPicPr/>
          <p:nvPr/>
        </p:nvPicPr>
        <p:blipFill>
          <a:blip r:embed="rId4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蓝2"/>
          <p:cNvPicPr/>
          <p:nvPr/>
        </p:nvPicPr>
        <p:blipFill>
          <a:blip r:embed="rId5"/>
          <a:stretch/>
        </p:blipFill>
        <p:spPr>
          <a:xfrm>
            <a:off x="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蓝1"/>
          <p:cNvPicPr/>
          <p:nvPr/>
        </p:nvPicPr>
        <p:blipFill>
          <a:blip r:embed="rId6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黄"/>
          <p:cNvPicPr/>
          <p:nvPr/>
        </p:nvPicPr>
        <p:blipFill>
          <a:blip r:embed="rId7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浅橙"/>
          <p:cNvPicPr/>
          <p:nvPr/>
        </p:nvPicPr>
        <p:blipFill>
          <a:blip r:embed="rId8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EA9C-9026-4E22-AF76-9B414C194F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D495-0845-4E4A-A57B-D832866724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E75B-7233-44ED-9B1F-B806C91D0F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9DC3-0FA3-4D23-991C-FDC83263DE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6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image" Target="../media/image26.png"/><Relationship Id="rId35" Type="http://schemas.openxmlformats.org/officeDocument/2006/relationships/image" Target="../media/image26.png"/><Relationship Id="rId36" Type="http://schemas.openxmlformats.org/officeDocument/2006/relationships/image" Target="../media/image26.png"/><Relationship Id="rId37" Type="http://schemas.openxmlformats.org/officeDocument/2006/relationships/image" Target="../media/image26.png"/><Relationship Id="rId38" Type="http://schemas.openxmlformats.org/officeDocument/2006/relationships/image" Target="../media/image26.png"/><Relationship Id="rId39" Type="http://schemas.openxmlformats.org/officeDocument/2006/relationships/image" Target="../media/image26.png"/><Relationship Id="rId40" Type="http://schemas.openxmlformats.org/officeDocument/2006/relationships/slideLayout" Target="../slideLayouts/slideLayout7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00120" y="2571840"/>
            <a:ext cx="41292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5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1240200" y="36432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副标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288_3264x2448_zcool"/>
          <p:cNvPicPr/>
          <p:nvPr/>
        </p:nvPicPr>
        <p:blipFill>
          <a:blip r:embed="rId1"/>
          <a:stretch/>
        </p:blipFill>
        <p:spPr>
          <a:xfrm>
            <a:off x="6072120" y="2643120"/>
            <a:ext cx="2303640" cy="17287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 rot="20147400">
            <a:off x="-500760" y="312480"/>
            <a:ext cx="34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细黑"/>
                <a:ea typeface="华文细黑"/>
              </a:rPr>
              <a:t>第一</a:t>
            </a:r>
            <a:r>
              <a:rPr b="1" lang="en-US" sz="3600" spc="-1" strike="noStrike">
                <a:solidFill>
                  <a:srgbClr val="ffcc66"/>
                </a:solidFill>
                <a:latin typeface="华文细黑"/>
                <a:ea typeface="华文细黑"/>
              </a:rPr>
              <a:t>P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1"/>
          <p:cNvGrpSpPr/>
          <p:nvPr/>
        </p:nvGrpSpPr>
        <p:grpSpPr>
          <a:xfrm>
            <a:off x="1214280" y="2357280"/>
            <a:ext cx="5765760" cy="1133640"/>
            <a:chOff x="1214280" y="2357280"/>
            <a:chExt cx="5765760" cy="1133640"/>
          </a:xfrm>
        </p:grpSpPr>
        <p:pic>
          <p:nvPicPr>
            <p:cNvPr id="297" name="Picture 19" descr="3"/>
            <p:cNvPicPr/>
            <p:nvPr/>
          </p:nvPicPr>
          <p:blipFill>
            <a:blip r:embed="rId1"/>
            <a:stretch/>
          </p:blipFill>
          <p:spPr>
            <a:xfrm>
              <a:off x="1214280" y="235728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5"/>
            <p:cNvSpPr/>
            <p:nvPr/>
          </p:nvSpPr>
          <p:spPr>
            <a:xfrm>
              <a:off x="2588040" y="275364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2"/>
          <p:cNvGrpSpPr/>
          <p:nvPr/>
        </p:nvGrpSpPr>
        <p:grpSpPr>
          <a:xfrm>
            <a:off x="1214280" y="3149640"/>
            <a:ext cx="5765760" cy="1133280"/>
            <a:chOff x="1214280" y="3149640"/>
            <a:chExt cx="5765760" cy="1133280"/>
          </a:xfrm>
        </p:grpSpPr>
        <p:pic>
          <p:nvPicPr>
            <p:cNvPr id="300" name="Picture 18" descr="4"/>
            <p:cNvPicPr/>
            <p:nvPr/>
          </p:nvPicPr>
          <p:blipFill>
            <a:blip r:embed="rId2"/>
            <a:stretch/>
          </p:blipFill>
          <p:spPr>
            <a:xfrm>
              <a:off x="1214280" y="3149640"/>
              <a:ext cx="57657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Rectangle 8"/>
            <p:cNvSpPr/>
            <p:nvPr/>
          </p:nvSpPr>
          <p:spPr>
            <a:xfrm>
              <a:off x="2605680" y="35010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3"/>
          <p:cNvGrpSpPr/>
          <p:nvPr/>
        </p:nvGrpSpPr>
        <p:grpSpPr>
          <a:xfrm>
            <a:off x="1214280" y="3941640"/>
            <a:ext cx="5765760" cy="1133640"/>
            <a:chOff x="1214280" y="3941640"/>
            <a:chExt cx="5765760" cy="1133640"/>
          </a:xfrm>
        </p:grpSpPr>
        <p:pic>
          <p:nvPicPr>
            <p:cNvPr id="303" name="Picture 17" descr="2"/>
            <p:cNvPicPr/>
            <p:nvPr/>
          </p:nvPicPr>
          <p:blipFill>
            <a:blip r:embed="rId3"/>
            <a:stretch/>
          </p:blipFill>
          <p:spPr>
            <a:xfrm>
              <a:off x="1214280" y="394164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9"/>
            <p:cNvSpPr/>
            <p:nvPr/>
          </p:nvSpPr>
          <p:spPr>
            <a:xfrm>
              <a:off x="3551040" y="429264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4"/>
          <p:cNvGrpSpPr/>
          <p:nvPr/>
        </p:nvGrpSpPr>
        <p:grpSpPr>
          <a:xfrm>
            <a:off x="1214280" y="4662360"/>
            <a:ext cx="5765760" cy="1133640"/>
            <a:chOff x="1214280" y="4662360"/>
            <a:chExt cx="5765760" cy="1133640"/>
          </a:xfrm>
        </p:grpSpPr>
        <p:pic>
          <p:nvPicPr>
            <p:cNvPr id="306" name="Picture 20" descr="1"/>
            <p:cNvPicPr/>
            <p:nvPr/>
          </p:nvPicPr>
          <p:blipFill>
            <a:blip r:embed="rId4"/>
            <a:stretch/>
          </p:blipFill>
          <p:spPr>
            <a:xfrm>
              <a:off x="1214280" y="466236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2"/>
            <p:cNvSpPr/>
            <p:nvPr/>
          </p:nvSpPr>
          <p:spPr>
            <a:xfrm>
              <a:off x="2688120" y="50004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13"/>
          <p:cNvSpPr/>
          <p:nvPr/>
        </p:nvSpPr>
        <p:spPr>
          <a:xfrm>
            <a:off x="-103320" y="42876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4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26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6"/>
          <p:cNvSpPr/>
          <p:nvPr/>
        </p:nvSpPr>
        <p:spPr>
          <a:xfrm>
            <a:off x="218160" y="13352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5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6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568080" y="2216880"/>
            <a:ext cx="3672000" cy="1594800"/>
            <a:chOff x="568080" y="2216880"/>
            <a:chExt cx="3672000" cy="1594800"/>
          </a:xfrm>
        </p:grpSpPr>
        <p:pic>
          <p:nvPicPr>
            <p:cNvPr id="314" name="Picture 25" descr="lots of colour pencils"/>
            <p:cNvPicPr/>
            <p:nvPr/>
          </p:nvPicPr>
          <p:blipFill>
            <a:blip r:embed="rId2"/>
            <a:stretch/>
          </p:blipFill>
          <p:spPr>
            <a:xfrm>
              <a:off x="1000080" y="2297160"/>
              <a:ext cx="3240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4"/>
            <p:cNvSpPr/>
            <p:nvPr/>
          </p:nvSpPr>
          <p:spPr>
            <a:xfrm>
              <a:off x="568080" y="2216880"/>
              <a:ext cx="305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34"/>
          <p:cNvGrpSpPr/>
          <p:nvPr/>
        </p:nvGrpSpPr>
        <p:grpSpPr>
          <a:xfrm>
            <a:off x="4568760" y="2145240"/>
            <a:ext cx="3672000" cy="1594800"/>
            <a:chOff x="4568760" y="2145240"/>
            <a:chExt cx="3672000" cy="1594800"/>
          </a:xfrm>
        </p:grpSpPr>
        <p:pic>
          <p:nvPicPr>
            <p:cNvPr id="317" name="Picture 25" descr="lots of colour pencils"/>
            <p:cNvPicPr/>
            <p:nvPr/>
          </p:nvPicPr>
          <p:blipFill>
            <a:blip r:embed="rId3"/>
            <a:stretch/>
          </p:blipFill>
          <p:spPr>
            <a:xfrm>
              <a:off x="5000760" y="2225520"/>
              <a:ext cx="3240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4"/>
            <p:cNvSpPr/>
            <p:nvPr/>
          </p:nvSpPr>
          <p:spPr>
            <a:xfrm>
              <a:off x="4568760" y="2145240"/>
              <a:ext cx="305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剪去单角的矩形 33"/>
          <p:cNvSpPr/>
          <p:nvPr/>
        </p:nvSpPr>
        <p:spPr>
          <a:xfrm>
            <a:off x="1071720" y="3071880"/>
            <a:ext cx="3000240" cy="2786040"/>
          </a:xfrm>
          <a:prstGeom prst="pie">
            <a:avLst/>
          </a:prstGeom>
          <a:noFill/>
          <a:ln w="31680">
            <a:solidFill>
              <a:srgbClr val="ff99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T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剪去单角的矩形 34"/>
          <p:cNvSpPr/>
          <p:nvPr/>
        </p:nvSpPr>
        <p:spPr>
          <a:xfrm>
            <a:off x="5072040" y="3071880"/>
            <a:ext cx="3000240" cy="2786040"/>
          </a:xfrm>
          <a:prstGeom prst="pie">
            <a:avLst/>
          </a:prstGeom>
          <a:noFill/>
          <a:ln w="31680">
            <a:solidFill>
              <a:srgbClr val="ff99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T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" dur="9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1243702735241"/>
          <p:cNvPicPr/>
          <p:nvPr/>
        </p:nvPicPr>
        <p:blipFill>
          <a:blip r:embed="rId2"/>
          <a:stretch/>
        </p:blipFill>
        <p:spPr>
          <a:xfrm>
            <a:off x="826920" y="3068640"/>
            <a:ext cx="3888000" cy="30290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98200" y="335772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869120" y="3929040"/>
            <a:ext cx="35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20120" y="13572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6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4716000" y="3860640"/>
            <a:ext cx="1500480" cy="857520"/>
            <a:chOff x="4716000" y="3860640"/>
            <a:chExt cx="1500480" cy="857520"/>
          </a:xfrm>
        </p:grpSpPr>
        <p:sp>
          <p:nvSpPr>
            <p:cNvPr id="328" name="Line 13"/>
            <p:cNvSpPr/>
            <p:nvPr/>
          </p:nvSpPr>
          <p:spPr>
            <a:xfrm flipV="1">
              <a:off x="4716360" y="3860640"/>
              <a:ext cx="1500120" cy="85752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4716000" y="3860640"/>
              <a:ext cx="1500120" cy="85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195640" y="3500280"/>
            <a:ext cx="1714320" cy="1285920"/>
            <a:chOff x="2195640" y="3500280"/>
            <a:chExt cx="1714320" cy="1285920"/>
          </a:xfrm>
        </p:grpSpPr>
        <p:sp>
          <p:nvSpPr>
            <p:cNvPr id="331" name="Line 12"/>
            <p:cNvSpPr/>
            <p:nvPr/>
          </p:nvSpPr>
          <p:spPr>
            <a:xfrm>
              <a:off x="2195640" y="3500280"/>
              <a:ext cx="1714320" cy="128592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2195640" y="3500280"/>
              <a:ext cx="1714320" cy="12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8"/>
          <p:cNvGrpSpPr/>
          <p:nvPr/>
        </p:nvGrpSpPr>
        <p:grpSpPr>
          <a:xfrm>
            <a:off x="248400" y="1902240"/>
            <a:ext cx="3244680" cy="3115080"/>
            <a:chOff x="248400" y="1902240"/>
            <a:chExt cx="3244680" cy="3115080"/>
          </a:xfrm>
        </p:grpSpPr>
        <p:sp>
          <p:nvSpPr>
            <p:cNvPr id="334" name="Rectangle 5"/>
            <p:cNvSpPr/>
            <p:nvPr/>
          </p:nvSpPr>
          <p:spPr>
            <a:xfrm rot="3418800">
              <a:off x="831600" y="2199960"/>
              <a:ext cx="2077920" cy="25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78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 flipV="1" rot="10800000">
              <a:off x="468000" y="319608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29"/>
          <p:cNvGrpSpPr/>
          <p:nvPr/>
        </p:nvGrpSpPr>
        <p:grpSpPr>
          <a:xfrm>
            <a:off x="3139920" y="4041000"/>
            <a:ext cx="3130560" cy="2235240"/>
            <a:chOff x="3139920" y="4041000"/>
            <a:chExt cx="3130560" cy="2235240"/>
          </a:xfrm>
        </p:grpSpPr>
        <p:sp>
          <p:nvSpPr>
            <p:cNvPr id="337" name="Rectangle 7"/>
            <p:cNvSpPr/>
            <p:nvPr/>
          </p:nvSpPr>
          <p:spPr>
            <a:xfrm rot="646200">
              <a:off x="3276360" y="4292640"/>
              <a:ext cx="2857320" cy="173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552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 flipV="1" rot="10800000">
              <a:off x="3419280" y="4779000"/>
              <a:ext cx="25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0"/>
          <p:cNvGrpSpPr/>
          <p:nvPr/>
        </p:nvGrpSpPr>
        <p:grpSpPr>
          <a:xfrm>
            <a:off x="6042960" y="2169720"/>
            <a:ext cx="2889720" cy="2312280"/>
            <a:chOff x="6042960" y="2169720"/>
            <a:chExt cx="2889720" cy="2312280"/>
          </a:xfrm>
        </p:grpSpPr>
        <p:sp>
          <p:nvSpPr>
            <p:cNvPr id="340" name="Rectangle 9"/>
            <p:cNvSpPr/>
            <p:nvPr/>
          </p:nvSpPr>
          <p:spPr>
            <a:xfrm rot="4413600">
              <a:off x="6654240" y="2064960"/>
              <a:ext cx="1666800" cy="252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384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6"/>
            <p:cNvSpPr/>
            <p:nvPr/>
          </p:nvSpPr>
          <p:spPr>
            <a:xfrm flipV="1" rot="10800000">
              <a:off x="6156000" y="3049920"/>
              <a:ext cx="25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6"/>
          <p:cNvSpPr/>
          <p:nvPr/>
        </p:nvSpPr>
        <p:spPr>
          <a:xfrm>
            <a:off x="236052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6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6"/>
          <p:cNvSpPr/>
          <p:nvPr/>
        </p:nvSpPr>
        <p:spPr>
          <a:xfrm>
            <a:off x="346320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4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5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9"/>
          <p:cNvGrpSpPr/>
          <p:nvPr/>
        </p:nvGrpSpPr>
        <p:grpSpPr>
          <a:xfrm>
            <a:off x="1089720" y="2500200"/>
            <a:ext cx="5949360" cy="1046160"/>
            <a:chOff x="1089720" y="2500200"/>
            <a:chExt cx="5949360" cy="1046160"/>
          </a:xfrm>
        </p:grpSpPr>
        <p:grpSp>
          <p:nvGrpSpPr>
            <p:cNvPr id="349" name="Group 38"/>
            <p:cNvGrpSpPr/>
            <p:nvPr/>
          </p:nvGrpSpPr>
          <p:grpSpPr>
            <a:xfrm>
              <a:off x="1714680" y="2500200"/>
              <a:ext cx="5324400" cy="1046160"/>
              <a:chOff x="1714680" y="2500200"/>
              <a:chExt cx="5324400" cy="1046160"/>
            </a:xfrm>
          </p:grpSpPr>
          <p:pic>
            <p:nvPicPr>
              <p:cNvPr id="350" name="Picture 16" descr="3"/>
              <p:cNvPicPr/>
              <p:nvPr/>
            </p:nvPicPr>
            <p:blipFill>
              <a:blip r:embed="rId2"/>
              <a:stretch/>
            </p:blipFill>
            <p:spPr>
              <a:xfrm>
                <a:off x="1714680" y="2500200"/>
                <a:ext cx="532440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5"/>
              <p:cNvSpPr/>
              <p:nvPr/>
            </p:nvSpPr>
            <p:spPr>
              <a:xfrm rot="21431400">
                <a:off x="1899000" y="286056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21"/>
            <p:cNvSpPr/>
            <p:nvPr/>
          </p:nvSpPr>
          <p:spPr>
            <a:xfrm>
              <a:off x="1089720" y="278136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32"/>
          <p:cNvGrpSpPr/>
          <p:nvPr/>
        </p:nvGrpSpPr>
        <p:grpSpPr>
          <a:xfrm>
            <a:off x="1090800" y="3220920"/>
            <a:ext cx="5941800" cy="1046160"/>
            <a:chOff x="1090800" y="3220920"/>
            <a:chExt cx="5941800" cy="1046160"/>
          </a:xfrm>
        </p:grpSpPr>
        <p:grpSp>
          <p:nvGrpSpPr>
            <p:cNvPr id="354" name="Group 27"/>
            <p:cNvGrpSpPr/>
            <p:nvPr/>
          </p:nvGrpSpPr>
          <p:grpSpPr>
            <a:xfrm>
              <a:off x="1714680" y="3220920"/>
              <a:ext cx="5317920" cy="1046160"/>
              <a:chOff x="1714680" y="3220920"/>
              <a:chExt cx="5317920" cy="1046160"/>
            </a:xfrm>
          </p:grpSpPr>
          <p:pic>
            <p:nvPicPr>
              <p:cNvPr id="355" name="Picture 13" descr="4"/>
              <p:cNvPicPr/>
              <p:nvPr/>
            </p:nvPicPr>
            <p:blipFill>
              <a:blip r:embed="rId3"/>
              <a:stretch/>
            </p:blipFill>
            <p:spPr>
              <a:xfrm>
                <a:off x="1714680" y="3220920"/>
                <a:ext cx="531792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Rectangle 6"/>
              <p:cNvSpPr/>
              <p:nvPr/>
            </p:nvSpPr>
            <p:spPr>
              <a:xfrm rot="21411600">
                <a:off x="2004840" y="353484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22"/>
            <p:cNvSpPr/>
            <p:nvPr/>
          </p:nvSpPr>
          <p:spPr>
            <a:xfrm>
              <a:off x="1090800" y="350820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1"/>
          <p:cNvGrpSpPr/>
          <p:nvPr/>
        </p:nvGrpSpPr>
        <p:grpSpPr>
          <a:xfrm>
            <a:off x="1090800" y="3902040"/>
            <a:ext cx="5941800" cy="1046160"/>
            <a:chOff x="1090800" y="3902040"/>
            <a:chExt cx="5941800" cy="1046160"/>
          </a:xfrm>
        </p:grpSpPr>
        <p:grpSp>
          <p:nvGrpSpPr>
            <p:cNvPr id="359" name="Group 28"/>
            <p:cNvGrpSpPr/>
            <p:nvPr/>
          </p:nvGrpSpPr>
          <p:grpSpPr>
            <a:xfrm>
              <a:off x="1714680" y="3902040"/>
              <a:ext cx="5317920" cy="1046160"/>
              <a:chOff x="1714680" y="3902040"/>
              <a:chExt cx="5317920" cy="1046160"/>
            </a:xfrm>
          </p:grpSpPr>
          <p:pic>
            <p:nvPicPr>
              <p:cNvPr id="360" name="Picture 15" descr="2"/>
              <p:cNvPicPr/>
              <p:nvPr/>
            </p:nvPicPr>
            <p:blipFill>
              <a:blip r:embed="rId4"/>
              <a:stretch/>
            </p:blipFill>
            <p:spPr>
              <a:xfrm>
                <a:off x="1714680" y="3902040"/>
                <a:ext cx="531792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Rectangle 7"/>
              <p:cNvSpPr/>
              <p:nvPr/>
            </p:nvSpPr>
            <p:spPr>
              <a:xfrm rot="21432000">
                <a:off x="2004480" y="421164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23"/>
            <p:cNvSpPr/>
            <p:nvPr/>
          </p:nvSpPr>
          <p:spPr>
            <a:xfrm>
              <a:off x="1090800" y="418932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6"/>
          <p:cNvGrpSpPr/>
          <p:nvPr/>
        </p:nvGrpSpPr>
        <p:grpSpPr>
          <a:xfrm>
            <a:off x="1090800" y="4589640"/>
            <a:ext cx="5941800" cy="1046160"/>
            <a:chOff x="1090800" y="4589640"/>
            <a:chExt cx="5941800" cy="1046160"/>
          </a:xfrm>
        </p:grpSpPr>
        <p:pic>
          <p:nvPicPr>
            <p:cNvPr id="364" name="Picture 14" descr="1"/>
            <p:cNvPicPr/>
            <p:nvPr/>
          </p:nvPicPr>
          <p:blipFill>
            <a:blip r:embed="rId5"/>
            <a:stretch/>
          </p:blipFill>
          <p:spPr>
            <a:xfrm>
              <a:off x="1714680" y="4589640"/>
              <a:ext cx="5317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8"/>
            <p:cNvSpPr/>
            <p:nvPr/>
          </p:nvSpPr>
          <p:spPr>
            <a:xfrm rot="21474000">
              <a:off x="2001600" y="4950000"/>
              <a:ext cx="41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经典综艺体简"/>
                </a:rPr>
                <a:t>Add your text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4"/>
            <p:cNvSpPr/>
            <p:nvPr/>
          </p:nvSpPr>
          <p:spPr>
            <a:xfrm>
              <a:off x="1090800" y="487692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6"/>
          <p:cNvSpPr/>
          <p:nvPr/>
        </p:nvSpPr>
        <p:spPr>
          <a:xfrm>
            <a:off x="460620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6"/>
          <p:cNvGrpSpPr/>
          <p:nvPr/>
        </p:nvGrpSpPr>
        <p:grpSpPr>
          <a:xfrm>
            <a:off x="0" y="2214720"/>
            <a:ext cx="6072120" cy="1218960"/>
            <a:chOff x="0" y="2214720"/>
            <a:chExt cx="6072120" cy="1218960"/>
          </a:xfrm>
        </p:grpSpPr>
        <p:sp>
          <p:nvSpPr>
            <p:cNvPr id="369" name="剪去单角的矩形 12"/>
            <p:cNvSpPr/>
            <p:nvPr/>
          </p:nvSpPr>
          <p:spPr>
            <a:xfrm>
              <a:off x="500040" y="2571840"/>
              <a:ext cx="5572080" cy="57132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Picture 2" descr="D:\PPT研究\流程图\png-1114.png"/>
            <p:cNvPicPr/>
            <p:nvPr/>
          </p:nvPicPr>
          <p:blipFill>
            <a:blip r:embed="rId2"/>
            <a:stretch/>
          </p:blipFill>
          <p:spPr>
            <a:xfrm>
              <a:off x="0" y="221472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组合 17"/>
          <p:cNvGrpSpPr/>
          <p:nvPr/>
        </p:nvGrpSpPr>
        <p:grpSpPr>
          <a:xfrm>
            <a:off x="1214280" y="4500720"/>
            <a:ext cx="5572440" cy="1218960"/>
            <a:chOff x="1214280" y="4500720"/>
            <a:chExt cx="5572440" cy="1218960"/>
          </a:xfrm>
        </p:grpSpPr>
        <p:sp>
          <p:nvSpPr>
            <p:cNvPr id="372" name="剪去单角的矩形 14"/>
            <p:cNvSpPr/>
            <p:nvPr/>
          </p:nvSpPr>
          <p:spPr>
            <a:xfrm>
              <a:off x="1642680" y="4786200"/>
              <a:ext cx="5144040" cy="57132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3" descr="D:\PPT研究\流程图\png-1113.png"/>
            <p:cNvPicPr/>
            <p:nvPr/>
          </p:nvPicPr>
          <p:blipFill>
            <a:blip r:embed="rId3"/>
            <a:stretch/>
          </p:blipFill>
          <p:spPr>
            <a:xfrm>
              <a:off x="1214280" y="4500720"/>
              <a:ext cx="12193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组合 15"/>
          <p:cNvGrpSpPr/>
          <p:nvPr/>
        </p:nvGrpSpPr>
        <p:grpSpPr>
          <a:xfrm>
            <a:off x="642960" y="3286080"/>
            <a:ext cx="5786280" cy="1219320"/>
            <a:chOff x="642960" y="3286080"/>
            <a:chExt cx="5786280" cy="1219320"/>
          </a:xfrm>
        </p:grpSpPr>
        <p:sp>
          <p:nvSpPr>
            <p:cNvPr id="375" name="剪去单角的矩形 13"/>
            <p:cNvSpPr/>
            <p:nvPr/>
          </p:nvSpPr>
          <p:spPr>
            <a:xfrm>
              <a:off x="1071360" y="3714840"/>
              <a:ext cx="5357880" cy="57168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Picture 4" descr="D:\PPT研究\流程图\png-1129.png"/>
            <p:cNvPicPr/>
            <p:nvPr/>
          </p:nvPicPr>
          <p:blipFill>
            <a:blip r:embed="rId4"/>
            <a:stretch/>
          </p:blipFill>
          <p:spPr>
            <a:xfrm>
              <a:off x="642960" y="328608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矩形 18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9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038240" y="3886200"/>
            <a:ext cx="7229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-2981160" y="2152440"/>
            <a:ext cx="14950800" cy="28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创艺简标宋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"/>
          <p:cNvPicPr/>
          <p:nvPr/>
        </p:nvPicPr>
        <p:blipFill>
          <a:blip r:embed="rId2"/>
          <a:stretch/>
        </p:blipFill>
        <p:spPr>
          <a:xfrm>
            <a:off x="-2755800" y="-3862440"/>
            <a:ext cx="4767120" cy="4767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"/>
          <p:cNvPicPr/>
          <p:nvPr/>
        </p:nvPicPr>
        <p:blipFill>
          <a:blip r:embed="rId3"/>
          <a:stretch/>
        </p:blipFill>
        <p:spPr>
          <a:xfrm>
            <a:off x="-365040" y="-27558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"/>
          <p:cNvPicPr/>
          <p:nvPr/>
        </p:nvPicPr>
        <p:blipFill>
          <a:blip r:embed="rId4"/>
          <a:stretch/>
        </p:blipFill>
        <p:spPr>
          <a:xfrm>
            <a:off x="54612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5"/>
          <a:stretch/>
        </p:blipFill>
        <p:spPr>
          <a:xfrm>
            <a:off x="145908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"/>
          <p:cNvPicPr/>
          <p:nvPr/>
        </p:nvPicPr>
        <p:blipFill>
          <a:blip r:embed="rId6"/>
          <a:stretch/>
        </p:blipFill>
        <p:spPr>
          <a:xfrm>
            <a:off x="1023840" y="-3765600"/>
            <a:ext cx="4645080" cy="4643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7"/>
          <a:stretch/>
        </p:blipFill>
        <p:spPr>
          <a:xfrm>
            <a:off x="3276720" y="-276228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"/>
          <p:cNvPicPr/>
          <p:nvPr/>
        </p:nvPicPr>
        <p:blipFill>
          <a:blip r:embed="rId8"/>
          <a:stretch/>
        </p:blipFill>
        <p:spPr>
          <a:xfrm>
            <a:off x="4197240" y="-275580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9"/>
          <a:stretch/>
        </p:blipFill>
        <p:spPr>
          <a:xfrm>
            <a:off x="511020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10"/>
          <a:stretch/>
        </p:blipFill>
        <p:spPr>
          <a:xfrm>
            <a:off x="7585200" y="-236052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"/>
          <p:cNvPicPr/>
          <p:nvPr/>
        </p:nvPicPr>
        <p:blipFill>
          <a:blip r:embed="rId11"/>
          <a:stretch/>
        </p:blipFill>
        <p:spPr>
          <a:xfrm>
            <a:off x="5867280" y="-4417920"/>
            <a:ext cx="5513400" cy="5510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12"/>
          <a:stretch/>
        </p:blipFill>
        <p:spPr>
          <a:xfrm>
            <a:off x="9426600" y="-1857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13"/>
          <a:stretch/>
        </p:blipFill>
        <p:spPr>
          <a:xfrm>
            <a:off x="9426600" y="5097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14"/>
          <a:stretch/>
        </p:blipFill>
        <p:spPr>
          <a:xfrm>
            <a:off x="9144000" y="0"/>
            <a:ext cx="4738680" cy="4737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15"/>
          <a:stretch/>
        </p:blipFill>
        <p:spPr>
          <a:xfrm>
            <a:off x="9426600" y="215568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16"/>
          <a:stretch/>
        </p:blipFill>
        <p:spPr>
          <a:xfrm>
            <a:off x="9426600" y="260496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17"/>
          <a:stretch/>
        </p:blipFill>
        <p:spPr>
          <a:xfrm>
            <a:off x="8894880" y="2992320"/>
            <a:ext cx="4892400" cy="489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"/>
          <p:cNvPicPr/>
          <p:nvPr/>
        </p:nvPicPr>
        <p:blipFill>
          <a:blip r:embed="rId18"/>
          <a:stretch/>
        </p:blipFill>
        <p:spPr>
          <a:xfrm>
            <a:off x="9426600" y="494496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19"/>
          <a:stretch/>
        </p:blipFill>
        <p:spPr>
          <a:xfrm>
            <a:off x="6835680" y="5013360"/>
            <a:ext cx="4614840" cy="4613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20"/>
          <a:stretch/>
        </p:blipFill>
        <p:spPr>
          <a:xfrm>
            <a:off x="-3013200" y="5715000"/>
            <a:ext cx="5015160" cy="5016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"/>
          <p:cNvPicPr/>
          <p:nvPr/>
        </p:nvPicPr>
        <p:blipFill>
          <a:blip r:embed="rId21"/>
          <a:stretch/>
        </p:blipFill>
        <p:spPr>
          <a:xfrm>
            <a:off x="-365040" y="6056280"/>
            <a:ext cx="3343320" cy="3344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22"/>
          <a:stretch/>
        </p:blipFill>
        <p:spPr>
          <a:xfrm>
            <a:off x="54612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23"/>
          <a:stretch/>
        </p:blipFill>
        <p:spPr>
          <a:xfrm>
            <a:off x="145908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"/>
          <p:cNvPicPr/>
          <p:nvPr/>
        </p:nvPicPr>
        <p:blipFill>
          <a:blip r:embed="rId24"/>
          <a:stretch/>
        </p:blipFill>
        <p:spPr>
          <a:xfrm>
            <a:off x="893880" y="5761080"/>
            <a:ext cx="4768560" cy="4768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25"/>
          <a:stretch/>
        </p:blipFill>
        <p:spPr>
          <a:xfrm>
            <a:off x="328464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"/>
          <p:cNvPicPr/>
          <p:nvPr/>
        </p:nvPicPr>
        <p:blipFill>
          <a:blip r:embed="rId26"/>
          <a:stretch/>
        </p:blipFill>
        <p:spPr>
          <a:xfrm>
            <a:off x="2978280" y="5813280"/>
            <a:ext cx="4521240" cy="4521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27"/>
          <a:stretch/>
        </p:blipFill>
        <p:spPr>
          <a:xfrm>
            <a:off x="5110200" y="608184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28"/>
          <a:stretch/>
        </p:blipFill>
        <p:spPr>
          <a:xfrm>
            <a:off x="4287960" y="5715000"/>
            <a:ext cx="5016240" cy="5016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29"/>
          <a:stretch/>
        </p:blipFill>
        <p:spPr>
          <a:xfrm>
            <a:off x="6189840" y="5929200"/>
            <a:ext cx="4892400" cy="4892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30"/>
          <a:stretch/>
        </p:blipFill>
        <p:spPr>
          <a:xfrm>
            <a:off x="-4200480" y="-3178080"/>
            <a:ext cx="4890960" cy="4890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31"/>
          <a:stretch/>
        </p:blipFill>
        <p:spPr>
          <a:xfrm>
            <a:off x="-3287880" y="-127944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32"/>
          <a:stretch/>
        </p:blipFill>
        <p:spPr>
          <a:xfrm>
            <a:off x="-3287880" y="-58104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33"/>
          <a:stretch/>
        </p:blipFill>
        <p:spPr>
          <a:xfrm>
            <a:off x="-4890960" y="-901800"/>
            <a:ext cx="4890960" cy="4891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"/>
          <p:cNvPicPr/>
          <p:nvPr/>
        </p:nvPicPr>
        <p:blipFill>
          <a:blip r:embed="rId34"/>
          <a:stretch/>
        </p:blipFill>
        <p:spPr>
          <a:xfrm>
            <a:off x="-3287880" y="90324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"/>
          <p:cNvPicPr/>
          <p:nvPr/>
        </p:nvPicPr>
        <p:blipFill>
          <a:blip r:embed="rId35"/>
          <a:stretch/>
        </p:blipFill>
        <p:spPr>
          <a:xfrm>
            <a:off x="-3287880" y="168912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36"/>
          <a:stretch/>
        </p:blipFill>
        <p:spPr>
          <a:xfrm>
            <a:off x="-5262480" y="836640"/>
            <a:ext cx="5262480" cy="5264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"/>
          <p:cNvPicPr/>
          <p:nvPr/>
        </p:nvPicPr>
        <p:blipFill>
          <a:blip r:embed="rId37"/>
          <a:stretch/>
        </p:blipFill>
        <p:spPr>
          <a:xfrm>
            <a:off x="-3287880" y="311796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38"/>
          <a:stretch/>
        </p:blipFill>
        <p:spPr>
          <a:xfrm>
            <a:off x="-4735440" y="3141720"/>
            <a:ext cx="4735440" cy="4736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39"/>
          <a:stretch/>
        </p:blipFill>
        <p:spPr>
          <a:xfrm>
            <a:off x="-3287880" y="4903920"/>
            <a:ext cx="33451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xit" presetID="23" presetSubtype="54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400"/>
                            </p:stCondLst>
                            <p:childTnLst>
                              <p:par>
                                <p:cTn id="420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2:46:00Z</dcterms:created>
  <dc:creator>dt</dc:creator>
  <dc:description/>
  <dc:language>en-US</dc:language>
  <cp:lastModifiedBy>jccook</cp:lastModifiedBy>
  <dcterms:modified xsi:type="dcterms:W3CDTF">2014-07-20T06:23:19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