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7BE-E6DA-4F2F-BB77-9A63FC5D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0B9-7059-4177-871A-FC140670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77C-39DF-4B7A-B067-D124540F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319-DA7C-4C88-A5D8-F6C6169D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9DC-D7B2-428D-ADD0-73F2A6B4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7E3-36CF-4ED0-97F2-5C1D6672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D23-D0AD-4160-9D3E-1294165C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ADA-90CC-4906-8C4E-7DA476D1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C7A-FB7C-4D72-A5A9-B8A0B08D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6DD-A18F-4DB4-990E-997001B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114-2581-4C02-9EE3-DA0D147C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4B1-959E-4044-BD96-91959B8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8E6D-88F1-4346-ACB4-C1AE561609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浪漫雅圆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8"/>
          <p:cNvPicPr/>
          <p:nvPr/>
        </p:nvPicPr>
        <p:blipFill>
          <a:blip r:embed="rId2"/>
          <a:stretch/>
        </p:blipFill>
        <p:spPr>
          <a:xfrm>
            <a:off x="34920" y="620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84856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0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0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10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10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8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5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7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1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2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3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68516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949"/>
                </a:solidFill>
                <a:latin typeface="浪漫雅圆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949"/>
                </a:solidFill>
                <a:latin typeface="浪漫雅圆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4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>Administrator</cp:lastModifiedBy>
  <dcterms:modified xsi:type="dcterms:W3CDTF">2016-08-02T06:35:22Z</dcterms:modified>
  <cp:revision>2</cp:revision>
  <dc:subject/>
  <dc:title>印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