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7.png" ContentType="image/png"/>
  <Override PartName="/ppt/media/image30.jpeg" ContentType="image/jpe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9.png" ContentType="image/png"/>
  <Override PartName="/ppt/media/image112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137.png" ContentType="image/png"/>
  <Override PartName="/ppt/media/image132.png" ContentType="image/png"/>
  <Override PartName="/ppt/media/image46.png" ContentType="image/png"/>
  <Override PartName="/ppt/media/image50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143.png" ContentType="image/png"/>
  <Override PartName="/ppt/media/image51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42.png" ContentType="image/png"/>
  <Override PartName="/ppt/media/image56.png" ContentType="image/png"/>
  <Override PartName="/ppt/media/image40.jpeg" ContentType="image/jpeg"/>
  <Override PartName="/ppt/media/image44.png" ContentType="image/png"/>
  <Override PartName="/ppt/media/image130.png" ContentType="image/png"/>
  <Override PartName="/ppt/media/image79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24.jpeg" ContentType="image/jpeg"/>
  <Override PartName="/ppt/media/image27.png" ContentType="image/png"/>
  <Override PartName="/ppt/media/image95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007-CD93-4D38-88A4-594EB645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85B-70F8-4CCA-94B6-93CD9303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D40D2-472D-457F-994F-6B839E10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1C7FB-5973-4350-9575-AA6F4FD6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7173C-4E0D-4EFC-980F-89F0CF41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2E1E6-A92F-41C5-A77F-4BACC927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5C18F-BC68-4751-90E4-10B0F504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F74D6-E35A-4038-99FB-594CB7F8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1BE2D-1BC0-4A15-8A42-4C912794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36BCC-8F0E-4511-A869-0635BACE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2D312-0073-4E33-BEA3-149B9DAF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33C7C-AC16-43FD-B10B-23216E0F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A3D-A499-47DF-A9EE-8AA0E255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88167-CFE4-46A7-A72F-83BF8E45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F857A-05D0-4943-ABF5-8B0A46F0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0CE6D-9FC8-4DD7-8F01-CF15203E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D1747-F9C3-48E0-B83E-B71D398A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64096-A75A-4AF8-BA41-26B3A96A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5C031-C938-48F6-97CA-2B1265A9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EBB22-6FA0-4787-9B58-FC159F54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53EF5-F58A-452D-910F-75E1514B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DDA42-9F20-4E75-8A86-12162A2D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807E9-E022-4A40-8157-18E6875C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F4F-6BF9-4E11-AB25-21E42967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F9AAA-B044-459E-B2EC-CD09E1F4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B3143-327A-4384-A138-3F8567EE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1A915-C70E-4AD0-8C81-2532EC9C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46319-6C5A-48FB-BAC3-7D40175E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28623-26AE-446E-9C07-4E35C27F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9C1A4-9B21-41F6-9A38-995CD4C9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F4C26-1C9A-46CF-931D-605DCA27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B45D0-6DEC-4463-B79B-CB87BCFD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7455D-F290-4BA4-8BF2-651D3046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64D10-8869-4974-98F4-D29AD5F5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B480-14C5-4834-BF4F-6C45B95F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5AAAC-2D67-429A-BB3C-64C0A8A7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3FE90-F548-4346-9B49-2465B39C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E6E48-3778-4CEE-83CC-6349DFAA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ABB8A-500F-47F4-A564-F37B6F35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4B493-E900-4A68-89C9-6C1B2864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D5AE9-186C-47A1-9878-41F22C04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8E7DA-E371-4C16-8E9A-16DF1017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1797D-E736-4CA8-948B-AEC37D62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EFFB4-C135-4FF0-BD40-256E54B5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5BAA2-2727-4DDC-B0AE-596902F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F790-E0C1-46D2-89A9-3A57D6DD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5B072-CE11-4C2A-9286-59ED78E0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2531F-DD00-46E7-A9B1-22BF9FBB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B685B-129F-442D-89AF-B9202434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F07F3-839E-472B-BF47-69D92570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D39B2-BF6B-4B10-B2B9-853CEEBC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6C563-AFFA-46BF-92AD-C1AFDF66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0E10A-3822-425A-8367-BECE182B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FCD1E-5C4C-4579-9FD4-1F1CB0B5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3FCA1-5CC4-4254-B19E-3ED2C6D3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14DF2-95DD-4919-8F76-793962FF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5E60-2B15-4CB3-BC7E-B76F980A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3EB19-BF08-4AFD-A449-8D7EB8DA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5E1AC-AE1D-45B4-AD86-07454C4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31AAC-85CA-43CC-B0B8-7DF7335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249EB-3E2D-4D9B-8853-0AF87BE7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BD417-8057-4DDD-A140-C7B2898C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256C7-E485-439E-9F81-A450B49F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C5F99-9219-410E-940D-8DFE5F3E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72F42-2885-4F5A-B3F6-94C49B66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8F2B1-E18E-4E19-92D4-DAFF1EE3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1F783-5958-4398-93BF-7CE0F798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F3F5-94B7-46BD-B53C-72C721C4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BC69D-8EBE-4C73-9584-49E50643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9CD79-6617-40A0-856B-CD1E51BE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10218-5C39-48DE-83C5-22EEA12B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6D7DF-CCEA-41F5-9EA8-5952ECC1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7FF19-D364-4F77-A291-6799ACCE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276F5-974F-4F38-BADE-B3395BFE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7C631-B692-4ECD-B0DD-A09E4347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0DDE4-8248-4B88-BA0D-6647EC58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218A1-6BFE-4C38-B270-12EC0EF7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472B-1F04-474B-8234-1B6D0E4D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08EE-930E-41EC-B18C-E6486192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54FD-72FE-4EDE-A4EB-26F6EC0B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7FF-4EAB-4569-BC87-D4D1AC24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E1FE-A8A2-419C-8B7A-259D2F41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992E-76FF-4A02-9BB0-34516287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FD51-EBBF-4EEB-9B3E-056D4A3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7BB3-F160-4A32-A4B3-67D58EEB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B534-7CA5-4861-9D9F-415D6CE3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7CEB8-6C4C-4430-9BB8-78F4A6BF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EF46-EF39-40DC-B419-89A59D5B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B9EC3-D61A-4D34-B70C-0DCD60C4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9DE6-F44A-425E-A8BC-E11AB4AD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02F53-ECA1-4065-862B-92A822B3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4B2-9BAB-4E76-9C6B-CBC2BB27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EAEA-0267-4A19-A508-99B3BAE9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01A6-0FCC-42A3-B6DF-DE3BEB9F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FC1E-CED2-4917-9D4A-C689FD2E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F3E84-5482-4A08-9C7C-82E0D8BE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EF916-F73F-4158-82D6-F976CB5C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58F3-CBF9-4F54-9B26-D63E47F0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65FF9-D78C-471E-BBDE-1AEF6FF0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524EC-2334-4608-8FBB-5670E095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8E80A-9049-40A8-BF3F-3CA04450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83197-B694-4B92-BD83-F5251A93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AF4-CD53-4363-8E18-43B1CEF8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9C82C-3358-4D6C-9A14-1C4D3731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34730-308F-422F-8B9F-018DEE55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13F6B-091C-4E8E-A125-7758DEB2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71D64-0822-42BE-8A4C-34FBA1BF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A171A-BEEE-4D5C-BD6E-140CE647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C517F-1733-4E87-8799-5CF740B2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CB9E-E835-48FC-84EE-3A0A6D5D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59A9-B53C-4E70-B20B-B6CD784A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74D4-5EEA-4E9E-93BA-6C376CCA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70DD3-1AB0-4B80-B830-1E1960C7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DE4-23DF-4D89-BE43-84FDB58F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6F055-CB64-468F-8E0A-796CCBE4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FD4B8-32AA-4D93-94E7-D156AD49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28432-C339-4B11-B780-D7C8DAE5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57B72-22EC-42A5-B03C-40A3A67E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A2AED-8E53-422E-8AA6-5BF6EACB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22197-9F9B-433E-BC43-9D825B0D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1D60E-82B9-4444-BE93-224C3CC8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3CF7D-E62D-40B0-A7DC-73F1803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52D8B-365F-411C-AC0B-AEE40B5F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090F3-A29F-432B-829F-E0B2EDEE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464-CE71-4652-A395-1121BDA2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D6216-CC03-43ED-B76F-7D9F568B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4439A-3291-44FC-8E65-72E7F60F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6226D-7731-4B40-8935-0BE1C955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44CBC-CF05-463F-BEAB-F1EC0424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EC4D8-B324-4FD5-AD17-E458B549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5DB5B-CBE8-4517-8849-4CFDAEC4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3940E-89FA-42CA-A1B0-B25916DC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358BB-6337-46FD-B8DB-5B2A7658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81355-C159-4FDC-BEC6-54B13D20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9FC28-50C2-4801-B20C-181BB0E6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440-40BB-4CDE-A5FE-6720A615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41AD2-6A66-4986-862C-5AB8A434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6E60F-2C4E-49DD-8085-82A7BEAE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F7A30-2E05-4C4A-B06B-FC2C154B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55BE9-499D-49AB-9744-056732D9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CA919-D8FB-4E24-A73E-316A14B9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2FFD4-20EA-4B2D-BAA8-2A8772D5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A765D-0E6B-4EDE-9488-0DE97339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FE23D-626D-4C6B-A6F7-944E2F03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6C166-4D9F-481C-A7A0-8221EC3C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08EA7-925C-4C84-886C-CE5915DF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F4D-16DF-4399-B645-D1D4FCF7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33F16-1DCB-4B3B-9D66-D2729A74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E4D19-3CE3-4A3A-98D7-D7132234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1003F-DB65-4CDF-85E2-6A845520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AB0FD-D66B-45FD-B193-3FCB8F74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12CDC-F57B-4671-89B3-1E643C74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A47D4-FD14-4C51-8671-E1D3209E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DCD89-1981-45FD-AFCB-80FB4B63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A4CFC-173B-40BF-BA06-92AEF932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EFFAA-95F9-46F3-9B91-E9FAEAAE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A63F3-D01D-4E37-8ABA-2DDB6E79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9DB-6335-4E8C-A32F-355BE9C7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C3146-92B5-42CF-B808-CCCDC79F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9D18C-1FBD-4994-AE27-EBA4B39C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5D0A6-2790-4646-B213-D7F32E03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C0E67-1159-467C-8C69-46A1553D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06164-7C08-4AAF-8974-3D33540F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849D7-FFA4-4EBC-ABC9-F6CACF90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9CB4E-43B2-470E-AEFE-FB7A93B8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68265-3825-432C-98DF-0BDA6B7E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B4991-AB14-43E3-8571-E6AE7E35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EFF37-EABF-4929-9581-9B9AEF94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1E58-F847-4C61-B048-AD30F9A6C9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F907-2E35-4534-B0A1-428BF793C4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D79F-9A6D-4AF3-A0D8-064060961A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B6A7-6A52-4D7E-8B54-79E000A2B7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CD91-93AF-4955-828F-D2924765F0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4C48-5D22-44B0-A54A-97201D849E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F39C-62E7-43E5-818E-7C55CEB90B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62DF-D221-4CEC-B00A-712AF0A2F4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4244-6652-4D54-8CD6-346E6864A8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433E-A653-446E-8680-ADD7422DBD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4E7C-33C0-49D0-B388-8AD6CBCCBC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101A-0EDE-4765-8B9F-4A93C24798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603B-9C10-4FCB-9FE9-3BF8832CD1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1270-B3D2-44E5-B90B-FAFA78B56C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image" Target="../media/image58.png"/><Relationship Id="rId15" Type="http://schemas.openxmlformats.org/officeDocument/2006/relationships/image" Target="../media/image59.png"/><Relationship Id="rId16" Type="http://schemas.openxmlformats.org/officeDocument/2006/relationships/image" Target="../media/image60.png"/><Relationship Id="rId17" Type="http://schemas.openxmlformats.org/officeDocument/2006/relationships/image" Target="../media/image61.png"/><Relationship Id="rId18" Type="http://schemas.openxmlformats.org/officeDocument/2006/relationships/image" Target="../media/image62.png"/><Relationship Id="rId19" Type="http://schemas.openxmlformats.org/officeDocument/2006/relationships/image" Target="../media/image63.png"/><Relationship Id="rId20" Type="http://schemas.openxmlformats.org/officeDocument/2006/relationships/image" Target="../media/image64.png"/><Relationship Id="rId21" Type="http://schemas.openxmlformats.org/officeDocument/2006/relationships/image" Target="../media/image65.png"/><Relationship Id="rId22" Type="http://schemas.openxmlformats.org/officeDocument/2006/relationships/image" Target="../media/image66.png"/><Relationship Id="rId23" Type="http://schemas.openxmlformats.org/officeDocument/2006/relationships/image" Target="../media/image67.png"/><Relationship Id="rId24" Type="http://schemas.openxmlformats.org/officeDocument/2006/relationships/image" Target="../media/image68.png"/><Relationship Id="rId25" Type="http://schemas.openxmlformats.org/officeDocument/2006/relationships/image" Target="../media/image69.png"/><Relationship Id="rId26" Type="http://schemas.openxmlformats.org/officeDocument/2006/relationships/image" Target="../media/image70.png"/><Relationship Id="rId27" Type="http://schemas.openxmlformats.org/officeDocument/2006/relationships/image" Target="../media/image71.png"/><Relationship Id="rId28" Type="http://schemas.openxmlformats.org/officeDocument/2006/relationships/image" Target="../media/image72.png"/><Relationship Id="rId29" Type="http://schemas.openxmlformats.org/officeDocument/2006/relationships/image" Target="../media/image73.png"/><Relationship Id="rId30" Type="http://schemas.openxmlformats.org/officeDocument/2006/relationships/image" Target="../media/image74.png"/><Relationship Id="rId31" Type="http://schemas.openxmlformats.org/officeDocument/2006/relationships/image" Target="../media/image75.png"/><Relationship Id="rId32" Type="http://schemas.openxmlformats.org/officeDocument/2006/relationships/image" Target="../media/image76.png"/><Relationship Id="rId33" Type="http://schemas.openxmlformats.org/officeDocument/2006/relationships/image" Target="../media/image77.png"/><Relationship Id="rId34" Type="http://schemas.openxmlformats.org/officeDocument/2006/relationships/image" Target="../media/image78.png"/><Relationship Id="rId35" Type="http://schemas.openxmlformats.org/officeDocument/2006/relationships/image" Target="../media/image79.png"/><Relationship Id="rId36" Type="http://schemas.openxmlformats.org/officeDocument/2006/relationships/image" Target="../media/image80.png"/><Relationship Id="rId37" Type="http://schemas.openxmlformats.org/officeDocument/2006/relationships/image" Target="../media/image81.png"/><Relationship Id="rId38" Type="http://schemas.openxmlformats.org/officeDocument/2006/relationships/image" Target="../media/image82.png"/><Relationship Id="rId39" Type="http://schemas.openxmlformats.org/officeDocument/2006/relationships/image" Target="../media/image83.png"/><Relationship Id="rId40" Type="http://schemas.openxmlformats.org/officeDocument/2006/relationships/image" Target="../media/image84.png"/><Relationship Id="rId41" Type="http://schemas.openxmlformats.org/officeDocument/2006/relationships/image" Target="../media/image85.png"/><Relationship Id="rId42" Type="http://schemas.openxmlformats.org/officeDocument/2006/relationships/image" Target="../media/image86.png"/><Relationship Id="rId43" Type="http://schemas.openxmlformats.org/officeDocument/2006/relationships/image" Target="../media/image87.png"/><Relationship Id="rId44" Type="http://schemas.openxmlformats.org/officeDocument/2006/relationships/image" Target="../media/image88.png"/><Relationship Id="rId45" Type="http://schemas.openxmlformats.org/officeDocument/2006/relationships/image" Target="../media/image89.png"/><Relationship Id="rId46" Type="http://schemas.openxmlformats.org/officeDocument/2006/relationships/image" Target="../media/image90.png"/><Relationship Id="rId47" Type="http://schemas.openxmlformats.org/officeDocument/2006/relationships/image" Target="../media/image91.png"/><Relationship Id="rId48" Type="http://schemas.openxmlformats.org/officeDocument/2006/relationships/image" Target="../media/image92.png"/><Relationship Id="rId49" Type="http://schemas.openxmlformats.org/officeDocument/2006/relationships/image" Target="../media/image93.png"/><Relationship Id="rId50" Type="http://schemas.openxmlformats.org/officeDocument/2006/relationships/image" Target="../media/image94.png"/><Relationship Id="rId51" Type="http://schemas.openxmlformats.org/officeDocument/2006/relationships/image" Target="../media/image95.png"/><Relationship Id="rId52" Type="http://schemas.openxmlformats.org/officeDocument/2006/relationships/image" Target="../media/image96.png"/><Relationship Id="rId53" Type="http://schemas.openxmlformats.org/officeDocument/2006/relationships/image" Target="../media/image97.png"/><Relationship Id="rId54" Type="http://schemas.openxmlformats.org/officeDocument/2006/relationships/image" Target="../media/image98.png"/><Relationship Id="rId55" Type="http://schemas.openxmlformats.org/officeDocument/2006/relationships/image" Target="../media/image99.png"/><Relationship Id="rId56" Type="http://schemas.openxmlformats.org/officeDocument/2006/relationships/image" Target="../media/image100.png"/><Relationship Id="rId57" Type="http://schemas.openxmlformats.org/officeDocument/2006/relationships/image" Target="../media/image101.png"/><Relationship Id="rId58" Type="http://schemas.openxmlformats.org/officeDocument/2006/relationships/image" Target="../media/image102.png"/><Relationship Id="rId59" Type="http://schemas.openxmlformats.org/officeDocument/2006/relationships/image" Target="../media/image103.png"/><Relationship Id="rId60" Type="http://schemas.openxmlformats.org/officeDocument/2006/relationships/image" Target="../media/image104.png"/><Relationship Id="rId61" Type="http://schemas.openxmlformats.org/officeDocument/2006/relationships/image" Target="../media/image105.png"/><Relationship Id="rId62" Type="http://schemas.openxmlformats.org/officeDocument/2006/relationships/image" Target="../media/image106.png"/><Relationship Id="rId63" Type="http://schemas.openxmlformats.org/officeDocument/2006/relationships/image" Target="../media/image107.png"/><Relationship Id="rId64" Type="http://schemas.openxmlformats.org/officeDocument/2006/relationships/image" Target="../media/image108.png"/><Relationship Id="rId65" Type="http://schemas.openxmlformats.org/officeDocument/2006/relationships/image" Target="../media/image109.png"/><Relationship Id="rId66" Type="http://schemas.openxmlformats.org/officeDocument/2006/relationships/image" Target="../media/image110.png"/><Relationship Id="rId67" Type="http://schemas.openxmlformats.org/officeDocument/2006/relationships/image" Target="../media/image111.png"/><Relationship Id="rId68" Type="http://schemas.openxmlformats.org/officeDocument/2006/relationships/image" Target="../media/image112.png"/><Relationship Id="rId69" Type="http://schemas.openxmlformats.org/officeDocument/2006/relationships/image" Target="../media/image113.png"/><Relationship Id="rId70" Type="http://schemas.openxmlformats.org/officeDocument/2006/relationships/image" Target="../media/image114.png"/><Relationship Id="rId71" Type="http://schemas.openxmlformats.org/officeDocument/2006/relationships/image" Target="../media/image115.png"/><Relationship Id="rId72" Type="http://schemas.openxmlformats.org/officeDocument/2006/relationships/image" Target="../media/image116.png"/><Relationship Id="rId73" Type="http://schemas.openxmlformats.org/officeDocument/2006/relationships/image" Target="../media/image117.png"/><Relationship Id="rId74" Type="http://schemas.openxmlformats.org/officeDocument/2006/relationships/image" Target="../media/image118.png"/><Relationship Id="rId75" Type="http://schemas.openxmlformats.org/officeDocument/2006/relationships/image" Target="../media/image119.png"/><Relationship Id="rId76" Type="http://schemas.openxmlformats.org/officeDocument/2006/relationships/image" Target="../media/image120.png"/><Relationship Id="rId77" Type="http://schemas.openxmlformats.org/officeDocument/2006/relationships/image" Target="../media/image121.png"/><Relationship Id="rId78" Type="http://schemas.openxmlformats.org/officeDocument/2006/relationships/image" Target="../media/image122.png"/><Relationship Id="rId79" Type="http://schemas.openxmlformats.org/officeDocument/2006/relationships/image" Target="../media/image123.png"/><Relationship Id="rId80" Type="http://schemas.openxmlformats.org/officeDocument/2006/relationships/image" Target="../media/image124.png"/><Relationship Id="rId81" Type="http://schemas.openxmlformats.org/officeDocument/2006/relationships/image" Target="../media/image125.png"/><Relationship Id="rId82" Type="http://schemas.openxmlformats.org/officeDocument/2006/relationships/image" Target="../media/image126.png"/><Relationship Id="rId83" Type="http://schemas.openxmlformats.org/officeDocument/2006/relationships/image" Target="../media/image127.png"/><Relationship Id="rId84" Type="http://schemas.openxmlformats.org/officeDocument/2006/relationships/image" Target="../media/image128.png"/><Relationship Id="rId85" Type="http://schemas.openxmlformats.org/officeDocument/2006/relationships/image" Target="../media/image129.png"/><Relationship Id="rId86" Type="http://schemas.openxmlformats.org/officeDocument/2006/relationships/image" Target="../media/image130.png"/><Relationship Id="rId87" Type="http://schemas.openxmlformats.org/officeDocument/2006/relationships/image" Target="../media/image131.png"/><Relationship Id="rId88" Type="http://schemas.openxmlformats.org/officeDocument/2006/relationships/image" Target="../media/image132.png"/><Relationship Id="rId89" Type="http://schemas.openxmlformats.org/officeDocument/2006/relationships/image" Target="../media/image133.png"/><Relationship Id="rId90" Type="http://schemas.openxmlformats.org/officeDocument/2006/relationships/image" Target="../media/image134.png"/><Relationship Id="rId91" Type="http://schemas.openxmlformats.org/officeDocument/2006/relationships/image" Target="../media/image135.png"/><Relationship Id="rId92" Type="http://schemas.openxmlformats.org/officeDocument/2006/relationships/image" Target="../media/image136.png"/><Relationship Id="rId93" Type="http://schemas.openxmlformats.org/officeDocument/2006/relationships/image" Target="../media/image137.png"/><Relationship Id="rId94" Type="http://schemas.openxmlformats.org/officeDocument/2006/relationships/image" Target="../media/image138.png"/><Relationship Id="rId95" Type="http://schemas.openxmlformats.org/officeDocument/2006/relationships/image" Target="../media/image139.png"/><Relationship Id="rId96" Type="http://schemas.openxmlformats.org/officeDocument/2006/relationships/image" Target="../media/image140.png"/><Relationship Id="rId97" Type="http://schemas.openxmlformats.org/officeDocument/2006/relationships/image" Target="../media/image141.png"/><Relationship Id="rId98" Type="http://schemas.openxmlformats.org/officeDocument/2006/relationships/image" Target="../media/image142.png"/><Relationship Id="rId99" Type="http://schemas.openxmlformats.org/officeDocument/2006/relationships/image" Target="../media/image143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9283320" y="433404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商融资 项目推广 项目介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图片 2" descr=""/>
          <p:cNvPicPr/>
          <p:nvPr/>
        </p:nvPicPr>
        <p:blipFill>
          <a:blip r:embed="rId1"/>
          <a:stretch/>
        </p:blipFill>
        <p:spPr>
          <a:xfrm>
            <a:off x="255600" y="249120"/>
            <a:ext cx="15001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9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0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1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5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6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0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1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3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4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5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6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8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0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1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3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4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5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6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7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4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6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7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1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2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4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3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4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5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7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9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0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1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2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5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8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1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8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69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0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2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4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5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7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8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79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0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2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4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5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7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89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0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2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3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7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8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3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2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7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7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8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49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5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6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7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7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9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3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4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6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7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9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0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1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4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6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7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8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0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1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4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5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7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8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1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2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4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6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7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199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9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5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7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8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3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6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4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5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1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2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3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5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6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7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8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0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1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2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3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5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7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8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0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1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2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3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5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6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5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6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7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9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0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2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3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8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5" name="Shape 21"/>
          <p:cNvCxnSpPr>
            <a:stCxn id="1374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6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7" name="Shape 11"/>
          <p:cNvCxnSpPr>
            <a:stCxn id="1376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8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9" name="Shape 16"/>
          <p:cNvCxnSpPr>
            <a:stCxn id="1378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0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1" name="Shape 19"/>
          <p:cNvCxnSpPr>
            <a:stCxn id="1380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2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1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3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5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09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3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4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6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7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7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8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1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2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3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7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8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2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3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7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8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0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8"/>
          <p:cNvSpPr/>
          <p:nvPr/>
        </p:nvSpPr>
        <p:spPr>
          <a:xfrm>
            <a:off x="9769320" y="39337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 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3" name="图片 8" descr=""/>
          <p:cNvPicPr/>
          <p:nvPr/>
        </p:nvPicPr>
        <p:blipFill>
          <a:blip r:embed="rId1"/>
          <a:stretch/>
        </p:blipFill>
        <p:spPr>
          <a:xfrm>
            <a:off x="255600" y="249120"/>
            <a:ext cx="15001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5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8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49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0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4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0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1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2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4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5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69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1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2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5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6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7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9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0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1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2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5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6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1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2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3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4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6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0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1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3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4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09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0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1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2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7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18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19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0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2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3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5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6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7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1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2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5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6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9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0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1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2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7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48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49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1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2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3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58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9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0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1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3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4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5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6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8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69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0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1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2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3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4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5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6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7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79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3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4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5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8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89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0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1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5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6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98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99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6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79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1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5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6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7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8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6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7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8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1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4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6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6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8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799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1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2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5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6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3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大侠素材铺</dc:creator>
  <dc:description>大侠素材铺
淘宝店：https://dxpu.taobao.com/</dc:description>
  <cp:keywords>大侠素材铺</cp:keywords>
  <dc:language>en-US</dc:language>
  <cp:lastModifiedBy>微软用户</cp:lastModifiedBy>
  <dcterms:modified xsi:type="dcterms:W3CDTF">2016-11-04T03:27:43Z</dcterms:modified>
  <cp:revision>124</cp:revision>
  <dc:subject>大侠素材铺</dc:subject>
  <dc:title>大侠素材铺</dc:title>
</cp:coreProperties>
</file>