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2AE-43B4-4A58-BAA4-FE3C0F53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DCE-2762-4F0F-B79C-9BAA264E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467-F7F4-4CF1-A748-EE4DE7F8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88C-2E4E-443E-BE07-D8FBF53E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1AF-AE18-40DD-B2CD-7E6D1020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9FA-F9B4-4731-BA93-5CA29526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67A-8FF2-4535-8524-4F2DE62E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438-20BE-4296-954B-05DBA287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081-0D70-41D6-9C63-5CA79D77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CE5-F68A-473B-9622-AE90305F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F77-A243-4D06-B012-5A2C19D3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113-14A5-426D-A2B4-3D953A58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83FB-BA5F-4735-B6E7-84C8EC1978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"/>
                            </p:stCondLst>
                            <p:childTnLst>
                              <p:par>
                                <p:cTn id="126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3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600"/>
                            </p:stCondLst>
                            <p:childTnLst>
                              <p:par>
                                <p:cTn id="140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6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900"/>
                            </p:stCondLst>
                            <p:childTnLst>
                              <p:par>
                                <p:cTn id="1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3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1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43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8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600"/>
                            </p:stCondLst>
                            <p:childTnLst>
                              <p:par>
                                <p:cTn id="176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4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8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3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1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4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9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2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3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00"/>
                            </p:stCondLst>
                            <p:childTnLst>
                              <p:par>
                                <p:cTn id="191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5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4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7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8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1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3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8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4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6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7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30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3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8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6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2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3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8900"/>
                            </p:stCondLst>
                            <p:childTnLst>
                              <p:par>
                                <p:cTn id="2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400"/>
                            </p:stCondLst>
                            <p:childTnLst>
                              <p:par>
                                <p:cTn id="2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3900"/>
                            </p:stCondLst>
                            <p:childTnLst>
                              <p:par>
                                <p:cTn id="2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0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5:07:27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