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665-5575-4DCD-BB18-3C61EBC6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69F6-9F73-4607-9433-3E9D42ED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8D54-27FB-412F-A006-761AF486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F850-B8BE-4F1D-8862-2CA04F59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63F-C8AE-41D6-ADBB-8A5F119C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4CA6-FCA9-4E5A-81EB-E4F30A3D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776-E438-4C81-A4A6-62B515EA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525B-D15F-4F18-ABF4-19CAB38A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9E29-4FFE-4288-9DA1-15B9A25D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6457-C54E-4F01-8D63-642C94C9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E61-7271-4E46-A3A8-696F5B5C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A03-A141-481B-B27B-FD088FDC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AD16-1316-484E-A822-A61A15C806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857680" y="180180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143160" y="269244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表彰大会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4140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4069080" y="2987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40690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8"/>
          <p:cNvSpPr/>
          <p:nvPr/>
        </p:nvSpPr>
        <p:spPr>
          <a:xfrm>
            <a:off x="4020120" y="5643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1926000" y="100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997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5997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997960" y="92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4020120" y="5929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997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0"/>
          <p:cNvSpPr/>
          <p:nvPr/>
        </p:nvSpPr>
        <p:spPr>
          <a:xfrm>
            <a:off x="3926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1"/>
          <p:cNvSpPr/>
          <p:nvPr/>
        </p:nvSpPr>
        <p:spPr>
          <a:xfrm>
            <a:off x="29977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3948840" y="6000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1997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783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62838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9"/>
          <p:cNvSpPr/>
          <p:nvPr/>
        </p:nvSpPr>
        <p:spPr>
          <a:xfrm>
            <a:off x="5426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4020120" y="5929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500280" y="2928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17118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212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3948840" y="6072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64267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1783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7-19T14:10:51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