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5BD-5BFA-42B4-8EBE-D3DD5180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0EE-D137-4BFA-A04B-E302A3B3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B55-CDB3-4BA5-9DDE-2CEC92A8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326-AE3B-44B0-9B5A-0BBB90C9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533-5AD1-4AC4-AF28-3A4EFE37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5AF-9C91-4681-82F7-A176CE24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39C-5B56-4835-9E8E-77087BE9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7A7-8DB6-41CB-BDFD-E591D728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CD5-96B3-4E88-9F70-E763C870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039-0209-4B4B-B2D9-0B08C1A7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293-7751-46CC-914D-ECA759A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224-9F26-4E1D-B74F-2AFCD8D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FD4F-3583-4FAE-87B2-714C85F1D9B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2180-A3FE-4B4A-B383-78A1853979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zh.wikipedia.org/wiki/File:Edward_Jenner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zh.wikipedia.org/wiki/&#231;&#150;&#171;&#232;&#139;&#151;&#230;&#142;&#165;&#231;&#168;&#174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生</a:t>
            </a:r>
            <a:r>
              <a:rPr b="1" lang="zh-CN" sz="80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物预防药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16360" y="4643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：      玉碎琉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324000" y="4365720"/>
            <a:ext cx="6065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2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8588-877D-4B3E-88FB-CC33E34394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61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6"/>
          <p:cNvSpPr/>
          <p:nvPr/>
        </p:nvSpPr>
        <p:spPr>
          <a:xfrm>
            <a:off x="409572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18FA-2839-4DCA-98CC-B83F1925AF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72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4560" y="4005360"/>
          <a:ext cx="7994880" cy="2019240"/>
        </p:xfrm>
        <a:graphic>
          <a:graphicData uri="http://schemas.openxmlformats.org/drawingml/2006/table">
            <a:tbl>
              <a:tblPr/>
              <a:tblGrid>
                <a:gridCol w="3584520"/>
                <a:gridCol w="441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81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84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87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90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4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7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6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6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0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3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6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99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2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5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08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1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4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47280" y="3825720"/>
              <a:ext cx="1800720" cy="889200"/>
              <a:chOff x="3347280" y="3825720"/>
              <a:chExt cx="1800720" cy="889200"/>
            </a:xfrm>
          </p:grpSpPr>
          <p:cxnSp>
            <p:nvCxnSpPr>
              <p:cNvPr id="127" name="肘形连接符 14"/>
              <p:cNvCxnSpPr/>
              <p:nvPr/>
            </p:nvCxnSpPr>
            <p:spPr>
              <a:xfrm flipH="1">
                <a:off x="3347280" y="3825720"/>
                <a:ext cx="1801080" cy="8895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28" name=""/>
              <p:cNvSpPr txBox="1"/>
              <p:nvPr/>
            </p:nvSpPr>
            <p:spPr>
              <a:xfrm>
                <a:off x="3347640" y="3825720"/>
                <a:ext cx="1800360" cy="88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9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435720" y="3897000"/>
              <a:ext cx="1346760" cy="688680"/>
              <a:chOff x="6435720" y="3897000"/>
              <a:chExt cx="1346760" cy="688680"/>
            </a:xfrm>
          </p:grpSpPr>
          <p:cxnSp>
            <p:nvCxnSpPr>
              <p:cNvPr id="133" name="肘形连接符 33"/>
              <p:cNvCxnSpPr/>
              <p:nvPr/>
            </p:nvCxnSpPr>
            <p:spPr>
              <a:xfrm>
                <a:off x="6435720" y="3897000"/>
                <a:ext cx="1347120" cy="68904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34" name=""/>
              <p:cNvSpPr txBox="1"/>
              <p:nvPr/>
            </p:nvSpPr>
            <p:spPr>
              <a:xfrm>
                <a:off x="6435720" y="3897000"/>
                <a:ext cx="1346400" cy="68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3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6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973400" y="3398760"/>
              <a:ext cx="724320" cy="689400"/>
              <a:chOff x="4973400" y="3398760"/>
              <a:chExt cx="724320" cy="689400"/>
            </a:xfrm>
          </p:grpSpPr>
          <p:cxnSp>
            <p:nvCxnSpPr>
              <p:cNvPr id="139" name="肘形连接符 37"/>
              <p:cNvCxnSpPr/>
              <p:nvPr/>
            </p:nvCxnSpPr>
            <p:spPr>
              <a:xfrm>
                <a:off x="4973400" y="339876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0" name=""/>
              <p:cNvSpPr txBox="1"/>
              <p:nvPr/>
            </p:nvSpPr>
            <p:spPr>
              <a:xfrm>
                <a:off x="4973400" y="339876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7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42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103880" y="3479400"/>
              <a:ext cx="724320" cy="689040"/>
              <a:chOff x="7103880" y="3479400"/>
              <a:chExt cx="724320" cy="689040"/>
            </a:xfrm>
          </p:grpSpPr>
          <p:cxnSp>
            <p:nvCxnSpPr>
              <p:cNvPr id="145" name="肘形连接符 41"/>
              <p:cNvCxnSpPr/>
              <p:nvPr/>
            </p:nvCxnSpPr>
            <p:spPr>
              <a:xfrm>
                <a:off x="7103880" y="3479400"/>
                <a:ext cx="72468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6" name=""/>
              <p:cNvSpPr txBox="1"/>
              <p:nvPr/>
            </p:nvSpPr>
            <p:spPr>
              <a:xfrm>
                <a:off x="7103880" y="3479400"/>
                <a:ext cx="72396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21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8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7160" y="3352680"/>
              <a:ext cx="715680" cy="689400"/>
              <a:chOff x="3557160" y="3352680"/>
              <a:chExt cx="715680" cy="689400"/>
            </a:xfrm>
          </p:grpSpPr>
          <p:cxnSp>
            <p:nvCxnSpPr>
              <p:cNvPr id="151" name="肘形连接符 45"/>
              <p:cNvCxnSpPr/>
              <p:nvPr/>
            </p:nvCxnSpPr>
            <p:spPr>
              <a:xfrm flipH="1">
                <a:off x="3557160" y="3352680"/>
                <a:ext cx="71604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2" name=""/>
              <p:cNvSpPr txBox="1"/>
              <p:nvPr/>
            </p:nvSpPr>
            <p:spPr>
              <a:xfrm>
                <a:off x="3557520" y="3352680"/>
                <a:ext cx="71532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25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54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794360" y="3479760"/>
              <a:ext cx="581040" cy="108360"/>
              <a:chOff x="7794360" y="3479760"/>
              <a:chExt cx="581040" cy="108360"/>
            </a:xfrm>
          </p:grpSpPr>
          <p:cxnSp>
            <p:nvCxnSpPr>
              <p:cNvPr id="157" name="肘形连接符 49"/>
              <p:cNvCxnSpPr/>
              <p:nvPr/>
            </p:nvCxnSpPr>
            <p:spPr>
              <a:xfrm>
                <a:off x="7794360" y="3479760"/>
                <a:ext cx="581400" cy="10872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8" name=""/>
              <p:cNvSpPr txBox="1"/>
              <p:nvPr/>
            </p:nvSpPr>
            <p:spPr>
              <a:xfrm>
                <a:off x="7794360" y="3479760"/>
                <a:ext cx="58068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29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6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肘形连接符 55"/>
            <p:cNvCxnSpPr>
              <a:stCxn id="161" idx="6"/>
              <a:endCxn id="16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63" name="Group 33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6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0880" y="2584080"/>
              <a:ext cx="723960" cy="689040"/>
              <a:chOff x="1550880" y="2584080"/>
              <a:chExt cx="723960" cy="689040"/>
            </a:xfrm>
          </p:grpSpPr>
          <p:cxnSp>
            <p:nvCxnSpPr>
              <p:cNvPr id="167" name="肘形连接符 60"/>
              <p:cNvCxnSpPr/>
              <p:nvPr/>
            </p:nvCxnSpPr>
            <p:spPr>
              <a:xfrm>
                <a:off x="1550880" y="2584080"/>
                <a:ext cx="72432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68" name=""/>
              <p:cNvSpPr txBox="1"/>
              <p:nvPr/>
            </p:nvSpPr>
            <p:spPr>
              <a:xfrm>
                <a:off x="1550880" y="2584080"/>
                <a:ext cx="72360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70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81680" y="5091120"/>
              <a:ext cx="724320" cy="689400"/>
              <a:chOff x="7681680" y="5091120"/>
              <a:chExt cx="724320" cy="689400"/>
            </a:xfrm>
          </p:grpSpPr>
          <p:cxnSp>
            <p:nvCxnSpPr>
              <p:cNvPr id="173" name="肘形连接符 64"/>
              <p:cNvCxnSpPr/>
              <p:nvPr/>
            </p:nvCxnSpPr>
            <p:spPr>
              <a:xfrm>
                <a:off x="7681680" y="509112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74" name=""/>
              <p:cNvSpPr txBox="1"/>
              <p:nvPr/>
            </p:nvSpPr>
            <p:spPr>
              <a:xfrm>
                <a:off x="7681680" y="509112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2117160" y="519264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1116000" y="3284640"/>
            <a:ext cx="3432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>
            <a:hlinkClick r:id="rId2"/>
          </p:cNvPr>
          <p:cNvPicPr/>
          <p:nvPr/>
        </p:nvPicPr>
        <p:blipFill>
          <a:blip r:embed="rId3"/>
          <a:srcRect l="6448" t="0" r="17871" b="0"/>
          <a:stretch/>
        </p:blipFill>
        <p:spPr>
          <a:xfrm>
            <a:off x="-9216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球上的人类已免于天花疾病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17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"/>
          <p:cNvGrpSpPr/>
          <p:nvPr/>
        </p:nvGrpSpPr>
        <p:grpSpPr>
          <a:xfrm>
            <a:off x="578520" y="4038840"/>
            <a:ext cx="2985480" cy="1888560"/>
            <a:chOff x="578520" y="4038840"/>
            <a:chExt cx="2985480" cy="1888560"/>
          </a:xfrm>
        </p:grpSpPr>
        <p:grpSp>
          <p:nvGrpSpPr>
            <p:cNvPr id="222" name="Group 13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23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26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牛痘接种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35280" y="2333160"/>
            <a:ext cx="1800" cy="359280"/>
            <a:chOff x="1835280" y="2333160"/>
            <a:chExt cx="1800" cy="359280"/>
          </a:xfrm>
        </p:grpSpPr>
        <p:cxnSp>
          <p:nvCxnSpPr>
            <p:cNvPr id="236" name="直接箭头连接符 6"/>
            <p:cNvCxnSpPr/>
            <p:nvPr/>
          </p:nvCxnSpPr>
          <p:spPr>
            <a:xfrm>
              <a:off x="1835280" y="2333160"/>
              <a:ext cx="2160" cy="359640"/>
            </a:xfrm>
            <a:prstGeom prst="straightConnector1">
              <a:avLst/>
            </a:prstGeom>
            <a:ln w="38160">
              <a:solidFill>
                <a:srgbClr val="ff550d"/>
              </a:solidFill>
              <a:miter/>
              <a:tailEnd len="med" type="arrow" w="med"/>
            </a:ln>
          </p:spPr>
        </p:cxnSp>
        <p:sp>
          <p:nvSpPr>
            <p:cNvPr id="237" name=""/>
            <p:cNvSpPr txBox="1"/>
            <p:nvPr/>
          </p:nvSpPr>
          <p:spPr>
            <a:xfrm>
              <a:off x="1835280" y="2333160"/>
              <a:ext cx="14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微软用户</dc:creator>
  <dc:description/>
  <cp:keywords/>
  <dc:language>en-US</dc:language>
  <cp:lastModifiedBy>User</cp:lastModifiedBy>
  <cp:lastPrinted>1899-12-30T00:00:00Z</cp:lastPrinted>
  <dcterms:modified xsi:type="dcterms:W3CDTF">2012-08-26T12:44:33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