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883-66AC-473E-995F-A44C7E63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EEC-FE1D-4F0A-9284-5DD94F58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350-6A4E-47CE-8406-5293024D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0C6-217E-4855-99B1-2B60D172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869-866B-43FA-84C3-59ED0BEE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BB4-4D21-4420-BD89-10D8F0F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814-035E-449E-9155-9DD4CAD4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49D-8C80-4341-B0FE-91B379F6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F12-DEF9-46BD-A0F9-96C52749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EAF-5646-4F3E-A4C5-CB75FA96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F2A-2F16-461D-AE41-E28889F9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C36-0B5A-4B11-BD2F-B15FB74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BEE4-FB8E-4C91-BDD3-AF7C126D76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组合 6" descr=""/>
          <p:cNvPicPr/>
          <p:nvPr/>
        </p:nvPicPr>
        <p:blipFill>
          <a:blip r:embed="rId2"/>
          <a:stretch/>
        </p:blipFill>
        <p:spPr>
          <a:xfrm>
            <a:off x="11336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13" descr=""/>
          <p:cNvPicPr/>
          <p:nvPr/>
        </p:nvPicPr>
        <p:blipFill>
          <a:blip r:embed="rId3"/>
          <a:stretch/>
        </p:blipFill>
        <p:spPr>
          <a:xfrm>
            <a:off x="368136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4" name="组合 23" descr=""/>
          <p:cNvPicPr/>
          <p:nvPr/>
        </p:nvPicPr>
        <p:blipFill>
          <a:blip r:embed="rId4"/>
          <a:stretch/>
        </p:blipFill>
        <p:spPr>
          <a:xfrm>
            <a:off x="62294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5" name="组合 30" descr=""/>
          <p:cNvPicPr/>
          <p:nvPr/>
        </p:nvPicPr>
        <p:blipFill>
          <a:blip r:embed="rId5"/>
          <a:stretch/>
        </p:blipFill>
        <p:spPr>
          <a:xfrm>
            <a:off x="8778960" y="1974960"/>
            <a:ext cx="2286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43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46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49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52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Rectangle 19"/>
          <p:cNvSpPr/>
          <p:nvPr/>
        </p:nvSpPr>
        <p:spPr>
          <a:xfrm>
            <a:off x="1230480" y="539748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80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2579040"/>
            <a:chOff x="1123920" y="2336760"/>
            <a:chExt cx="2049480" cy="257904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680"/>
              <a:ext cx="2049480" cy="1320120"/>
              <a:chOff x="1123920" y="3595680"/>
              <a:chExt cx="2049480" cy="132012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2601000"/>
            <a:chOff x="3770280" y="2314440"/>
            <a:chExt cx="2049480" cy="260100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1320120"/>
              <a:chOff x="3770280" y="3595320"/>
              <a:chExt cx="2049480" cy="132012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2563200"/>
            <a:chOff x="6416640" y="2352600"/>
            <a:chExt cx="2049480" cy="256320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680"/>
              <a:ext cx="2049480" cy="1320120"/>
              <a:chOff x="6416640" y="3595680"/>
              <a:chExt cx="2049480" cy="132012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2596680"/>
            <a:chOff x="9063000" y="2319480"/>
            <a:chExt cx="2048040" cy="2596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040"/>
              <a:ext cx="2048040" cy="1320120"/>
              <a:chOff x="9063000" y="3596040"/>
              <a:chExt cx="2048040" cy="132012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69720"/>
                <a:ext cx="2048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7960"/>
            <a:ext cx="2049480" cy="3530880"/>
            <a:chOff x="984240" y="1767960"/>
            <a:chExt cx="2049480" cy="353088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7960"/>
            <a:ext cx="2049480" cy="3530880"/>
            <a:chOff x="3719520" y="1767960"/>
            <a:chExt cx="2049480" cy="353088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3523680"/>
            <a:chOff x="6454800" y="1768320"/>
            <a:chExt cx="2049480" cy="3523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56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3546000"/>
            <a:chOff x="9113760" y="1752480"/>
            <a:chExt cx="2048040" cy="354600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5-09-18T13:15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