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29DF3-E496-4ABF-BFEA-F0BE79B3E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BDB90-C85A-4919-91E2-2901764E3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7065CA-1845-4EF4-B5C5-96378C5B50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2EE124-1B09-4AE2-8795-0AFDD1CE03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2E650B-E175-4C2F-A683-C214EB8EB7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E5089C-73C1-4A01-99F5-61661A49A2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592821-C86C-4FC2-A33B-5E51122F3C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3A733C-8ECC-45DC-902D-81EB7A5FC9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588C88-718A-419F-BD29-49F1BEED6D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97792A-AB75-4B4B-8F9A-7E00CC2174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BCD371-92B1-4CCD-93D4-27D4C7DF58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D551B6-9D79-43EC-8D8F-D2613A1925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901E8-E3BA-4890-B580-FC6227177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DE6C25-1463-40BB-A183-2AE4F5FE28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D2B5D3-A06A-4B55-8A74-6B839236EC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E4D355-E645-40DD-AF57-291E081BD3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6B2A52-4DE3-44A4-9A16-CD97B57860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E7D69A-02BB-41A0-8236-06973518E8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A6DDAB-6DD7-47B5-83C9-C059939968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299F00-E69C-45E8-B320-32407C7E3C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5F3F0E-1566-482E-BE1F-3A1A2FB20C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FCD902-BA10-4670-B36C-ACF45DAF8E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D28228F-3A18-436B-8864-5E64089E2BF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F797F-2D86-426A-9497-2A18739F5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F04D15-0376-4FEA-8354-BF1664F13CE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BDACDA-A5EC-4F15-B986-B719323689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1A6B8C-5BB2-4D32-9E6D-65FBE8BB94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CB815A-D9F4-4387-9B81-DB74DC9D3A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E9A227-D650-49D7-BCE5-3A0F2C7897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EDF037-CE2F-415B-AB6D-D1D3CA3031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AEC1C8-AB26-4397-89B6-3E85373DC4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23C4C3-5D78-4E3B-AB77-C756126C33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997102-F48D-45B4-A523-821B489027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3377FA-796B-4E6A-B300-D151138BCB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25F9F-5EA4-4899-939A-6E104F770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AACE80-FE45-4F6C-9B79-E4F85B33AA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55B039-4087-4D1F-8E14-9B40815425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7B3482-5E5B-412C-961E-6F0B0A5C50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A00BC2-1C80-4DF8-8E2A-A4B6C4AF8F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EB47BC-6B88-4099-BF11-353BEE5CEE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06B376-B2E4-4BB8-84E1-90B09D3E7D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86E1ED-4E61-40EC-800B-E1B417115A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76B70B-1785-4141-AD4F-5DCA0B8221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144D48-F29D-4B1A-A6C1-D7AF3B0143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152C08-061F-4F50-85DC-E54A32340A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7F4DA-15D1-4CE0-8D4F-4E19BFDF1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4B2701-D212-4746-B8DD-D3403610BB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1CD3D0-8B27-452B-9792-048DD0BD83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5A9B9C-6C37-42CB-BDDC-56FF752AB7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FDAE14-A06F-4E09-B7A2-C905A3D4007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153086-5B1D-4543-A619-69694F84CB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FEEB547-ACDA-42F0-89D2-9A2BA848119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A174F6-0CFD-473E-B710-B5FF9731CD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86765E-59FD-4C00-8480-E3666EB6C2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CE2D59-28C7-4B98-BC33-52D857B801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7711C6-DCED-4E65-B8A2-6BFDE67DC2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274A9-5366-4F28-93F6-19508CE4D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AC9E1E-50DD-41BF-8DBD-44B98C7FEC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BA618D-243E-4EBA-ABBA-4D15BB90B4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BDA5E8-7445-47E5-A681-9755FCBF0D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667103-C5E8-4716-8E70-30DF22A16D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C573B7-9222-404B-8490-5332CE6349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91EF543-0CEE-4736-BFF2-F17A59DD6F4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782C992-DEB6-4156-A886-6452AD2580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C67DF68-DEED-482F-A406-C00B4BE36D9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116A52-0021-4EB9-B061-7BB1E95AA9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54A9EA-7CB9-4CD9-A4E9-23CD3CA7F2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2790B-499A-45FA-9B92-64DF09FA8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B4480D-001D-4289-9B2C-47947DE14F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B0F077-77C7-4373-A211-D0C556A29B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F8A130-D792-4BC7-883C-CA6B67F21A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0E3CE4-CD5B-471F-8A90-9C9A08726A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83297A-D0C3-4A1A-846A-773B0B6B0A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F79916-BEB3-434F-A10A-FB117C0D53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51BAC0-29EF-45FA-90A1-62428CA6C8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B287184-9C3D-4A38-B1CE-8AE781C478E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5661658-0FF7-4A66-8BF8-65E62B61A4E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90976B9-2C0E-48C8-8A67-6F9CC8C84EE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2B5B7-AE25-4B56-B7D5-F38F67F96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AF1575-9B97-4DF4-BC7C-F30FC654FF3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841D531-E172-44C7-944C-B90427087B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474FEEB-0E9A-4BF1-9D70-3DDF4628CD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5F2F86-039F-4C87-AF27-F7451C231FF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98BDA4-BA9E-4F4D-9DAA-AE3F29E409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D3D879-BF0C-48C6-8432-95CF209855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5009BA-3D5B-45D6-9E2B-9982CEBBF0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9F1DF9-8B9D-48C0-8B39-81F1FAAF79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CD3B91F-3A8F-4E05-8919-335B611E91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0492F3E-88E3-42DF-A041-692B2C8B0FB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06A63-6E25-4A88-9462-5CFF25DEB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F3C9A14-FF2B-453C-83BD-E132513B861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EA16517-8278-46D8-8A22-E753EA3EDDB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2CC619-3BE7-42F3-A6D8-67E78F3A0EF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CE0B896-1843-4045-8F62-9123CACC800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FE5931-3A74-45F4-B91D-5627199FEE5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6123F01-ABD7-4C6C-9B43-FDB62CAA33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D96342B-0F98-45CD-9F52-A36871B38D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1B14F5B-E26E-4981-8457-8955D2FAD8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3ECBE3-AC3F-49F6-8718-1F1C046CAE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A87B1B-D980-44E7-9AAE-F526B36963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00818-DD53-4F90-95C7-708AFF3DB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CE50C9-350F-4879-8399-578A7F0FA5D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3AA34B9-3481-4750-9A70-66C792935C8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93525CB-5079-45FB-867C-629C4E46FF6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E9485FB-F7F6-4E8A-8A02-2F2F40A79F1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118312A-BCEB-465B-A41A-C505CCBC1F4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4CCDB07-1199-4639-B886-CFE2BC96A77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75A1AE4-CBC8-40F6-AEE3-12E175FD5C8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2CC71FD-4FBF-4444-AE20-8FAAE04AD1B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612F09E-BBF0-4DA1-8145-F2B9DDA7F3C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E43C4DB-5D9F-44AA-8B8A-6AE72336A7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77361-F0A5-42D4-9012-12921ADF1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793C2-3B92-4FF8-9D92-8A3AB9362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56AE77B-264A-404F-9DF5-49C810EB2B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D3D21B-E3BB-4CA7-A253-FC36B8B18E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A0053B6-C744-4D50-A0C3-8F9AC4BD9CC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2B1D2E9-53A6-48E4-9AB6-B1E66FF10AE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BEC9578-765C-48BA-B915-940B3BB17AB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BC94252-5E46-4D0A-87FE-2569429367A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2023E77-96AA-4056-B206-D0893E7E1EB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5B07A55-1A8C-4D18-A36C-AABEE3C501D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68FCDF9-55C4-47BB-86A3-B489A17ACA1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BB9D4B3-6F01-416A-B219-90DBF58E527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1B99B-1A29-46B4-BB36-659EE7150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00314C-150D-4EC9-BE29-25CF0118919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934ABE-C93D-4267-AA5E-44A1AF72FB9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583E859-574E-4C54-9444-97FA90C14C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68A7D4-FA0C-478D-9BD8-0A33EB3C45C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C7F7305-B53F-4E6A-A6F8-2DA17305CEE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646FE1F-48EC-45C3-821E-555636A5B77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CFD40AF-318C-4BFE-B5AE-DDE04D425F2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3E4D385-7381-4B31-8A1D-D2EBE4A1A79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2DC903D-E824-4C2C-917E-4E790535009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75A958E-9DE6-428A-8A34-02FA759F972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EDADF-1A3A-45A6-89C2-8A6134EA8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A3B454B-C9FD-4E7F-8AED-B14E6F153D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76D238E-9935-42DF-8549-01538FA14BB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44B05F1-379C-4763-A9BD-35AF6415DFD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7371F23-577A-4043-990C-2BD305FE4FF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2B2D2A-D59D-4273-B546-4CDEED80E96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7579483-39A6-46CA-8E1F-4C8AF5D5B82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3621767-CAFD-4B6E-9AB3-E2F1EF7C974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8977DCA-2433-47E5-A991-3E268EEBE06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B07752B-EB6E-46F5-AAF9-8E9B2A0B83D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5E6EB07-746B-4F33-BC18-CAE03009C8F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1D308-8EFD-4564-8FFC-B33D40BAB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171E1C8-0C89-41C0-86FF-C1521FECCBC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B665C9D-0740-4285-AD91-572605340AE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1E7A4EC-715A-480F-BCE1-9C14A5A6C7C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A114342-8068-4FFD-BC5C-E0A89D454DC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003CC1F-DBEF-4BFD-8046-5CC1C6F9F65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CB70607-05B8-4091-A833-CCAEFC73DED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9C1A888-27E0-4DFD-B2A8-D8FFA76E6B3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5B2012C-9726-4F64-BBA6-85C7A4D7E9F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4A434CC-55CC-41F5-B126-970AF272052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3071C8D-3D25-4AA3-A608-A8698E901ED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84918-E3BE-4E2E-9EBA-BC75F5EC3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226F79D-C385-4E1A-A84A-AAD7DACFD1B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B093B1F-65A1-4F16-AD4E-2CBE0C5FDC4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3342FC5-C6B2-4043-A891-23F5CDF79B2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36CB192-80D5-4721-B097-A67543F9EBC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2336EEF-F0C5-41AA-A7B3-A246D28E47F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D4B733B-F7B5-492E-9BC1-AD739667F74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440BDB0-B3FB-487E-B4D4-B29145C8F35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CFF7A8F-1973-4761-ABF9-AA04D144690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60D3CD4-6367-4716-99D0-4B49D4F2776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BB0DC0A-C4EA-4B73-A87A-299F19877F7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EF8142-BE04-4551-9870-7292718BA1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922F6E0-F54B-455F-88A5-110AF02170C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81729D8-DB9B-4FDE-AEB5-C0B3F8CB361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3B0488E-6DA3-44C4-A43B-28A76CA90AB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16C8570-EA9F-4252-8A36-53190E86183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CF91583-4C06-4974-820B-8411D5ED5D9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0188AE7-D28C-47B8-B1A9-2BCD435EF0C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0675217-004D-409D-B0CA-A58D513B776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53030D5-1BE1-4C69-A244-5BEE214BA2E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4147579-BB66-4B56-A1B0-9E5C56F95D2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E156764-E415-47AE-A6EE-1E972B3E363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95371-8AC5-4352-9E3A-4A5DDEB92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EA85E86-6B91-4B09-8284-F9CCE8C2DB2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85CA949-3540-4A67-8D57-69FA2C5A15C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28567A4-8250-4C6D-BE1F-BC0D7D491FD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756EA92-4603-43E0-83EC-18B85CEE5B9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EDAC59F-9887-47EF-A575-5BA5F85F75C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A3ECB43-D550-4FB3-AAE4-B01C9F58117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6D77B41-C322-413D-A318-F791C2BF191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E680432-9D95-4E2B-B72D-2818A04FCF8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1FF93FB-CB8E-4425-A4A1-7EABFC343F8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BEDEB46-D1C4-4663-A425-AE0E227D16D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CA0A5-5EE0-4511-8D1F-AEFC4CCE4F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EB12E9D-3BE3-4D83-918F-9738A1613A0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5B50D22-A27A-47FA-B49C-2E9F98ADF9D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25765E-364D-48EB-BE8E-CACA6295407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6896BE9-9611-4B8B-B699-46801BD17D7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F7B7339-84D6-4751-B09B-38CF33A4EAE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215FC34-0FA4-412E-A1F2-AF0BE7EE0F1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A7970C4-56E8-46A7-8B07-3470A756F01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C82353F-E187-4137-8F7E-44A95F6C10A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A52E53A-7956-480F-A6DE-EAA3CF6B590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B0A5413-708E-4719-9CC1-7DD9D8B7A79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FE1E0-5128-4A9B-98E9-4B443C97E4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0C5D5A8-59DF-42C7-BCD9-82B585A6BFC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CA76C5D-07FB-46FB-A649-AF1E1E5F371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8718BDE-E5C5-497C-AE06-3EB3514FBE5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564A3AE-8B2E-4E83-8293-676C8BF0ACA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C7F696B-A252-480C-A3B8-E5DF2AD9550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124402D-58F8-4DB4-95FD-0B325E57A61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E0B8D8A-6134-41DA-892F-EB37AD1F4C5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BA4A72B-87D2-4857-ABDF-98371626C58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2B11ECF-6645-40AF-A98F-7A97F808226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F4748AD-5021-422E-B1AE-C127EBCE850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749BB-C0D7-4D8A-BCF5-A0184A85FD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41E2899-FADB-48FB-B76C-23A149D7845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9D6AE65-1F25-49C1-BFA9-ED1682D3588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5E00E0B-5C53-46F4-A394-23D3619F459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70A6C17-DFEE-48FF-8F01-AB17C0B0604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AB53010-E9A0-436B-B2CB-3DCC5A407B4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DC71DDE-5D3A-4E68-9D53-B1C47679F77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BA775D5-692A-4775-8E63-E83FB65D596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7892133-89B4-48B5-AB67-D60D662C841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1729AEF-42DD-4F1B-945B-F14054315C9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3FDA679-08AF-44ED-8C34-974A6EB06E6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E7AD8-9662-4F45-900A-6D1D55BAF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19C94-EF44-4ED8-9A23-4E357879D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BB3C08C-048C-485D-8285-1AFA2379F54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097A13D-27C8-4C74-8C96-A2A8B01ABC5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4391853-6CED-4747-AAD4-A3A8077B442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8C4A782-AC44-4834-86AB-47438561A89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02AE3C0-18C6-43CE-A39E-DA4F1B00855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11CCA85-F60F-44F1-8F60-32499BC0276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A1A563A-0DDB-45E4-B392-02762E08185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8497A1B-7075-440A-97A3-B969D75CA92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2855EA2-59FF-4DCA-8273-30B9F595797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21A161C-C049-45E7-BEFA-A25D833D4F6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8E65E-4D26-4806-8343-C9BF846A7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8B7AB1A-96D5-4592-AC1E-3F2C6C1F738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59D290E-4E81-43B2-BAF4-43926812FF1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3B55951-BDCC-4816-A125-138D29ADFA8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15C2E27-4F31-41B1-B73D-42B466E6540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7DE9CFE-A419-4383-B78D-E21BE30E5B4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C63CA61-A199-41EA-86F9-BD73E0A18CA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F65FE19-1F5D-45F1-A995-B6D44387579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C7AA14E-7EB9-4D11-958E-62EAE8995C1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ED45E54-A21F-437A-A334-8493D69A5E4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448AE26-5553-438C-840B-7438F5A5451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D0542-7340-4A9C-BB7A-42F8B9FDF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FB73F47-CAF1-4BD3-A971-85035CBE00A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DBBCB70-E8E2-4A2A-84EE-58A1EE998B5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E8A4352-89A9-416D-81BD-4B74E769B43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D60777B-F36E-4D62-8DAA-071026433BA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E0C15AE-544B-42FC-801A-49C217889FC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801C35C-DC71-46A3-8FC9-0F20C315E91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DE6DDF6-BBB8-4965-B2F5-73B06029BA8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C3A6A12-A776-45BA-9663-518FF8CE7CE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88CC932-089E-4D1F-87C0-729599CBD88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7323D62-1D7D-4A50-8835-06E15CB5681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55340A-A444-48D7-A96A-2816F877E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6B49D27-1001-4F9A-B17E-A06F653C845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9FBB64B-BF2B-40C8-BE8F-1D8CA7880D7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C9D0EA4-BDBB-4323-A1EE-429A19778CE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1268B0B-80E8-440A-9445-7F0A5114475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5898C71-1964-4F21-A6EB-C88FD19747F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9B840E0-9287-4706-8966-9F61A0807A1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9FA8FFC-3A06-48CD-924A-20407728480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24434F5-819B-489A-A441-0095E85A429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27DA1B0-4B09-45C8-85A8-A381B81E069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C9A3935-BD65-43C8-8F79-E11EC257A13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23A4D-F263-4828-97F6-4D5D8EED8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15AC89B-C6E7-4C9D-BA66-AFF12C8A513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5F680A5-BC0B-48F9-A2DA-014A3663B44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1A50BA4-4CCE-4452-8901-4B45D1070A0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287FFBF-0F03-4B66-8C32-753E53840BF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4831FA2-C193-4115-BC61-96831AE53B6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8EFBB0D-B4E2-4951-8F52-5EAE3921750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FA100C8-8A24-4532-BAB4-693264755D1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1DE5201-29CA-446D-913C-557E4541DD7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EC36F3A3-1AB1-4FDE-B441-655D04088F3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F7E5A75-79BB-41C7-BE7A-FC505F4CEF3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55C47F-F634-4B3A-9397-76BF835D5A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2BB66F1-E76A-4CA4-B5EB-14794A5DA04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F7FD445-A08E-4186-A8B1-B970BA9A9BD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A83AE63-ECEC-4FB7-964D-DDAB80A6115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43EA48B-FCD4-44E3-911E-3D501FA7202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785F5F3-504E-440C-8B74-AED1E4FD114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391643B-59FC-4872-B20A-405BABC1B1D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C4A36CF-1ABB-4C79-8B44-C5FCBEE34E3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AF574C5-C92C-472C-B357-1DAD2477328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5077FDE-24CD-40C3-BDDD-FBAC4CAB32C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52B03EC-5866-4E95-A624-4B4D9483C3F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5B4601-794F-41D4-8277-01F86EFC08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7D3288E-3113-4461-8610-87EF744000D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7D16035-CECA-4D67-BE9B-9D6BF1CBA2B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3E6A97D-C595-4E9D-9B1F-A205E73237B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2D587D7-A4F2-4499-851A-BB9AE247750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6E288C4-DBDA-4958-9263-987BDA61BDC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1F13202-8E09-4218-A9AC-6416EBBC671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99E4357-4837-42C8-8CC9-A146962CB8D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BD100E0-6C2C-4F31-899A-6986014F87E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9CD33C3-B033-4DA3-B910-00C35B97EE6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3206DB4-88B8-4321-B481-EAD1B1D3BD0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62FD48-041A-4B85-AA36-C802B7F255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1479D37-5C4D-416F-8F09-2ECDB756CCA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AB6329C-7857-4C7F-AE18-2FE315606CF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91DB592-5069-433D-8291-935E6060DD8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7D7FF22-FFD2-4532-9DE9-B7065ED301E8}"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2EB1A08-FAB9-483F-89E2-0C7B1DA2373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0CF1E60-46F5-445F-B307-5795F2CBA9D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FB73139-BA8F-49C8-9967-2EFD8850E1F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EB33F94-267B-462B-8FE7-84391E8EF1B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AC8BBD6-6713-4E5B-ABFF-D9872D9320B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133062D-BD9E-4332-961B-4817753A4BB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4A8FA-FEB7-488D-ABE5-98FE384B5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484D203-4B15-483A-A492-19ED02E509D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636C0F6-EF7C-4F28-8722-912D71BE477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4FCE44A-A136-4457-928C-9498B0B93D2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532FDAB-04DA-4CF0-B60A-CA917590443C}"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7003F07-2D29-49B1-9551-6574D6BAB4C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716B238-1923-42D6-95BA-31A3DC07F3C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F1F3897-484C-4B7B-8B88-3A78D4DB513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E38D3AC-4AF8-42D2-8E6E-5F10E40A33C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61A69F8-3459-4C80-8EBE-B8A2DDF5A7A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7BA0F56-C0FD-486A-AB14-50CBBA926AC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178959-8CB2-4BBF-A3F6-248793A9F8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EF77400-F03F-471D-B2B4-A4E2FD88B6C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0E6D0E8-E2CF-45AE-A332-6FC91DE1417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1D76392-676D-4B01-B458-60DBCA81D75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8B6D343-BDD2-43D0-B345-833E41B3F2C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16C5C22-622E-4C13-8EB9-84C4828F8D3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32FBCAE-9B36-4EC4-834B-640F217E3E3D}"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64030A28-82B8-4260-A719-5B0C382240E4}"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4BA77AC-041F-4A9B-9201-3555C7163ACC}"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494ABC0-44A1-411E-9EED-3CE979EF264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92C67E0-6026-407B-981E-DD84BC4451E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2E5AE-D516-455E-AED2-8F12F1EEE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571021-D940-4F06-827C-36A48DDD0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56CD705-AA70-4532-A95B-C6A37A2B0F5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CDC5DDC-4DD6-4422-918B-5254217EE45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95F4F01-8935-47ED-9C39-7B981C09208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9799D9A-2B19-42B5-ABD5-FD690858CE1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B88091A-06E2-4157-A911-A3C7FE1FD9C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8892764-4150-4789-88E8-6D0C99114CF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0D02EEE-D967-43AB-9A4D-AE16759FA57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D8278A71-D7E6-4E57-9D8F-08C07C020FFA}"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F2AEAE8F-4099-41EF-8E46-2845B2471AC1}"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D83A3A9D-D0B0-4FE0-B928-2E437CA594C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15B3C-AB81-4774-8386-198908AE89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1D139D2-540A-4288-9CBD-F05C7F092B1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F1343C5-4FB1-48EE-8DC1-BE47167AA59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A9A443E-E51A-403F-9FAE-2DBA9C1B805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C9F3527-59FA-45C0-9436-207029128FC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DAB38E1-D7EA-4EEE-9478-38D4491494D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F1A1C89-FA0F-49E9-9BCE-20E0AB2400C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894D3AA-DF45-4EA4-AC7C-E33575F6246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AB610E9-0BC4-4D09-83E3-76BBB7E9828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04E36AD-FE30-4B28-A921-79EFB799989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B011EE9F-3B3B-4E1C-AD98-D6128749011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F3C2B-F50D-45AF-906B-DAC7979764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C72B7FF1-C907-48FA-9F1D-3B25F3DDDAC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4661FFE4-09BC-4B8B-A56A-35B8F154CA91}"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8C646C5-8E61-4C86-801D-B9C1B25498F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BD487CB-BD03-4E94-A266-3B13348BDB4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475E625-35C0-414E-A0D8-7EBED5F73FC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4A31C4A-451E-48A7-9F7E-C37652D7A16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E147054-2EF5-4468-BD20-741F5B4BAAF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A67F6CB-5321-4C50-B195-CF5115DEFDB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CEF40F9-98E0-4EA7-A4F7-DCDFAC000DE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9FBBC33-8998-4F14-B493-5C26791940F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C2B48-EC0A-4400-AB25-A7FDCB154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F198681-3E48-4FB4-84CE-F80A83BA5D3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B97FFCD1-73DA-4AF4-9F29-2CC974DDBA2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B5B9008-CFA6-4027-BEF2-951697760CC6}"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07B62135-F219-4254-A689-C0078EC129BD}"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BB34B30-FF81-40A3-ADF1-A234FE6E196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F110973-DE2B-4FD3-AD1E-238EE42C74F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475EE37-3494-4ABA-BAFC-3AA272651A6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73561AC-BE8C-4754-B2E3-4273934EF49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17C6750-EA42-4615-B758-A7BC7BE5D48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28F98E6-746A-492F-9813-554216CBB63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72D49-6B82-442A-B26E-724CBF2875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EEF65F0-485F-4AD3-9478-F68AA21AF23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74E788D-55D4-4AA6-84B9-DCCF44085C2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58E26D5-F49C-4440-A721-BA61580E4C8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E5E20A37-E41C-4315-AC0C-A27EA41B56C7}"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56630304-FE32-4546-B64D-542B202B3AF4}"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4FF9BAB4-E15B-463F-B083-9BF6F99C851C}"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D55E6DE-D835-4F6D-A8E7-27EFD5316CDC}"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0C8FE77-3F01-4D2B-A54C-8B6F8779D9B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AC096FF-AF81-4A12-9E71-13ECD572238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0BE9DEB-1E78-45D7-87CA-D75215046DC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26965-8F89-4566-B576-226201E54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4C39404-3864-4E61-909F-7F7ACB3DA4E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29FFBA6-ECEB-4D51-A2F4-73274484CDA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C5B1D47-6973-4A8E-B21C-EC2D62BF60F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80C43A3-0B9A-4314-86AC-39C7FEEC00F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F481763-875D-4969-958F-928DE1CD51E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8BFF982-FCD1-412E-9466-86DD0331FC27}"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01BD765D-D2FE-40BE-9D61-5AC762282C83}"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4EAC1CAF-BE3A-4840-966F-E9BC8E7FE28B}"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B1E17BA-7C20-430D-95C3-601F96B7175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A3634A5-29DE-4DC9-B9FA-830E3F4EA48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9DA939-50CB-45A2-8AF1-2B4CCB32EE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2A154D5-EE05-468E-A0B8-74DA5E48E23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0B2E73D-0B18-4DF0-9FDC-EDF63EA57E6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66B56C2-3953-43CD-B15C-AA15850CFF7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67275CF-676B-4756-A4F4-6533B1FEC0C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4F042D5-5E1F-4852-ACA9-5559161B60B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E958DC3-1344-4B55-AC58-FB27C1A18CF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15E53F0-EDEA-44AA-9492-C69241A30AC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88F5424D-15D7-436E-863E-3D5259CEBB7A}"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C0B36046-A057-4150-B51F-4A83B395B6C4}"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9FE3F8E0-2353-4A49-9020-6D9C945DF32B}"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7468C9-5D97-469C-8842-581D864B8C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DBB8D143-864B-4FD0-A258-8845C8DB8EE5}"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7D822FC3-4AF3-4C57-93C0-D1A338B0BC2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1ABF08A-7043-4313-88C5-CA4246E0DFD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2E93CCE-AFF5-4ADA-8E2F-8128CF91926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E825B70-4EF2-4D29-96CB-FBEBFE1CD28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AB55866-F9BF-40A4-A7B7-5E84C9F5022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AD54179-379F-4CA8-B0E0-8F1638A9B64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F1CCAD9-6AD7-42EB-849F-382BD53C471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E1F23FC-A7B8-477B-B6E4-DC4D29E2C21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103CAA63-83BB-45F0-AD4F-62FCF390B2AD}"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C29E50-1CFF-46FD-B121-BD4F6FC1CC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C42733D-CC0A-4CDB-8969-562658C556FA}"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BD63DCF0-AC0B-42E4-85FF-C51C2B26F833}"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F240F3A-5149-4CE3-A1F5-3CD92E7F1C41}"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D3690C2-0F17-4CE7-B015-0189F7DFB31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8A47E1B-755D-4E17-BAAA-5A853B41454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7F62719-EAEB-4ADC-9043-91AA1114B1C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4EB9675-6DB4-4F46-85C9-5F8C14CAC18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92BB5D6-B5DA-4CBE-8D05-56703289AF5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8C65E5F-9CDA-49AD-AF83-CE144D208D4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1FDDCED-6D3D-4334-80C2-8A66A3A6EC2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1CF4F3-FA25-4BAD-AB1F-E386865253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C4324D1E-C098-44AD-8C32-A393C97976B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4D8891EE-96F0-4A9D-A889-A3DBA021907E}"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9F75A7D3-1C0B-4E69-97E7-E2449F817573}"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4246A275-8ABE-499A-826E-70D533A3D5F2}"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3D06907-9F40-45E7-A2C2-8AE207A3926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17291D1-7BD0-462F-B3B0-36781FA93E6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B99891A-E3AB-46BF-8C35-DB18CF7EC4C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E27A31D-B042-4193-860D-C07E1DC7FBD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54CC643-29DF-4DA4-8555-AF18BBFBA8F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7CB3EAC-7E21-421E-888A-1C4D3FBA40C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ED8B3-03B0-4603-82E1-18842E64B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3AA859-05C7-46C3-B98F-C3A5E40B39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643D88E-2D4C-44F7-BC6A-140E601E614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E0F123A-0672-41DD-A715-77CAF58E1B9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8B88086-438B-42F6-B6CB-5D8E6366B9C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490138C2-DDE0-4FF8-A63C-76B44C5172BF}"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0A590B92-B810-4B0D-8DE8-5C9AA688F5E5}"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80C3D5CA-70A1-4350-B23D-E89A43722E30}"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F720259-3389-4986-A580-3265FDF99A0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F315F2F-47E7-4D92-966A-19560C311CE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F9BD900-288D-4EF7-AFC0-A15D8C4A3DA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9D9ED3F6-8F0C-49B4-B88E-D4D016E29886}"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01303B-2BA4-410F-BEDB-F5D0B654B1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A9C2C74-98CB-4F17-BCE5-AC5F31ED5197}"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993A967-D9F7-48C5-B9F4-E111D0F0855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A82DD81-0BAA-48F2-B565-15D51166F62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D760292-BD42-4BD1-B64B-AA681DF1BEE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EC25698-B072-43B4-8858-4ED92B3385E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8E93E821-3393-404A-AB37-DA659454A63E}"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C04CCEEE-B6C4-440F-B163-0E65C6A7A6F5}"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CE4E6D9A-2B99-473D-A269-CF9A2AF73CC7}"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88287B45-B4EF-403D-AA25-BAADC8B82B4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855B1A27-539E-4A7A-800F-62DE9562824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9E9A5D-6CAC-43BF-83BE-402FBEBDC8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B491422-77D3-45BF-97B3-9A1237E1348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D1B1E54-6FFA-47A1-96FD-58426D50ACB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63AF6B1-C7DE-4E6A-8FFD-C7FBA847230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781B423-1AA6-4A9B-8098-D95772BABC2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98BDB32-F5F6-455D-9AD8-628A385E85F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780AF9A-025F-47D3-BCE0-9575CA4787A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5A7386C-AD4E-4DAD-9E7D-8CE2A21AE00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815BC32-7CFF-487E-8073-D0C48C269EAC}"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3CE5D65-8939-460A-8D5A-3030C3034D65}"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9C3934E6-6E33-46E1-ACE5-D85D864A53E5}"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58C4B-A1D0-4636-BC96-2DE240D690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50CFFB4-911D-4D2D-A6BB-5DBAE3FBDF1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761B2223-0504-4022-BD09-5B3F4631421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610E8684-7916-401B-8B76-A952524359D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3BAD519-A074-4310-BAA8-142834CEB95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FC08297-0E31-49F3-ACB3-B34F1A2841F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394197E-BBA9-40E3-815A-C850A2563B1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145B28E-B798-47A2-A374-5E1CE107C82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A7B6D56-1756-4DF7-96DE-67E470F54F9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69F75A9-A044-4514-B632-46A364467BAC}"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BCCCA0A5-E44D-4CBE-B7EA-3F28A79CF5D3}"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7AEBE-2141-4061-A07F-EFBC00E7F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3C20F2F1-17B6-4A3E-9676-25747764D60C}"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B3A90A54-C799-4EB5-80E8-8E3AC0243897}"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8226380-006E-4DE2-9991-439DE54C428F}"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B7803DA-B091-4107-AE92-4983418EA2C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F9393B3-FBCF-4833-ADBA-D2B08F21D93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CAF976F-4113-47C5-AC62-DEBEFA8F116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B7B2FF1-F3E8-4BA9-84F5-6DD45B0913E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99D4A01-60CE-493D-B381-99E672E59A5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178D53F-5D5F-4CB7-ACA7-82D044CFC98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39D73F2-DECF-4089-B676-7D6FD8C1849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C35C9-FD3F-40DD-950F-9A258915B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55002F17-4923-4760-8484-A2C180DBAC5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1621AE81-BAA5-4F69-8581-2E7D0F1E2FE2}"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EA4B228D-5C47-425D-8A95-C813654989A2}"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8A9DB09F-4827-42B7-A38B-2BB38B47FEB8}"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10801EDE-E049-4627-9C3A-F119EE5EB56B}"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3E4CB45-B5A4-4B5E-9062-100FF535ABDB}"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47B9434-837A-4C22-912C-B0BBA03A76F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F04F734-3DF6-42C3-8C0F-EAD8D2E81D5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EDC54D69-6C3C-4BF4-AD30-667C2BC7AC3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9D88844-8973-4389-A4E0-72B70D6DC05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EA15B4-8698-495F-9790-83FC6E528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7BA505E-47B6-41B7-8417-45518B315B2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083BCCF-FA9D-4E30-B195-EFB088D5F89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4496E518-63EA-478E-85CC-538B8DCB6DC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B20855DB-92C5-49BE-9380-C7960D9C239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A7E8B5CC-B7FB-4DD4-9354-338362956A21}"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D1B51021-D233-4D00-A09F-A2144F21D155}"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F217D7B-59F3-4996-A824-7F3B20A1623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75E4304F-CCB0-4C40-8A7B-BBCA550FCC3C}"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EE3A262-D9C1-4035-9C9E-02C1E11624A3}"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5BCB7198-B883-4E77-9182-BBAA31710318}"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76D13E-8094-48B0-814F-A6072F238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602C1C13-15BD-4167-8F24-940BEB3FAC7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889A9E4-5719-4B75-9963-7C0402AAB22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3FDF6EE-EDB8-4E25-98C8-A706097C85C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F887A91-F5B1-4309-93A5-0406A648552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0872C47-6DF6-4D8E-9F17-AFA76E86A43B}"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18AF54B1-6B02-4340-9888-D1949E3BF271}"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008B1F29-4B86-476E-A464-2B5C5F3D3F13}"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9817FB-F4BA-4F34-B21D-38F0BC40E5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8343E6-DF76-4249-9F57-30ABDEA789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14E0E-311E-45DA-BBAF-7CA1303C4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4CB006-E5CD-4C01-8BD6-A671A68474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D3DF49-B7BF-4909-94D2-0782E342A1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D42CA-5E5F-4B8E-B7EE-2D7D37C9AF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D7747E-B92D-42AA-8169-5CC20C7720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703B3A-54BC-47CA-8D6D-70A4118B5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8351C1-B379-4D9B-8A75-090E31977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577188-A27B-4AFA-81E3-0071DEA861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7FBC9-21B3-418E-BE4F-B66164F7D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1B04C0-89B2-4FD6-80D0-4F8B3A4117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F9BF1D-EC65-4DAD-B2DE-960C2E95DC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744C7-D732-447F-9BF3-994892AB0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AC06A5-B4B1-4EAA-B12A-917AC678BD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554015-3107-43EC-9D88-45E85B0317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DDA9DE-5AB7-40DA-A034-1A4C712E26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F5801E-9632-42F4-8D74-4FA2E27279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4B18D8-F7A3-4815-947B-CC321D8FBB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5AECC0-8164-4C88-8475-6DC0CD7D3C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064281-B006-4FE5-9DCE-D3BBCA4A72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3EE95B-063B-41A4-9FC6-07FD41AB9D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9A79F3-924E-4F32-B45E-5AB0899340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3DD83D-8D4A-411A-B388-F100ED9471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66D9-DD7F-48E7-841E-2950F1F1F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D448A-4C93-4FD3-A3EA-F5337A512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973410-A8B2-4465-9A13-A28D6CB44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ED9094-442F-4AC1-9061-77F5F86E65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BA0E37-6743-4742-B6D5-6685F3C9D6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3D8E78-0CFD-4C4F-8EBD-F58DF8F7A4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BADDB4-9AC5-4D2E-8CAB-728A588628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ABCCA5-349E-4A97-A305-007A8D6048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AFA9EB-932D-460D-9B39-C31F0BC605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338BE8-2254-4C91-9F32-973752D106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208240-47E8-4156-81B7-E0AA2E3843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22F15-08FF-4A3C-8C81-D4A168772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2311F4-A49C-4F9F-B7FB-491C9AF46E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E8A39-B975-415C-A4A9-14B577092C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843647-7B6F-4375-A0A7-B04870ADCE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EEDFDF-C0BD-4A12-B5B7-1151CFE3C2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CBBF43-44A3-4547-B4E4-D52AF8E8AD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64D28C-FF9A-4CAB-A5B7-50E881C65E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FC3FFD-9BB6-473E-94A6-8CF8C25973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19AF2F-D24D-44D5-B19B-E77AE7C600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52BF1A-56F8-4928-B146-E5179387F6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4ECE1F-5943-4D3E-BC1B-8FED3E9477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5218-9930-417E-8CE8-BD69CF697149}"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15D1-68AC-4E12-8AA0-47BAC728254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54FF-719E-4A6B-B017-015E362CD93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750D-EB00-4EE2-9EE0-457DDE8CA6C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DEAF-4D7D-4E5B-AD8B-FEDC11AD70A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2911-D0E2-4AAB-B844-58B9EC18390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E8EC-2247-4F3D-9742-E2929D80DD2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9649-559D-4349-8FDB-FBD273E14DE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A68A-2133-4DF9-BFFB-6111F4AA641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A9EF-EDFB-4B22-B13D-CBB2449E52A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DC6C-5286-4193-A701-BF13DD56366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54FA-1E0F-4E91-BD99-02A55667AC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ABCA-F049-4F70-A867-A27575CCC58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6D55-E584-4827-93B8-4CDCE55E7C4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0436-B03F-4A9E-A3D0-B9F68DD5AE8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F5E4-190B-4CAC-B083-E225FD6092F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3A65-969A-4A2B-A2F5-C946852B82E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C93C-38FE-4F1F-98F5-CB1A85AD159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9E74-B514-446E-86CF-088C65F90C9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2C58-5C8E-4318-9724-62369FC69E5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3378-371A-4E2C-8620-03D0BA82442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3EDA-9544-49CD-A60C-F25A341F5DE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C078-C9AD-427A-B7D5-8A6602751C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DF3F-474C-4916-9F75-5D5F244D6C6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CACB-183E-4CFC-88B1-136843164F3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9EB3-99CE-4CEC-9766-CBE7FEF333B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AFCF-3C6F-4FFF-BDA7-234DD42D1BC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C98C-10B2-42D1-AAD3-9D8BAE1D049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5169-5FBC-4AB2-840A-963613A9D94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5057-A93E-45E3-AEA1-B4E6CB9FA3C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682D-BEBE-45F3-8831-864EDD18C8A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4128-BC8A-4249-AFEB-0F2FB1FCAFA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F9ED-F2BA-4121-B0F3-F9A55C110588}"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B89B-4C3D-49DE-B6F8-8B58DCC7039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0486-E6F4-4FD9-B01E-189C0D98399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732C-BD2A-4BCA-99F3-BB62F6784EED}"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B447-E445-4A76-9819-CFFB3E6BB54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675E-17A9-4EE0-B7E3-D12E47CFEFF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D486-0E9A-47B1-A62F-2293323A33D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66CA-70FE-4FC7-8224-8E62B661281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9194-A80C-41AB-A68D-608C2021F8B5}"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2E7E-0122-419A-AE84-CB4E525C39D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509E-A3CE-42AD-BAEE-AF335F2F8D9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3768-FCA8-47C6-8817-5A8399D403CF}"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AD09-8C4F-450D-B8F3-F358B0F252D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A90B-31CC-4B06-90E4-F626B0B0383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8A81-B9B5-4A74-AF31-2AE60C3BB80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AE15-317F-41E0-9DC8-7A951786ECE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