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2AF-5D20-4D44-9EE6-AB8AC5D8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BDE-B434-46EB-B1E3-9F1ED73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8B13-A39C-43DE-B472-E102BAC3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4DB-67CE-48D2-A1CE-B67CFBF2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A72-CE48-44AF-BA02-B52E0221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CCE-E95F-4486-8B0A-925CF86F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24D-9F47-4CE1-8E2D-C5AC0C3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D1B-F760-4B85-9E25-7A8B746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D21-5D9B-4BF8-9819-A34FA33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1F4-441C-48BF-B343-03CBFB8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1A2-DB60-46BC-BFEF-F7FF322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E82-ABB6-43DB-A945-2B60657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34F-4B72-4F3F-98DB-F76160A4FD9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886-D7C8-4334-9390-44F5C2EE27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089520" y="29289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80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68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90520" y="33908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8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5340240" y="13478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151680" y="255420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9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8400" y="5160960"/>
            <a:ext cx="33480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D943-6B9C-432F-B769-48B47BA5AE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8400" y="5160960"/>
            <a:ext cx="10400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5640" y="318600"/>
            <a:ext cx="35985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688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6880"/>
              <a:ext cx="46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09760" y="25686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 rot="2700000">
            <a:off x="6354000" y="540360"/>
            <a:ext cx="35989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9" name="椭圆​​ 24"/>
            <p:cNvSpPr/>
            <p:nvPr/>
          </p:nvSpPr>
          <p:spPr>
            <a:xfrm>
              <a:off x="142848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​​ 25"/>
            <p:cNvSpPr/>
            <p:nvPr/>
          </p:nvSpPr>
          <p:spPr>
            <a:xfrm>
              <a:off x="27129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​​ 26"/>
            <p:cNvSpPr/>
            <p:nvPr/>
          </p:nvSpPr>
          <p:spPr>
            <a:xfrm>
              <a:off x="1204920" y="-90288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2"/>
            <p:cNvSpPr/>
            <p:nvPr/>
          </p:nvSpPr>
          <p:spPr>
            <a:xfrm flipV="1">
              <a:off x="153828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3"/>
            <p:cNvSpPr/>
            <p:nvPr/>
          </p:nvSpPr>
          <p:spPr>
            <a:xfrm flipV="1">
              <a:off x="282276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071800" y="26575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-106200" y="534960"/>
            <a:ext cx="470664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2106720" y="23954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14"/>
          <p:cNvSpPr/>
          <p:nvPr/>
        </p:nvSpPr>
        <p:spPr>
          <a:xfrm>
            <a:off x="-147492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085840" y="22813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美乐辰旗舰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cp:keywords/>
  <dc:language>en-US</dc:language>
  <cp:lastModifiedBy>Administrator</cp:lastModifiedBy>
  <cp:lastPrinted>1899-12-30T00:00:00Z</cp:lastPrinted>
  <dcterms:modified xsi:type="dcterms:W3CDTF">2016-07-25T03:17:46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