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0B43D7-2FCD-4564-AC78-0E11CD88F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7E585-12E3-4FAB-BA3C-E882F9207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F7B616-F830-45BA-AC84-68F1FBA7A3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204641-D877-4E06-8F47-B18DCA2BF8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25C0A6-A622-499F-8C9D-D2A61BB88C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72DCB2-ABF9-4697-AC3D-FF5B91D514A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40750B-ECE6-45B3-B761-FEF5B4D031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BE94A-E0DC-4D23-AACE-9639AFC84E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0C84E1-35C3-45C5-AD32-E412878088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DA9A3C-6D25-4998-BCC6-3BAEF80DA1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0811C05-A9A8-45BE-9BA4-F2B3C0B983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BAB28A-8F1B-4880-B4A6-98208586087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15EB5-984C-4D3F-9F44-6F73A3FABD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709E82-C679-486C-9F9D-998619D05E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726C521-3525-4E1D-BFCF-93FA7A293AE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42A9A7-97EB-4E0F-92AE-DF04B0B4CF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C05F2F-3196-4A8A-9593-C6C27CCACF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1981B7A-15AF-47E6-AF08-106E02A3254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E2E984-5B96-45E1-B10A-B417552EC5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53C5C6-6B49-473F-A396-66FC79F9C0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80E16BA-057D-4743-B34D-1390FEFEDA8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1444DF-FEF6-444F-8EAB-C66A5DC67C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509584-4C1A-47B1-83E2-830337094F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AC530-CA39-4197-855B-882EBD8B3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7E9227-7751-4501-B00B-19AE19E9D3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FFC0A53-02BA-4E5E-9F51-C992684BF9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1330A6-CA6E-426F-B39E-8E5686065A5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6A1D1A1-6A0D-481D-9E41-81EB88BD874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A888EA-E9A9-41A5-9E24-467B640EF38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2C7D881-104A-4DDF-88D6-F0211F0965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CCBCFDF-162E-406B-A09B-C7056D0018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935BB8-4586-4C2B-B5C5-AD54B812E0E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6506B9-58D5-4733-AF57-7A98CDA07E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13DE0C-7969-4212-A31F-BEB9411D8D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CF99F1-72DD-4D50-B302-16B4E3A748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7E1042-9D2C-48C4-8310-E58E5ED4B9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7A2C683-1119-4619-AF23-B97A983108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3971EA2-649F-4575-9DA6-71F8C287E86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BB0800D-CECE-48F9-AE9C-871CF456D8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9B31920-2F55-4C00-9807-BC931743EA2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AD23AB-67FD-4DAF-B6E5-B48CEC7F0E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B18297-23D6-4164-8C63-89FA2194DC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B3F7CA-7999-47B7-83C4-962C39F0B4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19BFAF3-3322-4366-88E7-BD1BD2D5C6B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09FBCA-73A3-4ED2-BCB1-134FA95C6B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20069-AE5C-4E64-AE0A-552C50191D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7DC625-5AD4-4380-AEEB-51DD80FE915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C843B2-B798-4499-8EA8-7F17BE4ABCA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FEB4BB-42B3-46BA-966A-7F0FA9A55F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D524CA-C2CC-4307-A3B6-049C416675A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AFDA31-6B0B-4AF9-858C-194353D5E5D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E0163FC-284E-4DE8-BE1D-93CFC580250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E467CE6-2D4F-4E66-9775-845450BB95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BEA38DC-47B0-46A7-951C-9EB1F693159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271CFA-3821-47F9-ABB2-5721275095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9F25591-DEB3-4EE8-9FE7-BFDD7A6B045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05973F-43EF-44E3-8B5D-A829E3AB7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66A6E8-E3A1-45A3-B913-2D859EE828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EABC87C-35E5-429C-B4DE-DC4B52C2FA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88DE42-AEAC-4AEE-B7E0-B3BA92C5BA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C4086C-C108-48BE-9505-EFC60183CB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2B6867-4E98-48FB-AA09-28A410C926D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FFEC32-71F2-4029-89ED-EE61ACBBD1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A33484B-57B1-4563-8B84-1196C69717E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5DE37D9-79D4-4E07-A646-E8FAF62EDC9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B6F056D-81A5-48BE-8723-E2066D6FF96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81AEDA-4012-405D-AFFF-2D238B48C76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DF9607-7FC2-4F6B-B1E4-D8F544541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99D1CC7-EA2E-46EF-91B9-8D80274D16A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849B18C-333C-4652-9DD2-9B632437173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224A8D3-D466-4618-9755-41A14D9F9E8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055476-51F8-4C9C-8E88-622C2BFBE6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E1FCEE-5592-4230-9036-C475376949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13FF66E-4C7A-4383-A9E2-B2240697388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B674FC-D2D3-4D07-9B07-D6FFA2A5FDC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A131A99-2F74-4988-A394-51821C9625D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F6285A9-7D5E-47E9-A179-E6BC6D2F54B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67611F1-9DAB-4A72-AB9A-16F65C11311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0AD5B0-0F82-4D80-B61B-892CFE43B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315DE5-D1AE-4141-995F-BB050C66F19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9792C17-6F4E-4672-A222-2E512129262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90688B-DCC1-4261-9679-4E5CDE0D28B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D73B7E5-2637-48F2-ADB3-87AD274911E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49EB119-17F2-4973-AAA8-EDD5B480122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2E926B5-D446-434C-B8DA-8197B126E3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D63660-E7C5-46EA-9F3B-44FF1F79758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59BE6E-498F-4DBA-863F-8F66EF7782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FDBC24E-2E10-44A3-A360-ED5DA91A698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20B2182-D74C-47B8-8FE4-E17F091EDBF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82615-CC14-4FD7-AED7-C26A2DC19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158E055-AC6A-4BE6-9AD5-98AB7AAB171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4D2D2AD-F160-4F2A-8E45-90FA8C8B644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95A7368-FE28-4134-B769-F2D6F7BFFB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E19EE90-0CB1-49B7-B53E-3C5EC44ED2B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EA6FE53-506D-4E24-81BC-EFED80CE437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E62897-5216-458E-B3AE-66135A0E98B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6C4E357-58E4-43C3-B5D1-759E35932E8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5B9DA4-DE50-4C44-AF82-B51EB3552A4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1E6FEF-95E9-49F0-BE89-9E650CB4CE1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07D897-C843-47DF-90DC-5AB892C5E8C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2D83B-0372-4789-A6DE-DD261277B4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C1D2082-FC62-497E-81CE-981313BBD158}"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BC11C61-C34C-4931-8A55-D104F9C2D8A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7CD4378-C4B9-4670-AB3D-29F161227DF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8C6915F-69FF-4D3E-BC41-68A2E2B551B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52E1EAD-6891-4D2E-AB4B-FD9256559DF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38F978C-501D-4B0B-B3EB-C8AA8917D1E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E6D2BE7-5D71-49F1-B78E-7CDD9A4CE6C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7A32E987-9460-4B9B-A30C-D4E13B4EED4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4EDC159-FB6F-4A35-9CCC-761CCE67B69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B9B2B02-C345-4C11-B19E-B5F67DB9347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F976B-57C8-4005-8EA1-8E80072B3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A5089-65FF-4376-B217-A7A1010B3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CEA50EE-7407-4D05-91C3-7B53E65C058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B65067-6546-4881-A8D1-B60FE01942D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DC7FCB1-999B-45A8-8E31-8A244397574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43B99B3-674C-48E8-86D0-9507A76F708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E69D512-29CA-4FD1-A14B-B247894DD40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C422901-B472-4AB4-8A01-61383A2A424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CA7D1AD-C6F5-4C14-977A-1EA78DA8DD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0D9F54B-25D8-479A-B4C0-6BBA9F02A0F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C6B25DF-AD80-45B6-B7CA-5611C306A9E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D98218D2-3E63-407D-998C-1270493B8F4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B1B91-C848-4EE6-80E7-EE9D97965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00D0DDC-EB64-4A84-9B5E-BE99D27AB96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5B1BE3D-7AF6-4DEB-8614-166D3FBDF01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EB3EF6A-371B-4993-A960-1178C7F4179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C560B2A-8342-4695-BED1-02695174D1B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4E6020E-18A7-485D-8A44-B3144846C5A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3CB6C0F-3796-44EC-9735-859D8A207918}"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05AA6A34-44DD-4079-9BB8-13210857775B}"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82ABF20-E301-4F02-911B-3C9BC6465D57}"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BC4F20E-320E-4403-B33F-3AF729672C9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48566311-7B30-464B-95A0-26BCD171F70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A669EE-B243-4071-B402-FF7F6128BD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18058FA-8273-4872-9664-EBA5DE8B920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1829DDD-F3F8-4757-B0D7-F8F24436FAA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9978275-3B4E-4E91-BDBD-5075C51AFFF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2BFB2CB-21A7-4B8E-AA74-9391A69D9D0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896DE25-CC06-4453-90BF-08BAB281313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4F9C082-91BF-4183-971C-B84E5DC88C9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465F29E-850C-44F1-A8DA-6D794C12A47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A70C175-456F-4468-B978-29DA4FD5C7DC}"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A6C40E25-4B21-4A89-A2D8-2E883064AF9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3BC03BCA-FCB2-4959-8C9F-4560DF85F1DA}"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FA7C95-F42B-4C99-9245-E376BFB32D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0A471A-6BC2-4651-B1C8-23DC9E028C0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D49A715-CD89-4324-8972-8E14733B1B8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ADA197D0-7E0B-49C9-BB43-37792CDCE84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6105098-FCF4-42BA-8FC7-4C809F20242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C553AF7-02F2-4729-8C00-82AC42DC899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A408843-3160-4B0F-95BA-6B77BB8356E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4B5C8C4-1848-4F60-A992-A62690EE863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634CE68-DCD5-4F77-AB80-29EC6499A8B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A76D01C-5518-4ABA-9B43-9AAE37E7B8A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2933B8C-80CA-4ED8-90C0-A70F25CD4A1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91486-6937-48E5-B44F-A0267D2534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A0E5318-598D-4615-B957-EB37D7FB402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D469BBD-1F7A-40A4-9592-2808F663D39F}"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D0B8379-0D1F-4E85-9062-080F1D2DF04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3DB55EC-64B2-4B31-B963-D81BB96183D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15BE61E-8427-4136-A260-D495E85BB24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7652801-B577-40BB-8242-7B1FA34416F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6CD6F36-04CA-4AB1-BA84-3C5DE0E2833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3A60B3D-F89C-412B-A636-BBD980A93D3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788B8D5-978E-49B3-8F51-0E9ACC0FF42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29DAE6C-DBC1-471F-AD06-7D513FC9DE4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013150-525B-476D-A35E-5BE5F27177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0821EF7-B1C5-40DA-9922-B1F47C755AD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3DF931F-668D-43F2-9F37-8CF26C13993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92725A8-5248-40BB-9CE9-88B8595BE28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EB50B321-D4E5-44DD-B3B9-2B63E9472B3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CC8F5E1-FA6B-41BD-9413-618BA8F7CE6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B4AEAD2-E7A6-415D-A22B-EB9727A7E62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4C41FEC-5FAC-436C-9B57-3C1A6E69D30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107C8B2-1F59-4F7E-94E6-3CBCB96B6CC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18E4E65-9BAC-4732-B8C1-456D6C4D7D7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1DE5F72-36D3-4D5C-8B0C-BE52E283FB0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2A4ED7-F271-407D-8002-F0563707C9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32C17E6-DE86-4D8D-9602-E136C13FC78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79B2DCA-F026-4D9C-908C-FF329A5FB62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8EA8C2E-E470-4BA9-A3B9-0782B3F370FB}"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CC292A0-68F8-4306-9124-D9C5F42C2BB7}"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D8F7C98-0D01-4CDE-9466-07E979EAE2D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59C2BEB-66CA-456A-BDE6-B83D73F334D6}"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D5177CB-B22D-407D-BF4C-C7849FA2D28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78031879-9B5B-42F8-A62D-B385CB5EC0A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FA1EAE7-3E19-46E8-A318-9D37F9EC70E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BEB4756-19ED-4A91-9ADC-FC89D360ADB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91D309-141B-43B6-92B4-F601CDD0EE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51A7A34-AD75-4C35-9D57-6C9656C84D8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3D24041-F598-4797-AD90-52DE1DA6A8F4}"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469B7F1-B3B0-41C7-862C-6BE0E8192A2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A4D4504-6BF3-45D8-B2BA-7EB5D1DAF44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6271093-F1A9-4E22-ACF4-8068F867E1D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1A80D98-FCC8-499D-AB8F-C488ECFED66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BACF95F-F9AD-4B19-B8A2-E3FF4E47E3C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C037D75-E993-49BE-AD59-2CFF93F86C37}"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A26A32A-7200-4E75-9CDE-F9F9C28ECED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014A37D-93D0-4267-AD31-8EA47BE06FF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362626-DBB8-4B1D-A36B-4641B70FD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7B4610C-B1F0-493D-9AB4-635520F7226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3F40573-902E-4EF5-8BC4-6B56667715D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3D1C4E2-D4AB-49DE-A922-96975A9533D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DE36694-C146-40B2-A837-94C73CCFEDE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067A2FA-1BAF-4346-A137-A369851F364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82CC3F7-0817-440F-8AE9-B5FB10D14A9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4FA33AF-1163-4D4F-B35D-68E945F6C79D}"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15275AAF-0B21-4186-90EB-23B23A85B3C1}"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8E860D84-B914-4A6E-BD37-181A540586C5}"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E7F21048-F935-4D39-9803-86D250911D6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764247-7EA4-4689-ACB9-C2BC3378A2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F071204-0CD8-48FF-A1B0-E26B824697B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92627DA-4DD6-4313-9096-8F15BD8D3BC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0F72573-38EB-48E6-A88D-718E4E119C3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4F7E1D0-49F3-48CD-A54C-EB43C27434B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0C89F4E-6D04-44EE-A2F8-3A289B9187CF}"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E97C275-C12D-4DBD-A64A-8E52880375C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CB1336D-2CAB-4318-AE10-2C4F5C149D3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58203F0-4E70-43F1-951E-E8AAAD4D052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CC7FD94-6EA9-42FE-AD58-D7F68243AB54}"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D3D23324-9656-4A52-A2A1-72AA41ECC8C6}"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A3DB7-A0CD-4A19-BA6A-B0A084FCF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84F03B-9D51-4872-9605-AC6B07426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185A81BE-253A-4A1A-A5C9-F86ED5B348D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CFA8541-1F74-45D6-BF2B-9E32A70425F3}"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919DDC4-C874-474B-A030-A4A9B43104C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2415BB9D-EF74-429C-98C6-589E12F304EB}"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D0B31FA5-CD3E-4B29-91FE-70BCB869D53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B75E172-6EEA-4B84-B932-B2F6C0A35B6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05B6E5D-5B6A-4050-97D8-B6316984183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C06CFAB-EB30-4F13-85A1-B8269298EDA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B5B1DDCC-2A13-4815-ACE0-B267FCE2154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0163847-8AF6-4BD8-9FCB-0C0829F7C18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D85F8-B5E4-41D0-8404-F7109466BB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AEEEC1D-7CED-4729-BAB3-EAA47552634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9F3C5152-2ECE-404E-AD89-CBBE5999860A}"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38195F7A-C7A3-4E1A-AF9D-653A6B033FA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1B037A4-2A27-4362-894A-EDE9FEA18218}"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F694FA9-D65A-4559-8F2E-83FCC682280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BAE44498-09D2-49CF-92B8-4F8DA352E1B1}"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4991058E-7081-4D06-AFFB-ED891F2CEB2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5C8C055-B28C-4D6F-8157-342EACE7113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7BACCAE-56C0-4F7C-B5D8-33229FF06A66}"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F7AE09A-0478-4B69-8A60-592FC5C94E7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8B7295-506C-4D66-BE7E-4119E6667B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DBC817B-6378-45FF-8072-A11926DC6B92}"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C6BD362-6CA4-4700-B099-C6809E9D240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C4DF237-1A18-49D7-802F-DE54EE5A1B38}"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9A9C040E-1E46-46B1-AA3F-CAD3C1913311}"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FD2EB3F-2B74-4887-9EDD-ACE52CB3A6FE}"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D6E0C7A5-E5E3-4038-9EF2-40AE6C85681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7ED981B-8A16-4F24-8C31-9F9E856AEA2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D207246E-A793-44F0-AC17-CA5C971628B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B7792006-B44A-4C94-B12E-D2CB7159CA7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913F24FC-92A9-4A47-AC06-E09C13DB2E7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F00F5-A7E3-4B15-89F2-06F7A6F57B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4AB7DBC-2CDE-450A-A0AF-68A696AE0E3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FABF7C90-5F4D-4B22-AAF6-88FCCF7A583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DC2DC72-680E-418A-AC08-22D2B2A4FF74}"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D00A662-9194-43E3-B01C-DA4E3F9DFAB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7126131C-6A47-409E-B5DE-11AC956C5C7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99F78C4-C69D-40E9-B4DA-B498F029A40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D258EA13-1720-4DF6-858C-86B2461BC3C7}"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1CC1985-4AFF-4F8D-89A5-F5F95F96DF87}"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EE3FBA2-60D9-47BF-A51C-86AEC68026AD}"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EA151D5-29B7-4EF9-9353-9C8C0F53BC2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1C1518-E900-4FB3-AB87-A0E026A31F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F0BB396-59A6-42C9-8FF2-7249AF482A2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CA7350F-AA64-4C40-AEA1-D387AD861715}"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AF491ED7-ED01-4384-8589-AB938ECBD6F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B9AAF38A-4BA5-49EA-81A8-E4106353874B}"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3BF1ACD-8F7D-4643-BB53-483DC4C8DB2E}"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D21AAF2-C6A4-4C50-9E31-68FBCF3564C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98DDB0B2-0B44-4D14-9137-8C1DC7E53C2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ABFED03C-B176-4489-8816-AE7F7924EED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BD56A6CA-53B1-4A7F-81CA-98CE2B01776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3BAA573D-48C8-44C8-A172-FC7E6332DF1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6EC01D-CA7D-4095-8F64-5B915E3FA5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CDBD275-792E-4A42-A34B-0423AEF7CDA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A561487F-B660-4936-9E15-F459303C475A}"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78D7DAF-E7B3-4C57-BD23-D110A85287C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B8595A9E-1519-4C36-BB4E-E3F1C9395FF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76BE096-A1F5-4C9B-85BB-E17CDF7ECE9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6D677DDE-2C75-435A-98E8-AF6B21A6021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349B9E9-D5C5-4B08-90FC-155FE8048FDC}"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5587704-36C3-475B-9563-5B567731F18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9957521-7059-485C-955C-417961D18320}"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DFCF3873-5E4B-4F1C-AE27-B387AB708549}"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602DDB-F5EB-4D1E-8D84-B8FE7B1955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69451B68-C97B-4890-8C5F-01485433B2C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7201DC37-7617-468A-8F1B-4C2B445A5306}"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9AAE9CA-E90D-4D9E-8CB8-C783C571DD2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1EC12F0-029C-4DEC-8550-8306F160E7D9}"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9F094A8-9441-4FA2-BE4E-836121ED4FF3}"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39D37A7D-B43C-44F0-9E21-36B1010E9C9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2F3C48A3-925B-4654-A5A5-EF30E4DD480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0BB2CE4-5F35-4A4B-A04D-2CC16B4D4743}"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0C2283D-4757-4CBB-B14C-2D7E5E0BCF1B}"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7401836E-240A-41E2-8864-F55AFF42BCB7}"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AF4588A-1643-4739-9C3B-A991FB7E8E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5BAFDB5-B433-4FFE-8FF9-5B0405CBF66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D7EDEBEA-189E-49C5-A678-BFF0D88D606B}"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B763BEDE-FF33-4A3B-A47F-DD66218316C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104DF9AE-DA94-4C3E-9355-D037E0716004}"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26384DA-CE35-4EB4-98A9-2AA1B9E8FC3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62DB163-19DB-4B9F-8D9A-B9716B76B4E6}"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CE0D21D9-FE7C-4256-960B-118501942C7F}"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432A781F-BCE9-4955-B46A-D7D60C820A94}"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EEB96BB-3BE3-49AE-853E-1C4E53B64D8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64437FE-0FDA-48CC-9503-4A8CA6A53BD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063EC7-A98A-40FC-AC8D-33DEBC5EBC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6692477-DFAD-4DB5-AB15-4B9074B14B5A}"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876C4012-9C8D-43B5-83BD-152F01351B3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80CC9780-651E-4EAA-B71A-713D5B99E9CE}"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7DD72D6-9237-409E-B0AD-BF96A7DBC35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180B62D0-ED3D-46AA-A10C-163AD52405F5}"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1E26E444-9340-4CB0-8B9E-030C97B17F9A}"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00E8BC8-E02C-4DEB-AA96-C3377D3316FE}"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FB36855F-85CA-47A1-8ABC-D829E368EAD3}"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ACC08BC-F890-4187-9FCC-C298D0854113}"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F7F22DF6-44D4-4132-86B0-73D7142ABF1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A304C-A147-4136-8591-7328C0254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772FB67-18A9-43BE-9D8E-28F852E62728}"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DE76A9C0-9358-4DB1-B8E8-255EE8B1970E}"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CC71B30-AAD3-41B8-B3CE-7FCA7B858E4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52C44297-A9A9-4964-BF51-2A85084B65C2}"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F3978952-CB3D-40DF-87D7-B486D1954981}"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E8720186-1386-4319-82F6-8B1A5C5A3F29}"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54CE51F6-DFDA-435A-97FF-B71E34E968FA}"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62871065-25C7-46FE-A2B0-6522BF5DEE54}"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9536A617-E234-422F-A140-EB8CC5E4752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635B6FDA-E732-4C59-9B53-B6DCAABAC62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4E870-2DAC-429D-8C43-7AEA4F2EF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BE742-3C6D-4AF0-A47C-1CE3A0FA1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3CDB94EB-0036-4F5A-88F4-AD79E068809E}"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1C8EBB4-7CE8-4EFF-B5F6-BADACCBF4A2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8AD9C46-A47E-455E-BBA6-AF6317840517}"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81EB5145-519C-4BAB-A3AE-3B659FFBC5A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42783458-77DA-4A19-AB4C-941EEDF5CF3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04AD454C-6E9B-4B4D-A37D-76ABAD559BD2}"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184D119-B3D0-4F8D-A04C-78F0BEF4A3D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102062AA-7742-41B4-9209-DB1254BA637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3847B248-83F2-4EA4-828F-97B619983B94}"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09194395-1E71-421E-99D5-C87855F7CD1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923E8F-3444-493B-A6EB-638926826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31F0C3AB-9AB5-4503-B167-051AF7DABCC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2468C6A3-897A-42BE-8E1E-C665853587ED}"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FD6933A-B640-4E0F-B6B7-98D1B6B1F3F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10111C6-3FF9-484B-9B66-329F34B44A12}"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F36763DB-A859-4A60-9448-F855085172C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915B92F-3EA0-471D-BEFF-9D32299A3C7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E650E91-85D6-49C8-9D20-C51B78A3CF0E}"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D33C4CA0-81E9-4DEB-8524-59B49BF72E74}"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0D300100-DC97-4B86-A4CB-F54E88999E0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1B9C9EF3-E0E3-4882-B4F7-4DFA22C9E2E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C018B5-F0F0-488F-8FB3-ADBB2EE586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56B51009-C01D-4F37-9F1B-10EA2EEE0120}"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7A06C9E-B662-4302-B26C-6CB1EBE2314B}"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AFF415BE-E5CC-4D6B-8172-5E9025C901B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BCBB561-CF3B-402D-9D05-0ADE452F7FB7}"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2C1FECB3-5992-4454-BD87-5718BCFF8A0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D26148B-C0DF-493D-B9D6-9F2C51F5F687}"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8A37C66-605E-4439-BAF9-D0F3E9F83A8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E5842C4-6CA6-416E-A5E1-6B43B7F2EA7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A88B301-2A6E-4F8F-B7E2-A9B1A3359B4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22B5E5A4-729C-4137-90CE-BB75A1C31F8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4AD5A-8B46-4B80-9620-8B4D3300F8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82FE9AA9-E165-46D2-933D-ACD7BF52631E}"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A828C69E-71CF-4931-8D35-91E910BB4460}"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6EE3D36D-7F35-4C61-8CC9-0160C35ABB9E}"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BB30318-FC8A-4F96-935F-882E98730817}"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D6BA13DD-9FEA-440F-8FA3-2860CF3D2F5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C9C7F2A-A81A-4759-9243-E663D86D984E}"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26D32067-DF11-416B-BB77-D18A98DA0DA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6ABCEA94-6924-4C53-9D12-E523211EF011}"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AAEBFF84-3714-41BB-AACC-E9CD92AB242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B62AF4E4-CF4D-4ADB-9EA4-24618A6C456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EEBEEB-737A-4CDC-8419-9D102CFC22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316EBAE-B9A5-4E46-997C-6ACCFDCA1E24}"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D02D31DF-D7D9-4D6F-A650-BB01526C5C4E}"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F6252A12-4833-4592-8F70-5CD280471199}"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6162266F-887C-4C21-8347-D0C18D88E53F}"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3A250A14-80B2-47E7-8E04-C6960131CCBF}"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75987C1F-7A5F-4245-865C-2CCE5B72F1CB}"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BF0FC414-2013-41C5-8951-B7CA5ABD8138}"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3FF6DC5E-0DAF-445E-9041-FA9DE6F7B96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6B08FD9D-2F50-4462-94C2-AD4A8F976445}"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8A779C9A-879E-4A3A-9B8D-E7B65C150235}"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BD642-B9DB-44B4-B78D-DF0AA46D3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1A8A41C2-C91B-4B14-B7BB-3B01DA8D3097}"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21BBA84-D999-4137-A1EF-D7F17E3D391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E4CE4918-1963-44BA-A440-771F46B22F5C}"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F2A58A3D-3B29-479D-9B5F-3B2D89185B0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B7511336-737A-48DA-8E20-46E0C006788C}"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58A5CB88-BBC9-466F-8A84-0E30B91FDBD7}"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C3C0F3F0-A5AA-4C27-9B8F-D2E3DBD1919E}"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0507F765-743C-4518-B706-F2DBFCC1E129}"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66DC7E1F-E8D3-497C-BC34-1F187776133A}"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B08129E-103B-4964-9EFD-11023B176EE8}"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E621B1-B752-4617-B99E-27621F792E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6C34B95A-DE34-4D73-AF84-91797997B698}"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70B1B625-97B9-4B71-8D71-C8200562720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D7C01FEF-5B11-408A-9F41-1F756FBB59B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6F78B3A-C7AE-4721-9FE7-915B3EE674FC}"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931D750-68EB-4B77-8E18-3708CA6F70A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F4E187DF-3DCF-43C1-B3FF-E6F9BD29D6A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5B7798BF-FEFF-40FC-845E-84872337650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9317DA83-8CF3-432E-B909-3089CB62E29B}"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5D12EC44-D89D-46B9-9CB8-1F0CB877EB60}"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64F68EF8-6200-403D-B924-A3430FB0DCDD}"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7959AD-E12C-4841-927D-4883A19896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97C8AB7-2BF7-4C50-93D3-7281F9065DF2}"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F4C6CBB2-BE92-4BB0-AE71-6FE1E543499C}"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EBA41833-9BF5-47EE-9DD1-302CBEBBB634}"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95F668CA-D585-418D-AA5D-BCD552024FC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27A7FCF2-0FEA-4208-9A3F-FCC9EC13F61A}"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B595119-FB6E-4DA2-A8BB-9A00C0D6249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1F92B53F-C50D-499C-865D-0210BBE54AE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E1835BB5-8ACA-487D-968D-429E1FCC5D8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5223357-329D-4EA7-8D92-577D27B2DC9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051E3142-4325-48FC-B2AA-C9E16998FCCD}"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F18E9D-35C7-4E3C-943F-97EC49FC5B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A58CD3CC-DF60-4D2C-8F27-528D3C0E376C}"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93EA6812-0FEE-4794-8DC5-81E79AC39E27}"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CB00D33C-79EA-49D8-8772-91A9BB0BEA45}"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F85576AD-E389-4FE3-A260-3BC58EEA256D}"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04325C5D-0903-456B-89E6-331F0A75950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152CA77-1711-47E6-A792-636A84C7E57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4F226F6-7BA7-4A31-B32D-7D26E9A281D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DF84DD7A-9DA8-444A-BD6C-DAD39925E391}"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E105425E-5C58-407C-A9A3-B357D7413C76}"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FEF80D8-A5A9-49AC-8EEF-CE55545C587F}"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ED61E7-078C-4E82-B53B-C8BF66499B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A89DAA93-1001-4F48-A641-D5172B8FD7E6}"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00EB5D83-7052-4484-A042-0DCE4A3364AE}"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294DE5CA-653A-4EC0-9024-5F15A8FFB8B7}"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6819CF61-D326-40C2-843D-FC30B2ACC85A}"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214778EA-C3B6-45B0-BD92-68241940B011}"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9712C6B-195A-4CBB-A38F-BCE6F937166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48D2847D-A6D6-4E15-9736-F2CB33B88E74}"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30A0ADAF-581A-4B70-9CBE-7F0B73B9B0C5}"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5083A16-7861-432D-84AF-9104AFD3534D}"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D50589A1-E102-4400-9ECC-5C483D5CDDC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53459-B2C9-46B7-B131-8650675C8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96A74-9DE9-45AD-8F40-AEA4B9F882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11EACBF4-B3A9-41AE-B412-71F11F56BF06}"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C861CF0-A142-40AB-AD08-71DEFB8978F5}"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8B249AC0-E4DF-4BF5-B1BF-9CBD7BD229FB}"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B07D94D7-BD75-4F85-83F6-31320DEEA195}"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11A09260-2993-47BD-AB68-113C06A3ED24}"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F94A62C4-077F-4749-A77D-BD0EA9007CDD}"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8A56F35F-D7CD-4CFA-A727-769FC6879E2D}"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475460EC-33FB-4BC4-B8ED-6685795E34E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EACCCD6D-7D56-4B98-98E9-41A286E00827}"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0B4DCB95-EDA9-42BE-B93A-2CBBC77140BA}"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4EE614-36E1-406D-BA83-DC6DA4030E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274E0D2-A27D-47C7-AC1C-ED5DCDA6A0C0}"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B48D631F-9B79-44D3-A26F-F0A7E2DDDBDB}"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8D61FFED-2D6C-461B-B9CC-23FBAC93A8B5}"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EECA507C-9F59-4CCD-ACAE-42B5AD39DE74}"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AE217717-5CEE-435E-8E04-99527F3E0A9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BFB6B6C6-19C7-4E0F-AE81-ED6817DFFB30}"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07C0900C-8C11-4AD2-BBB0-32ADB8918663}"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787E761-5A6B-4048-88F4-D0AACE7C8047}"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44E20BDD-1BB2-4690-9832-68FDDA4A303A}"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590A6219-51A0-4D57-BE58-A319497E7EC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DFE837-2043-4BEF-8118-8DADFBDE69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D525E29D-BE9F-446C-B837-404B7D6C573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58E811DA-DB0E-48E6-910B-CE2AE62798C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BF06610A-AB03-403B-A42E-B46574C4872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C0048426-3EAA-4953-A76A-DB1BDC6BA234}"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038CEFB-2EE4-4AFB-AFF7-0E4146F63E56}"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42EE4E99-6F62-48B3-A4FC-E9F6F8BFF679}"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31FE7749-3379-4173-BF39-ADF9A3615BC6}"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B33EF9EF-B654-47A4-B8DC-412D29B46B04}"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E70D2091-FAF2-4D0E-BC83-CA7A5F6068D4}"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0C8BDA7C-A294-44B1-A7E3-DB94F2DDD3F8}"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993492-E2D6-411D-8CB3-3AEFA3B92F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81521DC8-4A83-48BF-8744-E44CAA1B86A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9EB31FF-8B83-4F8E-BF48-9F1C75FF15A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4EDA9AC-E721-4C18-837A-02DB822305EC}"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62E9507-68B5-41AB-9394-127A5D1BE0C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0BA2FE19-C3B9-47F5-847B-AE7508874763}"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0CA3A83-9F41-449E-BD9F-4CDA29FC57FA}"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73DD419-C37A-4B25-9297-4E1A0A088B72}"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8F577B9-E04D-4189-A8C7-61905DB3F17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7EAAA94C-5071-483F-A656-A459E9D9120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538C11B6-5CF4-4B1D-9B60-56039DACD884}"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93419D-80EB-451A-8712-6EEDDD3643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8C286BD2-5C7B-4E5A-BE8A-A98B0D815357}"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7E883F09-71E7-4F3F-91A7-3FBDA7D56F4B}"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87C1B74-43FC-4F82-9144-4BE71FC867FB}"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547DA9DD-7A93-466D-A9F8-403CBFD6E907}"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66E04960-8BC2-4A43-96A8-62D80060D58B}"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1C5E1FFE-10D1-47FD-BDF6-C1F83AC7EC7E}"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9BDFCB9-93CA-4735-AF08-5DCD3BFAD87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7EB32D6-CD11-47A5-92A0-66C0C4DD7178}"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9718CE9-7141-4F62-A01E-7BBAE2F88DF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6984F303-3451-42C9-870A-70CAF14B728B}"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909C3E-DD08-4832-BE62-E8A8AF19C7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2B59220-BBA8-4C9D-A129-71B7BFA8D768}"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62C41FD3-8161-470A-9EEF-63EC10466B46}"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17C1760E-BEA7-4B94-9784-A8C1EAE7C3C7}"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6EFA1C89-2A07-489C-8ADE-88666246E31C}"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BEEFEBEB-2284-4129-945C-B5B2E273B0D4}"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2C2CE47C-0C0C-4D63-98E0-C8E6BAB0F100}"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FE0F2714-CCB0-46B4-B4FA-F0DA8FCFBC45}"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C075044F-BCCC-4C4F-BA28-6C174D84EE2D}"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9B552B95-9698-4786-8960-1577617CD905}"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D8D617FB-0DDB-404F-A11E-00882F289E6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E58AFC-D11B-47C4-A5E5-2D1228EEF4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9CD9BD91-A16C-4D72-A077-58130ECEEB5E}"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B279DBA8-F1A6-480C-BB01-021376F3CEC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F5692D7-1173-4388-9B68-8282B74EA15C}"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056B780C-584A-4378-988A-187EA215B008}"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015202B6-DAAC-4F6D-A0A1-81AE362F3640}"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79F1E4CB-EAD5-4B0E-9AFB-C9C3E697BBCE}"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37D03928-61A1-4130-8403-D4E1EFBA133D}"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71D5D94F-C8D6-48FD-9C44-A7ECE880FEC0}"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6ADE03F0-3944-4093-8A2B-486A1FD4B227}"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B9D2C553-CA2B-45EC-BFEB-75F165E348B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789890-F744-4E4D-9DD2-6A01A70663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4BC7F8CD-C717-4C44-9733-141AD000243A}"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9ED4B34-27FE-4C98-90C1-6936BEC2102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EBAAFBD6-D615-4612-A91A-AF110F5A1A76}"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F71A651-6F1F-4B68-8CA0-81CCB52C136B}"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ECE41A34-4741-4D97-A2D5-3A7F15A3BEE3}"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E6138955-BEE8-4110-BA19-AFE2A50F42BB}"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94A0C450-CD2A-496A-8FC7-BF09A3B5E0EE}"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AB1CFA-F157-4B6E-8AB6-3A6B0F5E09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99E9B1-4A9B-4B4D-994E-CF4AE5C6A6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D13D0-EE82-4BA5-BE6C-757B6C248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33470B-6FDE-4B42-9ED6-076F107E1F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9EDB37-6547-41F3-BF9B-0DC339518B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D310CE-4CA7-4D8B-B647-206C55C75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D8FD75-F9E4-4F20-AE18-DF5ACBEB99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6E480-F339-4832-81C0-E3D9ECB3C0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9B32C1-711F-48F8-8F1F-C0798B843C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189583-84B3-4524-81A0-9B8642AA16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6E5176-C329-4B33-9E75-2557DD08B5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D10F6E-AED9-4D88-BFE6-C02418E000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1C1E58-AB9F-41F0-8495-31EB5FE40D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D029B-25DB-4081-9FD6-F18B97306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873C8A-9423-4082-B1D9-ACB4B67652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AFBEFB-E455-4455-A03C-5B491BE174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49EC26-04AA-4944-A64F-D9DF48A724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9CE893C-0470-4D1E-B8F3-F3AF4680B6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16E1CD-74AD-4E9B-8370-4AFC6A013D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902921-786D-4BC4-AC00-D2DDE233B7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B7A7D0-86F7-4708-9EBD-3B43257885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74C79A-CC6F-424B-B8DA-28757AD5A3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5403E9-671D-498F-A991-E8AA47E9A2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DA6EDF-30F8-4E4D-88F4-C0103D225D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52FE5-8E06-45DA-B799-409A08B2E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9D950E-FBE6-472D-B218-59F53A7867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5CDBA0-9934-416C-A9C9-7AAB3E7FDD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6F12CE-EFEF-46B7-9A3E-6FBA17FA82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5E78B7-3FF0-4725-AEC9-8E530ED346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58244E-998D-49B6-8F50-06EA1AEF95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1795F4-135C-45EB-958B-C74A446079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5A8110-3C21-4994-8C7C-40DEDD1A2F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A4861-6FD6-49F0-A7C5-DB2A1D8639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0622DF-61DA-430F-897D-1D1733F987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AB929F-59F5-440F-8B7D-196FF2A34D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FAD3-A177-4D2E-8256-20192A5B0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AD046B-77DC-4E21-A48C-178DD5363C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809FCB-AB89-44FD-A6CC-FC4029B91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F5B940-76F6-4B0A-AC24-0B20D6E58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8638F1-49EA-477D-A00A-18B46433AA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7EDBA5-6C6D-4056-8458-F8E807836B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08B07B-B634-4EA7-BB24-0049A2673E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5AAF09-CB53-4B60-9AC8-12F985479F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0DB05B-9A4E-40E6-B63D-4E93D452346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30C4B-04CF-414F-9048-1BAC3614C9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5DC400-85DB-4291-A8B8-B37714B74F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5C0E0-808F-4334-949B-67DE60070721}"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09A2-008E-435A-B01C-91D4F425DCD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9CC4-C489-4B78-BE1E-6ECB5A3D334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E13DB-A85B-456A-9FA7-CF185238F1C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111ED-8E45-4924-91CA-B6F7CD71F4E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51F0A-ABAB-4717-B8C5-ECF7B2A42B5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BFD4-8514-4055-9A4A-13FF158ECA4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6738A-AB7C-48F2-9AC7-E22C165E7BC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48F5-6D53-4A99-AB1E-B7AD2EB10A6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70CA-B2F8-4023-AFCF-DCEBDA1814E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24B0-ED1E-4D79-B328-B8E463A1E7A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60211-95B6-40C6-B5E9-B814F2FCAF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D11EE-5B33-49C4-928B-4F8C549CEEE1}"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2311-5044-4701-9428-C7A2734228C2}"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9C39-8942-4121-9585-8AF02CC35150}"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0CF7-1BB7-4342-9B5B-32B767A46CB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E505-DEC0-4829-B21D-57671715D685}"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03805-12EE-458C-B2FB-364D2D5940B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6DC4-F8A1-4522-8E99-7B044887055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0CA6-3F84-49C8-A102-B92100817DF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59C27-EABB-4E20-BA40-375D7CD716F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6A89-422C-463F-90C6-2374490BE6D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F1BC-958E-44F3-9C79-83FB1EBA9C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ED15-F223-41FA-B5D7-71E10947AE8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EC9BB-4107-466F-84AD-65C44D81743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8D1E4-B5CB-46E7-8985-5737AA7E801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97D8-AA1D-4FB7-A8D8-A133ACFD71B2}"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49891-CDA9-420D-AD3F-8C2E89B3980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40D37-1CDF-401E-8CA8-92464B1686B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96FF-1756-4127-9C15-7FD83AEB969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7AA1E-92D6-48D4-97C7-BE7F482AA4FA}"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A7B64-8320-4121-BD9E-E19DCBB6912F}"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C19C-827E-4D6B-8D65-735657DB90D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9B125-A291-425F-A77F-AC89471F45DB}"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ACCC-8756-4727-B788-78ED986C6A2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2E47-0DF2-4114-A02D-F58A31301428}"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6272-29EE-4DD9-9133-9B1E15614ED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3450-AEF9-4A4E-AC54-604258F7B74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BE414-8545-4D65-9E9B-B74259C5C7D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65F1C-C2C1-401B-910F-90DEABD1480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0516-C7F3-4373-9B1B-2937D4CE499B}"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CF561-9FE5-441B-A568-904B6571F49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461F-C78C-4C0B-895D-7653241B1F70}"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96F8-F77C-4CDF-8208-CDB385F7AC68}"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8E6A1-CB17-4C96-ACBE-72D6D7AF9E6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6D80C-52C2-4F73-B39E-96B16C0E65F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8B93C-9B3C-4D35-B8D7-99FB2E53A25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107B8-74EA-42CB-A074-D88609430AB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