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4BA-1977-450B-9862-EC27D2C7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B3C-F2C9-4C08-934F-C3768E80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116-064D-422E-8378-B850D7E1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4F7-6458-4D3E-8040-6958A158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0638-2F3C-4976-8D91-69DC5AFA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BC81-FB09-4A56-8715-64AE024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0CD-5009-45BF-B9DB-CC042B47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2232-3F6E-448E-A034-A40679E1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A058-E8FE-4011-9810-EDA7D253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6999-C827-4C58-B807-1A53AA34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613-E9B1-42D2-BBD5-5119E99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E95-000B-4587-A636-C1EFD0D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7A7C-D9D3-412E-BC0F-D8A8912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F81-B97B-4A2A-BDC5-72FE349D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9FF1-D0E1-4B52-8EC1-D61FA91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C774-7673-49F8-B1E3-B16281E2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589-2189-45AB-AE6D-29AE46D1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2B1D9-E0C9-46B2-83A1-C3DAAF50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E8C8A-3B1F-4BA5-BD8F-92FA52A8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A3FCC-C227-4B37-BA76-E7459190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0BEA2-EEF3-4878-8023-C80E33A3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9D868-1E5B-4B6A-96DA-98818313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D02-DB17-4226-964C-08115E8F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E8B5-5DAE-491F-939E-806808F0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4C2C3-F3DE-4BE5-A74B-FFAFB6BD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9D62-BA5A-4539-B998-5C79D45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5EF5-E8F3-4D93-92E9-86D863F9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757CB-C7B8-4861-AF30-EF847F07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2867-EE46-46A7-9D7C-D63FD473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BCB0B-8808-4D8D-A67B-68D87B5F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1091-FA7A-4548-B94C-17E1FAD4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080B-84B1-4BE9-8971-C824AF4E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B1B0-BDA4-456C-9DBE-7D4A0A9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8D5-27AB-4B36-90A0-B323624E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0615-8C05-4D54-8FA4-2D9B619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C6447-8450-43E4-B96B-06860EEC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85B86-7B20-4CB6-902E-27468AAC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0426-D20B-4B00-8189-18C64C1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CB7FE-577E-49DC-BEFE-BC65009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5909-94BF-4A5C-B639-E697244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59DA-1643-4F26-8580-5504AC2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226B-3D9D-4F02-BDBC-0B58E9B8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A1602-3575-44D2-9C1D-CACD3134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3BC-7392-4825-AB93-6E4B874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C36-EED7-46BC-BEED-214C0C45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F21-AC96-4A7B-9780-FD3C884B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332-C7F5-41FB-B4A1-FC90DE5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B4C-9A8F-4478-8C98-DBE16A30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1AEC-0ED0-4517-9B51-C5615DD329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195E-9BBD-47A5-BDAF-25271F28495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5E8-A090-4660-8455-285E3FD21E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4547-A7DE-4C93-8A09-E53BB4A208C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5"/>
          <p:cNvSpPr/>
          <p:nvPr/>
        </p:nvSpPr>
        <p:spPr>
          <a:xfrm>
            <a:off x="3125880" y="2733840"/>
            <a:ext cx="5775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角拼接</a:t>
            </a:r>
            <a:r>
              <a:rPr b="1" lang="en-US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6"/>
          <p:cNvSpPr/>
          <p:nvPr/>
        </p:nvSpPr>
        <p:spPr>
          <a:xfrm>
            <a:off x="3654360" y="4070520"/>
            <a:ext cx="46576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矩形 7"/>
          <p:cNvSpPr/>
          <p:nvPr/>
        </p:nvSpPr>
        <p:spPr>
          <a:xfrm>
            <a:off x="4336920" y="339408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o Your 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Line 1"/>
          <p:cNvSpPr/>
          <p:nvPr/>
        </p:nvSpPr>
        <p:spPr>
          <a:xfrm flipV="1">
            <a:off x="4091040" y="1468080"/>
            <a:ext cx="4010040" cy="4040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2"/>
          <p:cNvSpPr/>
          <p:nvPr/>
        </p:nvSpPr>
        <p:spPr>
          <a:xfrm>
            <a:off x="3503520" y="3489480"/>
            <a:ext cx="51847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3"/>
          <p:cNvSpPr/>
          <p:nvPr/>
        </p:nvSpPr>
        <p:spPr>
          <a:xfrm flipH="1" flipV="1">
            <a:off x="4074840" y="1482480"/>
            <a:ext cx="4040280" cy="4011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4483080" y="1876320"/>
            <a:ext cx="322416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4954680" y="2617920"/>
            <a:ext cx="228132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Group 7"/>
          <p:cNvGrpSpPr/>
          <p:nvPr/>
        </p:nvGrpSpPr>
        <p:grpSpPr>
          <a:xfrm>
            <a:off x="8007480" y="5270400"/>
            <a:ext cx="976320" cy="974880"/>
            <a:chOff x="8007480" y="5270400"/>
            <a:chExt cx="976320" cy="974880"/>
          </a:xfrm>
        </p:grpSpPr>
        <p:sp>
          <p:nvSpPr>
            <p:cNvPr id="535" name="AutoShape 8"/>
            <p:cNvSpPr/>
            <p:nvPr/>
          </p:nvSpPr>
          <p:spPr>
            <a:xfrm>
              <a:off x="80074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82582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Group 9"/>
            <p:cNvGrpSpPr/>
            <p:nvPr/>
          </p:nvGrpSpPr>
          <p:grpSpPr>
            <a:xfrm>
              <a:off x="8101080" y="5343480"/>
              <a:ext cx="789120" cy="828360"/>
              <a:chOff x="8101080" y="5343480"/>
              <a:chExt cx="789120" cy="828360"/>
            </a:xfrm>
          </p:grpSpPr>
          <p:sp>
            <p:nvSpPr>
              <p:cNvPr id="537" name="AutoShape 10"/>
              <p:cNvSpPr/>
              <p:nvPr/>
            </p:nvSpPr>
            <p:spPr>
              <a:xfrm>
                <a:off x="81010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82582d"/>
              </a:solidFill>
              <a:ln w="12600">
                <a:solidFill>
                  <a:srgbClr val="82582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AutoShape 11"/>
              <p:cNvSpPr/>
              <p:nvPr/>
            </p:nvSpPr>
            <p:spPr>
              <a:xfrm>
                <a:off x="82166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39" name="Group 12"/>
          <p:cNvGrpSpPr/>
          <p:nvPr/>
        </p:nvGrpSpPr>
        <p:grpSpPr>
          <a:xfrm>
            <a:off x="3206880" y="5270400"/>
            <a:ext cx="976320" cy="974880"/>
            <a:chOff x="3206880" y="5270400"/>
            <a:chExt cx="976320" cy="974880"/>
          </a:xfrm>
        </p:grpSpPr>
        <p:sp>
          <p:nvSpPr>
            <p:cNvPr id="540" name="AutoShape 13"/>
            <p:cNvSpPr/>
            <p:nvPr/>
          </p:nvSpPr>
          <p:spPr>
            <a:xfrm>
              <a:off x="3206880" y="527040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1" name="Group 14"/>
            <p:cNvGrpSpPr/>
            <p:nvPr/>
          </p:nvGrpSpPr>
          <p:grpSpPr>
            <a:xfrm>
              <a:off x="3300480" y="5343480"/>
              <a:ext cx="789120" cy="828360"/>
              <a:chOff x="3300480" y="5343480"/>
              <a:chExt cx="789120" cy="828360"/>
            </a:xfrm>
          </p:grpSpPr>
          <p:sp>
            <p:nvSpPr>
              <p:cNvPr id="542" name="AutoShape 15"/>
              <p:cNvSpPr/>
              <p:nvPr/>
            </p:nvSpPr>
            <p:spPr>
              <a:xfrm>
                <a:off x="3300480" y="536364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AutoShape 16"/>
              <p:cNvSpPr/>
              <p:nvPr/>
            </p:nvSpPr>
            <p:spPr>
              <a:xfrm>
                <a:off x="3416040" y="534348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4" name="Group 17"/>
          <p:cNvGrpSpPr/>
          <p:nvPr/>
        </p:nvGrpSpPr>
        <p:grpSpPr>
          <a:xfrm>
            <a:off x="8623440" y="2949480"/>
            <a:ext cx="976320" cy="976320"/>
            <a:chOff x="8623440" y="2949480"/>
            <a:chExt cx="976320" cy="976320"/>
          </a:xfrm>
        </p:grpSpPr>
        <p:sp>
          <p:nvSpPr>
            <p:cNvPr id="545" name="AutoShape 18"/>
            <p:cNvSpPr/>
            <p:nvPr/>
          </p:nvSpPr>
          <p:spPr>
            <a:xfrm>
              <a:off x="862344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6" name="Group 19"/>
            <p:cNvGrpSpPr/>
            <p:nvPr/>
          </p:nvGrpSpPr>
          <p:grpSpPr>
            <a:xfrm>
              <a:off x="8717040" y="3023640"/>
              <a:ext cx="789120" cy="828000"/>
              <a:chOff x="8717040" y="3023640"/>
              <a:chExt cx="789120" cy="828000"/>
            </a:xfrm>
          </p:grpSpPr>
          <p:sp>
            <p:nvSpPr>
              <p:cNvPr id="547" name="AutoShape 20"/>
              <p:cNvSpPr/>
              <p:nvPr/>
            </p:nvSpPr>
            <p:spPr>
              <a:xfrm>
                <a:off x="871704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AutoShape 21"/>
              <p:cNvSpPr/>
              <p:nvPr/>
            </p:nvSpPr>
            <p:spPr>
              <a:xfrm>
                <a:off x="883260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9" name="Group 22"/>
          <p:cNvGrpSpPr/>
          <p:nvPr/>
        </p:nvGrpSpPr>
        <p:grpSpPr>
          <a:xfrm>
            <a:off x="2513160" y="2949480"/>
            <a:ext cx="976320" cy="976320"/>
            <a:chOff x="2513160" y="2949480"/>
            <a:chExt cx="976320" cy="976320"/>
          </a:xfrm>
        </p:grpSpPr>
        <p:sp>
          <p:nvSpPr>
            <p:cNvPr id="550" name="AutoShape 23"/>
            <p:cNvSpPr/>
            <p:nvPr/>
          </p:nvSpPr>
          <p:spPr>
            <a:xfrm>
              <a:off x="25131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1" name="Group 24"/>
            <p:cNvGrpSpPr/>
            <p:nvPr/>
          </p:nvGrpSpPr>
          <p:grpSpPr>
            <a:xfrm>
              <a:off x="2606760" y="3023640"/>
              <a:ext cx="789120" cy="828000"/>
              <a:chOff x="2606760" y="3023640"/>
              <a:chExt cx="789120" cy="828000"/>
            </a:xfrm>
          </p:grpSpPr>
          <p:sp>
            <p:nvSpPr>
              <p:cNvPr id="552" name="AutoShape 25"/>
              <p:cNvSpPr/>
              <p:nvPr/>
            </p:nvSpPr>
            <p:spPr>
              <a:xfrm>
                <a:off x="26067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/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AutoShape 26"/>
              <p:cNvSpPr/>
              <p:nvPr/>
            </p:nvSpPr>
            <p:spPr>
              <a:xfrm>
                <a:off x="27223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5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Group 27"/>
          <p:cNvGrpSpPr/>
          <p:nvPr/>
        </p:nvGrpSpPr>
        <p:grpSpPr>
          <a:xfrm>
            <a:off x="8007480" y="676440"/>
            <a:ext cx="976320" cy="976320"/>
            <a:chOff x="8007480" y="676440"/>
            <a:chExt cx="976320" cy="976320"/>
          </a:xfrm>
        </p:grpSpPr>
        <p:sp>
          <p:nvSpPr>
            <p:cNvPr id="555" name="AutoShape 28"/>
            <p:cNvSpPr/>
            <p:nvPr/>
          </p:nvSpPr>
          <p:spPr>
            <a:xfrm>
              <a:off x="80074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6" name="Group 29"/>
            <p:cNvGrpSpPr/>
            <p:nvPr/>
          </p:nvGrpSpPr>
          <p:grpSpPr>
            <a:xfrm>
              <a:off x="8101080" y="750600"/>
              <a:ext cx="789120" cy="828000"/>
              <a:chOff x="8101080" y="750600"/>
              <a:chExt cx="789120" cy="828000"/>
            </a:xfrm>
          </p:grpSpPr>
          <p:sp>
            <p:nvSpPr>
              <p:cNvPr id="557" name="AutoShape 30"/>
              <p:cNvSpPr/>
              <p:nvPr/>
            </p:nvSpPr>
            <p:spPr>
              <a:xfrm>
                <a:off x="81010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>
                  <a:alpha val="69000"/>
                </a:srgbClr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AutoShape 31"/>
              <p:cNvSpPr/>
              <p:nvPr/>
            </p:nvSpPr>
            <p:spPr>
              <a:xfrm>
                <a:off x="82166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Group 32"/>
          <p:cNvGrpSpPr/>
          <p:nvPr/>
        </p:nvGrpSpPr>
        <p:grpSpPr>
          <a:xfrm>
            <a:off x="3206880" y="676440"/>
            <a:ext cx="976320" cy="976320"/>
            <a:chOff x="3206880" y="676440"/>
            <a:chExt cx="976320" cy="976320"/>
          </a:xfrm>
        </p:grpSpPr>
        <p:sp>
          <p:nvSpPr>
            <p:cNvPr id="560" name="AutoShape 33"/>
            <p:cNvSpPr/>
            <p:nvPr/>
          </p:nvSpPr>
          <p:spPr>
            <a:xfrm>
              <a:off x="3206880" y="67644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1" name="Group 34"/>
            <p:cNvGrpSpPr/>
            <p:nvPr/>
          </p:nvGrpSpPr>
          <p:grpSpPr>
            <a:xfrm>
              <a:off x="3300480" y="750600"/>
              <a:ext cx="789120" cy="828000"/>
              <a:chOff x="3300480" y="750600"/>
              <a:chExt cx="789120" cy="828000"/>
            </a:xfrm>
          </p:grpSpPr>
          <p:sp>
            <p:nvSpPr>
              <p:cNvPr id="562" name="AutoShape 35"/>
              <p:cNvSpPr/>
              <p:nvPr/>
            </p:nvSpPr>
            <p:spPr>
              <a:xfrm>
                <a:off x="3300480" y="77004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c00000">
                  <a:alpha val="69000"/>
                </a:srgbClr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AutoShape 36"/>
              <p:cNvSpPr/>
              <p:nvPr/>
            </p:nvSpPr>
            <p:spPr>
              <a:xfrm>
                <a:off x="3416040" y="75060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6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64" name="AutoShape 37"/>
          <p:cNvSpPr/>
          <p:nvPr/>
        </p:nvSpPr>
        <p:spPr>
          <a:xfrm>
            <a:off x="1994040" y="1795320"/>
            <a:ext cx="184140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38"/>
          <p:cNvSpPr/>
          <p:nvPr/>
        </p:nvSpPr>
        <p:spPr>
          <a:xfrm>
            <a:off x="566640" y="3284640"/>
            <a:ext cx="187956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39"/>
          <p:cNvSpPr/>
          <p:nvPr/>
        </p:nvSpPr>
        <p:spPr>
          <a:xfrm>
            <a:off x="9693360" y="3284640"/>
            <a:ext cx="1995480" cy="3348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40"/>
          <p:cNvSpPr/>
          <p:nvPr/>
        </p:nvSpPr>
        <p:spPr>
          <a:xfrm>
            <a:off x="8354880" y="1795320"/>
            <a:ext cx="1925640" cy="33516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41"/>
          <p:cNvSpPr/>
          <p:nvPr/>
        </p:nvSpPr>
        <p:spPr>
          <a:xfrm>
            <a:off x="1849320" y="4718160"/>
            <a:ext cx="198612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AutoShape 42"/>
          <p:cNvSpPr/>
          <p:nvPr/>
        </p:nvSpPr>
        <p:spPr>
          <a:xfrm>
            <a:off x="8354880" y="4718160"/>
            <a:ext cx="2022480" cy="336600"/>
          </a:xfrm>
          <a:prstGeom prst="pi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组合 3" descr=""/>
          <p:cNvPicPr/>
          <p:nvPr/>
        </p:nvPicPr>
        <p:blipFill>
          <a:blip r:embed="rId1"/>
          <a:stretch/>
        </p:blipFill>
        <p:spPr>
          <a:xfrm>
            <a:off x="4267080" y="18590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7"/>
          <p:cNvSpPr/>
          <p:nvPr/>
        </p:nvSpPr>
        <p:spPr>
          <a:xfrm>
            <a:off x="7162920" y="1495440"/>
            <a:ext cx="204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243160" y="41590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9"/>
          <p:cNvSpPr/>
          <p:nvPr/>
        </p:nvSpPr>
        <p:spPr>
          <a:xfrm>
            <a:off x="8298000" y="4086360"/>
            <a:ext cx="204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8"/>
          <p:cNvGrpSpPr/>
          <p:nvPr/>
        </p:nvGrpSpPr>
        <p:grpSpPr>
          <a:xfrm>
            <a:off x="5302080" y="1333440"/>
            <a:ext cx="1632240" cy="1612800"/>
            <a:chOff x="5302080" y="1333440"/>
            <a:chExt cx="1632240" cy="1612800"/>
          </a:xfrm>
        </p:grpSpPr>
        <p:grpSp>
          <p:nvGrpSpPr>
            <p:cNvPr id="575" name="Group 9"/>
            <p:cNvGrpSpPr/>
            <p:nvPr/>
          </p:nvGrpSpPr>
          <p:grpSpPr>
            <a:xfrm>
              <a:off x="5302080" y="1333440"/>
              <a:ext cx="1632240" cy="1612800"/>
              <a:chOff x="5302080" y="1333440"/>
              <a:chExt cx="1632240" cy="1612800"/>
            </a:xfrm>
          </p:grpSpPr>
          <p:sp>
            <p:nvSpPr>
              <p:cNvPr id="576" name="Oval 12"/>
              <p:cNvSpPr/>
              <p:nvPr/>
            </p:nvSpPr>
            <p:spPr>
              <a:xfrm>
                <a:off x="5302080" y="13334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Oval 13"/>
              <p:cNvSpPr/>
              <p:nvPr/>
            </p:nvSpPr>
            <p:spPr>
              <a:xfrm>
                <a:off x="5338440" y="13698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8" name="Group 12"/>
            <p:cNvGrpSpPr/>
            <p:nvPr/>
          </p:nvGrpSpPr>
          <p:grpSpPr>
            <a:xfrm>
              <a:off x="5374080" y="1404000"/>
              <a:ext cx="1508400" cy="1491840"/>
              <a:chOff x="5374080" y="1404000"/>
              <a:chExt cx="1508400" cy="1491840"/>
            </a:xfrm>
          </p:grpSpPr>
          <p:sp>
            <p:nvSpPr>
              <p:cNvPr id="579" name="Oval 15"/>
              <p:cNvSpPr/>
              <p:nvPr/>
            </p:nvSpPr>
            <p:spPr>
              <a:xfrm>
                <a:off x="5374080" y="14040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Oval 16"/>
              <p:cNvSpPr/>
              <p:nvPr/>
            </p:nvSpPr>
            <p:spPr>
              <a:xfrm>
                <a:off x="5407920" y="14378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1" name="Oval 32"/>
          <p:cNvSpPr/>
          <p:nvPr/>
        </p:nvSpPr>
        <p:spPr>
          <a:xfrm>
            <a:off x="5416560" y="1446120"/>
            <a:ext cx="1398600" cy="1386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34"/>
          <p:cNvSpPr/>
          <p:nvPr/>
        </p:nvSpPr>
        <p:spPr>
          <a:xfrm>
            <a:off x="5345280" y="183528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6665760" y="3540240"/>
            <a:ext cx="1632240" cy="1612800"/>
            <a:chOff x="6665760" y="3540240"/>
            <a:chExt cx="1632240" cy="1612800"/>
          </a:xfrm>
        </p:grpSpPr>
        <p:grpSp>
          <p:nvGrpSpPr>
            <p:cNvPr id="584" name="Group 9"/>
            <p:cNvGrpSpPr/>
            <p:nvPr/>
          </p:nvGrpSpPr>
          <p:grpSpPr>
            <a:xfrm>
              <a:off x="6665760" y="3540240"/>
              <a:ext cx="1632240" cy="1612800"/>
              <a:chOff x="6665760" y="3540240"/>
              <a:chExt cx="1632240" cy="1612800"/>
            </a:xfrm>
          </p:grpSpPr>
          <p:sp>
            <p:nvSpPr>
              <p:cNvPr id="585" name="Oval 12"/>
              <p:cNvSpPr/>
              <p:nvPr/>
            </p:nvSpPr>
            <p:spPr>
              <a:xfrm>
                <a:off x="6665760" y="3540240"/>
                <a:ext cx="163224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Oval 13"/>
              <p:cNvSpPr/>
              <p:nvPr/>
            </p:nvSpPr>
            <p:spPr>
              <a:xfrm>
                <a:off x="6702120" y="3576600"/>
                <a:ext cx="156132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7" name="Group 12"/>
            <p:cNvGrpSpPr/>
            <p:nvPr/>
          </p:nvGrpSpPr>
          <p:grpSpPr>
            <a:xfrm>
              <a:off x="6737760" y="3610800"/>
              <a:ext cx="1508400" cy="1491840"/>
              <a:chOff x="6737760" y="3610800"/>
              <a:chExt cx="1508400" cy="1491840"/>
            </a:xfrm>
          </p:grpSpPr>
          <p:sp>
            <p:nvSpPr>
              <p:cNvPr id="588" name="Oval 15"/>
              <p:cNvSpPr/>
              <p:nvPr/>
            </p:nvSpPr>
            <p:spPr>
              <a:xfrm>
                <a:off x="6737760" y="3610800"/>
                <a:ext cx="150840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Oval 16"/>
              <p:cNvSpPr/>
              <p:nvPr/>
            </p:nvSpPr>
            <p:spPr>
              <a:xfrm>
                <a:off x="6771600" y="364464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0" name="Oval 32"/>
          <p:cNvSpPr/>
          <p:nvPr/>
        </p:nvSpPr>
        <p:spPr>
          <a:xfrm>
            <a:off x="6780240" y="3652920"/>
            <a:ext cx="1398600" cy="138564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6708600" y="4041720"/>
            <a:ext cx="14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Group 8"/>
          <p:cNvGrpSpPr/>
          <p:nvPr/>
        </p:nvGrpSpPr>
        <p:grpSpPr>
          <a:xfrm>
            <a:off x="3865680" y="3540240"/>
            <a:ext cx="1631880" cy="1612800"/>
            <a:chOff x="3865680" y="3540240"/>
            <a:chExt cx="1631880" cy="1612800"/>
          </a:xfrm>
        </p:grpSpPr>
        <p:grpSp>
          <p:nvGrpSpPr>
            <p:cNvPr id="593" name="Group 9"/>
            <p:cNvGrpSpPr/>
            <p:nvPr/>
          </p:nvGrpSpPr>
          <p:grpSpPr>
            <a:xfrm>
              <a:off x="3865680" y="3540240"/>
              <a:ext cx="1631880" cy="1612800"/>
              <a:chOff x="3865680" y="3540240"/>
              <a:chExt cx="1631880" cy="1612800"/>
            </a:xfrm>
          </p:grpSpPr>
          <p:sp>
            <p:nvSpPr>
              <p:cNvPr id="594" name="Oval 12"/>
              <p:cNvSpPr/>
              <p:nvPr/>
            </p:nvSpPr>
            <p:spPr>
              <a:xfrm>
                <a:off x="3865680" y="3540240"/>
                <a:ext cx="1631880" cy="161280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Oval 13"/>
              <p:cNvSpPr/>
              <p:nvPr/>
            </p:nvSpPr>
            <p:spPr>
              <a:xfrm>
                <a:off x="3902040" y="3576600"/>
                <a:ext cx="1560960" cy="15422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6" name="Group 12"/>
            <p:cNvGrpSpPr/>
            <p:nvPr/>
          </p:nvGrpSpPr>
          <p:grpSpPr>
            <a:xfrm>
              <a:off x="3937680" y="3610800"/>
              <a:ext cx="1508040" cy="1491840"/>
              <a:chOff x="3937680" y="3610800"/>
              <a:chExt cx="1508040" cy="1491840"/>
            </a:xfrm>
          </p:grpSpPr>
          <p:sp>
            <p:nvSpPr>
              <p:cNvPr id="597" name="Oval 15"/>
              <p:cNvSpPr/>
              <p:nvPr/>
            </p:nvSpPr>
            <p:spPr>
              <a:xfrm>
                <a:off x="3937680" y="3610800"/>
                <a:ext cx="1508040" cy="1491840"/>
              </a:xfrm>
              <a:prstGeom prst="ellipse">
                <a:avLst/>
              </a:prstGeom>
              <a:solidFill>
                <a:srgbClr val="0000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Oval 16"/>
              <p:cNvSpPr/>
              <p:nvPr/>
            </p:nvSpPr>
            <p:spPr>
              <a:xfrm>
                <a:off x="3971520" y="3644640"/>
                <a:ext cx="144252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9" name="Oval 32"/>
          <p:cNvSpPr/>
          <p:nvPr/>
        </p:nvSpPr>
        <p:spPr>
          <a:xfrm>
            <a:off x="3979800" y="3652920"/>
            <a:ext cx="1398600" cy="138564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4"/>
          <p:cNvSpPr/>
          <p:nvPr/>
        </p:nvSpPr>
        <p:spPr>
          <a:xfrm>
            <a:off x="3908520" y="4041720"/>
            <a:ext cx="14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2"/>
          <p:cNvSpPr/>
          <p:nvPr/>
        </p:nvSpPr>
        <p:spPr>
          <a:xfrm>
            <a:off x="2201760" y="1103400"/>
            <a:ext cx="1744920" cy="174312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fffff">
              <a:alpha val="69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2070000" y="971640"/>
            <a:ext cx="2008440" cy="2006640"/>
            <a:chOff x="2070000" y="971640"/>
            <a:chExt cx="2008440" cy="2006640"/>
          </a:xfrm>
        </p:grpSpPr>
        <p:sp>
          <p:nvSpPr>
            <p:cNvPr id="603" name="AutoShape 4"/>
            <p:cNvSpPr/>
            <p:nvPr/>
          </p:nvSpPr>
          <p:spPr>
            <a:xfrm>
              <a:off x="2070000" y="971640"/>
              <a:ext cx="2008440" cy="2006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AutoShape 5"/>
            <p:cNvSpPr/>
            <p:nvPr/>
          </p:nvSpPr>
          <p:spPr>
            <a:xfrm>
              <a:off x="2364120" y="1465560"/>
              <a:ext cx="1420200" cy="1018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Bodoni MT Black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5" name="Group 6"/>
          <p:cNvGrpSpPr/>
          <p:nvPr/>
        </p:nvGrpSpPr>
        <p:grpSpPr>
          <a:xfrm>
            <a:off x="5148360" y="941400"/>
            <a:ext cx="2006640" cy="2006640"/>
            <a:chOff x="5148360" y="941400"/>
            <a:chExt cx="2006640" cy="2006640"/>
          </a:xfrm>
        </p:grpSpPr>
        <p:sp>
          <p:nvSpPr>
            <p:cNvPr id="606" name="AutoShape 7"/>
            <p:cNvSpPr/>
            <p:nvPr/>
          </p:nvSpPr>
          <p:spPr>
            <a:xfrm>
              <a:off x="528048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7" name="Group 8"/>
            <p:cNvGrpSpPr/>
            <p:nvPr/>
          </p:nvGrpSpPr>
          <p:grpSpPr>
            <a:xfrm>
              <a:off x="5148360" y="941400"/>
              <a:ext cx="2006640" cy="2006640"/>
              <a:chOff x="5148360" y="941400"/>
              <a:chExt cx="2006640" cy="2006640"/>
            </a:xfrm>
          </p:grpSpPr>
          <p:sp>
            <p:nvSpPr>
              <p:cNvPr id="608" name="AutoShape 9"/>
              <p:cNvSpPr/>
              <p:nvPr/>
            </p:nvSpPr>
            <p:spPr>
              <a:xfrm>
                <a:off x="514836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AutoShape 10"/>
              <p:cNvSpPr/>
              <p:nvPr/>
            </p:nvSpPr>
            <p:spPr>
              <a:xfrm>
                <a:off x="544212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oup 11"/>
          <p:cNvGrpSpPr/>
          <p:nvPr/>
        </p:nvGrpSpPr>
        <p:grpSpPr>
          <a:xfrm>
            <a:off x="8136000" y="941400"/>
            <a:ext cx="2006640" cy="2006640"/>
            <a:chOff x="8136000" y="941400"/>
            <a:chExt cx="2006640" cy="2006640"/>
          </a:xfrm>
        </p:grpSpPr>
        <p:sp>
          <p:nvSpPr>
            <p:cNvPr id="611" name="AutoShape 12"/>
            <p:cNvSpPr/>
            <p:nvPr/>
          </p:nvSpPr>
          <p:spPr>
            <a:xfrm>
              <a:off x="8268120" y="1073520"/>
              <a:ext cx="1742400" cy="17424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oup 13"/>
            <p:cNvGrpSpPr/>
            <p:nvPr/>
          </p:nvGrpSpPr>
          <p:grpSpPr>
            <a:xfrm>
              <a:off x="8136000" y="941400"/>
              <a:ext cx="2006640" cy="2006640"/>
              <a:chOff x="8136000" y="941400"/>
              <a:chExt cx="2006640" cy="2006640"/>
            </a:xfrm>
          </p:grpSpPr>
          <p:sp>
            <p:nvSpPr>
              <p:cNvPr id="613" name="AutoShape 14"/>
              <p:cNvSpPr/>
              <p:nvPr/>
            </p:nvSpPr>
            <p:spPr>
              <a:xfrm>
                <a:off x="8136000" y="941400"/>
                <a:ext cx="2006640" cy="20066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9" y="6724"/>
                      <a:pt x="20639" y="12953"/>
                      <a:pt x="16796" y="16796"/>
                    </a:cubicBezTo>
                    <a:cubicBezTo>
                      <a:pt x="12953" y="20639"/>
                      <a:pt x="6724" y="20639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fffff">
                  <a:alpha val="69000"/>
                </a:srgbClr>
              </a:solidFill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AutoShape 15"/>
              <p:cNvSpPr/>
              <p:nvPr/>
            </p:nvSpPr>
            <p:spPr>
              <a:xfrm>
                <a:off x="8429760" y="1435320"/>
                <a:ext cx="1419120" cy="10184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Bodoni MT Black"/>
                    <a:ea typeface="宋体"/>
                  </a:rPr>
                  <a:t>TITLE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5" name="Group 16"/>
          <p:cNvGrpSpPr/>
          <p:nvPr/>
        </p:nvGrpSpPr>
        <p:grpSpPr>
          <a:xfrm>
            <a:off x="2201760" y="3700440"/>
            <a:ext cx="1744920" cy="2122560"/>
            <a:chOff x="2201760" y="3700440"/>
            <a:chExt cx="1744920" cy="2122560"/>
          </a:xfrm>
        </p:grpSpPr>
        <p:sp>
          <p:nvSpPr>
            <p:cNvPr id="616" name="AutoShape 17"/>
            <p:cNvSpPr/>
            <p:nvPr/>
          </p:nvSpPr>
          <p:spPr>
            <a:xfrm>
              <a:off x="2201760" y="3700440"/>
              <a:ext cx="1744920" cy="2122560"/>
            </a:xfrm>
            <a:custGeom>
              <a:avLst/>
              <a:gdLst>
                <a:gd name="textAreaLeft" fmla="*/ 43560 w 1744920"/>
                <a:gd name="textAreaRight" fmla="*/ 1701360 w 17449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274">
                  <a:moveTo>
                    <a:pt x="1852" y="0"/>
                  </a:moveTo>
                  <a:arcTo wR="1852" hR="1852" stAng="16200000" swAng="-5400000"/>
                  <a:lnTo>
                    <a:pt x="0" y="24422"/>
                  </a:lnTo>
                  <a:arcTo wR="1852" hR="1852" stAng="10800000" swAng="-5400000"/>
                  <a:lnTo>
                    <a:pt x="19748" y="26274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AutoShape 18"/>
            <p:cNvSpPr/>
            <p:nvPr/>
          </p:nvSpPr>
          <p:spPr>
            <a:xfrm>
              <a:off x="2245320" y="4060800"/>
              <a:ext cx="16574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8" name="AutoShape 19"/>
          <p:cNvSpPr/>
          <p:nvPr/>
        </p:nvSpPr>
        <p:spPr>
          <a:xfrm rot="5400000">
            <a:off x="2893680" y="319068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0"/>
          <p:cNvGrpSpPr/>
          <p:nvPr/>
        </p:nvGrpSpPr>
        <p:grpSpPr>
          <a:xfrm>
            <a:off x="5280120" y="3670200"/>
            <a:ext cx="1743120" cy="2122560"/>
            <a:chOff x="5280120" y="3670200"/>
            <a:chExt cx="1743120" cy="2122560"/>
          </a:xfrm>
        </p:grpSpPr>
        <p:sp>
          <p:nvSpPr>
            <p:cNvPr id="620" name="AutoShape 21"/>
            <p:cNvSpPr/>
            <p:nvPr/>
          </p:nvSpPr>
          <p:spPr>
            <a:xfrm>
              <a:off x="528012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AutoShape 22"/>
            <p:cNvSpPr/>
            <p:nvPr/>
          </p:nvSpPr>
          <p:spPr>
            <a:xfrm>
              <a:off x="532368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2" name="AutoShape 23"/>
          <p:cNvSpPr/>
          <p:nvPr/>
        </p:nvSpPr>
        <p:spPr>
          <a:xfrm rot="5400000">
            <a:off x="597168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Group 24"/>
          <p:cNvGrpSpPr/>
          <p:nvPr/>
        </p:nvGrpSpPr>
        <p:grpSpPr>
          <a:xfrm>
            <a:off x="8267760" y="3670200"/>
            <a:ext cx="1743120" cy="2122560"/>
            <a:chOff x="8267760" y="3670200"/>
            <a:chExt cx="1743120" cy="2122560"/>
          </a:xfrm>
        </p:grpSpPr>
        <p:sp>
          <p:nvSpPr>
            <p:cNvPr id="624" name="AutoShape 25"/>
            <p:cNvSpPr/>
            <p:nvPr/>
          </p:nvSpPr>
          <p:spPr>
            <a:xfrm>
              <a:off x="8267760" y="3670200"/>
              <a:ext cx="1743120" cy="2122560"/>
            </a:xfrm>
            <a:custGeom>
              <a:avLst/>
              <a:gdLst>
                <a:gd name="textAreaLeft" fmla="*/ 43560 w 1743120"/>
                <a:gd name="textAreaRight" fmla="*/ 1699560 w 1743120"/>
                <a:gd name="textAreaTop" fmla="*/ 43560 h 2122560"/>
                <a:gd name="textAreaBottom" fmla="*/ 2079000 h 2122560"/>
              </a:gdLst>
              <a:ahLst/>
              <a:rect l="textAreaLeft" t="textAreaTop" r="textAreaRight" b="textAreaBottom"/>
              <a:pathLst>
                <a:path w="21600" h="26301">
                  <a:moveTo>
                    <a:pt x="1852" y="0"/>
                  </a:moveTo>
                  <a:arcTo wR="1852" hR="1852" stAng="16200000" swAng="-5400000"/>
                  <a:lnTo>
                    <a:pt x="0" y="24449"/>
                  </a:lnTo>
                  <a:arcTo wR="1852" hR="1852" stAng="10800000" swAng="-5400000"/>
                  <a:lnTo>
                    <a:pt x="19748" y="26301"/>
                  </a:lnTo>
                  <a:arcTo wR="1852" hR="1852" stAng="5400000" swAng="-5400000"/>
                  <a:lnTo>
                    <a:pt x="21600" y="1852"/>
                  </a:lnTo>
                  <a:arcTo wR="1852" hR="1852" stAng="0" swAng="-5400000"/>
                  <a:close/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AutoShape 26"/>
            <p:cNvSpPr/>
            <p:nvPr/>
          </p:nvSpPr>
          <p:spPr>
            <a:xfrm>
              <a:off x="8311320" y="4030560"/>
              <a:ext cx="1655640" cy="1401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AutoShape 27"/>
          <p:cNvSpPr/>
          <p:nvPr/>
        </p:nvSpPr>
        <p:spPr>
          <a:xfrm rot="5400000">
            <a:off x="8959320" y="3160440"/>
            <a:ext cx="358560" cy="358920"/>
          </a:xfrm>
          <a:custGeom>
            <a:avLst/>
            <a:gdLst>
              <a:gd name="textAreaLeft" fmla="*/ 0 w 358560"/>
              <a:gd name="textAreaRight" fmla="*/ 35856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6508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1"/>
          <p:cNvSpPr/>
          <p:nvPr/>
        </p:nvSpPr>
        <p:spPr>
          <a:xfrm>
            <a:off x="8740800" y="1946160"/>
            <a:ext cx="1452600" cy="3210120"/>
          </a:xfrm>
          <a:prstGeom prst="triangle">
            <a:avLst>
              <a:gd name="adj" fmla="val 5000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2"/>
          <p:cNvSpPr/>
          <p:nvPr/>
        </p:nvSpPr>
        <p:spPr>
          <a:xfrm>
            <a:off x="1692360" y="2695680"/>
            <a:ext cx="2239920" cy="2460600"/>
          </a:xfrm>
          <a:prstGeom prst="triangle">
            <a:avLst>
              <a:gd name="adj" fmla="val 5000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3619440" y="3340080"/>
            <a:ext cx="1855800" cy="1816200"/>
          </a:xfrm>
          <a:prstGeom prst="triangle">
            <a:avLst>
              <a:gd name="adj" fmla="val 5000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AutoShape 4"/>
          <p:cNvSpPr/>
          <p:nvPr/>
        </p:nvSpPr>
        <p:spPr>
          <a:xfrm>
            <a:off x="5224320" y="2346480"/>
            <a:ext cx="1768680" cy="2809800"/>
          </a:xfrm>
          <a:prstGeom prst="triangle">
            <a:avLst>
              <a:gd name="adj" fmla="val 50000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6832440" y="2658960"/>
            <a:ext cx="2027520" cy="2497320"/>
          </a:xfrm>
          <a:prstGeom prst="triangle">
            <a:avLst>
              <a:gd name="adj" fmla="val 50000"/>
            </a:avLst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227160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AutoShape 7"/>
          <p:cNvSpPr/>
          <p:nvPr/>
        </p:nvSpPr>
        <p:spPr>
          <a:xfrm>
            <a:off x="400680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8"/>
          <p:cNvSpPr/>
          <p:nvPr/>
        </p:nvSpPr>
        <p:spPr>
          <a:xfrm>
            <a:off x="5567400" y="5437080"/>
            <a:ext cx="108252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9"/>
          <p:cNvSpPr/>
          <p:nvPr/>
        </p:nvSpPr>
        <p:spPr>
          <a:xfrm>
            <a:off x="7304040" y="5437080"/>
            <a:ext cx="10828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10"/>
          <p:cNvSpPr/>
          <p:nvPr/>
        </p:nvSpPr>
        <p:spPr>
          <a:xfrm>
            <a:off x="8934480" y="5437080"/>
            <a:ext cx="1081080" cy="370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2039760" y="915840"/>
            <a:ext cx="483408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039760" y="1747800"/>
            <a:ext cx="549936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78040" y="1793880"/>
            <a:ext cx="2431800" cy="2432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AutoShape 3"/>
          <p:cNvSpPr/>
          <p:nvPr/>
        </p:nvSpPr>
        <p:spPr>
          <a:xfrm>
            <a:off x="1233360" y="2417760"/>
            <a:ext cx="172080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2583000" y="2090880"/>
            <a:ext cx="2006640" cy="1838160"/>
          </a:xfrm>
          <a:prstGeom prst="wedgeEllipseCallout">
            <a:avLst>
              <a:gd name="adj1" fmla="val 44814"/>
              <a:gd name="adj2" fmla="val 49166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2876400" y="2417760"/>
            <a:ext cx="1419480" cy="118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8" name="Group 7"/>
          <p:cNvGrpSpPr/>
          <p:nvPr/>
        </p:nvGrpSpPr>
        <p:grpSpPr>
          <a:xfrm>
            <a:off x="5165640" y="1646280"/>
            <a:ext cx="6276960" cy="2724120"/>
            <a:chOff x="5165640" y="1646280"/>
            <a:chExt cx="6276960" cy="2724120"/>
          </a:xfrm>
        </p:grpSpPr>
        <p:sp>
          <p:nvSpPr>
            <p:cNvPr id="649" name="AutoShape 8"/>
            <p:cNvSpPr/>
            <p:nvPr/>
          </p:nvSpPr>
          <p:spPr>
            <a:xfrm>
              <a:off x="5165640" y="1646280"/>
              <a:ext cx="6276960" cy="2724120"/>
            </a:xfrm>
            <a:prstGeom prst="roundRect">
              <a:avLst>
                <a:gd name="adj" fmla="val 3505"/>
              </a:avLst>
            </a:prstGeom>
            <a:solidFill>
              <a:srgbClr val="fffff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>
              <a:off x="5193360" y="1936080"/>
              <a:ext cx="6221160" cy="2144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7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          点击添加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Line 1"/>
          <p:cNvSpPr/>
          <p:nvPr/>
        </p:nvSpPr>
        <p:spPr>
          <a:xfrm>
            <a:off x="2467080" y="3848040"/>
            <a:ext cx="7048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Line 2"/>
          <p:cNvSpPr/>
          <p:nvPr/>
        </p:nvSpPr>
        <p:spPr>
          <a:xfrm>
            <a:off x="5991120" y="1482840"/>
            <a:ext cx="0" cy="473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Group 3"/>
          <p:cNvGrpSpPr/>
          <p:nvPr/>
        </p:nvGrpSpPr>
        <p:grpSpPr>
          <a:xfrm>
            <a:off x="2760840" y="1820880"/>
            <a:ext cx="2912760" cy="1719360"/>
            <a:chOff x="2760840" y="1820880"/>
            <a:chExt cx="2912760" cy="1719360"/>
          </a:xfrm>
        </p:grpSpPr>
        <p:sp>
          <p:nvSpPr>
            <p:cNvPr id="654" name="AutoShape 4"/>
            <p:cNvSpPr/>
            <p:nvPr/>
          </p:nvSpPr>
          <p:spPr>
            <a:xfrm>
              <a:off x="2760840" y="18208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>
              <a:off x="2794680" y="21589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6" name="Group 6"/>
          <p:cNvGrpSpPr/>
          <p:nvPr/>
        </p:nvGrpSpPr>
        <p:grpSpPr>
          <a:xfrm>
            <a:off x="6308640" y="1806480"/>
            <a:ext cx="2913120" cy="1717920"/>
            <a:chOff x="6308640" y="1806480"/>
            <a:chExt cx="2913120" cy="1717920"/>
          </a:xfrm>
        </p:grpSpPr>
        <p:sp>
          <p:nvSpPr>
            <p:cNvPr id="657" name="AutoShape 7"/>
            <p:cNvSpPr/>
            <p:nvPr/>
          </p:nvSpPr>
          <p:spPr>
            <a:xfrm>
              <a:off x="6308640" y="1806480"/>
              <a:ext cx="2913120" cy="171792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AutoShape 8"/>
            <p:cNvSpPr/>
            <p:nvPr/>
          </p:nvSpPr>
          <p:spPr>
            <a:xfrm>
              <a:off x="6342480" y="2143800"/>
              <a:ext cx="2845440" cy="1043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9" name="Group 9"/>
          <p:cNvGrpSpPr/>
          <p:nvPr/>
        </p:nvGrpSpPr>
        <p:grpSpPr>
          <a:xfrm>
            <a:off x="6296040" y="4175280"/>
            <a:ext cx="2914560" cy="1717560"/>
            <a:chOff x="6296040" y="4175280"/>
            <a:chExt cx="2914560" cy="1717560"/>
          </a:xfrm>
        </p:grpSpPr>
        <p:sp>
          <p:nvSpPr>
            <p:cNvPr id="660" name="AutoShape 10"/>
            <p:cNvSpPr/>
            <p:nvPr/>
          </p:nvSpPr>
          <p:spPr>
            <a:xfrm>
              <a:off x="6296040" y="4175280"/>
              <a:ext cx="2914560" cy="17175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AutoShape 11"/>
            <p:cNvSpPr/>
            <p:nvPr/>
          </p:nvSpPr>
          <p:spPr>
            <a:xfrm>
              <a:off x="6329880" y="4512600"/>
              <a:ext cx="28468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12"/>
          <p:cNvGrpSpPr/>
          <p:nvPr/>
        </p:nvGrpSpPr>
        <p:grpSpPr>
          <a:xfrm>
            <a:off x="2760840" y="4186080"/>
            <a:ext cx="2912760" cy="1719360"/>
            <a:chOff x="2760840" y="4186080"/>
            <a:chExt cx="2912760" cy="1719360"/>
          </a:xfrm>
        </p:grpSpPr>
        <p:sp>
          <p:nvSpPr>
            <p:cNvPr id="663" name="AutoShape 13"/>
            <p:cNvSpPr/>
            <p:nvPr/>
          </p:nvSpPr>
          <p:spPr>
            <a:xfrm>
              <a:off x="2760840" y="4186080"/>
              <a:ext cx="2912760" cy="1719360"/>
            </a:xfrm>
            <a:prstGeom prst="roundRect">
              <a:avLst>
                <a:gd name="adj" fmla="val 6736"/>
              </a:avLst>
            </a:pr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AutoShape 14"/>
            <p:cNvSpPr/>
            <p:nvPr/>
          </p:nvSpPr>
          <p:spPr>
            <a:xfrm>
              <a:off x="2794680" y="4524120"/>
              <a:ext cx="2845080" cy="1042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15"/>
          <p:cNvGrpSpPr/>
          <p:nvPr/>
        </p:nvGrpSpPr>
        <p:grpSpPr>
          <a:xfrm>
            <a:off x="2271600" y="1333440"/>
            <a:ext cx="976320" cy="974880"/>
            <a:chOff x="2271600" y="1333440"/>
            <a:chExt cx="976320" cy="974880"/>
          </a:xfrm>
        </p:grpSpPr>
        <p:sp>
          <p:nvSpPr>
            <p:cNvPr id="666" name="AutoShape 16"/>
            <p:cNvSpPr/>
            <p:nvPr/>
          </p:nvSpPr>
          <p:spPr>
            <a:xfrm>
              <a:off x="227160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8a82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oup 17"/>
            <p:cNvGrpSpPr/>
            <p:nvPr/>
          </p:nvGrpSpPr>
          <p:grpSpPr>
            <a:xfrm>
              <a:off x="2365200" y="1406520"/>
              <a:ext cx="789120" cy="828360"/>
              <a:chOff x="2365200" y="1406520"/>
              <a:chExt cx="789120" cy="828360"/>
            </a:xfrm>
          </p:grpSpPr>
          <p:sp>
            <p:nvSpPr>
              <p:cNvPr id="668" name="AutoShape 18"/>
              <p:cNvSpPr/>
              <p:nvPr/>
            </p:nvSpPr>
            <p:spPr>
              <a:xfrm>
                <a:off x="236520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8a82c">
                  <a:alpha val="69000"/>
                </a:srgbClr>
              </a:solidFill>
              <a:ln w="12600">
                <a:solidFill>
                  <a:srgbClr val="78a82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AutoShape 19"/>
              <p:cNvSpPr/>
              <p:nvPr/>
            </p:nvSpPr>
            <p:spPr>
              <a:xfrm>
                <a:off x="248076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0" name="Group 20"/>
          <p:cNvGrpSpPr/>
          <p:nvPr/>
        </p:nvGrpSpPr>
        <p:grpSpPr>
          <a:xfrm>
            <a:off x="8709120" y="1333440"/>
            <a:ext cx="976320" cy="974880"/>
            <a:chOff x="8709120" y="1333440"/>
            <a:chExt cx="976320" cy="974880"/>
          </a:xfrm>
        </p:grpSpPr>
        <p:sp>
          <p:nvSpPr>
            <p:cNvPr id="671" name="AutoShape 21"/>
            <p:cNvSpPr/>
            <p:nvPr/>
          </p:nvSpPr>
          <p:spPr>
            <a:xfrm>
              <a:off x="8709120" y="1333440"/>
              <a:ext cx="976320" cy="9748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2" name="Group 22"/>
            <p:cNvGrpSpPr/>
            <p:nvPr/>
          </p:nvGrpSpPr>
          <p:grpSpPr>
            <a:xfrm>
              <a:off x="8802720" y="1406520"/>
              <a:ext cx="789120" cy="828360"/>
              <a:chOff x="8802720" y="1406520"/>
              <a:chExt cx="789120" cy="828360"/>
            </a:xfrm>
          </p:grpSpPr>
          <p:sp>
            <p:nvSpPr>
              <p:cNvPr id="673" name="AutoShape 23"/>
              <p:cNvSpPr/>
              <p:nvPr/>
            </p:nvSpPr>
            <p:spPr>
              <a:xfrm>
                <a:off x="8802720" y="1426680"/>
                <a:ext cx="789120" cy="78804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>
                  <a:alpha val="69000"/>
                </a:srgbClr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AutoShape 24"/>
              <p:cNvSpPr/>
              <p:nvPr/>
            </p:nvSpPr>
            <p:spPr>
              <a:xfrm>
                <a:off x="8918280" y="1406520"/>
                <a:ext cx="558000" cy="828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75" name="Group 25"/>
          <p:cNvGrpSpPr/>
          <p:nvPr/>
        </p:nvGrpSpPr>
        <p:grpSpPr>
          <a:xfrm>
            <a:off x="2271600" y="5416560"/>
            <a:ext cx="976320" cy="976320"/>
            <a:chOff x="2271600" y="5416560"/>
            <a:chExt cx="976320" cy="976320"/>
          </a:xfrm>
        </p:grpSpPr>
        <p:sp>
          <p:nvSpPr>
            <p:cNvPr id="676" name="AutoShape 26"/>
            <p:cNvSpPr/>
            <p:nvPr/>
          </p:nvSpPr>
          <p:spPr>
            <a:xfrm>
              <a:off x="227160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99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77" name="Group 27"/>
            <p:cNvGrpSpPr/>
            <p:nvPr/>
          </p:nvGrpSpPr>
          <p:grpSpPr>
            <a:xfrm>
              <a:off x="2365200" y="5490720"/>
              <a:ext cx="789120" cy="828000"/>
              <a:chOff x="2365200" y="5490720"/>
              <a:chExt cx="789120" cy="828000"/>
            </a:xfrm>
          </p:grpSpPr>
          <p:sp>
            <p:nvSpPr>
              <p:cNvPr id="678" name="AutoShape 28"/>
              <p:cNvSpPr/>
              <p:nvPr/>
            </p:nvSpPr>
            <p:spPr>
              <a:xfrm>
                <a:off x="236520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99000">
                  <a:alpha val="69000"/>
                </a:srgbClr>
              </a:solidFill>
              <a:ln w="12600">
                <a:solidFill>
                  <a:srgbClr val="e99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AutoShape 29"/>
              <p:cNvSpPr/>
              <p:nvPr/>
            </p:nvSpPr>
            <p:spPr>
              <a:xfrm>
                <a:off x="248076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0" name="Group 30"/>
          <p:cNvGrpSpPr/>
          <p:nvPr/>
        </p:nvGrpSpPr>
        <p:grpSpPr>
          <a:xfrm>
            <a:off x="8709120" y="5416560"/>
            <a:ext cx="976320" cy="976320"/>
            <a:chOff x="8709120" y="5416560"/>
            <a:chExt cx="976320" cy="976320"/>
          </a:xfrm>
        </p:grpSpPr>
        <p:sp>
          <p:nvSpPr>
            <p:cNvPr id="681" name="AutoShape 31"/>
            <p:cNvSpPr/>
            <p:nvPr/>
          </p:nvSpPr>
          <p:spPr>
            <a:xfrm>
              <a:off x="8709120" y="5416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7e82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Group 32"/>
            <p:cNvGrpSpPr/>
            <p:nvPr/>
          </p:nvGrpSpPr>
          <p:grpSpPr>
            <a:xfrm>
              <a:off x="8802720" y="5490720"/>
              <a:ext cx="789120" cy="828000"/>
              <a:chOff x="8802720" y="5490720"/>
              <a:chExt cx="789120" cy="828000"/>
            </a:xfrm>
          </p:grpSpPr>
          <p:sp>
            <p:nvSpPr>
              <p:cNvPr id="683" name="AutoShape 33"/>
              <p:cNvSpPr/>
              <p:nvPr/>
            </p:nvSpPr>
            <p:spPr>
              <a:xfrm>
                <a:off x="8802720" y="5510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7e822e">
                  <a:alpha val="69000"/>
                </a:srgbClr>
              </a:solidFill>
              <a:ln w="12600">
                <a:solidFill>
                  <a:srgbClr val="7e822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AutoShape 34"/>
              <p:cNvSpPr/>
              <p:nvPr/>
            </p:nvSpPr>
            <p:spPr>
              <a:xfrm>
                <a:off x="8918280" y="5490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4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AutoShape 207"/>
          <p:cNvSpPr/>
          <p:nvPr/>
        </p:nvSpPr>
        <p:spPr>
          <a:xfrm>
            <a:off x="4213080" y="1460520"/>
            <a:ext cx="5508720" cy="3817800"/>
          </a:xfrm>
          <a:prstGeom prst="roundRect">
            <a:avLst>
              <a:gd name="adj" fmla="val 4171"/>
            </a:avLst>
          </a:prstGeom>
          <a:solidFill>
            <a:srgbClr val="ffffff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组合 2"/>
          <p:cNvGrpSpPr/>
          <p:nvPr/>
        </p:nvGrpSpPr>
        <p:grpSpPr>
          <a:xfrm>
            <a:off x="4308480" y="4464000"/>
            <a:ext cx="5335560" cy="755640"/>
            <a:chOff x="4308480" y="4464000"/>
            <a:chExt cx="5335560" cy="755640"/>
          </a:xfrm>
        </p:grpSpPr>
        <p:sp>
          <p:nvSpPr>
            <p:cNvPr id="687" name="AutoShape 218"/>
            <p:cNvSpPr/>
            <p:nvPr/>
          </p:nvSpPr>
          <p:spPr>
            <a:xfrm>
              <a:off x="4532040" y="495180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8" name="AutoShape 181"/>
            <p:cNvGrpSpPr/>
            <p:nvPr/>
          </p:nvGrpSpPr>
          <p:grpSpPr>
            <a:xfrm>
              <a:off x="4308480" y="4464000"/>
              <a:ext cx="5335560" cy="707400"/>
              <a:chOff x="4308480" y="4464000"/>
              <a:chExt cx="5335560" cy="707400"/>
            </a:xfrm>
          </p:grpSpPr>
          <p:pic>
            <p:nvPicPr>
              <p:cNvPr id="689" name="AutoShape 181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446400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"/>
              <p:cNvSpPr/>
              <p:nvPr/>
            </p:nvSpPr>
            <p:spPr>
              <a:xfrm>
                <a:off x="4450680" y="45828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5"/>
          <p:cNvGrpSpPr/>
          <p:nvPr/>
        </p:nvGrpSpPr>
        <p:grpSpPr>
          <a:xfrm>
            <a:off x="4308480" y="2587680"/>
            <a:ext cx="5335560" cy="779400"/>
            <a:chOff x="4308480" y="2587680"/>
            <a:chExt cx="5335560" cy="779400"/>
          </a:xfrm>
        </p:grpSpPr>
        <p:sp>
          <p:nvSpPr>
            <p:cNvPr id="692" name="AutoShape 213"/>
            <p:cNvSpPr/>
            <p:nvPr/>
          </p:nvSpPr>
          <p:spPr>
            <a:xfrm>
              <a:off x="4570920" y="3099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3" name="AutoShape 182"/>
            <p:cNvGrpSpPr/>
            <p:nvPr/>
          </p:nvGrpSpPr>
          <p:grpSpPr>
            <a:xfrm>
              <a:off x="4308480" y="2587680"/>
              <a:ext cx="5335560" cy="707400"/>
              <a:chOff x="4308480" y="2587680"/>
              <a:chExt cx="5335560" cy="707400"/>
            </a:xfrm>
          </p:grpSpPr>
          <p:pic>
            <p:nvPicPr>
              <p:cNvPr id="694" name="AutoShape 182" descr=""/>
              <p:cNvPicPr/>
              <p:nvPr/>
            </p:nvPicPr>
            <p:blipFill>
              <a:blip r:embed="rId2"/>
              <a:stretch/>
            </p:blipFill>
            <p:spPr>
              <a:xfrm>
                <a:off x="4308480" y="258768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4450680" y="270756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96" name="组合 8"/>
          <p:cNvGrpSpPr/>
          <p:nvPr/>
        </p:nvGrpSpPr>
        <p:grpSpPr>
          <a:xfrm>
            <a:off x="4308480" y="3525840"/>
            <a:ext cx="5335560" cy="768240"/>
            <a:chOff x="4308480" y="3525840"/>
            <a:chExt cx="5335560" cy="768240"/>
          </a:xfrm>
        </p:grpSpPr>
        <p:sp>
          <p:nvSpPr>
            <p:cNvPr id="697" name="AutoShape 217"/>
            <p:cNvSpPr/>
            <p:nvPr/>
          </p:nvSpPr>
          <p:spPr>
            <a:xfrm>
              <a:off x="4449240" y="4026240"/>
              <a:ext cx="4948200" cy="267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AutoShape 183"/>
            <p:cNvGrpSpPr/>
            <p:nvPr/>
          </p:nvGrpSpPr>
          <p:grpSpPr>
            <a:xfrm>
              <a:off x="4308480" y="3525840"/>
              <a:ext cx="5335560" cy="707400"/>
              <a:chOff x="4308480" y="3525840"/>
              <a:chExt cx="5335560" cy="707400"/>
            </a:xfrm>
          </p:grpSpPr>
          <p:pic>
            <p:nvPicPr>
              <p:cNvPr id="699" name="AutoShape 183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8480" y="3525840"/>
                <a:ext cx="5335560" cy="7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4450680" y="3645000"/>
                <a:ext cx="5050080" cy="42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1" name="AutoShape 132"/>
          <p:cNvGrpSpPr/>
          <p:nvPr/>
        </p:nvGrpSpPr>
        <p:grpSpPr>
          <a:xfrm>
            <a:off x="2395440" y="1255680"/>
            <a:ext cx="1755720" cy="4144680"/>
            <a:chOff x="2395440" y="1255680"/>
            <a:chExt cx="1755720" cy="4144680"/>
          </a:xfrm>
        </p:grpSpPr>
        <p:pic>
          <p:nvPicPr>
            <p:cNvPr id="702" name="AutoShape 132" descr=""/>
            <p:cNvPicPr/>
            <p:nvPr/>
          </p:nvPicPr>
          <p:blipFill>
            <a:blip r:embed="rId4"/>
            <a:stretch/>
          </p:blipFill>
          <p:spPr>
            <a:xfrm>
              <a:off x="2395440" y="1255680"/>
              <a:ext cx="1755720" cy="41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2693880" y="1934280"/>
              <a:ext cx="1162080" cy="346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Oval 148"/>
          <p:cNvSpPr/>
          <p:nvPr/>
        </p:nvSpPr>
        <p:spPr>
          <a:xfrm>
            <a:off x="2868480" y="4384800"/>
            <a:ext cx="785880" cy="78732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val 150"/>
          <p:cNvSpPr/>
          <p:nvPr/>
        </p:nvSpPr>
        <p:spPr>
          <a:xfrm>
            <a:off x="2868480" y="3444840"/>
            <a:ext cx="785880" cy="7873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val 152"/>
          <p:cNvSpPr/>
          <p:nvPr/>
        </p:nvSpPr>
        <p:spPr>
          <a:xfrm>
            <a:off x="2868480" y="2506680"/>
            <a:ext cx="785880" cy="78732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Line 186"/>
          <p:cNvSpPr/>
          <p:nvPr/>
        </p:nvSpPr>
        <p:spPr>
          <a:xfrm flipH="1">
            <a:off x="3722760" y="289872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Line 187"/>
          <p:cNvSpPr/>
          <p:nvPr/>
        </p:nvSpPr>
        <p:spPr>
          <a:xfrm flipH="1">
            <a:off x="3722760" y="38386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Line 188"/>
          <p:cNvSpPr/>
          <p:nvPr/>
        </p:nvSpPr>
        <p:spPr>
          <a:xfrm flipH="1">
            <a:off x="3722760" y="4778280"/>
            <a:ext cx="1001520" cy="0"/>
          </a:xfrm>
          <a:prstGeom prst="line">
            <a:avLst/>
          </a:prstGeom>
          <a:ln cap="rnd" w="316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AutoShape 208"/>
          <p:cNvSpPr/>
          <p:nvPr/>
        </p:nvSpPr>
        <p:spPr>
          <a:xfrm>
            <a:off x="4378320" y="1596960"/>
            <a:ext cx="5195880" cy="739800"/>
          </a:xfrm>
          <a:prstGeom prst="roundRect">
            <a:avLst>
              <a:gd name="adj" fmla="val 1735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 Box 25"/>
          <p:cNvSpPr/>
          <p:nvPr/>
        </p:nvSpPr>
        <p:spPr>
          <a:xfrm>
            <a:off x="2935440" y="2717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25"/>
          <p:cNvSpPr/>
          <p:nvPr/>
        </p:nvSpPr>
        <p:spPr>
          <a:xfrm>
            <a:off x="2935440" y="367020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2935440" y="4602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4"/>
          <p:cNvSpPr/>
          <p:nvPr/>
        </p:nvSpPr>
        <p:spPr>
          <a:xfrm>
            <a:off x="4952880" y="275580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24"/>
          <p:cNvSpPr/>
          <p:nvPr/>
        </p:nvSpPr>
        <p:spPr>
          <a:xfrm>
            <a:off x="4952880" y="36860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4"/>
          <p:cNvSpPr/>
          <p:nvPr/>
        </p:nvSpPr>
        <p:spPr>
          <a:xfrm>
            <a:off x="4952880" y="4627440"/>
            <a:ext cx="400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文本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5473800" y="172548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AutoShape 58"/>
          <p:cNvGrpSpPr/>
          <p:nvPr/>
        </p:nvGrpSpPr>
        <p:grpSpPr>
          <a:xfrm>
            <a:off x="2309760" y="1895400"/>
            <a:ext cx="8150040" cy="1805040"/>
            <a:chOff x="2309760" y="1895400"/>
            <a:chExt cx="8150040" cy="1805040"/>
          </a:xfrm>
        </p:grpSpPr>
        <p:pic>
          <p:nvPicPr>
            <p:cNvPr id="719" name="AutoShape 58" descr=""/>
            <p:cNvPicPr/>
            <p:nvPr/>
          </p:nvPicPr>
          <p:blipFill>
            <a:blip r:embed="rId1"/>
            <a:stretch/>
          </p:blipFill>
          <p:spPr>
            <a:xfrm>
              <a:off x="2310840" y="1895400"/>
              <a:ext cx="81489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309760" y="2374920"/>
              <a:ext cx="7658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WordArt 75"/>
          <p:cNvSpPr txBox="1"/>
          <p:nvPr/>
        </p:nvSpPr>
        <p:spPr>
          <a:xfrm>
            <a:off x="3290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2" name="WordArt 76"/>
          <p:cNvSpPr txBox="1"/>
          <p:nvPr/>
        </p:nvSpPr>
        <p:spPr>
          <a:xfrm>
            <a:off x="4443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3" name="WordArt 77"/>
          <p:cNvSpPr txBox="1"/>
          <p:nvPr/>
        </p:nvSpPr>
        <p:spPr>
          <a:xfrm>
            <a:off x="559584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4" name="WordArt 78"/>
          <p:cNvSpPr txBox="1"/>
          <p:nvPr/>
        </p:nvSpPr>
        <p:spPr>
          <a:xfrm>
            <a:off x="6746760" y="270504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5" name="WordArt 79"/>
          <p:cNvSpPr txBox="1"/>
          <p:nvPr/>
        </p:nvSpPr>
        <p:spPr>
          <a:xfrm>
            <a:off x="7899480" y="270504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726" name="Line 80"/>
          <p:cNvSpPr/>
          <p:nvPr/>
        </p:nvSpPr>
        <p:spPr>
          <a:xfrm flipV="1">
            <a:off x="368784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Line 81"/>
          <p:cNvSpPr/>
          <p:nvPr/>
        </p:nvSpPr>
        <p:spPr>
          <a:xfrm flipV="1">
            <a:off x="599112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Line 82"/>
          <p:cNvSpPr/>
          <p:nvPr/>
        </p:nvSpPr>
        <p:spPr>
          <a:xfrm flipV="1">
            <a:off x="8296200" y="1123560"/>
            <a:ext cx="0" cy="136836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Line 83"/>
          <p:cNvSpPr/>
          <p:nvPr/>
        </p:nvSpPr>
        <p:spPr>
          <a:xfrm flipV="1">
            <a:off x="714384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AutoShape 84"/>
          <p:cNvSpPr/>
          <p:nvPr/>
        </p:nvSpPr>
        <p:spPr>
          <a:xfrm>
            <a:off x="2066760" y="3352680"/>
            <a:ext cx="2376720" cy="1852560"/>
          </a:xfrm>
          <a:prstGeom prst="roundRect">
            <a:avLst>
              <a:gd name="adj" fmla="val 5528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WordArt 90"/>
          <p:cNvSpPr txBox="1"/>
          <p:nvPr/>
        </p:nvSpPr>
        <p:spPr>
          <a:xfrm>
            <a:off x="2390760" y="35877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2" name="WordArt 91"/>
          <p:cNvSpPr txBox="1"/>
          <p:nvPr/>
        </p:nvSpPr>
        <p:spPr>
          <a:xfrm>
            <a:off x="2390760" y="388296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09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3" name="WordArt 92"/>
          <p:cNvSpPr txBox="1"/>
          <p:nvPr/>
        </p:nvSpPr>
        <p:spPr>
          <a:xfrm>
            <a:off x="2390760" y="4178160"/>
            <a:ext cx="50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0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4" name="WordArt 93"/>
          <p:cNvSpPr txBox="1"/>
          <p:nvPr/>
        </p:nvSpPr>
        <p:spPr>
          <a:xfrm>
            <a:off x="2390760" y="44737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1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5" name="WordArt 94"/>
          <p:cNvSpPr txBox="1"/>
          <p:nvPr/>
        </p:nvSpPr>
        <p:spPr>
          <a:xfrm>
            <a:off x="2390760" y="4768920"/>
            <a:ext cx="5047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微软雅黑"/>
              </a:rPr>
              <a:t>2012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736" name="Line 99"/>
          <p:cNvSpPr/>
          <p:nvPr/>
        </p:nvSpPr>
        <p:spPr>
          <a:xfrm flipV="1">
            <a:off x="4838760" y="3139920"/>
            <a:ext cx="0" cy="1260720"/>
          </a:xfrm>
          <a:prstGeom prst="line">
            <a:avLst/>
          </a:prstGeom>
          <a:ln cap="rnd" w="19080">
            <a:solidFill>
              <a:srgbClr val="333333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29"/>
          <p:cNvSpPr/>
          <p:nvPr/>
        </p:nvSpPr>
        <p:spPr>
          <a:xfrm>
            <a:off x="2075040" y="2627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29"/>
          <p:cNvSpPr/>
          <p:nvPr/>
        </p:nvSpPr>
        <p:spPr>
          <a:xfrm>
            <a:off x="37702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 Box 29"/>
          <p:cNvSpPr/>
          <p:nvPr/>
        </p:nvSpPr>
        <p:spPr>
          <a:xfrm>
            <a:off x="37749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 Box 29"/>
          <p:cNvSpPr/>
          <p:nvPr/>
        </p:nvSpPr>
        <p:spPr>
          <a:xfrm>
            <a:off x="612468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29"/>
          <p:cNvSpPr/>
          <p:nvPr/>
        </p:nvSpPr>
        <p:spPr>
          <a:xfrm>
            <a:off x="612936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29"/>
          <p:cNvSpPr/>
          <p:nvPr/>
        </p:nvSpPr>
        <p:spPr>
          <a:xfrm>
            <a:off x="4930920" y="375588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 Box 29"/>
          <p:cNvSpPr/>
          <p:nvPr/>
        </p:nvSpPr>
        <p:spPr>
          <a:xfrm>
            <a:off x="4935600" y="3363840"/>
            <a:ext cx="10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7283520" y="3755880"/>
            <a:ext cx="199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7288200" y="3363840"/>
            <a:ext cx="10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29"/>
          <p:cNvSpPr/>
          <p:nvPr/>
        </p:nvSpPr>
        <p:spPr>
          <a:xfrm>
            <a:off x="8375760" y="1479600"/>
            <a:ext cx="19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8380440" y="10857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29"/>
          <p:cNvSpPr/>
          <p:nvPr/>
        </p:nvSpPr>
        <p:spPr>
          <a:xfrm>
            <a:off x="3191400" y="3521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矩形 30"/>
          <p:cNvSpPr/>
          <p:nvPr/>
        </p:nvSpPr>
        <p:spPr>
          <a:xfrm>
            <a:off x="3191400" y="3807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矩形 31"/>
          <p:cNvSpPr/>
          <p:nvPr/>
        </p:nvSpPr>
        <p:spPr>
          <a:xfrm>
            <a:off x="3191400" y="41115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矩形 32"/>
          <p:cNvSpPr/>
          <p:nvPr/>
        </p:nvSpPr>
        <p:spPr>
          <a:xfrm>
            <a:off x="3191400" y="4414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3"/>
          <p:cNvSpPr/>
          <p:nvPr/>
        </p:nvSpPr>
        <p:spPr>
          <a:xfrm>
            <a:off x="3191400" y="46990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本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Group 6"/>
          <p:cNvGrpSpPr/>
          <p:nvPr/>
        </p:nvGrpSpPr>
        <p:grpSpPr>
          <a:xfrm>
            <a:off x="4924440" y="1789200"/>
            <a:ext cx="4819680" cy="2867040"/>
            <a:chOff x="4924440" y="1789200"/>
            <a:chExt cx="4819680" cy="2867040"/>
          </a:xfrm>
        </p:grpSpPr>
        <p:sp>
          <p:nvSpPr>
            <p:cNvPr id="754" name="Line 9"/>
            <p:cNvSpPr/>
            <p:nvPr/>
          </p:nvSpPr>
          <p:spPr>
            <a:xfrm>
              <a:off x="9744120" y="1789200"/>
              <a:ext cx="0" cy="28670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9"/>
            <p:cNvSpPr/>
            <p:nvPr/>
          </p:nvSpPr>
          <p:spPr>
            <a:xfrm>
              <a:off x="7343640" y="2322720"/>
              <a:ext cx="0" cy="23335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9"/>
            <p:cNvSpPr/>
            <p:nvPr/>
          </p:nvSpPr>
          <p:spPr>
            <a:xfrm>
              <a:off x="4924440" y="2703600"/>
              <a:ext cx="0" cy="195264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7" name="AutoShape 15"/>
          <p:cNvSpPr/>
          <p:nvPr/>
        </p:nvSpPr>
        <p:spPr>
          <a:xfrm>
            <a:off x="284148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6"/>
          <p:cNvSpPr/>
          <p:nvPr/>
        </p:nvSpPr>
        <p:spPr>
          <a:xfrm>
            <a:off x="5102280" y="3260880"/>
            <a:ext cx="1998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7431120" y="2830680"/>
            <a:ext cx="199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 Box 16"/>
          <p:cNvSpPr/>
          <p:nvPr/>
        </p:nvSpPr>
        <p:spPr>
          <a:xfrm>
            <a:off x="2701800" y="369252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0600" indent="-120600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输入文字信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AutoShape 15"/>
          <p:cNvSpPr/>
          <p:nvPr/>
        </p:nvSpPr>
        <p:spPr>
          <a:xfrm>
            <a:off x="524016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AutoShape 15"/>
          <p:cNvSpPr/>
          <p:nvPr/>
        </p:nvSpPr>
        <p:spPr>
          <a:xfrm>
            <a:off x="7597800" y="4809960"/>
            <a:ext cx="1781280" cy="314640"/>
          </a:xfrm>
          <a:prstGeom prst="bevel">
            <a:avLst>
              <a:gd name="adj" fmla="val 5949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输入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椭圆 1"/>
          <p:cNvSpPr/>
          <p:nvPr/>
        </p:nvSpPr>
        <p:spPr>
          <a:xfrm>
            <a:off x="3314880" y="2579760"/>
            <a:ext cx="657000" cy="657000"/>
          </a:xfrm>
          <a:prstGeom prst="ellips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椭圆 31"/>
          <p:cNvSpPr/>
          <p:nvPr/>
        </p:nvSpPr>
        <p:spPr>
          <a:xfrm>
            <a:off x="5729400" y="2251080"/>
            <a:ext cx="657000" cy="657360"/>
          </a:xfrm>
          <a:prstGeom prst="ellipse">
            <a:avLst/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32"/>
          <p:cNvSpPr/>
          <p:nvPr/>
        </p:nvSpPr>
        <p:spPr>
          <a:xfrm>
            <a:off x="8169120" y="1947960"/>
            <a:ext cx="657360" cy="65700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6080040" cy="3419640"/>
          </a:xfrm>
          <a:prstGeom prst="rect">
            <a:avLst/>
          </a:prstGeom>
          <a:ln w="0">
            <a:noFill/>
          </a:ln>
        </p:spPr>
      </p:pic>
      <p:pic>
        <p:nvPicPr>
          <p:cNvPr id="439" name="图片 2" descr=""/>
          <p:cNvPicPr/>
          <p:nvPr/>
        </p:nvPicPr>
        <p:blipFill>
          <a:blip r:embed="rId2"/>
          <a:stretch/>
        </p:blipFill>
        <p:spPr>
          <a:xfrm>
            <a:off x="6100920" y="792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0" name="图片 3" descr=""/>
          <p:cNvPicPr/>
          <p:nvPr/>
        </p:nvPicPr>
        <p:blipFill>
          <a:blip r:embed="rId3"/>
          <a:stretch/>
        </p:blipFill>
        <p:spPr>
          <a:xfrm>
            <a:off x="9151920" y="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1" name="图片 4" descr=""/>
          <p:cNvPicPr/>
          <p:nvPr/>
        </p:nvPicPr>
        <p:blipFill>
          <a:blip r:embed="rId4"/>
          <a:stretch/>
        </p:blipFill>
        <p:spPr>
          <a:xfrm>
            <a:off x="610236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5" descr=""/>
          <p:cNvPicPr/>
          <p:nvPr/>
        </p:nvPicPr>
        <p:blipFill>
          <a:blip r:embed="rId5"/>
          <a:stretch/>
        </p:blipFill>
        <p:spPr>
          <a:xfrm>
            <a:off x="9151920" y="1701720"/>
            <a:ext cx="3040200" cy="171144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6" descr=""/>
          <p:cNvPicPr/>
          <p:nvPr/>
        </p:nvPicPr>
        <p:blipFill>
          <a:blip r:embed="rId6"/>
          <a:stretch/>
        </p:blipFill>
        <p:spPr>
          <a:xfrm>
            <a:off x="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4" name="图片 7" descr=""/>
          <p:cNvPicPr/>
          <p:nvPr/>
        </p:nvPicPr>
        <p:blipFill>
          <a:blip r:embed="rId7"/>
          <a:stretch/>
        </p:blipFill>
        <p:spPr>
          <a:xfrm>
            <a:off x="305748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5" name="图片 8" descr=""/>
          <p:cNvPicPr/>
          <p:nvPr/>
        </p:nvPicPr>
        <p:blipFill>
          <a:blip r:embed="rId8"/>
          <a:stretch/>
        </p:blipFill>
        <p:spPr>
          <a:xfrm>
            <a:off x="61117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9" descr=""/>
          <p:cNvPicPr/>
          <p:nvPr/>
        </p:nvPicPr>
        <p:blipFill>
          <a:blip r:embed="rId9"/>
          <a:stretch/>
        </p:blipFill>
        <p:spPr>
          <a:xfrm>
            <a:off x="9151920" y="34275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10" descr=""/>
          <p:cNvPicPr/>
          <p:nvPr/>
        </p:nvPicPr>
        <p:blipFill>
          <a:blip r:embed="rId10"/>
          <a:stretch/>
        </p:blipFill>
        <p:spPr>
          <a:xfrm>
            <a:off x="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11" descr=""/>
          <p:cNvPicPr/>
          <p:nvPr/>
        </p:nvPicPr>
        <p:blipFill>
          <a:blip r:embed="rId11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2" descr=""/>
          <p:cNvPicPr/>
          <p:nvPr/>
        </p:nvPicPr>
        <p:blipFill>
          <a:blip r:embed="rId12"/>
          <a:stretch/>
        </p:blipFill>
        <p:spPr>
          <a:xfrm>
            <a:off x="610092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13" descr=""/>
          <p:cNvPicPr/>
          <p:nvPr/>
        </p:nvPicPr>
        <p:blipFill>
          <a:blip r:embed="rId13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AutoShape 3"/>
          <p:cNvSpPr/>
          <p:nvPr/>
        </p:nvSpPr>
        <p:spPr>
          <a:xfrm>
            <a:off x="228744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2287440" y="148428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AutoShape 7"/>
          <p:cNvSpPr/>
          <p:nvPr/>
        </p:nvSpPr>
        <p:spPr>
          <a:xfrm>
            <a:off x="4879800" y="1285920"/>
            <a:ext cx="2413080" cy="857160"/>
          </a:xfrm>
          <a:prstGeom prst="roundRect">
            <a:avLst>
              <a:gd name="adj" fmla="val 13125"/>
            </a:avLst>
          </a:prstGeom>
          <a:solidFill>
            <a:srgbClr val="78a82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4957920" y="1484280"/>
            <a:ext cx="22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472520" y="1285920"/>
            <a:ext cx="2412720" cy="857160"/>
          </a:xfrm>
          <a:prstGeom prst="roundRect">
            <a:avLst>
              <a:gd name="adj" fmla="val 13125"/>
            </a:avLst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13"/>
          <p:cNvSpPr/>
          <p:nvPr/>
        </p:nvSpPr>
        <p:spPr>
          <a:xfrm>
            <a:off x="7527960" y="1484280"/>
            <a:ext cx="23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段落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AutoShape 24"/>
          <p:cNvSpPr/>
          <p:nvPr/>
        </p:nvSpPr>
        <p:spPr>
          <a:xfrm>
            <a:off x="228744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c769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AutoShape 25"/>
          <p:cNvSpPr/>
          <p:nvPr/>
        </p:nvSpPr>
        <p:spPr>
          <a:xfrm>
            <a:off x="487512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19080">
            <a:solidFill>
              <a:srgbClr val="78a82c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AutoShape 26"/>
          <p:cNvSpPr/>
          <p:nvPr/>
        </p:nvSpPr>
        <p:spPr>
          <a:xfrm>
            <a:off x="7469280" y="2239920"/>
            <a:ext cx="2413080" cy="3265560"/>
          </a:xfrm>
          <a:custGeom>
            <a:avLst/>
            <a:gdLst>
              <a:gd name="textAreaLeft" fmla="*/ 39960 w 2413080"/>
              <a:gd name="textAreaRight" fmla="*/ 2373120 w 2413080"/>
              <a:gd name="textAreaTop" fmla="*/ 39960 h 3265560"/>
              <a:gd name="textAreaBottom" fmla="*/ 3225600 h 3265560"/>
            </a:gdLst>
            <a:ahLst/>
            <a:rect l="textAreaLeft" t="textAreaTop" r="textAreaRight" b="textAreaBottom"/>
            <a:pathLst>
              <a:path w="21600" h="29230">
                <a:moveTo>
                  <a:pt x="1222" y="0"/>
                </a:moveTo>
                <a:arcTo wR="1222" hR="1222" stAng="16200000" swAng="-5400000"/>
                <a:lnTo>
                  <a:pt x="0" y="28008"/>
                </a:lnTo>
                <a:arcTo wR="1222" hR="1222" stAng="10800000" swAng="-5400000"/>
                <a:lnTo>
                  <a:pt x="20378" y="29230"/>
                </a:lnTo>
                <a:arcTo wR="1222" hR="1222" stAng="5400000" swAng="-5400000"/>
                <a:lnTo>
                  <a:pt x="21600" y="1222"/>
                </a:lnTo>
                <a:arcTo wR="1222" hR="1222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e990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内容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"/>
          <p:cNvSpPr/>
          <p:nvPr/>
        </p:nvSpPr>
        <p:spPr>
          <a:xfrm>
            <a:off x="4915080" y="1289160"/>
            <a:ext cx="2520720" cy="2520720"/>
          </a:xfrm>
          <a:prstGeom prst="ellipse">
            <a:avLst/>
          </a:prstGeom>
          <a:solidFill>
            <a:srgbClr val="7e8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Oval 3"/>
          <p:cNvSpPr/>
          <p:nvPr/>
        </p:nvSpPr>
        <p:spPr>
          <a:xfrm>
            <a:off x="4194000" y="2573280"/>
            <a:ext cx="2521080" cy="2521080"/>
          </a:xfrm>
          <a:prstGeom prst="ellips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4"/>
          <p:cNvSpPr/>
          <p:nvPr/>
        </p:nvSpPr>
        <p:spPr>
          <a:xfrm>
            <a:off x="5635800" y="2573280"/>
            <a:ext cx="2520720" cy="2521080"/>
          </a:xfrm>
          <a:prstGeom prst="ellips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未知"/>
          <p:cNvSpPr/>
          <p:nvPr/>
        </p:nvSpPr>
        <p:spPr>
          <a:xfrm>
            <a:off x="5649840" y="2803680"/>
            <a:ext cx="1050840" cy="1168200"/>
          </a:xfrm>
          <a:custGeom>
            <a:avLst/>
            <a:gdLst/>
            <a:ahLst/>
            <a:rect l="l" t="t" r="r" b="b"/>
            <a:pathLst>
              <a:path w="662" h="736">
                <a:moveTo>
                  <a:pt x="331" y="0"/>
                </a:moveTo>
                <a:cubicBezTo>
                  <a:pt x="331" y="0"/>
                  <a:pt x="644" y="210"/>
                  <a:pt x="662" y="556"/>
                </a:cubicBezTo>
                <a:cubicBezTo>
                  <a:pt x="340" y="736"/>
                  <a:pt x="0" y="554"/>
                  <a:pt x="0" y="554"/>
                </a:cubicBezTo>
                <a:cubicBezTo>
                  <a:pt x="6" y="222"/>
                  <a:pt x="331" y="0"/>
                  <a:pt x="331" y="0"/>
                </a:cubicBezTo>
                <a:close/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未知"/>
          <p:cNvSpPr/>
          <p:nvPr/>
        </p:nvSpPr>
        <p:spPr>
          <a:xfrm>
            <a:off x="6176880" y="2371680"/>
            <a:ext cx="1247760" cy="1311480"/>
          </a:xfrm>
          <a:custGeom>
            <a:avLst/>
            <a:gdLst/>
            <a:ahLst/>
            <a:rect l="l" t="t" r="r" b="b"/>
            <a:pathLst>
              <a:path w="786" h="826">
                <a:moveTo>
                  <a:pt x="0" y="272"/>
                </a:moveTo>
                <a:cubicBezTo>
                  <a:pt x="0" y="272"/>
                  <a:pt x="350" y="0"/>
                  <a:pt x="786" y="202"/>
                </a:cubicBezTo>
                <a:cubicBezTo>
                  <a:pt x="786" y="202"/>
                  <a:pt x="744" y="656"/>
                  <a:pt x="334" y="826"/>
                </a:cubicBezTo>
                <a:cubicBezTo>
                  <a:pt x="296" y="466"/>
                  <a:pt x="0" y="272"/>
                  <a:pt x="0" y="272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未知"/>
          <p:cNvSpPr/>
          <p:nvPr/>
        </p:nvSpPr>
        <p:spPr>
          <a:xfrm>
            <a:off x="4923000" y="2368440"/>
            <a:ext cx="1250640" cy="1317600"/>
          </a:xfrm>
          <a:custGeom>
            <a:avLst/>
            <a:gdLst/>
            <a:ahLst/>
            <a:rect l="l" t="t" r="r" b="b"/>
            <a:pathLst>
              <a:path w="788" h="826">
                <a:moveTo>
                  <a:pt x="458" y="826"/>
                </a:moveTo>
                <a:cubicBezTo>
                  <a:pt x="458" y="826"/>
                  <a:pt x="68" y="698"/>
                  <a:pt x="0" y="202"/>
                </a:cubicBezTo>
                <a:cubicBezTo>
                  <a:pt x="0" y="202"/>
                  <a:pt x="418" y="0"/>
                  <a:pt x="788" y="274"/>
                </a:cubicBezTo>
                <a:cubicBezTo>
                  <a:pt x="438" y="526"/>
                  <a:pt x="458" y="826"/>
                  <a:pt x="458" y="826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未知"/>
          <p:cNvSpPr/>
          <p:nvPr/>
        </p:nvSpPr>
        <p:spPr>
          <a:xfrm>
            <a:off x="5538960" y="3683160"/>
            <a:ext cx="1269720" cy="1187280"/>
          </a:xfrm>
          <a:custGeom>
            <a:avLst/>
            <a:gdLst/>
            <a:ahLst/>
            <a:rect l="l" t="t" r="r" b="b"/>
            <a:pathLst>
              <a:path w="800" h="748">
                <a:moveTo>
                  <a:pt x="68" y="0"/>
                </a:moveTo>
                <a:cubicBezTo>
                  <a:pt x="68" y="0"/>
                  <a:pt x="406" y="182"/>
                  <a:pt x="734" y="4"/>
                </a:cubicBezTo>
                <a:cubicBezTo>
                  <a:pt x="734" y="4"/>
                  <a:pt x="800" y="460"/>
                  <a:pt x="400" y="748"/>
                </a:cubicBezTo>
                <a:cubicBezTo>
                  <a:pt x="0" y="468"/>
                  <a:pt x="68" y="0"/>
                  <a:pt x="68" y="0"/>
                </a:cubicBezTo>
                <a:close/>
              </a:path>
            </a:pathLst>
          </a:custGeom>
          <a:solidFill>
            <a:srgbClr val="bfbfb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0"/>
          <p:cNvSpPr/>
          <p:nvPr/>
        </p:nvSpPr>
        <p:spPr>
          <a:xfrm>
            <a:off x="4390920" y="5192640"/>
            <a:ext cx="359424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527256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5941440" y="3200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5"/>
          <p:cNvSpPr/>
          <p:nvPr/>
        </p:nvSpPr>
        <p:spPr>
          <a:xfrm>
            <a:off x="679932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4332240" y="3822840"/>
            <a:ext cx="127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17"/>
          <p:cNvSpPr/>
          <p:nvPr/>
        </p:nvSpPr>
        <p:spPr>
          <a:xfrm>
            <a:off x="5581800" y="1949400"/>
            <a:ext cx="127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5978880" y="40417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３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Text Box 21"/>
          <p:cNvSpPr/>
          <p:nvPr/>
        </p:nvSpPr>
        <p:spPr>
          <a:xfrm>
            <a:off x="6715440" y="27860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２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2581200" y="145404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23"/>
          <p:cNvSpPr/>
          <p:nvPr/>
        </p:nvSpPr>
        <p:spPr>
          <a:xfrm>
            <a:off x="2576520" y="19861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 Box 24"/>
          <p:cNvSpPr/>
          <p:nvPr/>
        </p:nvSpPr>
        <p:spPr>
          <a:xfrm>
            <a:off x="2025720" y="403848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25"/>
          <p:cNvSpPr/>
          <p:nvPr/>
        </p:nvSpPr>
        <p:spPr>
          <a:xfrm>
            <a:off x="2021040" y="457056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 algn="r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 Box 26"/>
          <p:cNvSpPr/>
          <p:nvPr/>
        </p:nvSpPr>
        <p:spPr>
          <a:xfrm>
            <a:off x="8191440" y="397656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27"/>
          <p:cNvSpPr/>
          <p:nvPr/>
        </p:nvSpPr>
        <p:spPr>
          <a:xfrm>
            <a:off x="8186760" y="450864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63520" indent="-263520">
              <a:lnSpc>
                <a:spcPct val="120000"/>
              </a:lnSpc>
              <a:buClr>
                <a:srgbClr val="44546a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1"/>
          <p:cNvGrpSpPr/>
          <p:nvPr/>
        </p:nvGrpSpPr>
        <p:grpSpPr>
          <a:xfrm>
            <a:off x="2262240" y="695160"/>
            <a:ext cx="7246800" cy="5794560"/>
            <a:chOff x="2262240" y="695160"/>
            <a:chExt cx="7246800" cy="5794560"/>
          </a:xfrm>
        </p:grpSpPr>
        <p:sp>
          <p:nvSpPr>
            <p:cNvPr id="802" name="AutoShape 2"/>
            <p:cNvSpPr/>
            <p:nvPr/>
          </p:nvSpPr>
          <p:spPr>
            <a:xfrm>
              <a:off x="6487560" y="6157440"/>
              <a:ext cx="396360" cy="33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90" y="2159"/>
                  </a:moveTo>
                  <a:lnTo>
                    <a:pt x="7854" y="2159"/>
                  </a:lnTo>
                  <a:lnTo>
                    <a:pt x="9818" y="1079"/>
                  </a:lnTo>
                  <a:lnTo>
                    <a:pt x="11781" y="2159"/>
                  </a:lnTo>
                  <a:lnTo>
                    <a:pt x="14727" y="0"/>
                  </a:lnTo>
                  <a:lnTo>
                    <a:pt x="18654" y="1079"/>
                  </a:lnTo>
                  <a:lnTo>
                    <a:pt x="20618" y="0"/>
                  </a:lnTo>
                  <a:lnTo>
                    <a:pt x="21599" y="4319"/>
                  </a:lnTo>
                  <a:lnTo>
                    <a:pt x="18654" y="6479"/>
                  </a:lnTo>
                  <a:lnTo>
                    <a:pt x="17672" y="14040"/>
                  </a:lnTo>
                  <a:lnTo>
                    <a:pt x="15709" y="16200"/>
                  </a:lnTo>
                  <a:lnTo>
                    <a:pt x="15709" y="19440"/>
                  </a:lnTo>
                  <a:lnTo>
                    <a:pt x="12763" y="18360"/>
                  </a:lnTo>
                  <a:lnTo>
                    <a:pt x="11781" y="19440"/>
                  </a:lnTo>
                  <a:lnTo>
                    <a:pt x="11781" y="21600"/>
                  </a:lnTo>
                  <a:lnTo>
                    <a:pt x="9818" y="21600"/>
                  </a:lnTo>
                  <a:lnTo>
                    <a:pt x="5890" y="19440"/>
                  </a:lnTo>
                  <a:lnTo>
                    <a:pt x="981" y="18360"/>
                  </a:lnTo>
                  <a:lnTo>
                    <a:pt x="0" y="11880"/>
                  </a:lnTo>
                  <a:lnTo>
                    <a:pt x="0" y="8639"/>
                  </a:lnTo>
                  <a:lnTo>
                    <a:pt x="4909" y="4319"/>
                  </a:lnTo>
                  <a:lnTo>
                    <a:pt x="5890" y="215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AutoShape 3"/>
            <p:cNvSpPr/>
            <p:nvPr/>
          </p:nvSpPr>
          <p:spPr>
            <a:xfrm>
              <a:off x="7920720" y="695160"/>
              <a:ext cx="1588320" cy="144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45" y="993"/>
                  </a:moveTo>
                  <a:lnTo>
                    <a:pt x="490" y="1986"/>
                  </a:lnTo>
                  <a:lnTo>
                    <a:pt x="0" y="2979"/>
                  </a:lnTo>
                  <a:lnTo>
                    <a:pt x="981" y="3227"/>
                  </a:lnTo>
                  <a:lnTo>
                    <a:pt x="1472" y="2731"/>
                  </a:lnTo>
                  <a:lnTo>
                    <a:pt x="2209" y="3227"/>
                  </a:lnTo>
                  <a:lnTo>
                    <a:pt x="2699" y="4717"/>
                  </a:lnTo>
                  <a:lnTo>
                    <a:pt x="3190" y="5462"/>
                  </a:lnTo>
                  <a:lnTo>
                    <a:pt x="4418" y="4965"/>
                  </a:lnTo>
                  <a:lnTo>
                    <a:pt x="4909" y="4965"/>
                  </a:lnTo>
                  <a:lnTo>
                    <a:pt x="5890" y="3972"/>
                  </a:lnTo>
                  <a:lnTo>
                    <a:pt x="7118" y="5213"/>
                  </a:lnTo>
                  <a:lnTo>
                    <a:pt x="6381" y="7696"/>
                  </a:lnTo>
                  <a:lnTo>
                    <a:pt x="6627" y="9682"/>
                  </a:lnTo>
                  <a:lnTo>
                    <a:pt x="5890" y="10427"/>
                  </a:lnTo>
                  <a:lnTo>
                    <a:pt x="5890" y="12165"/>
                  </a:lnTo>
                  <a:lnTo>
                    <a:pt x="5399" y="11420"/>
                  </a:lnTo>
                  <a:lnTo>
                    <a:pt x="3190" y="14399"/>
                  </a:lnTo>
                  <a:lnTo>
                    <a:pt x="3927" y="15641"/>
                  </a:lnTo>
                  <a:lnTo>
                    <a:pt x="4663" y="15144"/>
                  </a:lnTo>
                  <a:lnTo>
                    <a:pt x="4909" y="15641"/>
                  </a:lnTo>
                  <a:lnTo>
                    <a:pt x="4172" y="16137"/>
                  </a:lnTo>
                  <a:lnTo>
                    <a:pt x="4172" y="16882"/>
                  </a:lnTo>
                  <a:lnTo>
                    <a:pt x="5399" y="16882"/>
                  </a:lnTo>
                  <a:lnTo>
                    <a:pt x="5890" y="16634"/>
                  </a:lnTo>
                  <a:lnTo>
                    <a:pt x="5890" y="17875"/>
                  </a:lnTo>
                  <a:lnTo>
                    <a:pt x="7118" y="18620"/>
                  </a:lnTo>
                  <a:lnTo>
                    <a:pt x="8836" y="18124"/>
                  </a:lnTo>
                  <a:lnTo>
                    <a:pt x="8836" y="18868"/>
                  </a:lnTo>
                  <a:lnTo>
                    <a:pt x="9818" y="18372"/>
                  </a:lnTo>
                  <a:lnTo>
                    <a:pt x="11290" y="19862"/>
                  </a:lnTo>
                  <a:lnTo>
                    <a:pt x="11781" y="19862"/>
                  </a:lnTo>
                  <a:lnTo>
                    <a:pt x="12272" y="20855"/>
                  </a:lnTo>
                  <a:lnTo>
                    <a:pt x="13009" y="20606"/>
                  </a:lnTo>
                  <a:lnTo>
                    <a:pt x="13009" y="19613"/>
                  </a:lnTo>
                  <a:lnTo>
                    <a:pt x="13254" y="19365"/>
                  </a:lnTo>
                  <a:lnTo>
                    <a:pt x="13254" y="20606"/>
                  </a:lnTo>
                  <a:lnTo>
                    <a:pt x="14727" y="21599"/>
                  </a:lnTo>
                  <a:lnTo>
                    <a:pt x="14972" y="20855"/>
                  </a:lnTo>
                  <a:lnTo>
                    <a:pt x="15218" y="21103"/>
                  </a:lnTo>
                  <a:lnTo>
                    <a:pt x="16200" y="20110"/>
                  </a:lnTo>
                  <a:lnTo>
                    <a:pt x="16936" y="21103"/>
                  </a:lnTo>
                  <a:lnTo>
                    <a:pt x="18409" y="21103"/>
                  </a:lnTo>
                  <a:lnTo>
                    <a:pt x="18163" y="19613"/>
                  </a:lnTo>
                  <a:lnTo>
                    <a:pt x="17427" y="17875"/>
                  </a:lnTo>
                  <a:lnTo>
                    <a:pt x="18409" y="16386"/>
                  </a:lnTo>
                  <a:lnTo>
                    <a:pt x="19390" y="16137"/>
                  </a:lnTo>
                  <a:lnTo>
                    <a:pt x="20372" y="16634"/>
                  </a:lnTo>
                  <a:lnTo>
                    <a:pt x="21109" y="13158"/>
                  </a:lnTo>
                  <a:lnTo>
                    <a:pt x="20863" y="10675"/>
                  </a:lnTo>
                  <a:lnTo>
                    <a:pt x="21354" y="10179"/>
                  </a:lnTo>
                  <a:lnTo>
                    <a:pt x="21354" y="9186"/>
                  </a:lnTo>
                  <a:lnTo>
                    <a:pt x="20863" y="8937"/>
                  </a:lnTo>
                  <a:lnTo>
                    <a:pt x="21600" y="7944"/>
                  </a:lnTo>
                  <a:lnTo>
                    <a:pt x="20863" y="7944"/>
                  </a:lnTo>
                  <a:lnTo>
                    <a:pt x="18654" y="9931"/>
                  </a:lnTo>
                  <a:lnTo>
                    <a:pt x="18654" y="10427"/>
                  </a:lnTo>
                  <a:lnTo>
                    <a:pt x="17181" y="11172"/>
                  </a:lnTo>
                  <a:lnTo>
                    <a:pt x="15954" y="11172"/>
                  </a:lnTo>
                  <a:lnTo>
                    <a:pt x="14972" y="9434"/>
                  </a:lnTo>
                  <a:lnTo>
                    <a:pt x="14972" y="8689"/>
                  </a:lnTo>
                  <a:lnTo>
                    <a:pt x="13500" y="8689"/>
                  </a:lnTo>
                  <a:lnTo>
                    <a:pt x="12763" y="7944"/>
                  </a:lnTo>
                  <a:lnTo>
                    <a:pt x="11536" y="7944"/>
                  </a:lnTo>
                  <a:lnTo>
                    <a:pt x="11536" y="7448"/>
                  </a:lnTo>
                  <a:lnTo>
                    <a:pt x="11045" y="7448"/>
                  </a:lnTo>
                  <a:lnTo>
                    <a:pt x="11045" y="7944"/>
                  </a:lnTo>
                  <a:lnTo>
                    <a:pt x="10309" y="7696"/>
                  </a:lnTo>
                  <a:lnTo>
                    <a:pt x="9081" y="5462"/>
                  </a:lnTo>
                  <a:lnTo>
                    <a:pt x="7609" y="3227"/>
                  </a:lnTo>
                  <a:lnTo>
                    <a:pt x="7609" y="2731"/>
                  </a:lnTo>
                  <a:lnTo>
                    <a:pt x="6136" y="744"/>
                  </a:lnTo>
                  <a:lnTo>
                    <a:pt x="4418" y="744"/>
                  </a:lnTo>
                  <a:lnTo>
                    <a:pt x="3190" y="0"/>
                  </a:lnTo>
                  <a:lnTo>
                    <a:pt x="490" y="496"/>
                  </a:lnTo>
                  <a:lnTo>
                    <a:pt x="245" y="99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AutoShape 4"/>
            <p:cNvSpPr/>
            <p:nvPr/>
          </p:nvSpPr>
          <p:spPr>
            <a:xfrm>
              <a:off x="8080560" y="1811520"/>
              <a:ext cx="119160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776"/>
                  </a:moveTo>
                  <a:lnTo>
                    <a:pt x="19636" y="7776"/>
                  </a:lnTo>
                  <a:lnTo>
                    <a:pt x="18654" y="6480"/>
                  </a:lnTo>
                  <a:lnTo>
                    <a:pt x="17345" y="8208"/>
                  </a:lnTo>
                  <a:lnTo>
                    <a:pt x="17018" y="7344"/>
                  </a:lnTo>
                  <a:lnTo>
                    <a:pt x="16690" y="8640"/>
                  </a:lnTo>
                  <a:lnTo>
                    <a:pt x="14727" y="6912"/>
                  </a:lnTo>
                  <a:lnTo>
                    <a:pt x="14727" y="4752"/>
                  </a:lnTo>
                  <a:lnTo>
                    <a:pt x="14072" y="5184"/>
                  </a:lnTo>
                  <a:lnTo>
                    <a:pt x="14399" y="6912"/>
                  </a:lnTo>
                  <a:lnTo>
                    <a:pt x="13418" y="6912"/>
                  </a:lnTo>
                  <a:lnTo>
                    <a:pt x="12763" y="5616"/>
                  </a:lnTo>
                  <a:lnTo>
                    <a:pt x="12109" y="5616"/>
                  </a:lnTo>
                  <a:lnTo>
                    <a:pt x="10145" y="3024"/>
                  </a:lnTo>
                  <a:lnTo>
                    <a:pt x="8836" y="3888"/>
                  </a:lnTo>
                  <a:lnTo>
                    <a:pt x="8836" y="3024"/>
                  </a:lnTo>
                  <a:lnTo>
                    <a:pt x="6545" y="3456"/>
                  </a:lnTo>
                  <a:lnTo>
                    <a:pt x="4909" y="2160"/>
                  </a:lnTo>
                  <a:lnTo>
                    <a:pt x="4909" y="0"/>
                  </a:lnTo>
                  <a:lnTo>
                    <a:pt x="4254" y="432"/>
                  </a:lnTo>
                  <a:lnTo>
                    <a:pt x="2618" y="432"/>
                  </a:lnTo>
                  <a:lnTo>
                    <a:pt x="2945" y="3024"/>
                  </a:lnTo>
                  <a:lnTo>
                    <a:pt x="1963" y="3024"/>
                  </a:lnTo>
                  <a:lnTo>
                    <a:pt x="327" y="1728"/>
                  </a:lnTo>
                  <a:lnTo>
                    <a:pt x="0" y="3024"/>
                  </a:lnTo>
                  <a:lnTo>
                    <a:pt x="1309" y="4752"/>
                  </a:lnTo>
                  <a:lnTo>
                    <a:pt x="981" y="6480"/>
                  </a:lnTo>
                  <a:lnTo>
                    <a:pt x="1963" y="8640"/>
                  </a:lnTo>
                  <a:lnTo>
                    <a:pt x="3600" y="7344"/>
                  </a:lnTo>
                  <a:lnTo>
                    <a:pt x="4581" y="9936"/>
                  </a:lnTo>
                  <a:lnTo>
                    <a:pt x="4581" y="12095"/>
                  </a:lnTo>
                  <a:lnTo>
                    <a:pt x="6218" y="12095"/>
                  </a:lnTo>
                  <a:lnTo>
                    <a:pt x="6872" y="14255"/>
                  </a:lnTo>
                  <a:lnTo>
                    <a:pt x="7200" y="12527"/>
                  </a:lnTo>
                  <a:lnTo>
                    <a:pt x="8509" y="15119"/>
                  </a:lnTo>
                  <a:lnTo>
                    <a:pt x="9490" y="17279"/>
                  </a:lnTo>
                  <a:lnTo>
                    <a:pt x="9490" y="18575"/>
                  </a:lnTo>
                  <a:lnTo>
                    <a:pt x="10800" y="21599"/>
                  </a:lnTo>
                  <a:lnTo>
                    <a:pt x="11781" y="20303"/>
                  </a:lnTo>
                  <a:lnTo>
                    <a:pt x="12436" y="17711"/>
                  </a:lnTo>
                  <a:lnTo>
                    <a:pt x="13090" y="17279"/>
                  </a:lnTo>
                  <a:lnTo>
                    <a:pt x="13745" y="17711"/>
                  </a:lnTo>
                  <a:lnTo>
                    <a:pt x="13418" y="18575"/>
                  </a:lnTo>
                  <a:lnTo>
                    <a:pt x="15381" y="18575"/>
                  </a:lnTo>
                  <a:lnTo>
                    <a:pt x="16036" y="17711"/>
                  </a:lnTo>
                  <a:lnTo>
                    <a:pt x="16036" y="16847"/>
                  </a:lnTo>
                  <a:lnTo>
                    <a:pt x="15709" y="15983"/>
                  </a:lnTo>
                  <a:lnTo>
                    <a:pt x="17672" y="14687"/>
                  </a:lnTo>
                  <a:lnTo>
                    <a:pt x="17999" y="14255"/>
                  </a:lnTo>
                  <a:lnTo>
                    <a:pt x="17999" y="13391"/>
                  </a:lnTo>
                  <a:lnTo>
                    <a:pt x="18654" y="12959"/>
                  </a:lnTo>
                  <a:lnTo>
                    <a:pt x="18654" y="10368"/>
                  </a:lnTo>
                  <a:lnTo>
                    <a:pt x="19309" y="10368"/>
                  </a:lnTo>
                  <a:lnTo>
                    <a:pt x="19636" y="11663"/>
                  </a:lnTo>
                  <a:lnTo>
                    <a:pt x="20618" y="12527"/>
                  </a:lnTo>
                  <a:lnTo>
                    <a:pt x="20945" y="12095"/>
                  </a:lnTo>
                  <a:lnTo>
                    <a:pt x="20618" y="11231"/>
                  </a:lnTo>
                  <a:lnTo>
                    <a:pt x="20618" y="10368"/>
                  </a:lnTo>
                  <a:lnTo>
                    <a:pt x="21599" y="9936"/>
                  </a:lnTo>
                  <a:lnTo>
                    <a:pt x="21599" y="777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AutoShape 5"/>
            <p:cNvSpPr/>
            <p:nvPr/>
          </p:nvSpPr>
          <p:spPr>
            <a:xfrm>
              <a:off x="7828560" y="2275920"/>
              <a:ext cx="849600" cy="819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9697"/>
                  </a:moveTo>
                  <a:lnTo>
                    <a:pt x="19302" y="6612"/>
                  </a:lnTo>
                  <a:lnTo>
                    <a:pt x="19761" y="5289"/>
                  </a:lnTo>
                  <a:lnTo>
                    <a:pt x="17923" y="2204"/>
                  </a:lnTo>
                  <a:lnTo>
                    <a:pt x="16544" y="440"/>
                  </a:lnTo>
                  <a:lnTo>
                    <a:pt x="16085" y="2204"/>
                  </a:lnTo>
                  <a:lnTo>
                    <a:pt x="15165" y="0"/>
                  </a:lnTo>
                  <a:lnTo>
                    <a:pt x="13327" y="0"/>
                  </a:lnTo>
                  <a:lnTo>
                    <a:pt x="13787" y="1322"/>
                  </a:lnTo>
                  <a:lnTo>
                    <a:pt x="11489" y="3085"/>
                  </a:lnTo>
                  <a:lnTo>
                    <a:pt x="10110" y="3085"/>
                  </a:lnTo>
                  <a:lnTo>
                    <a:pt x="2757" y="7934"/>
                  </a:lnTo>
                  <a:lnTo>
                    <a:pt x="1378" y="6171"/>
                  </a:lnTo>
                  <a:lnTo>
                    <a:pt x="459" y="6171"/>
                  </a:lnTo>
                  <a:lnTo>
                    <a:pt x="919" y="7493"/>
                  </a:lnTo>
                  <a:lnTo>
                    <a:pt x="919" y="8816"/>
                  </a:lnTo>
                  <a:lnTo>
                    <a:pt x="1378" y="10138"/>
                  </a:lnTo>
                  <a:lnTo>
                    <a:pt x="459" y="10138"/>
                  </a:lnTo>
                  <a:lnTo>
                    <a:pt x="459" y="11902"/>
                  </a:lnTo>
                  <a:lnTo>
                    <a:pt x="0" y="12783"/>
                  </a:lnTo>
                  <a:lnTo>
                    <a:pt x="1838" y="13224"/>
                  </a:lnTo>
                  <a:lnTo>
                    <a:pt x="3676" y="16310"/>
                  </a:lnTo>
                  <a:lnTo>
                    <a:pt x="5974" y="13224"/>
                  </a:lnTo>
                  <a:lnTo>
                    <a:pt x="6893" y="11461"/>
                  </a:lnTo>
                  <a:lnTo>
                    <a:pt x="9191" y="11020"/>
                  </a:lnTo>
                  <a:lnTo>
                    <a:pt x="10570" y="11902"/>
                  </a:lnTo>
                  <a:lnTo>
                    <a:pt x="10570" y="12342"/>
                  </a:lnTo>
                  <a:lnTo>
                    <a:pt x="11029" y="12342"/>
                  </a:lnTo>
                  <a:lnTo>
                    <a:pt x="9651" y="15428"/>
                  </a:lnTo>
                  <a:lnTo>
                    <a:pt x="8731" y="15428"/>
                  </a:lnTo>
                  <a:lnTo>
                    <a:pt x="9191" y="17191"/>
                  </a:lnTo>
                  <a:lnTo>
                    <a:pt x="8731" y="17632"/>
                  </a:lnTo>
                  <a:lnTo>
                    <a:pt x="9651" y="17632"/>
                  </a:lnTo>
                  <a:lnTo>
                    <a:pt x="7812" y="20718"/>
                  </a:lnTo>
                  <a:lnTo>
                    <a:pt x="8272" y="21599"/>
                  </a:lnTo>
                  <a:lnTo>
                    <a:pt x="9191" y="20718"/>
                  </a:lnTo>
                  <a:lnTo>
                    <a:pt x="9651" y="19395"/>
                  </a:lnTo>
                  <a:lnTo>
                    <a:pt x="10570" y="19395"/>
                  </a:lnTo>
                  <a:lnTo>
                    <a:pt x="11489" y="18514"/>
                  </a:lnTo>
                  <a:lnTo>
                    <a:pt x="11489" y="17191"/>
                  </a:lnTo>
                  <a:lnTo>
                    <a:pt x="14706" y="15428"/>
                  </a:lnTo>
                  <a:lnTo>
                    <a:pt x="17463" y="14546"/>
                  </a:lnTo>
                  <a:lnTo>
                    <a:pt x="17923" y="12342"/>
                  </a:lnTo>
                  <a:lnTo>
                    <a:pt x="19761" y="11020"/>
                  </a:lnTo>
                  <a:lnTo>
                    <a:pt x="21140" y="10579"/>
                  </a:lnTo>
                  <a:lnTo>
                    <a:pt x="21599" y="969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AutoShape 6"/>
            <p:cNvSpPr/>
            <p:nvPr/>
          </p:nvSpPr>
          <p:spPr>
            <a:xfrm>
              <a:off x="7179480" y="2462040"/>
              <a:ext cx="793080" cy="1116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82"/>
                  </a:moveTo>
                  <a:lnTo>
                    <a:pt x="19636" y="6447"/>
                  </a:lnTo>
                  <a:lnTo>
                    <a:pt x="17672" y="6125"/>
                  </a:lnTo>
                  <a:lnTo>
                    <a:pt x="18163" y="3868"/>
                  </a:lnTo>
                  <a:lnTo>
                    <a:pt x="16200" y="4191"/>
                  </a:lnTo>
                  <a:lnTo>
                    <a:pt x="15218" y="3546"/>
                  </a:lnTo>
                  <a:lnTo>
                    <a:pt x="15218" y="1934"/>
                  </a:lnTo>
                  <a:lnTo>
                    <a:pt x="13745" y="0"/>
                  </a:lnTo>
                  <a:lnTo>
                    <a:pt x="10800" y="967"/>
                  </a:lnTo>
                  <a:lnTo>
                    <a:pt x="10800" y="2579"/>
                  </a:lnTo>
                  <a:lnTo>
                    <a:pt x="8836" y="2256"/>
                  </a:lnTo>
                  <a:lnTo>
                    <a:pt x="8345" y="3223"/>
                  </a:lnTo>
                  <a:lnTo>
                    <a:pt x="6872" y="2901"/>
                  </a:lnTo>
                  <a:lnTo>
                    <a:pt x="4909" y="4191"/>
                  </a:lnTo>
                  <a:lnTo>
                    <a:pt x="3436" y="2256"/>
                  </a:lnTo>
                  <a:lnTo>
                    <a:pt x="1963" y="2901"/>
                  </a:lnTo>
                  <a:lnTo>
                    <a:pt x="1472" y="4513"/>
                  </a:lnTo>
                  <a:lnTo>
                    <a:pt x="490" y="4835"/>
                  </a:lnTo>
                  <a:lnTo>
                    <a:pt x="1963" y="7414"/>
                  </a:lnTo>
                  <a:lnTo>
                    <a:pt x="3436" y="8059"/>
                  </a:lnTo>
                  <a:lnTo>
                    <a:pt x="1963" y="8704"/>
                  </a:lnTo>
                  <a:lnTo>
                    <a:pt x="1472" y="9349"/>
                  </a:lnTo>
                  <a:lnTo>
                    <a:pt x="3436" y="9349"/>
                  </a:lnTo>
                  <a:lnTo>
                    <a:pt x="3927" y="10961"/>
                  </a:lnTo>
                  <a:lnTo>
                    <a:pt x="2945" y="12250"/>
                  </a:lnTo>
                  <a:lnTo>
                    <a:pt x="1963" y="11605"/>
                  </a:lnTo>
                  <a:lnTo>
                    <a:pt x="981" y="12250"/>
                  </a:lnTo>
                  <a:lnTo>
                    <a:pt x="981" y="13217"/>
                  </a:lnTo>
                  <a:lnTo>
                    <a:pt x="0" y="13862"/>
                  </a:lnTo>
                  <a:lnTo>
                    <a:pt x="1963" y="16119"/>
                  </a:lnTo>
                  <a:lnTo>
                    <a:pt x="490" y="19665"/>
                  </a:lnTo>
                  <a:lnTo>
                    <a:pt x="1472" y="20632"/>
                  </a:lnTo>
                  <a:lnTo>
                    <a:pt x="4418" y="20632"/>
                  </a:lnTo>
                  <a:lnTo>
                    <a:pt x="5399" y="21277"/>
                  </a:lnTo>
                  <a:lnTo>
                    <a:pt x="7854" y="21600"/>
                  </a:lnTo>
                  <a:lnTo>
                    <a:pt x="6872" y="20632"/>
                  </a:lnTo>
                  <a:lnTo>
                    <a:pt x="7363" y="19343"/>
                  </a:lnTo>
                  <a:lnTo>
                    <a:pt x="9327" y="17086"/>
                  </a:lnTo>
                  <a:lnTo>
                    <a:pt x="11781" y="15474"/>
                  </a:lnTo>
                  <a:lnTo>
                    <a:pt x="14236" y="15152"/>
                  </a:lnTo>
                  <a:lnTo>
                    <a:pt x="15218" y="14507"/>
                  </a:lnTo>
                  <a:lnTo>
                    <a:pt x="13745" y="12573"/>
                  </a:lnTo>
                  <a:lnTo>
                    <a:pt x="11781" y="12895"/>
                  </a:lnTo>
                  <a:lnTo>
                    <a:pt x="10800" y="12573"/>
                  </a:lnTo>
                  <a:lnTo>
                    <a:pt x="11290" y="11605"/>
                  </a:lnTo>
                  <a:lnTo>
                    <a:pt x="11290" y="9994"/>
                  </a:lnTo>
                  <a:lnTo>
                    <a:pt x="9818" y="10638"/>
                  </a:lnTo>
                  <a:lnTo>
                    <a:pt x="7854" y="10316"/>
                  </a:lnTo>
                  <a:lnTo>
                    <a:pt x="6381" y="10316"/>
                  </a:lnTo>
                  <a:lnTo>
                    <a:pt x="6381" y="9026"/>
                  </a:lnTo>
                  <a:lnTo>
                    <a:pt x="8345" y="6770"/>
                  </a:lnTo>
                  <a:lnTo>
                    <a:pt x="9327" y="6770"/>
                  </a:lnTo>
                  <a:lnTo>
                    <a:pt x="9818" y="5480"/>
                  </a:lnTo>
                  <a:lnTo>
                    <a:pt x="10800" y="5480"/>
                  </a:lnTo>
                  <a:lnTo>
                    <a:pt x="11781" y="6125"/>
                  </a:lnTo>
                  <a:lnTo>
                    <a:pt x="13254" y="6125"/>
                  </a:lnTo>
                  <a:lnTo>
                    <a:pt x="12763" y="7414"/>
                  </a:lnTo>
                  <a:lnTo>
                    <a:pt x="12763" y="8059"/>
                  </a:lnTo>
                  <a:lnTo>
                    <a:pt x="13745" y="8059"/>
                  </a:lnTo>
                  <a:lnTo>
                    <a:pt x="13745" y="9349"/>
                  </a:lnTo>
                  <a:lnTo>
                    <a:pt x="15709" y="10316"/>
                  </a:lnTo>
                  <a:lnTo>
                    <a:pt x="16200" y="11283"/>
                  </a:lnTo>
                  <a:lnTo>
                    <a:pt x="16690" y="11605"/>
                  </a:lnTo>
                  <a:lnTo>
                    <a:pt x="19145" y="10316"/>
                  </a:lnTo>
                  <a:lnTo>
                    <a:pt x="20127" y="8704"/>
                  </a:lnTo>
                  <a:lnTo>
                    <a:pt x="21600" y="838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AutoShape 7"/>
            <p:cNvSpPr/>
            <p:nvPr/>
          </p:nvSpPr>
          <p:spPr>
            <a:xfrm>
              <a:off x="7410960" y="2745720"/>
              <a:ext cx="253440" cy="264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800"/>
                  </a:moveTo>
                  <a:lnTo>
                    <a:pt x="18514" y="6749"/>
                  </a:lnTo>
                  <a:lnTo>
                    <a:pt x="21600" y="2699"/>
                  </a:lnTo>
                  <a:lnTo>
                    <a:pt x="15428" y="2699"/>
                  </a:lnTo>
                  <a:lnTo>
                    <a:pt x="13885" y="0"/>
                  </a:lnTo>
                  <a:lnTo>
                    <a:pt x="10800" y="0"/>
                  </a:lnTo>
                  <a:lnTo>
                    <a:pt x="9257" y="5399"/>
                  </a:lnTo>
                  <a:lnTo>
                    <a:pt x="6171" y="5399"/>
                  </a:lnTo>
                  <a:lnTo>
                    <a:pt x="0" y="14850"/>
                  </a:lnTo>
                  <a:lnTo>
                    <a:pt x="0" y="20250"/>
                  </a:lnTo>
                  <a:lnTo>
                    <a:pt x="6171" y="20250"/>
                  </a:lnTo>
                  <a:lnTo>
                    <a:pt x="9257" y="21600"/>
                  </a:lnTo>
                  <a:lnTo>
                    <a:pt x="15428" y="18900"/>
                  </a:lnTo>
                  <a:lnTo>
                    <a:pt x="15428" y="16200"/>
                  </a:lnTo>
                  <a:lnTo>
                    <a:pt x="13885" y="13500"/>
                  </a:lnTo>
                  <a:lnTo>
                    <a:pt x="18514" y="13500"/>
                  </a:lnTo>
                  <a:lnTo>
                    <a:pt x="21600" y="108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AutoShape 8"/>
            <p:cNvSpPr/>
            <p:nvPr/>
          </p:nvSpPr>
          <p:spPr>
            <a:xfrm>
              <a:off x="7574400" y="2877480"/>
              <a:ext cx="19872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4399"/>
                  </a:moveTo>
                  <a:lnTo>
                    <a:pt x="19636" y="10080"/>
                  </a:lnTo>
                  <a:lnTo>
                    <a:pt x="13745" y="7200"/>
                  </a:lnTo>
                  <a:lnTo>
                    <a:pt x="11781" y="1440"/>
                  </a:lnTo>
                  <a:lnTo>
                    <a:pt x="7854" y="0"/>
                  </a:lnTo>
                  <a:lnTo>
                    <a:pt x="5890" y="1440"/>
                  </a:lnTo>
                  <a:lnTo>
                    <a:pt x="7854" y="8640"/>
                  </a:lnTo>
                  <a:lnTo>
                    <a:pt x="1963" y="8640"/>
                  </a:lnTo>
                  <a:lnTo>
                    <a:pt x="0" y="20159"/>
                  </a:lnTo>
                  <a:lnTo>
                    <a:pt x="3927" y="21599"/>
                  </a:lnTo>
                  <a:lnTo>
                    <a:pt x="13745" y="20159"/>
                  </a:lnTo>
                  <a:lnTo>
                    <a:pt x="13745" y="14399"/>
                  </a:lnTo>
                  <a:lnTo>
                    <a:pt x="21600" y="143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AutoShape 9"/>
            <p:cNvSpPr/>
            <p:nvPr/>
          </p:nvSpPr>
          <p:spPr>
            <a:xfrm>
              <a:off x="7574400" y="2894400"/>
              <a:ext cx="74520" cy="8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599"/>
                  </a:moveTo>
                  <a:lnTo>
                    <a:pt x="5399" y="21599"/>
                  </a:lnTo>
                  <a:lnTo>
                    <a:pt x="5399" y="12959"/>
                  </a:lnTo>
                  <a:lnTo>
                    <a:pt x="0" y="0"/>
                  </a:lnTo>
                  <a:lnTo>
                    <a:pt x="16200" y="4320"/>
                  </a:lnTo>
                  <a:lnTo>
                    <a:pt x="21600" y="215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AutoShape 10"/>
            <p:cNvSpPr/>
            <p:nvPr/>
          </p:nvSpPr>
          <p:spPr>
            <a:xfrm>
              <a:off x="7394040" y="3195000"/>
              <a:ext cx="977400" cy="60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600" y="600"/>
                  </a:moveTo>
                  <a:lnTo>
                    <a:pt x="6800" y="1800"/>
                  </a:lnTo>
                  <a:lnTo>
                    <a:pt x="4800" y="2400"/>
                  </a:lnTo>
                  <a:lnTo>
                    <a:pt x="2800" y="5400"/>
                  </a:lnTo>
                  <a:lnTo>
                    <a:pt x="800" y="9600"/>
                  </a:lnTo>
                  <a:lnTo>
                    <a:pt x="800" y="11999"/>
                  </a:lnTo>
                  <a:lnTo>
                    <a:pt x="1600" y="13799"/>
                  </a:lnTo>
                  <a:lnTo>
                    <a:pt x="2400" y="13199"/>
                  </a:lnTo>
                  <a:lnTo>
                    <a:pt x="3200" y="13199"/>
                  </a:lnTo>
                  <a:lnTo>
                    <a:pt x="400" y="16799"/>
                  </a:lnTo>
                  <a:lnTo>
                    <a:pt x="0" y="18599"/>
                  </a:lnTo>
                  <a:lnTo>
                    <a:pt x="800" y="19199"/>
                  </a:lnTo>
                  <a:lnTo>
                    <a:pt x="2400" y="21599"/>
                  </a:lnTo>
                  <a:lnTo>
                    <a:pt x="4000" y="21599"/>
                  </a:lnTo>
                  <a:lnTo>
                    <a:pt x="4800" y="20399"/>
                  </a:lnTo>
                  <a:lnTo>
                    <a:pt x="4800" y="19199"/>
                  </a:lnTo>
                  <a:lnTo>
                    <a:pt x="5600" y="19799"/>
                  </a:lnTo>
                  <a:lnTo>
                    <a:pt x="6000" y="20399"/>
                  </a:lnTo>
                  <a:lnTo>
                    <a:pt x="7600" y="21599"/>
                  </a:lnTo>
                  <a:lnTo>
                    <a:pt x="8400" y="20399"/>
                  </a:lnTo>
                  <a:lnTo>
                    <a:pt x="9600" y="20399"/>
                  </a:lnTo>
                  <a:lnTo>
                    <a:pt x="9600" y="21599"/>
                  </a:lnTo>
                  <a:lnTo>
                    <a:pt x="10400" y="20999"/>
                  </a:lnTo>
                  <a:lnTo>
                    <a:pt x="11999" y="17399"/>
                  </a:lnTo>
                  <a:lnTo>
                    <a:pt x="12799" y="17399"/>
                  </a:lnTo>
                  <a:lnTo>
                    <a:pt x="14799" y="12599"/>
                  </a:lnTo>
                  <a:lnTo>
                    <a:pt x="14799" y="10800"/>
                  </a:lnTo>
                  <a:lnTo>
                    <a:pt x="15199" y="10200"/>
                  </a:lnTo>
                  <a:lnTo>
                    <a:pt x="15599" y="11399"/>
                  </a:lnTo>
                  <a:lnTo>
                    <a:pt x="17199" y="7200"/>
                  </a:lnTo>
                  <a:lnTo>
                    <a:pt x="18799" y="6000"/>
                  </a:lnTo>
                  <a:lnTo>
                    <a:pt x="18799" y="6600"/>
                  </a:lnTo>
                  <a:lnTo>
                    <a:pt x="19999" y="4800"/>
                  </a:lnTo>
                  <a:lnTo>
                    <a:pt x="20799" y="5400"/>
                  </a:lnTo>
                  <a:lnTo>
                    <a:pt x="21599" y="1800"/>
                  </a:lnTo>
                  <a:lnTo>
                    <a:pt x="21199" y="1200"/>
                  </a:lnTo>
                  <a:lnTo>
                    <a:pt x="19999" y="1200"/>
                  </a:lnTo>
                  <a:lnTo>
                    <a:pt x="19199" y="1800"/>
                  </a:lnTo>
                  <a:lnTo>
                    <a:pt x="17199" y="1800"/>
                  </a:lnTo>
                  <a:lnTo>
                    <a:pt x="16399" y="0"/>
                  </a:lnTo>
                  <a:lnTo>
                    <a:pt x="13599" y="3000"/>
                  </a:lnTo>
                  <a:lnTo>
                    <a:pt x="13199" y="4800"/>
                  </a:lnTo>
                  <a:lnTo>
                    <a:pt x="10000" y="4800"/>
                  </a:lnTo>
                  <a:lnTo>
                    <a:pt x="10000" y="3600"/>
                  </a:lnTo>
                  <a:lnTo>
                    <a:pt x="10800" y="2400"/>
                  </a:lnTo>
                  <a:lnTo>
                    <a:pt x="10000" y="0"/>
                  </a:lnTo>
                  <a:lnTo>
                    <a:pt x="8400" y="0"/>
                  </a:lnTo>
                  <a:lnTo>
                    <a:pt x="8000" y="1200"/>
                  </a:lnTo>
                  <a:lnTo>
                    <a:pt x="7600" y="6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AutoShape 11"/>
            <p:cNvSpPr/>
            <p:nvPr/>
          </p:nvSpPr>
          <p:spPr>
            <a:xfrm>
              <a:off x="7595280" y="3678120"/>
              <a:ext cx="810000" cy="66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080" y="0"/>
                  </a:moveTo>
                  <a:lnTo>
                    <a:pt x="9120" y="0"/>
                  </a:lnTo>
                  <a:lnTo>
                    <a:pt x="7200" y="3240"/>
                  </a:lnTo>
                  <a:lnTo>
                    <a:pt x="5760" y="3780"/>
                  </a:lnTo>
                  <a:lnTo>
                    <a:pt x="5760" y="2700"/>
                  </a:lnTo>
                  <a:lnTo>
                    <a:pt x="4800" y="2700"/>
                  </a:lnTo>
                  <a:lnTo>
                    <a:pt x="3840" y="3780"/>
                  </a:lnTo>
                  <a:lnTo>
                    <a:pt x="1920" y="2700"/>
                  </a:lnTo>
                  <a:lnTo>
                    <a:pt x="1440" y="2160"/>
                  </a:lnTo>
                  <a:lnTo>
                    <a:pt x="480" y="1620"/>
                  </a:lnTo>
                  <a:lnTo>
                    <a:pt x="480" y="2700"/>
                  </a:lnTo>
                  <a:lnTo>
                    <a:pt x="0" y="3240"/>
                  </a:lnTo>
                  <a:lnTo>
                    <a:pt x="1920" y="3780"/>
                  </a:lnTo>
                  <a:lnTo>
                    <a:pt x="2400" y="5400"/>
                  </a:lnTo>
                  <a:lnTo>
                    <a:pt x="3360" y="5400"/>
                  </a:lnTo>
                  <a:lnTo>
                    <a:pt x="4800" y="7560"/>
                  </a:lnTo>
                  <a:lnTo>
                    <a:pt x="6240" y="7020"/>
                  </a:lnTo>
                  <a:lnTo>
                    <a:pt x="6240" y="9720"/>
                  </a:lnTo>
                  <a:lnTo>
                    <a:pt x="8160" y="12419"/>
                  </a:lnTo>
                  <a:lnTo>
                    <a:pt x="9120" y="12419"/>
                  </a:lnTo>
                  <a:lnTo>
                    <a:pt x="9600" y="11339"/>
                  </a:lnTo>
                  <a:lnTo>
                    <a:pt x="11039" y="12959"/>
                  </a:lnTo>
                  <a:lnTo>
                    <a:pt x="10080" y="14039"/>
                  </a:lnTo>
                  <a:lnTo>
                    <a:pt x="9600" y="13499"/>
                  </a:lnTo>
                  <a:lnTo>
                    <a:pt x="8640" y="12959"/>
                  </a:lnTo>
                  <a:lnTo>
                    <a:pt x="8640" y="15119"/>
                  </a:lnTo>
                  <a:lnTo>
                    <a:pt x="8160" y="16199"/>
                  </a:lnTo>
                  <a:lnTo>
                    <a:pt x="9600" y="18359"/>
                  </a:lnTo>
                  <a:lnTo>
                    <a:pt x="9600" y="19979"/>
                  </a:lnTo>
                  <a:lnTo>
                    <a:pt x="11999" y="19979"/>
                  </a:lnTo>
                  <a:lnTo>
                    <a:pt x="12959" y="21059"/>
                  </a:lnTo>
                  <a:lnTo>
                    <a:pt x="14399" y="20519"/>
                  </a:lnTo>
                  <a:lnTo>
                    <a:pt x="16319" y="21599"/>
                  </a:lnTo>
                  <a:lnTo>
                    <a:pt x="17759" y="19979"/>
                  </a:lnTo>
                  <a:lnTo>
                    <a:pt x="19199" y="17279"/>
                  </a:lnTo>
                  <a:lnTo>
                    <a:pt x="17279" y="16199"/>
                  </a:lnTo>
                  <a:lnTo>
                    <a:pt x="19199" y="15659"/>
                  </a:lnTo>
                  <a:lnTo>
                    <a:pt x="19679" y="16199"/>
                  </a:lnTo>
                  <a:lnTo>
                    <a:pt x="21599" y="15659"/>
                  </a:lnTo>
                  <a:lnTo>
                    <a:pt x="21599" y="15119"/>
                  </a:lnTo>
                  <a:lnTo>
                    <a:pt x="19199" y="13499"/>
                  </a:lnTo>
                  <a:lnTo>
                    <a:pt x="19199" y="12419"/>
                  </a:lnTo>
                  <a:lnTo>
                    <a:pt x="17279" y="11339"/>
                  </a:lnTo>
                  <a:lnTo>
                    <a:pt x="16319" y="8640"/>
                  </a:lnTo>
                  <a:lnTo>
                    <a:pt x="13919" y="4320"/>
                  </a:lnTo>
                  <a:lnTo>
                    <a:pt x="13919" y="2700"/>
                  </a:lnTo>
                  <a:lnTo>
                    <a:pt x="11519" y="2160"/>
                  </a:lnTo>
                  <a:lnTo>
                    <a:pt x="10560" y="1620"/>
                  </a:lnTo>
                  <a:lnTo>
                    <a:pt x="10080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AutoShape 12"/>
            <p:cNvSpPr/>
            <p:nvPr/>
          </p:nvSpPr>
          <p:spPr>
            <a:xfrm>
              <a:off x="8262720" y="4212000"/>
              <a:ext cx="142560" cy="11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099" y="0"/>
                  </a:moveTo>
                  <a:lnTo>
                    <a:pt x="0" y="15428"/>
                  </a:lnTo>
                  <a:lnTo>
                    <a:pt x="8099" y="21599"/>
                  </a:lnTo>
                  <a:lnTo>
                    <a:pt x="21600" y="15428"/>
                  </a:lnTo>
                  <a:lnTo>
                    <a:pt x="21600" y="9257"/>
                  </a:lnTo>
                  <a:lnTo>
                    <a:pt x="8099" y="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AutoShape 13"/>
            <p:cNvSpPr/>
            <p:nvPr/>
          </p:nvSpPr>
          <p:spPr>
            <a:xfrm>
              <a:off x="7901640" y="4292640"/>
              <a:ext cx="539280" cy="61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560" y="1167"/>
                  </a:moveTo>
                  <a:lnTo>
                    <a:pt x="14400" y="0"/>
                  </a:lnTo>
                  <a:lnTo>
                    <a:pt x="12240" y="1751"/>
                  </a:lnTo>
                  <a:lnTo>
                    <a:pt x="9359" y="583"/>
                  </a:lnTo>
                  <a:lnTo>
                    <a:pt x="7199" y="1167"/>
                  </a:lnTo>
                  <a:lnTo>
                    <a:pt x="5759" y="3502"/>
                  </a:lnTo>
                  <a:lnTo>
                    <a:pt x="6479" y="5254"/>
                  </a:lnTo>
                  <a:lnTo>
                    <a:pt x="5039" y="5254"/>
                  </a:lnTo>
                  <a:lnTo>
                    <a:pt x="4319" y="4670"/>
                  </a:lnTo>
                  <a:lnTo>
                    <a:pt x="3599" y="4670"/>
                  </a:lnTo>
                  <a:lnTo>
                    <a:pt x="3599" y="8172"/>
                  </a:lnTo>
                  <a:lnTo>
                    <a:pt x="719" y="9924"/>
                  </a:lnTo>
                  <a:lnTo>
                    <a:pt x="0" y="10508"/>
                  </a:lnTo>
                  <a:lnTo>
                    <a:pt x="0" y="12843"/>
                  </a:lnTo>
                  <a:lnTo>
                    <a:pt x="2159" y="14010"/>
                  </a:lnTo>
                  <a:lnTo>
                    <a:pt x="2159" y="16929"/>
                  </a:lnTo>
                  <a:lnTo>
                    <a:pt x="4319" y="16929"/>
                  </a:lnTo>
                  <a:lnTo>
                    <a:pt x="4319" y="18097"/>
                  </a:lnTo>
                  <a:lnTo>
                    <a:pt x="5039" y="19264"/>
                  </a:lnTo>
                  <a:lnTo>
                    <a:pt x="5759" y="21016"/>
                  </a:lnTo>
                  <a:lnTo>
                    <a:pt x="7919" y="21016"/>
                  </a:lnTo>
                  <a:lnTo>
                    <a:pt x="9359" y="19264"/>
                  </a:lnTo>
                  <a:lnTo>
                    <a:pt x="10079" y="19264"/>
                  </a:lnTo>
                  <a:lnTo>
                    <a:pt x="10079" y="20432"/>
                  </a:lnTo>
                  <a:lnTo>
                    <a:pt x="10800" y="21016"/>
                  </a:lnTo>
                  <a:lnTo>
                    <a:pt x="12240" y="21016"/>
                  </a:lnTo>
                  <a:lnTo>
                    <a:pt x="12240" y="20432"/>
                  </a:lnTo>
                  <a:lnTo>
                    <a:pt x="13680" y="20432"/>
                  </a:lnTo>
                  <a:lnTo>
                    <a:pt x="13680" y="21016"/>
                  </a:lnTo>
                  <a:lnTo>
                    <a:pt x="14400" y="21600"/>
                  </a:lnTo>
                  <a:lnTo>
                    <a:pt x="15840" y="21016"/>
                  </a:lnTo>
                  <a:lnTo>
                    <a:pt x="16560" y="18681"/>
                  </a:lnTo>
                  <a:lnTo>
                    <a:pt x="16560" y="16345"/>
                  </a:lnTo>
                  <a:lnTo>
                    <a:pt x="18000" y="16345"/>
                  </a:lnTo>
                  <a:lnTo>
                    <a:pt x="18000" y="14594"/>
                  </a:lnTo>
                  <a:lnTo>
                    <a:pt x="19440" y="15762"/>
                  </a:lnTo>
                  <a:lnTo>
                    <a:pt x="20880" y="14010"/>
                  </a:lnTo>
                  <a:lnTo>
                    <a:pt x="19440" y="12843"/>
                  </a:lnTo>
                  <a:lnTo>
                    <a:pt x="19440" y="12259"/>
                  </a:lnTo>
                  <a:lnTo>
                    <a:pt x="20880" y="11675"/>
                  </a:lnTo>
                  <a:lnTo>
                    <a:pt x="20160" y="9924"/>
                  </a:lnTo>
                  <a:lnTo>
                    <a:pt x="19440" y="9340"/>
                  </a:lnTo>
                  <a:lnTo>
                    <a:pt x="21600" y="9924"/>
                  </a:lnTo>
                  <a:lnTo>
                    <a:pt x="21600" y="7589"/>
                  </a:lnTo>
                  <a:lnTo>
                    <a:pt x="19440" y="8756"/>
                  </a:lnTo>
                  <a:lnTo>
                    <a:pt x="21600" y="5837"/>
                  </a:lnTo>
                  <a:lnTo>
                    <a:pt x="18000" y="4086"/>
                  </a:lnTo>
                  <a:lnTo>
                    <a:pt x="15840" y="4086"/>
                  </a:lnTo>
                  <a:lnTo>
                    <a:pt x="14400" y="5254"/>
                  </a:lnTo>
                  <a:lnTo>
                    <a:pt x="13680" y="3502"/>
                  </a:lnTo>
                  <a:lnTo>
                    <a:pt x="16560" y="116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AutoShape 14"/>
            <p:cNvSpPr/>
            <p:nvPr/>
          </p:nvSpPr>
          <p:spPr>
            <a:xfrm>
              <a:off x="7629120" y="4777560"/>
              <a:ext cx="614520" cy="76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3286"/>
                  </a:moveTo>
                  <a:lnTo>
                    <a:pt x="21599" y="2817"/>
                  </a:lnTo>
                  <a:lnTo>
                    <a:pt x="20329" y="2817"/>
                  </a:lnTo>
                  <a:lnTo>
                    <a:pt x="20329" y="3286"/>
                  </a:lnTo>
                  <a:lnTo>
                    <a:pt x="18423" y="3286"/>
                  </a:lnTo>
                  <a:lnTo>
                    <a:pt x="18423" y="1878"/>
                  </a:lnTo>
                  <a:lnTo>
                    <a:pt x="17788" y="1878"/>
                  </a:lnTo>
                  <a:lnTo>
                    <a:pt x="16517" y="3286"/>
                  </a:lnTo>
                  <a:lnTo>
                    <a:pt x="14611" y="3286"/>
                  </a:lnTo>
                  <a:lnTo>
                    <a:pt x="13976" y="1878"/>
                  </a:lnTo>
                  <a:lnTo>
                    <a:pt x="12705" y="0"/>
                  </a:lnTo>
                  <a:lnTo>
                    <a:pt x="11435" y="0"/>
                  </a:lnTo>
                  <a:lnTo>
                    <a:pt x="11435" y="469"/>
                  </a:lnTo>
                  <a:lnTo>
                    <a:pt x="8894" y="939"/>
                  </a:lnTo>
                  <a:lnTo>
                    <a:pt x="8894" y="1878"/>
                  </a:lnTo>
                  <a:lnTo>
                    <a:pt x="6352" y="1878"/>
                  </a:lnTo>
                  <a:lnTo>
                    <a:pt x="5082" y="2817"/>
                  </a:lnTo>
                  <a:lnTo>
                    <a:pt x="5082" y="4226"/>
                  </a:lnTo>
                  <a:lnTo>
                    <a:pt x="5717" y="5165"/>
                  </a:lnTo>
                  <a:lnTo>
                    <a:pt x="3811" y="6573"/>
                  </a:lnTo>
                  <a:lnTo>
                    <a:pt x="3176" y="6573"/>
                  </a:lnTo>
                  <a:lnTo>
                    <a:pt x="2541" y="8452"/>
                  </a:lnTo>
                  <a:lnTo>
                    <a:pt x="2541" y="10330"/>
                  </a:lnTo>
                  <a:lnTo>
                    <a:pt x="1270" y="11739"/>
                  </a:lnTo>
                  <a:lnTo>
                    <a:pt x="635" y="12678"/>
                  </a:lnTo>
                  <a:lnTo>
                    <a:pt x="0" y="15026"/>
                  </a:lnTo>
                  <a:lnTo>
                    <a:pt x="635" y="15965"/>
                  </a:lnTo>
                  <a:lnTo>
                    <a:pt x="4447" y="15965"/>
                  </a:lnTo>
                  <a:lnTo>
                    <a:pt x="6352" y="19252"/>
                  </a:lnTo>
                  <a:lnTo>
                    <a:pt x="6988" y="21599"/>
                  </a:lnTo>
                  <a:lnTo>
                    <a:pt x="8894" y="19252"/>
                  </a:lnTo>
                  <a:lnTo>
                    <a:pt x="9529" y="19721"/>
                  </a:lnTo>
                  <a:lnTo>
                    <a:pt x="12070" y="17843"/>
                  </a:lnTo>
                  <a:lnTo>
                    <a:pt x="12070" y="16434"/>
                  </a:lnTo>
                  <a:lnTo>
                    <a:pt x="14611" y="15965"/>
                  </a:lnTo>
                  <a:lnTo>
                    <a:pt x="15882" y="13617"/>
                  </a:lnTo>
                  <a:lnTo>
                    <a:pt x="17152" y="13147"/>
                  </a:lnTo>
                  <a:lnTo>
                    <a:pt x="17152" y="11739"/>
                  </a:lnTo>
                  <a:lnTo>
                    <a:pt x="19058" y="11739"/>
                  </a:lnTo>
                  <a:lnTo>
                    <a:pt x="19694" y="9391"/>
                  </a:lnTo>
                  <a:lnTo>
                    <a:pt x="19058" y="7513"/>
                  </a:lnTo>
                  <a:lnTo>
                    <a:pt x="19694" y="7043"/>
                  </a:lnTo>
                  <a:lnTo>
                    <a:pt x="18423" y="6104"/>
                  </a:lnTo>
                  <a:lnTo>
                    <a:pt x="19694" y="5634"/>
                  </a:lnTo>
                  <a:lnTo>
                    <a:pt x="20329" y="6104"/>
                  </a:lnTo>
                  <a:lnTo>
                    <a:pt x="21599" y="4695"/>
                  </a:lnTo>
                  <a:lnTo>
                    <a:pt x="21599" y="328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AutoShape 15"/>
            <p:cNvSpPr/>
            <p:nvPr/>
          </p:nvSpPr>
          <p:spPr>
            <a:xfrm>
              <a:off x="6688800" y="5260680"/>
              <a:ext cx="113904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7200"/>
                  </a:moveTo>
                  <a:lnTo>
                    <a:pt x="21257" y="5400"/>
                  </a:lnTo>
                  <a:lnTo>
                    <a:pt x="20228" y="2250"/>
                  </a:lnTo>
                  <a:lnTo>
                    <a:pt x="18171" y="2250"/>
                  </a:lnTo>
                  <a:lnTo>
                    <a:pt x="17828" y="1800"/>
                  </a:lnTo>
                  <a:lnTo>
                    <a:pt x="17485" y="3150"/>
                  </a:lnTo>
                  <a:lnTo>
                    <a:pt x="16799" y="3150"/>
                  </a:lnTo>
                  <a:lnTo>
                    <a:pt x="16114" y="2250"/>
                  </a:lnTo>
                  <a:lnTo>
                    <a:pt x="13714" y="3600"/>
                  </a:lnTo>
                  <a:lnTo>
                    <a:pt x="13371" y="3150"/>
                  </a:lnTo>
                  <a:lnTo>
                    <a:pt x="14399" y="450"/>
                  </a:lnTo>
                  <a:lnTo>
                    <a:pt x="13371" y="0"/>
                  </a:lnTo>
                  <a:lnTo>
                    <a:pt x="12685" y="900"/>
                  </a:lnTo>
                  <a:lnTo>
                    <a:pt x="11999" y="0"/>
                  </a:lnTo>
                  <a:lnTo>
                    <a:pt x="11657" y="450"/>
                  </a:lnTo>
                  <a:lnTo>
                    <a:pt x="9257" y="450"/>
                  </a:lnTo>
                  <a:lnTo>
                    <a:pt x="9600" y="2250"/>
                  </a:lnTo>
                  <a:lnTo>
                    <a:pt x="8914" y="2250"/>
                  </a:lnTo>
                  <a:lnTo>
                    <a:pt x="7542" y="900"/>
                  </a:lnTo>
                  <a:lnTo>
                    <a:pt x="7200" y="1350"/>
                  </a:lnTo>
                  <a:lnTo>
                    <a:pt x="7200" y="2700"/>
                  </a:lnTo>
                  <a:lnTo>
                    <a:pt x="6171" y="2700"/>
                  </a:lnTo>
                  <a:lnTo>
                    <a:pt x="6171" y="4050"/>
                  </a:lnTo>
                  <a:lnTo>
                    <a:pt x="6514" y="4950"/>
                  </a:lnTo>
                  <a:lnTo>
                    <a:pt x="6171" y="5400"/>
                  </a:lnTo>
                  <a:lnTo>
                    <a:pt x="6171" y="6300"/>
                  </a:lnTo>
                  <a:lnTo>
                    <a:pt x="4800" y="8100"/>
                  </a:lnTo>
                  <a:lnTo>
                    <a:pt x="4800" y="9450"/>
                  </a:lnTo>
                  <a:lnTo>
                    <a:pt x="4457" y="11249"/>
                  </a:lnTo>
                  <a:lnTo>
                    <a:pt x="3085" y="12599"/>
                  </a:lnTo>
                  <a:lnTo>
                    <a:pt x="2057" y="14399"/>
                  </a:lnTo>
                  <a:lnTo>
                    <a:pt x="1371" y="15299"/>
                  </a:lnTo>
                  <a:lnTo>
                    <a:pt x="342" y="15749"/>
                  </a:lnTo>
                  <a:lnTo>
                    <a:pt x="0" y="16649"/>
                  </a:lnTo>
                  <a:lnTo>
                    <a:pt x="685" y="17099"/>
                  </a:lnTo>
                  <a:lnTo>
                    <a:pt x="342" y="17549"/>
                  </a:lnTo>
                  <a:lnTo>
                    <a:pt x="342" y="19799"/>
                  </a:lnTo>
                  <a:lnTo>
                    <a:pt x="685" y="20249"/>
                  </a:lnTo>
                  <a:lnTo>
                    <a:pt x="685" y="21599"/>
                  </a:lnTo>
                  <a:lnTo>
                    <a:pt x="2400" y="21599"/>
                  </a:lnTo>
                  <a:lnTo>
                    <a:pt x="2400" y="20249"/>
                  </a:lnTo>
                  <a:lnTo>
                    <a:pt x="1714" y="19349"/>
                  </a:lnTo>
                  <a:lnTo>
                    <a:pt x="2057" y="17549"/>
                  </a:lnTo>
                  <a:lnTo>
                    <a:pt x="3428" y="17099"/>
                  </a:lnTo>
                  <a:lnTo>
                    <a:pt x="4457" y="17099"/>
                  </a:lnTo>
                  <a:lnTo>
                    <a:pt x="6514" y="15749"/>
                  </a:lnTo>
                  <a:lnTo>
                    <a:pt x="7885" y="15749"/>
                  </a:lnTo>
                  <a:lnTo>
                    <a:pt x="8228" y="16649"/>
                  </a:lnTo>
                  <a:lnTo>
                    <a:pt x="8914" y="14849"/>
                  </a:lnTo>
                  <a:lnTo>
                    <a:pt x="10285" y="13949"/>
                  </a:lnTo>
                  <a:lnTo>
                    <a:pt x="10628" y="12599"/>
                  </a:lnTo>
                  <a:lnTo>
                    <a:pt x="11314" y="13499"/>
                  </a:lnTo>
                  <a:lnTo>
                    <a:pt x="11657" y="13499"/>
                  </a:lnTo>
                  <a:lnTo>
                    <a:pt x="11314" y="12149"/>
                  </a:lnTo>
                  <a:lnTo>
                    <a:pt x="11314" y="10350"/>
                  </a:lnTo>
                  <a:lnTo>
                    <a:pt x="11999" y="11699"/>
                  </a:lnTo>
                  <a:lnTo>
                    <a:pt x="12342" y="13049"/>
                  </a:lnTo>
                  <a:lnTo>
                    <a:pt x="14399" y="13049"/>
                  </a:lnTo>
                  <a:lnTo>
                    <a:pt x="13714" y="12149"/>
                  </a:lnTo>
                  <a:lnTo>
                    <a:pt x="14399" y="11249"/>
                  </a:lnTo>
                  <a:lnTo>
                    <a:pt x="15428" y="11699"/>
                  </a:lnTo>
                  <a:lnTo>
                    <a:pt x="16114" y="10800"/>
                  </a:lnTo>
                  <a:lnTo>
                    <a:pt x="16799" y="10800"/>
                  </a:lnTo>
                  <a:lnTo>
                    <a:pt x="16799" y="11249"/>
                  </a:lnTo>
                  <a:lnTo>
                    <a:pt x="17142" y="11249"/>
                  </a:lnTo>
                  <a:lnTo>
                    <a:pt x="17142" y="10350"/>
                  </a:lnTo>
                  <a:lnTo>
                    <a:pt x="18171" y="10800"/>
                  </a:lnTo>
                  <a:lnTo>
                    <a:pt x="19199" y="9900"/>
                  </a:lnTo>
                  <a:lnTo>
                    <a:pt x="20228" y="9450"/>
                  </a:lnTo>
                  <a:lnTo>
                    <a:pt x="20571" y="7650"/>
                  </a:lnTo>
                  <a:lnTo>
                    <a:pt x="21599" y="720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AutoShape 16"/>
            <p:cNvSpPr/>
            <p:nvPr/>
          </p:nvSpPr>
          <p:spPr>
            <a:xfrm>
              <a:off x="5929200" y="5110560"/>
              <a:ext cx="1122120" cy="79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632" y="20699"/>
                  </a:moveTo>
                  <a:lnTo>
                    <a:pt x="14980" y="19349"/>
                  </a:lnTo>
                  <a:lnTo>
                    <a:pt x="16025" y="19349"/>
                  </a:lnTo>
                  <a:lnTo>
                    <a:pt x="19161" y="15299"/>
                  </a:lnTo>
                  <a:lnTo>
                    <a:pt x="19509" y="13499"/>
                  </a:lnTo>
                  <a:lnTo>
                    <a:pt x="19509" y="12149"/>
                  </a:lnTo>
                  <a:lnTo>
                    <a:pt x="20903" y="10350"/>
                  </a:lnTo>
                  <a:lnTo>
                    <a:pt x="20903" y="9450"/>
                  </a:lnTo>
                  <a:lnTo>
                    <a:pt x="21600" y="9000"/>
                  </a:lnTo>
                  <a:lnTo>
                    <a:pt x="20903" y="8550"/>
                  </a:lnTo>
                  <a:lnTo>
                    <a:pt x="20903" y="7200"/>
                  </a:lnTo>
                  <a:lnTo>
                    <a:pt x="19858" y="7200"/>
                  </a:lnTo>
                  <a:lnTo>
                    <a:pt x="19858" y="5400"/>
                  </a:lnTo>
                  <a:lnTo>
                    <a:pt x="19161" y="5400"/>
                  </a:lnTo>
                  <a:lnTo>
                    <a:pt x="19161" y="6300"/>
                  </a:lnTo>
                  <a:lnTo>
                    <a:pt x="18464" y="6300"/>
                  </a:lnTo>
                  <a:lnTo>
                    <a:pt x="18464" y="5850"/>
                  </a:lnTo>
                  <a:lnTo>
                    <a:pt x="18812" y="3600"/>
                  </a:lnTo>
                  <a:lnTo>
                    <a:pt x="19161" y="3150"/>
                  </a:lnTo>
                  <a:lnTo>
                    <a:pt x="19161" y="900"/>
                  </a:lnTo>
                  <a:lnTo>
                    <a:pt x="18812" y="0"/>
                  </a:lnTo>
                  <a:lnTo>
                    <a:pt x="17767" y="450"/>
                  </a:lnTo>
                  <a:lnTo>
                    <a:pt x="17070" y="450"/>
                  </a:lnTo>
                  <a:lnTo>
                    <a:pt x="16374" y="1350"/>
                  </a:lnTo>
                  <a:lnTo>
                    <a:pt x="15677" y="1800"/>
                  </a:lnTo>
                  <a:lnTo>
                    <a:pt x="15677" y="1350"/>
                  </a:lnTo>
                  <a:lnTo>
                    <a:pt x="14980" y="1800"/>
                  </a:lnTo>
                  <a:lnTo>
                    <a:pt x="13935" y="1800"/>
                  </a:lnTo>
                  <a:lnTo>
                    <a:pt x="13238" y="2250"/>
                  </a:lnTo>
                  <a:lnTo>
                    <a:pt x="12541" y="3600"/>
                  </a:lnTo>
                  <a:lnTo>
                    <a:pt x="11845" y="3150"/>
                  </a:lnTo>
                  <a:lnTo>
                    <a:pt x="11496" y="4050"/>
                  </a:lnTo>
                  <a:lnTo>
                    <a:pt x="10103" y="4050"/>
                  </a:lnTo>
                  <a:lnTo>
                    <a:pt x="9754" y="5400"/>
                  </a:lnTo>
                  <a:lnTo>
                    <a:pt x="8709" y="5850"/>
                  </a:lnTo>
                  <a:lnTo>
                    <a:pt x="8012" y="4950"/>
                  </a:lnTo>
                  <a:lnTo>
                    <a:pt x="7664" y="3600"/>
                  </a:lnTo>
                  <a:lnTo>
                    <a:pt x="6967" y="4050"/>
                  </a:lnTo>
                  <a:lnTo>
                    <a:pt x="6967" y="4950"/>
                  </a:lnTo>
                  <a:lnTo>
                    <a:pt x="6270" y="4950"/>
                  </a:lnTo>
                  <a:lnTo>
                    <a:pt x="4529" y="6300"/>
                  </a:lnTo>
                  <a:lnTo>
                    <a:pt x="4180" y="7200"/>
                  </a:lnTo>
                  <a:lnTo>
                    <a:pt x="2090" y="6300"/>
                  </a:lnTo>
                  <a:lnTo>
                    <a:pt x="1393" y="6300"/>
                  </a:lnTo>
                  <a:lnTo>
                    <a:pt x="1045" y="6750"/>
                  </a:lnTo>
                  <a:lnTo>
                    <a:pt x="0" y="7200"/>
                  </a:lnTo>
                  <a:lnTo>
                    <a:pt x="0" y="8100"/>
                  </a:lnTo>
                  <a:lnTo>
                    <a:pt x="1393" y="8100"/>
                  </a:lnTo>
                  <a:lnTo>
                    <a:pt x="1741" y="9000"/>
                  </a:lnTo>
                  <a:lnTo>
                    <a:pt x="3832" y="9450"/>
                  </a:lnTo>
                  <a:lnTo>
                    <a:pt x="4180" y="9900"/>
                  </a:lnTo>
                  <a:lnTo>
                    <a:pt x="4529" y="11699"/>
                  </a:lnTo>
                  <a:lnTo>
                    <a:pt x="2787" y="11699"/>
                  </a:lnTo>
                  <a:lnTo>
                    <a:pt x="2438" y="12599"/>
                  </a:lnTo>
                  <a:lnTo>
                    <a:pt x="2787" y="13499"/>
                  </a:lnTo>
                  <a:lnTo>
                    <a:pt x="5922" y="14849"/>
                  </a:lnTo>
                  <a:lnTo>
                    <a:pt x="5922" y="15749"/>
                  </a:lnTo>
                  <a:lnTo>
                    <a:pt x="5225" y="16199"/>
                  </a:lnTo>
                  <a:lnTo>
                    <a:pt x="5922" y="17099"/>
                  </a:lnTo>
                  <a:lnTo>
                    <a:pt x="5922" y="18449"/>
                  </a:lnTo>
                  <a:lnTo>
                    <a:pt x="9058" y="20249"/>
                  </a:lnTo>
                  <a:lnTo>
                    <a:pt x="10800" y="20249"/>
                  </a:lnTo>
                  <a:lnTo>
                    <a:pt x="11148" y="20699"/>
                  </a:lnTo>
                  <a:lnTo>
                    <a:pt x="11148" y="19349"/>
                  </a:lnTo>
                  <a:lnTo>
                    <a:pt x="12541" y="19799"/>
                  </a:lnTo>
                  <a:lnTo>
                    <a:pt x="12890" y="21149"/>
                  </a:lnTo>
                  <a:lnTo>
                    <a:pt x="13587" y="21599"/>
                  </a:lnTo>
                  <a:lnTo>
                    <a:pt x="14632" y="2069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AutoShape 17"/>
            <p:cNvSpPr/>
            <p:nvPr/>
          </p:nvSpPr>
          <p:spPr>
            <a:xfrm>
              <a:off x="5821920" y="4661280"/>
              <a:ext cx="832680" cy="734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817" y="21109"/>
                  </a:moveTo>
                  <a:lnTo>
                    <a:pt x="2817" y="19636"/>
                  </a:lnTo>
                  <a:lnTo>
                    <a:pt x="3756" y="18163"/>
                  </a:lnTo>
                  <a:lnTo>
                    <a:pt x="1878" y="16200"/>
                  </a:lnTo>
                  <a:lnTo>
                    <a:pt x="3286" y="13745"/>
                  </a:lnTo>
                  <a:lnTo>
                    <a:pt x="3286" y="11781"/>
                  </a:lnTo>
                  <a:lnTo>
                    <a:pt x="469" y="12272"/>
                  </a:lnTo>
                  <a:lnTo>
                    <a:pt x="469" y="9818"/>
                  </a:lnTo>
                  <a:lnTo>
                    <a:pt x="0" y="9327"/>
                  </a:lnTo>
                  <a:lnTo>
                    <a:pt x="939" y="8345"/>
                  </a:lnTo>
                  <a:lnTo>
                    <a:pt x="1878" y="8836"/>
                  </a:lnTo>
                  <a:lnTo>
                    <a:pt x="2817" y="8345"/>
                  </a:lnTo>
                  <a:lnTo>
                    <a:pt x="5634" y="8345"/>
                  </a:lnTo>
                  <a:lnTo>
                    <a:pt x="6104" y="7363"/>
                  </a:lnTo>
                  <a:lnTo>
                    <a:pt x="6573" y="6872"/>
                  </a:lnTo>
                  <a:lnTo>
                    <a:pt x="9860" y="6872"/>
                  </a:lnTo>
                  <a:lnTo>
                    <a:pt x="9391" y="4909"/>
                  </a:lnTo>
                  <a:lnTo>
                    <a:pt x="7982" y="4909"/>
                  </a:lnTo>
                  <a:lnTo>
                    <a:pt x="7513" y="3436"/>
                  </a:lnTo>
                  <a:lnTo>
                    <a:pt x="8452" y="2454"/>
                  </a:lnTo>
                  <a:lnTo>
                    <a:pt x="9860" y="2945"/>
                  </a:lnTo>
                  <a:lnTo>
                    <a:pt x="10800" y="2454"/>
                  </a:lnTo>
                  <a:lnTo>
                    <a:pt x="11269" y="3436"/>
                  </a:lnTo>
                  <a:lnTo>
                    <a:pt x="12208" y="2945"/>
                  </a:lnTo>
                  <a:lnTo>
                    <a:pt x="12208" y="1472"/>
                  </a:lnTo>
                  <a:lnTo>
                    <a:pt x="13617" y="2454"/>
                  </a:lnTo>
                  <a:lnTo>
                    <a:pt x="14086" y="490"/>
                  </a:lnTo>
                  <a:lnTo>
                    <a:pt x="14556" y="0"/>
                  </a:lnTo>
                  <a:lnTo>
                    <a:pt x="15495" y="981"/>
                  </a:lnTo>
                  <a:lnTo>
                    <a:pt x="16904" y="981"/>
                  </a:lnTo>
                  <a:lnTo>
                    <a:pt x="18313" y="4418"/>
                  </a:lnTo>
                  <a:lnTo>
                    <a:pt x="18782" y="4418"/>
                  </a:lnTo>
                  <a:lnTo>
                    <a:pt x="19252" y="5399"/>
                  </a:lnTo>
                  <a:lnTo>
                    <a:pt x="20191" y="5399"/>
                  </a:lnTo>
                  <a:lnTo>
                    <a:pt x="20660" y="4418"/>
                  </a:lnTo>
                  <a:lnTo>
                    <a:pt x="21130" y="3927"/>
                  </a:lnTo>
                  <a:lnTo>
                    <a:pt x="21599" y="5399"/>
                  </a:lnTo>
                  <a:lnTo>
                    <a:pt x="21130" y="5890"/>
                  </a:lnTo>
                  <a:lnTo>
                    <a:pt x="21130" y="7854"/>
                  </a:lnTo>
                  <a:lnTo>
                    <a:pt x="19721" y="9327"/>
                  </a:lnTo>
                  <a:lnTo>
                    <a:pt x="19721" y="10309"/>
                  </a:lnTo>
                  <a:lnTo>
                    <a:pt x="21130" y="10309"/>
                  </a:lnTo>
                  <a:lnTo>
                    <a:pt x="21599" y="11290"/>
                  </a:lnTo>
                  <a:lnTo>
                    <a:pt x="21130" y="11781"/>
                  </a:lnTo>
                  <a:lnTo>
                    <a:pt x="21130" y="14236"/>
                  </a:lnTo>
                  <a:lnTo>
                    <a:pt x="21599" y="14236"/>
                  </a:lnTo>
                  <a:lnTo>
                    <a:pt x="21599" y="15218"/>
                  </a:lnTo>
                  <a:lnTo>
                    <a:pt x="20191" y="15709"/>
                  </a:lnTo>
                  <a:lnTo>
                    <a:pt x="20191" y="17181"/>
                  </a:lnTo>
                  <a:lnTo>
                    <a:pt x="18782" y="16690"/>
                  </a:lnTo>
                  <a:lnTo>
                    <a:pt x="18313" y="17672"/>
                  </a:lnTo>
                  <a:lnTo>
                    <a:pt x="16434" y="17672"/>
                  </a:lnTo>
                  <a:lnTo>
                    <a:pt x="15965" y="19145"/>
                  </a:lnTo>
                  <a:lnTo>
                    <a:pt x="14556" y="19636"/>
                  </a:lnTo>
                  <a:lnTo>
                    <a:pt x="13617" y="18654"/>
                  </a:lnTo>
                  <a:lnTo>
                    <a:pt x="13147" y="17181"/>
                  </a:lnTo>
                  <a:lnTo>
                    <a:pt x="12208" y="17672"/>
                  </a:lnTo>
                  <a:lnTo>
                    <a:pt x="12208" y="18654"/>
                  </a:lnTo>
                  <a:lnTo>
                    <a:pt x="11269" y="18654"/>
                  </a:lnTo>
                  <a:lnTo>
                    <a:pt x="8921" y="20127"/>
                  </a:lnTo>
                  <a:lnTo>
                    <a:pt x="8452" y="21600"/>
                  </a:lnTo>
                  <a:lnTo>
                    <a:pt x="5634" y="20127"/>
                  </a:lnTo>
                  <a:lnTo>
                    <a:pt x="4695" y="20127"/>
                  </a:lnTo>
                  <a:lnTo>
                    <a:pt x="2817" y="2110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AutoShape 18"/>
            <p:cNvSpPr/>
            <p:nvPr/>
          </p:nvSpPr>
          <p:spPr>
            <a:xfrm>
              <a:off x="4879800" y="4610520"/>
              <a:ext cx="1283760" cy="128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74" y="16270"/>
                  </a:moveTo>
                  <a:lnTo>
                    <a:pt x="20078" y="15709"/>
                  </a:lnTo>
                  <a:lnTo>
                    <a:pt x="21599" y="15709"/>
                  </a:lnTo>
                  <a:lnTo>
                    <a:pt x="21295" y="14587"/>
                  </a:lnTo>
                  <a:lnTo>
                    <a:pt x="20991" y="14025"/>
                  </a:lnTo>
                  <a:lnTo>
                    <a:pt x="20078" y="14306"/>
                  </a:lnTo>
                  <a:lnTo>
                    <a:pt x="19166" y="14025"/>
                  </a:lnTo>
                  <a:lnTo>
                    <a:pt x="18861" y="13464"/>
                  </a:lnTo>
                  <a:lnTo>
                    <a:pt x="17645" y="13464"/>
                  </a:lnTo>
                  <a:lnTo>
                    <a:pt x="17645" y="12062"/>
                  </a:lnTo>
                  <a:lnTo>
                    <a:pt x="18253" y="11220"/>
                  </a:lnTo>
                  <a:lnTo>
                    <a:pt x="17036" y="10098"/>
                  </a:lnTo>
                  <a:lnTo>
                    <a:pt x="17949" y="8696"/>
                  </a:lnTo>
                  <a:lnTo>
                    <a:pt x="17949" y="7574"/>
                  </a:lnTo>
                  <a:lnTo>
                    <a:pt x="16123" y="7854"/>
                  </a:lnTo>
                  <a:lnTo>
                    <a:pt x="16123" y="6451"/>
                  </a:lnTo>
                  <a:lnTo>
                    <a:pt x="15819" y="6171"/>
                  </a:lnTo>
                  <a:lnTo>
                    <a:pt x="16428" y="5610"/>
                  </a:lnTo>
                  <a:lnTo>
                    <a:pt x="17036" y="5890"/>
                  </a:lnTo>
                  <a:lnTo>
                    <a:pt x="17645" y="5329"/>
                  </a:lnTo>
                  <a:lnTo>
                    <a:pt x="19470" y="5610"/>
                  </a:lnTo>
                  <a:lnTo>
                    <a:pt x="20078" y="4768"/>
                  </a:lnTo>
                  <a:lnTo>
                    <a:pt x="19470" y="3927"/>
                  </a:lnTo>
                  <a:lnTo>
                    <a:pt x="18557" y="4488"/>
                  </a:lnTo>
                  <a:lnTo>
                    <a:pt x="17645" y="3927"/>
                  </a:lnTo>
                  <a:lnTo>
                    <a:pt x="17645" y="2244"/>
                  </a:lnTo>
                  <a:lnTo>
                    <a:pt x="16428" y="2244"/>
                  </a:lnTo>
                  <a:lnTo>
                    <a:pt x="16123" y="3366"/>
                  </a:lnTo>
                  <a:lnTo>
                    <a:pt x="15515" y="3366"/>
                  </a:lnTo>
                  <a:lnTo>
                    <a:pt x="15515" y="4207"/>
                  </a:lnTo>
                  <a:lnTo>
                    <a:pt x="14602" y="5049"/>
                  </a:lnTo>
                  <a:lnTo>
                    <a:pt x="13994" y="5049"/>
                  </a:lnTo>
                  <a:lnTo>
                    <a:pt x="13994" y="8415"/>
                  </a:lnTo>
                  <a:lnTo>
                    <a:pt x="13081" y="8415"/>
                  </a:lnTo>
                  <a:lnTo>
                    <a:pt x="12777" y="7854"/>
                  </a:lnTo>
                  <a:lnTo>
                    <a:pt x="12169" y="8415"/>
                  </a:lnTo>
                  <a:lnTo>
                    <a:pt x="10952" y="8415"/>
                  </a:lnTo>
                  <a:lnTo>
                    <a:pt x="10952" y="8135"/>
                  </a:lnTo>
                  <a:lnTo>
                    <a:pt x="10343" y="7854"/>
                  </a:lnTo>
                  <a:lnTo>
                    <a:pt x="10343" y="6732"/>
                  </a:lnTo>
                  <a:lnTo>
                    <a:pt x="8822" y="3646"/>
                  </a:lnTo>
                  <a:lnTo>
                    <a:pt x="8214" y="3646"/>
                  </a:lnTo>
                  <a:lnTo>
                    <a:pt x="8214" y="3927"/>
                  </a:lnTo>
                  <a:lnTo>
                    <a:pt x="7605" y="3085"/>
                  </a:lnTo>
                  <a:lnTo>
                    <a:pt x="7909" y="2524"/>
                  </a:lnTo>
                  <a:lnTo>
                    <a:pt x="6692" y="1122"/>
                  </a:lnTo>
                  <a:lnTo>
                    <a:pt x="6084" y="1402"/>
                  </a:lnTo>
                  <a:lnTo>
                    <a:pt x="5780" y="2805"/>
                  </a:lnTo>
                  <a:lnTo>
                    <a:pt x="5171" y="2805"/>
                  </a:lnTo>
                  <a:lnTo>
                    <a:pt x="5171" y="0"/>
                  </a:lnTo>
                  <a:lnTo>
                    <a:pt x="4563" y="561"/>
                  </a:lnTo>
                  <a:lnTo>
                    <a:pt x="4259" y="0"/>
                  </a:lnTo>
                  <a:lnTo>
                    <a:pt x="3650" y="561"/>
                  </a:lnTo>
                  <a:lnTo>
                    <a:pt x="3650" y="1122"/>
                  </a:lnTo>
                  <a:lnTo>
                    <a:pt x="3954" y="2244"/>
                  </a:lnTo>
                  <a:lnTo>
                    <a:pt x="2738" y="2244"/>
                  </a:lnTo>
                  <a:lnTo>
                    <a:pt x="3042" y="3366"/>
                  </a:lnTo>
                  <a:lnTo>
                    <a:pt x="3042" y="3927"/>
                  </a:lnTo>
                  <a:lnTo>
                    <a:pt x="3954" y="3927"/>
                  </a:lnTo>
                  <a:lnTo>
                    <a:pt x="3954" y="5890"/>
                  </a:lnTo>
                  <a:lnTo>
                    <a:pt x="3346" y="8415"/>
                  </a:lnTo>
                  <a:lnTo>
                    <a:pt x="1521" y="9537"/>
                  </a:lnTo>
                  <a:lnTo>
                    <a:pt x="912" y="9818"/>
                  </a:lnTo>
                  <a:lnTo>
                    <a:pt x="608" y="10098"/>
                  </a:lnTo>
                  <a:lnTo>
                    <a:pt x="304" y="10940"/>
                  </a:lnTo>
                  <a:lnTo>
                    <a:pt x="304" y="12623"/>
                  </a:lnTo>
                  <a:lnTo>
                    <a:pt x="0" y="13184"/>
                  </a:lnTo>
                  <a:lnTo>
                    <a:pt x="1216" y="13184"/>
                  </a:lnTo>
                  <a:lnTo>
                    <a:pt x="1825" y="12903"/>
                  </a:lnTo>
                  <a:lnTo>
                    <a:pt x="3346" y="13184"/>
                  </a:lnTo>
                  <a:lnTo>
                    <a:pt x="3042" y="13745"/>
                  </a:lnTo>
                  <a:lnTo>
                    <a:pt x="2738" y="13745"/>
                  </a:lnTo>
                  <a:lnTo>
                    <a:pt x="3346" y="14306"/>
                  </a:lnTo>
                  <a:lnTo>
                    <a:pt x="3042" y="15148"/>
                  </a:lnTo>
                  <a:lnTo>
                    <a:pt x="3650" y="15709"/>
                  </a:lnTo>
                  <a:lnTo>
                    <a:pt x="4563" y="15709"/>
                  </a:lnTo>
                  <a:lnTo>
                    <a:pt x="4563" y="16270"/>
                  </a:lnTo>
                  <a:lnTo>
                    <a:pt x="4259" y="16550"/>
                  </a:lnTo>
                  <a:lnTo>
                    <a:pt x="4259" y="17672"/>
                  </a:lnTo>
                  <a:lnTo>
                    <a:pt x="3650" y="17672"/>
                  </a:lnTo>
                  <a:lnTo>
                    <a:pt x="3954" y="18514"/>
                  </a:lnTo>
                  <a:lnTo>
                    <a:pt x="5476" y="18514"/>
                  </a:lnTo>
                  <a:lnTo>
                    <a:pt x="5476" y="19636"/>
                  </a:lnTo>
                  <a:lnTo>
                    <a:pt x="6084" y="19916"/>
                  </a:lnTo>
                  <a:lnTo>
                    <a:pt x="7605" y="20197"/>
                  </a:lnTo>
                  <a:lnTo>
                    <a:pt x="8214" y="19636"/>
                  </a:lnTo>
                  <a:lnTo>
                    <a:pt x="8518" y="19916"/>
                  </a:lnTo>
                  <a:lnTo>
                    <a:pt x="8214" y="20758"/>
                  </a:lnTo>
                  <a:lnTo>
                    <a:pt x="10039" y="21600"/>
                  </a:lnTo>
                  <a:lnTo>
                    <a:pt x="10039" y="18233"/>
                  </a:lnTo>
                  <a:lnTo>
                    <a:pt x="10343" y="17953"/>
                  </a:lnTo>
                  <a:lnTo>
                    <a:pt x="12169" y="17953"/>
                  </a:lnTo>
                  <a:lnTo>
                    <a:pt x="12473" y="17672"/>
                  </a:lnTo>
                  <a:lnTo>
                    <a:pt x="13081" y="17672"/>
                  </a:lnTo>
                  <a:lnTo>
                    <a:pt x="13385" y="17953"/>
                  </a:lnTo>
                  <a:lnTo>
                    <a:pt x="14298" y="17672"/>
                  </a:lnTo>
                  <a:lnTo>
                    <a:pt x="14602" y="17953"/>
                  </a:lnTo>
                  <a:lnTo>
                    <a:pt x="14907" y="17672"/>
                  </a:lnTo>
                  <a:lnTo>
                    <a:pt x="15819" y="18233"/>
                  </a:lnTo>
                  <a:lnTo>
                    <a:pt x="15819" y="17672"/>
                  </a:lnTo>
                  <a:lnTo>
                    <a:pt x="16732" y="17672"/>
                  </a:lnTo>
                  <a:lnTo>
                    <a:pt x="18253" y="17392"/>
                  </a:lnTo>
                  <a:lnTo>
                    <a:pt x="18557" y="16550"/>
                  </a:lnTo>
                  <a:lnTo>
                    <a:pt x="19166" y="16270"/>
                  </a:lnTo>
                  <a:lnTo>
                    <a:pt x="19774" y="1627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AutoShape 19"/>
            <p:cNvSpPr/>
            <p:nvPr/>
          </p:nvSpPr>
          <p:spPr>
            <a:xfrm>
              <a:off x="2478240" y="3125520"/>
              <a:ext cx="2731680" cy="163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6" y="19616"/>
                  </a:moveTo>
                  <a:lnTo>
                    <a:pt x="21170" y="20057"/>
                  </a:lnTo>
                  <a:lnTo>
                    <a:pt x="21027" y="19616"/>
                  </a:lnTo>
                  <a:lnTo>
                    <a:pt x="20741" y="20057"/>
                  </a:lnTo>
                  <a:lnTo>
                    <a:pt x="20884" y="21379"/>
                  </a:lnTo>
                  <a:lnTo>
                    <a:pt x="20741" y="21599"/>
                  </a:lnTo>
                  <a:lnTo>
                    <a:pt x="20312" y="21379"/>
                  </a:lnTo>
                  <a:lnTo>
                    <a:pt x="19883" y="20938"/>
                  </a:lnTo>
                  <a:lnTo>
                    <a:pt x="19883" y="20497"/>
                  </a:lnTo>
                  <a:lnTo>
                    <a:pt x="19454" y="20718"/>
                  </a:lnTo>
                  <a:lnTo>
                    <a:pt x="18309" y="20057"/>
                  </a:lnTo>
                  <a:lnTo>
                    <a:pt x="18309" y="19836"/>
                  </a:lnTo>
                  <a:lnTo>
                    <a:pt x="18596" y="19616"/>
                  </a:lnTo>
                  <a:lnTo>
                    <a:pt x="18596" y="19175"/>
                  </a:lnTo>
                  <a:lnTo>
                    <a:pt x="18309" y="18955"/>
                  </a:lnTo>
                  <a:lnTo>
                    <a:pt x="18452" y="18734"/>
                  </a:lnTo>
                  <a:lnTo>
                    <a:pt x="18166" y="18073"/>
                  </a:lnTo>
                  <a:lnTo>
                    <a:pt x="17594" y="18514"/>
                  </a:lnTo>
                  <a:lnTo>
                    <a:pt x="17451" y="18734"/>
                  </a:lnTo>
                  <a:lnTo>
                    <a:pt x="17165" y="18734"/>
                  </a:lnTo>
                  <a:lnTo>
                    <a:pt x="16593" y="17853"/>
                  </a:lnTo>
                  <a:lnTo>
                    <a:pt x="15449" y="19175"/>
                  </a:lnTo>
                  <a:lnTo>
                    <a:pt x="14876" y="19175"/>
                  </a:lnTo>
                  <a:lnTo>
                    <a:pt x="14733" y="19836"/>
                  </a:lnTo>
                  <a:lnTo>
                    <a:pt x="14447" y="19836"/>
                  </a:lnTo>
                  <a:lnTo>
                    <a:pt x="13589" y="20497"/>
                  </a:lnTo>
                  <a:lnTo>
                    <a:pt x="13017" y="20277"/>
                  </a:lnTo>
                  <a:lnTo>
                    <a:pt x="12731" y="19616"/>
                  </a:lnTo>
                  <a:lnTo>
                    <a:pt x="11729" y="19616"/>
                  </a:lnTo>
                  <a:lnTo>
                    <a:pt x="11872" y="18955"/>
                  </a:lnTo>
                  <a:lnTo>
                    <a:pt x="11300" y="18734"/>
                  </a:lnTo>
                  <a:lnTo>
                    <a:pt x="10728" y="18734"/>
                  </a:lnTo>
                  <a:lnTo>
                    <a:pt x="10442" y="19395"/>
                  </a:lnTo>
                  <a:lnTo>
                    <a:pt x="9870" y="20057"/>
                  </a:lnTo>
                  <a:lnTo>
                    <a:pt x="9584" y="20057"/>
                  </a:lnTo>
                  <a:lnTo>
                    <a:pt x="9727" y="18734"/>
                  </a:lnTo>
                  <a:lnTo>
                    <a:pt x="8153" y="18514"/>
                  </a:lnTo>
                  <a:lnTo>
                    <a:pt x="7581" y="17632"/>
                  </a:lnTo>
                  <a:lnTo>
                    <a:pt x="7295" y="17632"/>
                  </a:lnTo>
                  <a:lnTo>
                    <a:pt x="7009" y="17853"/>
                  </a:lnTo>
                  <a:lnTo>
                    <a:pt x="6437" y="17191"/>
                  </a:lnTo>
                  <a:lnTo>
                    <a:pt x="6007" y="16530"/>
                  </a:lnTo>
                  <a:lnTo>
                    <a:pt x="5721" y="16310"/>
                  </a:lnTo>
                  <a:lnTo>
                    <a:pt x="5006" y="14987"/>
                  </a:lnTo>
                  <a:lnTo>
                    <a:pt x="4863" y="14326"/>
                  </a:lnTo>
                  <a:lnTo>
                    <a:pt x="4720" y="14106"/>
                  </a:lnTo>
                  <a:lnTo>
                    <a:pt x="4434" y="14106"/>
                  </a:lnTo>
                  <a:lnTo>
                    <a:pt x="4005" y="12783"/>
                  </a:lnTo>
                  <a:lnTo>
                    <a:pt x="3719" y="12563"/>
                  </a:lnTo>
                  <a:lnTo>
                    <a:pt x="3433" y="11681"/>
                  </a:lnTo>
                  <a:lnTo>
                    <a:pt x="2860" y="10579"/>
                  </a:lnTo>
                  <a:lnTo>
                    <a:pt x="2574" y="10579"/>
                  </a:lnTo>
                  <a:lnTo>
                    <a:pt x="2145" y="11240"/>
                  </a:lnTo>
                  <a:lnTo>
                    <a:pt x="1716" y="10359"/>
                  </a:lnTo>
                  <a:lnTo>
                    <a:pt x="1144" y="9036"/>
                  </a:lnTo>
                  <a:lnTo>
                    <a:pt x="715" y="8375"/>
                  </a:lnTo>
                  <a:lnTo>
                    <a:pt x="572" y="7493"/>
                  </a:lnTo>
                  <a:lnTo>
                    <a:pt x="143" y="7714"/>
                  </a:lnTo>
                  <a:lnTo>
                    <a:pt x="0" y="7053"/>
                  </a:lnTo>
                  <a:lnTo>
                    <a:pt x="143" y="6832"/>
                  </a:lnTo>
                  <a:lnTo>
                    <a:pt x="286" y="4848"/>
                  </a:lnTo>
                  <a:lnTo>
                    <a:pt x="572" y="4628"/>
                  </a:lnTo>
                  <a:lnTo>
                    <a:pt x="858" y="5289"/>
                  </a:lnTo>
                  <a:lnTo>
                    <a:pt x="1144" y="5069"/>
                  </a:lnTo>
                  <a:lnTo>
                    <a:pt x="1430" y="5069"/>
                  </a:lnTo>
                  <a:lnTo>
                    <a:pt x="1287" y="3967"/>
                  </a:lnTo>
                  <a:lnTo>
                    <a:pt x="1430" y="3526"/>
                  </a:lnTo>
                  <a:lnTo>
                    <a:pt x="1001" y="3306"/>
                  </a:lnTo>
                  <a:lnTo>
                    <a:pt x="1001" y="2644"/>
                  </a:lnTo>
                  <a:lnTo>
                    <a:pt x="1144" y="1542"/>
                  </a:lnTo>
                  <a:lnTo>
                    <a:pt x="1430" y="1322"/>
                  </a:lnTo>
                  <a:lnTo>
                    <a:pt x="2145" y="1542"/>
                  </a:lnTo>
                  <a:lnTo>
                    <a:pt x="2717" y="1102"/>
                  </a:lnTo>
                  <a:lnTo>
                    <a:pt x="3147" y="0"/>
                  </a:lnTo>
                  <a:lnTo>
                    <a:pt x="3719" y="220"/>
                  </a:lnTo>
                  <a:lnTo>
                    <a:pt x="4863" y="881"/>
                  </a:lnTo>
                  <a:lnTo>
                    <a:pt x="5149" y="440"/>
                  </a:lnTo>
                  <a:lnTo>
                    <a:pt x="6007" y="661"/>
                  </a:lnTo>
                  <a:lnTo>
                    <a:pt x="6150" y="1542"/>
                  </a:lnTo>
                  <a:lnTo>
                    <a:pt x="7295" y="1983"/>
                  </a:lnTo>
                  <a:lnTo>
                    <a:pt x="7724" y="1542"/>
                  </a:lnTo>
                  <a:lnTo>
                    <a:pt x="9011" y="1542"/>
                  </a:lnTo>
                  <a:lnTo>
                    <a:pt x="9441" y="1102"/>
                  </a:lnTo>
                  <a:lnTo>
                    <a:pt x="11443" y="881"/>
                  </a:lnTo>
                  <a:lnTo>
                    <a:pt x="11872" y="1542"/>
                  </a:lnTo>
                  <a:lnTo>
                    <a:pt x="12445" y="1763"/>
                  </a:lnTo>
                  <a:lnTo>
                    <a:pt x="12731" y="1983"/>
                  </a:lnTo>
                  <a:lnTo>
                    <a:pt x="12874" y="2424"/>
                  </a:lnTo>
                  <a:lnTo>
                    <a:pt x="12588" y="2644"/>
                  </a:lnTo>
                  <a:lnTo>
                    <a:pt x="13017" y="2865"/>
                  </a:lnTo>
                  <a:lnTo>
                    <a:pt x="13017" y="3746"/>
                  </a:lnTo>
                  <a:lnTo>
                    <a:pt x="12588" y="4628"/>
                  </a:lnTo>
                  <a:lnTo>
                    <a:pt x="12731" y="5069"/>
                  </a:lnTo>
                  <a:lnTo>
                    <a:pt x="12588" y="6391"/>
                  </a:lnTo>
                  <a:lnTo>
                    <a:pt x="12445" y="6832"/>
                  </a:lnTo>
                  <a:lnTo>
                    <a:pt x="12731" y="8155"/>
                  </a:lnTo>
                  <a:lnTo>
                    <a:pt x="13160" y="8816"/>
                  </a:lnTo>
                  <a:lnTo>
                    <a:pt x="14018" y="8816"/>
                  </a:lnTo>
                  <a:lnTo>
                    <a:pt x="14876" y="10138"/>
                  </a:lnTo>
                  <a:lnTo>
                    <a:pt x="15449" y="10359"/>
                  </a:lnTo>
                  <a:lnTo>
                    <a:pt x="16736" y="11461"/>
                  </a:lnTo>
                  <a:lnTo>
                    <a:pt x="17308" y="11020"/>
                  </a:lnTo>
                  <a:lnTo>
                    <a:pt x="18166" y="12342"/>
                  </a:lnTo>
                  <a:lnTo>
                    <a:pt x="18023" y="13224"/>
                  </a:lnTo>
                  <a:lnTo>
                    <a:pt x="18596" y="13224"/>
                  </a:lnTo>
                  <a:lnTo>
                    <a:pt x="18596" y="13665"/>
                  </a:lnTo>
                  <a:lnTo>
                    <a:pt x="19025" y="13665"/>
                  </a:lnTo>
                  <a:lnTo>
                    <a:pt x="18882" y="13004"/>
                  </a:lnTo>
                  <a:lnTo>
                    <a:pt x="19168" y="13004"/>
                  </a:lnTo>
                  <a:lnTo>
                    <a:pt x="19311" y="13224"/>
                  </a:lnTo>
                  <a:lnTo>
                    <a:pt x="19597" y="13224"/>
                  </a:lnTo>
                  <a:lnTo>
                    <a:pt x="19597" y="12783"/>
                  </a:lnTo>
                  <a:lnTo>
                    <a:pt x="20026" y="12783"/>
                  </a:lnTo>
                  <a:lnTo>
                    <a:pt x="20312" y="12122"/>
                  </a:lnTo>
                  <a:lnTo>
                    <a:pt x="20598" y="11902"/>
                  </a:lnTo>
                  <a:lnTo>
                    <a:pt x="21027" y="12563"/>
                  </a:lnTo>
                  <a:lnTo>
                    <a:pt x="21027" y="13224"/>
                  </a:lnTo>
                  <a:lnTo>
                    <a:pt x="21600" y="14767"/>
                  </a:lnTo>
                  <a:lnTo>
                    <a:pt x="21313" y="14987"/>
                  </a:lnTo>
                  <a:lnTo>
                    <a:pt x="21600" y="15869"/>
                  </a:lnTo>
                  <a:lnTo>
                    <a:pt x="21600" y="16751"/>
                  </a:lnTo>
                  <a:lnTo>
                    <a:pt x="21456" y="1961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AutoShape 20"/>
            <p:cNvSpPr/>
            <p:nvPr/>
          </p:nvSpPr>
          <p:spPr>
            <a:xfrm>
              <a:off x="5047200" y="3794760"/>
              <a:ext cx="1714320" cy="1315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781" y="16405"/>
                  </a:moveTo>
                  <a:lnTo>
                    <a:pt x="19781" y="16678"/>
                  </a:lnTo>
                  <a:lnTo>
                    <a:pt x="19553" y="17225"/>
                  </a:lnTo>
                  <a:lnTo>
                    <a:pt x="19098" y="17225"/>
                  </a:lnTo>
                  <a:lnTo>
                    <a:pt x="18871" y="16678"/>
                  </a:lnTo>
                  <a:lnTo>
                    <a:pt x="18644" y="16678"/>
                  </a:lnTo>
                  <a:lnTo>
                    <a:pt x="17962" y="14764"/>
                  </a:lnTo>
                  <a:lnTo>
                    <a:pt x="17279" y="14764"/>
                  </a:lnTo>
                  <a:lnTo>
                    <a:pt x="16825" y="14217"/>
                  </a:lnTo>
                  <a:lnTo>
                    <a:pt x="16597" y="14491"/>
                  </a:lnTo>
                  <a:lnTo>
                    <a:pt x="16370" y="15584"/>
                  </a:lnTo>
                  <a:lnTo>
                    <a:pt x="15688" y="15037"/>
                  </a:lnTo>
                  <a:lnTo>
                    <a:pt x="15688" y="15858"/>
                  </a:lnTo>
                  <a:lnTo>
                    <a:pt x="15233" y="16131"/>
                  </a:lnTo>
                  <a:lnTo>
                    <a:pt x="15006" y="15858"/>
                  </a:lnTo>
                  <a:lnTo>
                    <a:pt x="14551" y="15858"/>
                  </a:lnTo>
                  <a:lnTo>
                    <a:pt x="13869" y="15584"/>
                  </a:lnTo>
                  <a:lnTo>
                    <a:pt x="13414" y="16131"/>
                  </a:lnTo>
                  <a:lnTo>
                    <a:pt x="13642" y="16951"/>
                  </a:lnTo>
                  <a:lnTo>
                    <a:pt x="14324" y="16951"/>
                  </a:lnTo>
                  <a:lnTo>
                    <a:pt x="14551" y="18045"/>
                  </a:lnTo>
                  <a:lnTo>
                    <a:pt x="12959" y="18045"/>
                  </a:lnTo>
                  <a:lnTo>
                    <a:pt x="12505" y="17225"/>
                  </a:lnTo>
                  <a:lnTo>
                    <a:pt x="11823" y="17772"/>
                  </a:lnTo>
                  <a:lnTo>
                    <a:pt x="11141" y="17225"/>
                  </a:lnTo>
                  <a:lnTo>
                    <a:pt x="11141" y="15584"/>
                  </a:lnTo>
                  <a:lnTo>
                    <a:pt x="10231" y="15584"/>
                  </a:lnTo>
                  <a:lnTo>
                    <a:pt x="10231" y="16678"/>
                  </a:lnTo>
                  <a:lnTo>
                    <a:pt x="9549" y="16951"/>
                  </a:lnTo>
                  <a:lnTo>
                    <a:pt x="9549" y="17225"/>
                  </a:lnTo>
                  <a:lnTo>
                    <a:pt x="8867" y="18318"/>
                  </a:lnTo>
                  <a:lnTo>
                    <a:pt x="8412" y="18318"/>
                  </a:lnTo>
                  <a:lnTo>
                    <a:pt x="8412" y="21599"/>
                  </a:lnTo>
                  <a:lnTo>
                    <a:pt x="7730" y="21599"/>
                  </a:lnTo>
                  <a:lnTo>
                    <a:pt x="7503" y="21053"/>
                  </a:lnTo>
                  <a:lnTo>
                    <a:pt x="7048" y="21599"/>
                  </a:lnTo>
                  <a:lnTo>
                    <a:pt x="6138" y="21599"/>
                  </a:lnTo>
                  <a:lnTo>
                    <a:pt x="6138" y="21326"/>
                  </a:lnTo>
                  <a:lnTo>
                    <a:pt x="5684" y="21053"/>
                  </a:lnTo>
                  <a:lnTo>
                    <a:pt x="5684" y="19686"/>
                  </a:lnTo>
                  <a:lnTo>
                    <a:pt x="4547" y="16951"/>
                  </a:lnTo>
                  <a:lnTo>
                    <a:pt x="4092" y="16951"/>
                  </a:lnTo>
                  <a:lnTo>
                    <a:pt x="4092" y="17225"/>
                  </a:lnTo>
                  <a:lnTo>
                    <a:pt x="3637" y="16405"/>
                  </a:lnTo>
                  <a:lnTo>
                    <a:pt x="3865" y="16131"/>
                  </a:lnTo>
                  <a:lnTo>
                    <a:pt x="2955" y="14491"/>
                  </a:lnTo>
                  <a:lnTo>
                    <a:pt x="2501" y="14764"/>
                  </a:lnTo>
                  <a:lnTo>
                    <a:pt x="2273" y="15858"/>
                  </a:lnTo>
                  <a:lnTo>
                    <a:pt x="1818" y="16131"/>
                  </a:lnTo>
                  <a:lnTo>
                    <a:pt x="2046" y="8475"/>
                  </a:lnTo>
                  <a:lnTo>
                    <a:pt x="1591" y="7655"/>
                  </a:lnTo>
                  <a:lnTo>
                    <a:pt x="2046" y="7382"/>
                  </a:lnTo>
                  <a:lnTo>
                    <a:pt x="1136" y="5468"/>
                  </a:lnTo>
                  <a:lnTo>
                    <a:pt x="1136" y="4648"/>
                  </a:lnTo>
                  <a:lnTo>
                    <a:pt x="454" y="3827"/>
                  </a:lnTo>
                  <a:lnTo>
                    <a:pt x="0" y="3554"/>
                  </a:lnTo>
                  <a:lnTo>
                    <a:pt x="0" y="3281"/>
                  </a:lnTo>
                  <a:lnTo>
                    <a:pt x="227" y="2187"/>
                  </a:lnTo>
                  <a:lnTo>
                    <a:pt x="682" y="1640"/>
                  </a:lnTo>
                  <a:lnTo>
                    <a:pt x="454" y="1093"/>
                  </a:lnTo>
                  <a:lnTo>
                    <a:pt x="454" y="0"/>
                  </a:lnTo>
                  <a:lnTo>
                    <a:pt x="909" y="0"/>
                  </a:lnTo>
                  <a:lnTo>
                    <a:pt x="1136" y="546"/>
                  </a:lnTo>
                  <a:lnTo>
                    <a:pt x="1818" y="546"/>
                  </a:lnTo>
                  <a:lnTo>
                    <a:pt x="2501" y="1367"/>
                  </a:lnTo>
                  <a:lnTo>
                    <a:pt x="2501" y="2734"/>
                  </a:lnTo>
                  <a:lnTo>
                    <a:pt x="2955" y="2734"/>
                  </a:lnTo>
                  <a:lnTo>
                    <a:pt x="3637" y="4101"/>
                  </a:lnTo>
                  <a:lnTo>
                    <a:pt x="4320" y="3827"/>
                  </a:lnTo>
                  <a:lnTo>
                    <a:pt x="4320" y="3554"/>
                  </a:lnTo>
                  <a:lnTo>
                    <a:pt x="5002" y="4374"/>
                  </a:lnTo>
                  <a:lnTo>
                    <a:pt x="6138" y="4374"/>
                  </a:lnTo>
                  <a:lnTo>
                    <a:pt x="6366" y="3281"/>
                  </a:lnTo>
                  <a:lnTo>
                    <a:pt x="7275" y="3007"/>
                  </a:lnTo>
                  <a:lnTo>
                    <a:pt x="8185" y="3281"/>
                  </a:lnTo>
                  <a:lnTo>
                    <a:pt x="8640" y="2460"/>
                  </a:lnTo>
                  <a:lnTo>
                    <a:pt x="8412" y="1367"/>
                  </a:lnTo>
                  <a:lnTo>
                    <a:pt x="8412" y="1093"/>
                  </a:lnTo>
                  <a:lnTo>
                    <a:pt x="9094" y="1093"/>
                  </a:lnTo>
                  <a:lnTo>
                    <a:pt x="9549" y="820"/>
                  </a:lnTo>
                  <a:lnTo>
                    <a:pt x="9776" y="1640"/>
                  </a:lnTo>
                  <a:lnTo>
                    <a:pt x="10913" y="2460"/>
                  </a:lnTo>
                  <a:lnTo>
                    <a:pt x="11368" y="2460"/>
                  </a:lnTo>
                  <a:lnTo>
                    <a:pt x="11368" y="3007"/>
                  </a:lnTo>
                  <a:lnTo>
                    <a:pt x="11823" y="4648"/>
                  </a:lnTo>
                  <a:lnTo>
                    <a:pt x="12277" y="5194"/>
                  </a:lnTo>
                  <a:lnTo>
                    <a:pt x="13414" y="5468"/>
                  </a:lnTo>
                  <a:lnTo>
                    <a:pt x="14096" y="4374"/>
                  </a:lnTo>
                  <a:lnTo>
                    <a:pt x="14551" y="4648"/>
                  </a:lnTo>
                  <a:lnTo>
                    <a:pt x="14778" y="5194"/>
                  </a:lnTo>
                  <a:lnTo>
                    <a:pt x="15688" y="4921"/>
                  </a:lnTo>
                  <a:lnTo>
                    <a:pt x="16825" y="6015"/>
                  </a:lnTo>
                  <a:lnTo>
                    <a:pt x="18644" y="6562"/>
                  </a:lnTo>
                  <a:lnTo>
                    <a:pt x="20008" y="7655"/>
                  </a:lnTo>
                  <a:lnTo>
                    <a:pt x="20690" y="7929"/>
                  </a:lnTo>
                  <a:lnTo>
                    <a:pt x="21599" y="8749"/>
                  </a:lnTo>
                  <a:lnTo>
                    <a:pt x="21599" y="10116"/>
                  </a:lnTo>
                  <a:lnTo>
                    <a:pt x="21145" y="10116"/>
                  </a:lnTo>
                  <a:lnTo>
                    <a:pt x="20235" y="10663"/>
                  </a:lnTo>
                  <a:lnTo>
                    <a:pt x="18871" y="10663"/>
                  </a:lnTo>
                  <a:lnTo>
                    <a:pt x="18416" y="11210"/>
                  </a:lnTo>
                  <a:lnTo>
                    <a:pt x="18416" y="11483"/>
                  </a:lnTo>
                  <a:lnTo>
                    <a:pt x="18644" y="12030"/>
                  </a:lnTo>
                  <a:lnTo>
                    <a:pt x="18644" y="12303"/>
                  </a:lnTo>
                  <a:lnTo>
                    <a:pt x="18416" y="12850"/>
                  </a:lnTo>
                  <a:lnTo>
                    <a:pt x="18644" y="12850"/>
                  </a:lnTo>
                  <a:lnTo>
                    <a:pt x="19781" y="14491"/>
                  </a:lnTo>
                  <a:lnTo>
                    <a:pt x="20008" y="15584"/>
                  </a:lnTo>
                  <a:lnTo>
                    <a:pt x="19781" y="1640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AutoShape 21"/>
            <p:cNvSpPr/>
            <p:nvPr/>
          </p:nvSpPr>
          <p:spPr>
            <a:xfrm>
              <a:off x="4052160" y="2877480"/>
              <a:ext cx="1770840" cy="1283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95" y="18514"/>
                  </a:moveTo>
                  <a:lnTo>
                    <a:pt x="18514" y="18794"/>
                  </a:lnTo>
                  <a:lnTo>
                    <a:pt x="18073" y="19916"/>
                  </a:lnTo>
                  <a:lnTo>
                    <a:pt x="16971" y="19916"/>
                  </a:lnTo>
                  <a:lnTo>
                    <a:pt x="16751" y="19355"/>
                  </a:lnTo>
                  <a:lnTo>
                    <a:pt x="16310" y="19075"/>
                  </a:lnTo>
                  <a:lnTo>
                    <a:pt x="16310" y="19355"/>
                  </a:lnTo>
                  <a:lnTo>
                    <a:pt x="15648" y="19636"/>
                  </a:lnTo>
                  <a:lnTo>
                    <a:pt x="14987" y="18233"/>
                  </a:lnTo>
                  <a:lnTo>
                    <a:pt x="14546" y="18233"/>
                  </a:lnTo>
                  <a:lnTo>
                    <a:pt x="14546" y="16831"/>
                  </a:lnTo>
                  <a:lnTo>
                    <a:pt x="13885" y="15989"/>
                  </a:lnTo>
                  <a:lnTo>
                    <a:pt x="13444" y="15989"/>
                  </a:lnTo>
                  <a:lnTo>
                    <a:pt x="13004" y="15428"/>
                  </a:lnTo>
                  <a:lnTo>
                    <a:pt x="12563" y="15428"/>
                  </a:lnTo>
                  <a:lnTo>
                    <a:pt x="12563" y="16550"/>
                  </a:lnTo>
                  <a:lnTo>
                    <a:pt x="12783" y="16831"/>
                  </a:lnTo>
                  <a:lnTo>
                    <a:pt x="12342" y="17392"/>
                  </a:lnTo>
                  <a:lnTo>
                    <a:pt x="12122" y="18794"/>
                  </a:lnTo>
                  <a:lnTo>
                    <a:pt x="12342" y="19355"/>
                  </a:lnTo>
                  <a:lnTo>
                    <a:pt x="12563" y="19355"/>
                  </a:lnTo>
                  <a:lnTo>
                    <a:pt x="12122" y="19636"/>
                  </a:lnTo>
                  <a:lnTo>
                    <a:pt x="11681" y="20477"/>
                  </a:lnTo>
                  <a:lnTo>
                    <a:pt x="11020" y="20477"/>
                  </a:lnTo>
                  <a:lnTo>
                    <a:pt x="11020" y="21038"/>
                  </a:lnTo>
                  <a:lnTo>
                    <a:pt x="10579" y="21319"/>
                  </a:lnTo>
                  <a:lnTo>
                    <a:pt x="10359" y="20758"/>
                  </a:lnTo>
                  <a:lnTo>
                    <a:pt x="9918" y="20758"/>
                  </a:lnTo>
                  <a:lnTo>
                    <a:pt x="10138" y="21319"/>
                  </a:lnTo>
                  <a:lnTo>
                    <a:pt x="9697" y="21600"/>
                  </a:lnTo>
                  <a:lnTo>
                    <a:pt x="9257" y="21038"/>
                  </a:lnTo>
                  <a:lnTo>
                    <a:pt x="8595" y="21038"/>
                  </a:lnTo>
                  <a:lnTo>
                    <a:pt x="8816" y="19916"/>
                  </a:lnTo>
                  <a:lnTo>
                    <a:pt x="7273" y="18233"/>
                  </a:lnTo>
                  <a:lnTo>
                    <a:pt x="6391" y="18794"/>
                  </a:lnTo>
                  <a:lnTo>
                    <a:pt x="4628" y="17392"/>
                  </a:lnTo>
                  <a:lnTo>
                    <a:pt x="3746" y="17392"/>
                  </a:lnTo>
                  <a:lnTo>
                    <a:pt x="2424" y="15428"/>
                  </a:lnTo>
                  <a:lnTo>
                    <a:pt x="1102" y="15428"/>
                  </a:lnTo>
                  <a:lnTo>
                    <a:pt x="440" y="14587"/>
                  </a:lnTo>
                  <a:lnTo>
                    <a:pt x="0" y="12903"/>
                  </a:lnTo>
                  <a:lnTo>
                    <a:pt x="220" y="12342"/>
                  </a:lnTo>
                  <a:lnTo>
                    <a:pt x="440" y="10659"/>
                  </a:lnTo>
                  <a:lnTo>
                    <a:pt x="220" y="9818"/>
                  </a:lnTo>
                  <a:lnTo>
                    <a:pt x="881" y="8696"/>
                  </a:lnTo>
                  <a:lnTo>
                    <a:pt x="881" y="7854"/>
                  </a:lnTo>
                  <a:lnTo>
                    <a:pt x="220" y="7574"/>
                  </a:lnTo>
                  <a:lnTo>
                    <a:pt x="440" y="7293"/>
                  </a:lnTo>
                  <a:lnTo>
                    <a:pt x="1322" y="7293"/>
                  </a:lnTo>
                  <a:lnTo>
                    <a:pt x="1542" y="7012"/>
                  </a:lnTo>
                  <a:lnTo>
                    <a:pt x="2865" y="7854"/>
                  </a:lnTo>
                  <a:lnTo>
                    <a:pt x="2865" y="6732"/>
                  </a:lnTo>
                  <a:lnTo>
                    <a:pt x="2644" y="6451"/>
                  </a:lnTo>
                  <a:lnTo>
                    <a:pt x="2644" y="5610"/>
                  </a:lnTo>
                  <a:lnTo>
                    <a:pt x="3526" y="4768"/>
                  </a:lnTo>
                  <a:lnTo>
                    <a:pt x="3306" y="3927"/>
                  </a:lnTo>
                  <a:lnTo>
                    <a:pt x="2424" y="2524"/>
                  </a:lnTo>
                  <a:lnTo>
                    <a:pt x="2644" y="1122"/>
                  </a:lnTo>
                  <a:lnTo>
                    <a:pt x="4187" y="561"/>
                  </a:lnTo>
                  <a:lnTo>
                    <a:pt x="7053" y="280"/>
                  </a:lnTo>
                  <a:lnTo>
                    <a:pt x="7934" y="0"/>
                  </a:lnTo>
                  <a:lnTo>
                    <a:pt x="9477" y="841"/>
                  </a:lnTo>
                  <a:lnTo>
                    <a:pt x="10579" y="1402"/>
                  </a:lnTo>
                  <a:lnTo>
                    <a:pt x="11681" y="2244"/>
                  </a:lnTo>
                  <a:lnTo>
                    <a:pt x="12563" y="3646"/>
                  </a:lnTo>
                  <a:lnTo>
                    <a:pt x="13004" y="1963"/>
                  </a:lnTo>
                  <a:lnTo>
                    <a:pt x="13004" y="1683"/>
                  </a:lnTo>
                  <a:lnTo>
                    <a:pt x="13885" y="2244"/>
                  </a:lnTo>
                  <a:lnTo>
                    <a:pt x="14546" y="2524"/>
                  </a:lnTo>
                  <a:lnTo>
                    <a:pt x="16089" y="2244"/>
                  </a:lnTo>
                  <a:lnTo>
                    <a:pt x="16310" y="3366"/>
                  </a:lnTo>
                  <a:lnTo>
                    <a:pt x="17632" y="4488"/>
                  </a:lnTo>
                  <a:lnTo>
                    <a:pt x="18073" y="4207"/>
                  </a:lnTo>
                  <a:lnTo>
                    <a:pt x="20057" y="6732"/>
                  </a:lnTo>
                  <a:lnTo>
                    <a:pt x="20057" y="6171"/>
                  </a:lnTo>
                  <a:lnTo>
                    <a:pt x="20938" y="7293"/>
                  </a:lnTo>
                  <a:lnTo>
                    <a:pt x="21159" y="8135"/>
                  </a:lnTo>
                  <a:lnTo>
                    <a:pt x="21379" y="10098"/>
                  </a:lnTo>
                  <a:lnTo>
                    <a:pt x="21600" y="11781"/>
                  </a:lnTo>
                  <a:lnTo>
                    <a:pt x="21379" y="12623"/>
                  </a:lnTo>
                  <a:lnTo>
                    <a:pt x="20718" y="12623"/>
                  </a:lnTo>
                  <a:lnTo>
                    <a:pt x="20497" y="13745"/>
                  </a:lnTo>
                  <a:lnTo>
                    <a:pt x="19616" y="14306"/>
                  </a:lnTo>
                  <a:lnTo>
                    <a:pt x="19616" y="14867"/>
                  </a:lnTo>
                  <a:lnTo>
                    <a:pt x="20277" y="15148"/>
                  </a:lnTo>
                  <a:lnTo>
                    <a:pt x="20057" y="15428"/>
                  </a:lnTo>
                  <a:lnTo>
                    <a:pt x="19395" y="15989"/>
                  </a:lnTo>
                  <a:lnTo>
                    <a:pt x="18514" y="15709"/>
                  </a:lnTo>
                  <a:lnTo>
                    <a:pt x="18073" y="15709"/>
                  </a:lnTo>
                  <a:lnTo>
                    <a:pt x="17853" y="16270"/>
                  </a:lnTo>
                  <a:lnTo>
                    <a:pt x="18293" y="17111"/>
                  </a:lnTo>
                  <a:lnTo>
                    <a:pt x="19175" y="17392"/>
                  </a:lnTo>
                  <a:lnTo>
                    <a:pt x="19616" y="17672"/>
                  </a:lnTo>
                  <a:lnTo>
                    <a:pt x="19395" y="1851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AutoShape 22"/>
            <p:cNvSpPr/>
            <p:nvPr/>
          </p:nvSpPr>
          <p:spPr>
            <a:xfrm>
              <a:off x="7268040" y="4509000"/>
              <a:ext cx="687600" cy="88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326" y="2037"/>
                  </a:moveTo>
                  <a:lnTo>
                    <a:pt x="19894" y="3667"/>
                  </a:lnTo>
                  <a:lnTo>
                    <a:pt x="21600" y="4483"/>
                  </a:lnTo>
                  <a:lnTo>
                    <a:pt x="21600" y="6928"/>
                  </a:lnTo>
                  <a:lnTo>
                    <a:pt x="19326" y="7743"/>
                  </a:lnTo>
                  <a:lnTo>
                    <a:pt x="19326" y="8150"/>
                  </a:lnTo>
                  <a:lnTo>
                    <a:pt x="17052" y="8150"/>
                  </a:lnTo>
                  <a:lnTo>
                    <a:pt x="15915" y="8966"/>
                  </a:lnTo>
                  <a:lnTo>
                    <a:pt x="15915" y="10188"/>
                  </a:lnTo>
                  <a:lnTo>
                    <a:pt x="16484" y="10596"/>
                  </a:lnTo>
                  <a:lnTo>
                    <a:pt x="14778" y="12226"/>
                  </a:lnTo>
                  <a:lnTo>
                    <a:pt x="13642" y="12226"/>
                  </a:lnTo>
                  <a:lnTo>
                    <a:pt x="13642" y="15486"/>
                  </a:lnTo>
                  <a:lnTo>
                    <a:pt x="12505" y="16301"/>
                  </a:lnTo>
                  <a:lnTo>
                    <a:pt x="11936" y="18339"/>
                  </a:lnTo>
                  <a:lnTo>
                    <a:pt x="11368" y="19562"/>
                  </a:lnTo>
                  <a:lnTo>
                    <a:pt x="11368" y="19969"/>
                  </a:lnTo>
                  <a:lnTo>
                    <a:pt x="10800" y="21192"/>
                  </a:lnTo>
                  <a:lnTo>
                    <a:pt x="9663" y="21192"/>
                  </a:lnTo>
                  <a:lnTo>
                    <a:pt x="9094" y="20784"/>
                  </a:lnTo>
                  <a:lnTo>
                    <a:pt x="4547" y="21600"/>
                  </a:lnTo>
                  <a:lnTo>
                    <a:pt x="3978" y="21192"/>
                  </a:lnTo>
                  <a:lnTo>
                    <a:pt x="5684" y="18747"/>
                  </a:lnTo>
                  <a:lnTo>
                    <a:pt x="3978" y="18339"/>
                  </a:lnTo>
                  <a:lnTo>
                    <a:pt x="2842" y="18747"/>
                  </a:lnTo>
                  <a:lnTo>
                    <a:pt x="1705" y="18339"/>
                  </a:lnTo>
                  <a:lnTo>
                    <a:pt x="1705" y="16301"/>
                  </a:lnTo>
                  <a:lnTo>
                    <a:pt x="2842" y="15894"/>
                  </a:lnTo>
                  <a:lnTo>
                    <a:pt x="3410" y="15894"/>
                  </a:lnTo>
                  <a:lnTo>
                    <a:pt x="3410" y="14671"/>
                  </a:lnTo>
                  <a:lnTo>
                    <a:pt x="2273" y="14671"/>
                  </a:lnTo>
                  <a:lnTo>
                    <a:pt x="2273" y="13856"/>
                  </a:lnTo>
                  <a:lnTo>
                    <a:pt x="1136" y="13449"/>
                  </a:lnTo>
                  <a:lnTo>
                    <a:pt x="1136" y="11003"/>
                  </a:lnTo>
                  <a:lnTo>
                    <a:pt x="0" y="10188"/>
                  </a:lnTo>
                  <a:lnTo>
                    <a:pt x="568" y="8966"/>
                  </a:lnTo>
                  <a:lnTo>
                    <a:pt x="2273" y="7743"/>
                  </a:lnTo>
                  <a:lnTo>
                    <a:pt x="2273" y="6520"/>
                  </a:lnTo>
                  <a:lnTo>
                    <a:pt x="1705" y="6113"/>
                  </a:lnTo>
                  <a:lnTo>
                    <a:pt x="2273" y="5298"/>
                  </a:lnTo>
                  <a:lnTo>
                    <a:pt x="1136" y="4075"/>
                  </a:lnTo>
                  <a:lnTo>
                    <a:pt x="2273" y="3260"/>
                  </a:lnTo>
                  <a:lnTo>
                    <a:pt x="3978" y="2852"/>
                  </a:lnTo>
                  <a:lnTo>
                    <a:pt x="7957" y="1222"/>
                  </a:lnTo>
                  <a:lnTo>
                    <a:pt x="10231" y="407"/>
                  </a:lnTo>
                  <a:lnTo>
                    <a:pt x="11936" y="407"/>
                  </a:lnTo>
                  <a:lnTo>
                    <a:pt x="13073" y="0"/>
                  </a:lnTo>
                  <a:lnTo>
                    <a:pt x="13642" y="407"/>
                  </a:lnTo>
                  <a:lnTo>
                    <a:pt x="13073" y="815"/>
                  </a:lnTo>
                  <a:lnTo>
                    <a:pt x="13073" y="1630"/>
                  </a:lnTo>
                  <a:lnTo>
                    <a:pt x="14778" y="1630"/>
                  </a:lnTo>
                  <a:lnTo>
                    <a:pt x="14778" y="815"/>
                  </a:lnTo>
                  <a:lnTo>
                    <a:pt x="15347" y="0"/>
                  </a:lnTo>
                  <a:lnTo>
                    <a:pt x="16484" y="815"/>
                  </a:lnTo>
                  <a:lnTo>
                    <a:pt x="17052" y="1630"/>
                  </a:lnTo>
                  <a:lnTo>
                    <a:pt x="19326" y="1630"/>
                  </a:lnTo>
                  <a:lnTo>
                    <a:pt x="19326" y="203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AutoShape 23"/>
            <p:cNvSpPr/>
            <p:nvPr/>
          </p:nvSpPr>
          <p:spPr>
            <a:xfrm>
              <a:off x="6579720" y="4509000"/>
              <a:ext cx="794880" cy="869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636" y="4153"/>
                  </a:moveTo>
                  <a:lnTo>
                    <a:pt x="20618" y="5400"/>
                  </a:lnTo>
                  <a:lnTo>
                    <a:pt x="20127" y="6230"/>
                  </a:lnTo>
                  <a:lnTo>
                    <a:pt x="21109" y="6646"/>
                  </a:lnTo>
                  <a:lnTo>
                    <a:pt x="19145" y="9138"/>
                  </a:lnTo>
                  <a:lnTo>
                    <a:pt x="18654" y="10384"/>
                  </a:lnTo>
                  <a:lnTo>
                    <a:pt x="19636" y="11215"/>
                  </a:lnTo>
                  <a:lnTo>
                    <a:pt x="19636" y="13707"/>
                  </a:lnTo>
                  <a:lnTo>
                    <a:pt x="20618" y="14123"/>
                  </a:lnTo>
                  <a:lnTo>
                    <a:pt x="20127" y="14953"/>
                  </a:lnTo>
                  <a:lnTo>
                    <a:pt x="21599" y="14953"/>
                  </a:lnTo>
                  <a:lnTo>
                    <a:pt x="21599" y="16199"/>
                  </a:lnTo>
                  <a:lnTo>
                    <a:pt x="21109" y="16199"/>
                  </a:lnTo>
                  <a:lnTo>
                    <a:pt x="20127" y="16615"/>
                  </a:lnTo>
                  <a:lnTo>
                    <a:pt x="20127" y="18692"/>
                  </a:lnTo>
                  <a:lnTo>
                    <a:pt x="19636" y="19107"/>
                  </a:lnTo>
                  <a:lnTo>
                    <a:pt x="16199" y="19107"/>
                  </a:lnTo>
                  <a:lnTo>
                    <a:pt x="16690" y="20769"/>
                  </a:lnTo>
                  <a:lnTo>
                    <a:pt x="15218" y="20769"/>
                  </a:lnTo>
                  <a:lnTo>
                    <a:pt x="13745" y="19523"/>
                  </a:lnTo>
                  <a:lnTo>
                    <a:pt x="13254" y="19938"/>
                  </a:lnTo>
                  <a:lnTo>
                    <a:pt x="13254" y="21184"/>
                  </a:lnTo>
                  <a:lnTo>
                    <a:pt x="12272" y="21184"/>
                  </a:lnTo>
                  <a:lnTo>
                    <a:pt x="11781" y="21599"/>
                  </a:lnTo>
                  <a:lnTo>
                    <a:pt x="10309" y="21599"/>
                  </a:lnTo>
                  <a:lnTo>
                    <a:pt x="10309" y="19938"/>
                  </a:lnTo>
                  <a:lnTo>
                    <a:pt x="9327" y="19938"/>
                  </a:lnTo>
                  <a:lnTo>
                    <a:pt x="9327" y="20769"/>
                  </a:lnTo>
                  <a:lnTo>
                    <a:pt x="8345" y="20769"/>
                  </a:lnTo>
                  <a:lnTo>
                    <a:pt x="8836" y="18276"/>
                  </a:lnTo>
                  <a:lnTo>
                    <a:pt x="9327" y="17446"/>
                  </a:lnTo>
                  <a:lnTo>
                    <a:pt x="9327" y="15369"/>
                  </a:lnTo>
                  <a:lnTo>
                    <a:pt x="8836" y="14953"/>
                  </a:lnTo>
                  <a:lnTo>
                    <a:pt x="5890" y="15369"/>
                  </a:lnTo>
                  <a:lnTo>
                    <a:pt x="5890" y="16199"/>
                  </a:lnTo>
                  <a:lnTo>
                    <a:pt x="4418" y="16615"/>
                  </a:lnTo>
                  <a:lnTo>
                    <a:pt x="3927" y="15784"/>
                  </a:lnTo>
                  <a:lnTo>
                    <a:pt x="3436" y="16615"/>
                  </a:lnTo>
                  <a:lnTo>
                    <a:pt x="1963" y="16199"/>
                  </a:lnTo>
                  <a:lnTo>
                    <a:pt x="1963" y="15784"/>
                  </a:lnTo>
                  <a:lnTo>
                    <a:pt x="1472" y="15784"/>
                  </a:lnTo>
                  <a:lnTo>
                    <a:pt x="1472" y="14953"/>
                  </a:lnTo>
                  <a:lnTo>
                    <a:pt x="981" y="13707"/>
                  </a:lnTo>
                  <a:lnTo>
                    <a:pt x="1963" y="13292"/>
                  </a:lnTo>
                  <a:lnTo>
                    <a:pt x="1472" y="12461"/>
                  </a:lnTo>
                  <a:lnTo>
                    <a:pt x="0" y="12461"/>
                  </a:lnTo>
                  <a:lnTo>
                    <a:pt x="0" y="11630"/>
                  </a:lnTo>
                  <a:lnTo>
                    <a:pt x="1472" y="9969"/>
                  </a:lnTo>
                  <a:lnTo>
                    <a:pt x="1472" y="8723"/>
                  </a:lnTo>
                  <a:lnTo>
                    <a:pt x="1963" y="8307"/>
                  </a:lnTo>
                  <a:lnTo>
                    <a:pt x="1472" y="7061"/>
                  </a:lnTo>
                  <a:lnTo>
                    <a:pt x="981" y="7061"/>
                  </a:lnTo>
                  <a:lnTo>
                    <a:pt x="1472" y="6230"/>
                  </a:lnTo>
                  <a:lnTo>
                    <a:pt x="981" y="4153"/>
                  </a:lnTo>
                  <a:lnTo>
                    <a:pt x="2945" y="1661"/>
                  </a:lnTo>
                  <a:lnTo>
                    <a:pt x="4909" y="1661"/>
                  </a:lnTo>
                  <a:lnTo>
                    <a:pt x="6381" y="2076"/>
                  </a:lnTo>
                  <a:lnTo>
                    <a:pt x="5890" y="415"/>
                  </a:lnTo>
                  <a:lnTo>
                    <a:pt x="6872" y="0"/>
                  </a:lnTo>
                  <a:lnTo>
                    <a:pt x="9327" y="830"/>
                  </a:lnTo>
                  <a:lnTo>
                    <a:pt x="11290" y="830"/>
                  </a:lnTo>
                  <a:lnTo>
                    <a:pt x="12763" y="2076"/>
                  </a:lnTo>
                  <a:lnTo>
                    <a:pt x="15218" y="2076"/>
                  </a:lnTo>
                  <a:lnTo>
                    <a:pt x="15709" y="2492"/>
                  </a:lnTo>
                  <a:lnTo>
                    <a:pt x="17672" y="1661"/>
                  </a:lnTo>
                  <a:lnTo>
                    <a:pt x="18654" y="1661"/>
                  </a:lnTo>
                  <a:lnTo>
                    <a:pt x="18654" y="4153"/>
                  </a:lnTo>
                  <a:lnTo>
                    <a:pt x="19636" y="4153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AutoShape 24"/>
            <p:cNvSpPr/>
            <p:nvPr/>
          </p:nvSpPr>
          <p:spPr>
            <a:xfrm>
              <a:off x="6510240" y="4012560"/>
              <a:ext cx="1101600" cy="66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6740"/>
                  </a:moveTo>
                  <a:lnTo>
                    <a:pt x="19829" y="17820"/>
                  </a:lnTo>
                  <a:lnTo>
                    <a:pt x="17350" y="19980"/>
                  </a:lnTo>
                  <a:lnTo>
                    <a:pt x="16288" y="20520"/>
                  </a:lnTo>
                  <a:lnTo>
                    <a:pt x="15580" y="21600"/>
                  </a:lnTo>
                  <a:lnTo>
                    <a:pt x="14518" y="21600"/>
                  </a:lnTo>
                  <a:lnTo>
                    <a:pt x="14872" y="18360"/>
                  </a:lnTo>
                  <a:lnTo>
                    <a:pt x="14163" y="18360"/>
                  </a:lnTo>
                  <a:lnTo>
                    <a:pt x="12747" y="19440"/>
                  </a:lnTo>
                  <a:lnTo>
                    <a:pt x="12393" y="18900"/>
                  </a:lnTo>
                  <a:lnTo>
                    <a:pt x="10622" y="18900"/>
                  </a:lnTo>
                  <a:lnTo>
                    <a:pt x="9914" y="17280"/>
                  </a:lnTo>
                  <a:lnTo>
                    <a:pt x="8144" y="17280"/>
                  </a:lnTo>
                  <a:lnTo>
                    <a:pt x="6373" y="16200"/>
                  </a:lnTo>
                  <a:lnTo>
                    <a:pt x="5665" y="16740"/>
                  </a:lnTo>
                  <a:lnTo>
                    <a:pt x="6019" y="18900"/>
                  </a:lnTo>
                  <a:lnTo>
                    <a:pt x="4957" y="18360"/>
                  </a:lnTo>
                  <a:lnTo>
                    <a:pt x="3540" y="18360"/>
                  </a:lnTo>
                  <a:lnTo>
                    <a:pt x="2124" y="21600"/>
                  </a:lnTo>
                  <a:lnTo>
                    <a:pt x="354" y="18360"/>
                  </a:lnTo>
                  <a:lnTo>
                    <a:pt x="0" y="18360"/>
                  </a:lnTo>
                  <a:lnTo>
                    <a:pt x="354" y="17280"/>
                  </a:lnTo>
                  <a:lnTo>
                    <a:pt x="708" y="16740"/>
                  </a:lnTo>
                  <a:lnTo>
                    <a:pt x="0" y="15660"/>
                  </a:lnTo>
                  <a:lnTo>
                    <a:pt x="0" y="15120"/>
                  </a:lnTo>
                  <a:lnTo>
                    <a:pt x="708" y="14040"/>
                  </a:lnTo>
                  <a:lnTo>
                    <a:pt x="3186" y="14040"/>
                  </a:lnTo>
                  <a:lnTo>
                    <a:pt x="4249" y="12960"/>
                  </a:lnTo>
                  <a:lnTo>
                    <a:pt x="4957" y="12420"/>
                  </a:lnTo>
                  <a:lnTo>
                    <a:pt x="4957" y="10800"/>
                  </a:lnTo>
                  <a:lnTo>
                    <a:pt x="3540" y="8099"/>
                  </a:lnTo>
                  <a:lnTo>
                    <a:pt x="3186" y="5399"/>
                  </a:lnTo>
                  <a:lnTo>
                    <a:pt x="3895" y="3779"/>
                  </a:lnTo>
                  <a:lnTo>
                    <a:pt x="3895" y="2699"/>
                  </a:lnTo>
                  <a:lnTo>
                    <a:pt x="3186" y="539"/>
                  </a:lnTo>
                  <a:lnTo>
                    <a:pt x="5665" y="539"/>
                  </a:lnTo>
                  <a:lnTo>
                    <a:pt x="6373" y="1079"/>
                  </a:lnTo>
                  <a:lnTo>
                    <a:pt x="7436" y="0"/>
                  </a:lnTo>
                  <a:lnTo>
                    <a:pt x="9206" y="4859"/>
                  </a:lnTo>
                  <a:lnTo>
                    <a:pt x="12393" y="4859"/>
                  </a:lnTo>
                  <a:lnTo>
                    <a:pt x="13101" y="5399"/>
                  </a:lnTo>
                  <a:lnTo>
                    <a:pt x="13809" y="4859"/>
                  </a:lnTo>
                  <a:lnTo>
                    <a:pt x="14872" y="5939"/>
                  </a:lnTo>
                  <a:lnTo>
                    <a:pt x="14872" y="7559"/>
                  </a:lnTo>
                  <a:lnTo>
                    <a:pt x="15580" y="8639"/>
                  </a:lnTo>
                  <a:lnTo>
                    <a:pt x="15934" y="7559"/>
                  </a:lnTo>
                  <a:lnTo>
                    <a:pt x="16642" y="8639"/>
                  </a:lnTo>
                  <a:lnTo>
                    <a:pt x="18059" y="8639"/>
                  </a:lnTo>
                  <a:lnTo>
                    <a:pt x="18413" y="8099"/>
                  </a:lnTo>
                  <a:lnTo>
                    <a:pt x="20537" y="10259"/>
                  </a:lnTo>
                  <a:lnTo>
                    <a:pt x="20891" y="12960"/>
                  </a:lnTo>
                  <a:lnTo>
                    <a:pt x="20891" y="14580"/>
                  </a:lnTo>
                  <a:lnTo>
                    <a:pt x="21600" y="1674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AutoShape 25"/>
            <p:cNvSpPr/>
            <p:nvPr/>
          </p:nvSpPr>
          <p:spPr>
            <a:xfrm>
              <a:off x="7394040" y="3777840"/>
              <a:ext cx="685800" cy="800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684" y="449"/>
                  </a:moveTo>
                  <a:lnTo>
                    <a:pt x="6252" y="0"/>
                  </a:lnTo>
                  <a:lnTo>
                    <a:pt x="8526" y="449"/>
                  </a:lnTo>
                  <a:lnTo>
                    <a:pt x="9094" y="1799"/>
                  </a:lnTo>
                  <a:lnTo>
                    <a:pt x="10800" y="1799"/>
                  </a:lnTo>
                  <a:lnTo>
                    <a:pt x="12505" y="3599"/>
                  </a:lnTo>
                  <a:lnTo>
                    <a:pt x="13073" y="3149"/>
                  </a:lnTo>
                  <a:lnTo>
                    <a:pt x="14210" y="5399"/>
                  </a:lnTo>
                  <a:lnTo>
                    <a:pt x="15915" y="7649"/>
                  </a:lnTo>
                  <a:lnTo>
                    <a:pt x="17052" y="7649"/>
                  </a:lnTo>
                  <a:lnTo>
                    <a:pt x="18189" y="6749"/>
                  </a:lnTo>
                  <a:lnTo>
                    <a:pt x="19326" y="8099"/>
                  </a:lnTo>
                  <a:lnTo>
                    <a:pt x="18189" y="8999"/>
                  </a:lnTo>
                  <a:lnTo>
                    <a:pt x="17621" y="8099"/>
                  </a:lnTo>
                  <a:lnTo>
                    <a:pt x="16484" y="8099"/>
                  </a:lnTo>
                  <a:lnTo>
                    <a:pt x="16484" y="9899"/>
                  </a:lnTo>
                  <a:lnTo>
                    <a:pt x="15915" y="10800"/>
                  </a:lnTo>
                  <a:lnTo>
                    <a:pt x="17621" y="12600"/>
                  </a:lnTo>
                  <a:lnTo>
                    <a:pt x="17621" y="13950"/>
                  </a:lnTo>
                  <a:lnTo>
                    <a:pt x="20463" y="13950"/>
                  </a:lnTo>
                  <a:lnTo>
                    <a:pt x="21599" y="14850"/>
                  </a:lnTo>
                  <a:lnTo>
                    <a:pt x="20463" y="16650"/>
                  </a:lnTo>
                  <a:lnTo>
                    <a:pt x="21031" y="18000"/>
                  </a:lnTo>
                  <a:lnTo>
                    <a:pt x="19894" y="18000"/>
                  </a:lnTo>
                  <a:lnTo>
                    <a:pt x="19894" y="17550"/>
                  </a:lnTo>
                  <a:lnTo>
                    <a:pt x="18757" y="17550"/>
                  </a:lnTo>
                  <a:lnTo>
                    <a:pt x="18757" y="18450"/>
                  </a:lnTo>
                  <a:lnTo>
                    <a:pt x="19326" y="19350"/>
                  </a:lnTo>
                  <a:lnTo>
                    <a:pt x="18757" y="19350"/>
                  </a:lnTo>
                  <a:lnTo>
                    <a:pt x="18757" y="20250"/>
                  </a:lnTo>
                  <a:lnTo>
                    <a:pt x="16484" y="21600"/>
                  </a:lnTo>
                  <a:lnTo>
                    <a:pt x="15915" y="21600"/>
                  </a:lnTo>
                  <a:lnTo>
                    <a:pt x="15347" y="21150"/>
                  </a:lnTo>
                  <a:lnTo>
                    <a:pt x="13073" y="21600"/>
                  </a:lnTo>
                  <a:lnTo>
                    <a:pt x="11936" y="19800"/>
                  </a:lnTo>
                  <a:lnTo>
                    <a:pt x="10800" y="20700"/>
                  </a:lnTo>
                  <a:lnTo>
                    <a:pt x="10800" y="21600"/>
                  </a:lnTo>
                  <a:lnTo>
                    <a:pt x="9094" y="21600"/>
                  </a:lnTo>
                  <a:lnTo>
                    <a:pt x="9094" y="20700"/>
                  </a:lnTo>
                  <a:lnTo>
                    <a:pt x="9663" y="20250"/>
                  </a:lnTo>
                  <a:lnTo>
                    <a:pt x="9094" y="19800"/>
                  </a:lnTo>
                  <a:lnTo>
                    <a:pt x="8526" y="20700"/>
                  </a:lnTo>
                  <a:lnTo>
                    <a:pt x="6252" y="20250"/>
                  </a:lnTo>
                  <a:lnTo>
                    <a:pt x="5684" y="17550"/>
                  </a:lnTo>
                  <a:lnTo>
                    <a:pt x="5684" y="16650"/>
                  </a:lnTo>
                  <a:lnTo>
                    <a:pt x="5115" y="14850"/>
                  </a:lnTo>
                  <a:lnTo>
                    <a:pt x="2273" y="13500"/>
                  </a:lnTo>
                  <a:lnTo>
                    <a:pt x="5115" y="12150"/>
                  </a:lnTo>
                  <a:lnTo>
                    <a:pt x="5684" y="12150"/>
                  </a:lnTo>
                  <a:lnTo>
                    <a:pt x="5115" y="8999"/>
                  </a:lnTo>
                  <a:lnTo>
                    <a:pt x="3410" y="9449"/>
                  </a:lnTo>
                  <a:lnTo>
                    <a:pt x="1705" y="8549"/>
                  </a:lnTo>
                  <a:lnTo>
                    <a:pt x="1136" y="7649"/>
                  </a:lnTo>
                  <a:lnTo>
                    <a:pt x="0" y="7649"/>
                  </a:lnTo>
                  <a:lnTo>
                    <a:pt x="568" y="6749"/>
                  </a:lnTo>
                  <a:lnTo>
                    <a:pt x="2273" y="6749"/>
                  </a:lnTo>
                  <a:lnTo>
                    <a:pt x="2842" y="4949"/>
                  </a:lnTo>
                  <a:lnTo>
                    <a:pt x="2842" y="2249"/>
                  </a:lnTo>
                  <a:lnTo>
                    <a:pt x="3410" y="2249"/>
                  </a:lnTo>
                  <a:lnTo>
                    <a:pt x="5115" y="3149"/>
                  </a:lnTo>
                  <a:lnTo>
                    <a:pt x="5684" y="4049"/>
                  </a:lnTo>
                  <a:lnTo>
                    <a:pt x="7389" y="2699"/>
                  </a:lnTo>
                  <a:lnTo>
                    <a:pt x="7389" y="1799"/>
                  </a:lnTo>
                  <a:lnTo>
                    <a:pt x="5684" y="899"/>
                  </a:lnTo>
                  <a:lnTo>
                    <a:pt x="5684" y="449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AutoShape 26"/>
            <p:cNvSpPr/>
            <p:nvPr/>
          </p:nvSpPr>
          <p:spPr>
            <a:xfrm>
              <a:off x="6780960" y="3527640"/>
              <a:ext cx="849600" cy="74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89" y="480"/>
                  </a:moveTo>
                  <a:lnTo>
                    <a:pt x="14246" y="0"/>
                  </a:lnTo>
                  <a:lnTo>
                    <a:pt x="15165" y="960"/>
                  </a:lnTo>
                  <a:lnTo>
                    <a:pt x="17463" y="1440"/>
                  </a:lnTo>
                  <a:lnTo>
                    <a:pt x="18382" y="960"/>
                  </a:lnTo>
                  <a:lnTo>
                    <a:pt x="19302" y="960"/>
                  </a:lnTo>
                  <a:lnTo>
                    <a:pt x="16085" y="3840"/>
                  </a:lnTo>
                  <a:lnTo>
                    <a:pt x="15625" y="5280"/>
                  </a:lnTo>
                  <a:lnTo>
                    <a:pt x="16085" y="5760"/>
                  </a:lnTo>
                  <a:lnTo>
                    <a:pt x="16544" y="5760"/>
                  </a:lnTo>
                  <a:lnTo>
                    <a:pt x="18382" y="7680"/>
                  </a:lnTo>
                  <a:lnTo>
                    <a:pt x="20221" y="7680"/>
                  </a:lnTo>
                  <a:lnTo>
                    <a:pt x="20221" y="8640"/>
                  </a:lnTo>
                  <a:lnTo>
                    <a:pt x="21600" y="9120"/>
                  </a:lnTo>
                  <a:lnTo>
                    <a:pt x="21600" y="10080"/>
                  </a:lnTo>
                  <a:lnTo>
                    <a:pt x="20221" y="11519"/>
                  </a:lnTo>
                  <a:lnTo>
                    <a:pt x="20221" y="10560"/>
                  </a:lnTo>
                  <a:lnTo>
                    <a:pt x="18842" y="9600"/>
                  </a:lnTo>
                  <a:lnTo>
                    <a:pt x="17923" y="9600"/>
                  </a:lnTo>
                  <a:lnTo>
                    <a:pt x="17923" y="12479"/>
                  </a:lnTo>
                  <a:lnTo>
                    <a:pt x="17463" y="14399"/>
                  </a:lnTo>
                  <a:lnTo>
                    <a:pt x="16085" y="14399"/>
                  </a:lnTo>
                  <a:lnTo>
                    <a:pt x="15625" y="14879"/>
                  </a:lnTo>
                  <a:lnTo>
                    <a:pt x="16544" y="15359"/>
                  </a:lnTo>
                  <a:lnTo>
                    <a:pt x="17004" y="16319"/>
                  </a:lnTo>
                  <a:lnTo>
                    <a:pt x="18382" y="17279"/>
                  </a:lnTo>
                  <a:lnTo>
                    <a:pt x="19761" y="16799"/>
                  </a:lnTo>
                  <a:lnTo>
                    <a:pt x="20221" y="20159"/>
                  </a:lnTo>
                  <a:lnTo>
                    <a:pt x="17463" y="21599"/>
                  </a:lnTo>
                  <a:lnTo>
                    <a:pt x="17004" y="21119"/>
                  </a:lnTo>
                  <a:lnTo>
                    <a:pt x="16544" y="21599"/>
                  </a:lnTo>
                  <a:lnTo>
                    <a:pt x="14706" y="21599"/>
                  </a:lnTo>
                  <a:lnTo>
                    <a:pt x="13787" y="20639"/>
                  </a:lnTo>
                  <a:lnTo>
                    <a:pt x="13327" y="21599"/>
                  </a:lnTo>
                  <a:lnTo>
                    <a:pt x="12408" y="20639"/>
                  </a:lnTo>
                  <a:lnTo>
                    <a:pt x="12408" y="19199"/>
                  </a:lnTo>
                  <a:lnTo>
                    <a:pt x="11029" y="18239"/>
                  </a:lnTo>
                  <a:lnTo>
                    <a:pt x="10110" y="18719"/>
                  </a:lnTo>
                  <a:lnTo>
                    <a:pt x="9191" y="18239"/>
                  </a:lnTo>
                  <a:lnTo>
                    <a:pt x="5055" y="17759"/>
                  </a:lnTo>
                  <a:lnTo>
                    <a:pt x="2757" y="13919"/>
                  </a:lnTo>
                  <a:lnTo>
                    <a:pt x="919" y="11039"/>
                  </a:lnTo>
                  <a:lnTo>
                    <a:pt x="0" y="7680"/>
                  </a:lnTo>
                  <a:lnTo>
                    <a:pt x="1838" y="7680"/>
                  </a:lnTo>
                  <a:lnTo>
                    <a:pt x="6434" y="4800"/>
                  </a:lnTo>
                  <a:lnTo>
                    <a:pt x="9651" y="4800"/>
                  </a:lnTo>
                  <a:lnTo>
                    <a:pt x="11029" y="2880"/>
                  </a:lnTo>
                  <a:lnTo>
                    <a:pt x="11489" y="480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AutoShape 27"/>
            <p:cNvSpPr/>
            <p:nvPr/>
          </p:nvSpPr>
          <p:spPr>
            <a:xfrm>
              <a:off x="6764040" y="2845440"/>
              <a:ext cx="55980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116" y="15915"/>
                  </a:moveTo>
                  <a:lnTo>
                    <a:pt x="17419" y="17810"/>
                  </a:lnTo>
                  <a:lnTo>
                    <a:pt x="15329" y="19326"/>
                  </a:lnTo>
                  <a:lnTo>
                    <a:pt x="11845" y="18947"/>
                  </a:lnTo>
                  <a:lnTo>
                    <a:pt x="6967" y="20463"/>
                  </a:lnTo>
                  <a:lnTo>
                    <a:pt x="3483" y="21600"/>
                  </a:lnTo>
                  <a:lnTo>
                    <a:pt x="696" y="21600"/>
                  </a:lnTo>
                  <a:lnTo>
                    <a:pt x="0" y="21221"/>
                  </a:lnTo>
                  <a:lnTo>
                    <a:pt x="1393" y="18189"/>
                  </a:lnTo>
                  <a:lnTo>
                    <a:pt x="2090" y="17431"/>
                  </a:lnTo>
                  <a:lnTo>
                    <a:pt x="696" y="15536"/>
                  </a:lnTo>
                  <a:lnTo>
                    <a:pt x="1393" y="12505"/>
                  </a:lnTo>
                  <a:lnTo>
                    <a:pt x="2090" y="10610"/>
                  </a:lnTo>
                  <a:lnTo>
                    <a:pt x="2787" y="9852"/>
                  </a:lnTo>
                  <a:lnTo>
                    <a:pt x="1393" y="9094"/>
                  </a:lnTo>
                  <a:lnTo>
                    <a:pt x="4877" y="5305"/>
                  </a:lnTo>
                  <a:lnTo>
                    <a:pt x="4877" y="3789"/>
                  </a:lnTo>
                  <a:lnTo>
                    <a:pt x="6270" y="3789"/>
                  </a:lnTo>
                  <a:lnTo>
                    <a:pt x="10451" y="1136"/>
                  </a:lnTo>
                  <a:lnTo>
                    <a:pt x="12541" y="757"/>
                  </a:lnTo>
                  <a:lnTo>
                    <a:pt x="14632" y="0"/>
                  </a:lnTo>
                  <a:lnTo>
                    <a:pt x="15329" y="378"/>
                  </a:lnTo>
                  <a:lnTo>
                    <a:pt x="18812" y="0"/>
                  </a:lnTo>
                  <a:lnTo>
                    <a:pt x="20903" y="1136"/>
                  </a:lnTo>
                  <a:lnTo>
                    <a:pt x="18812" y="1515"/>
                  </a:lnTo>
                  <a:lnTo>
                    <a:pt x="18116" y="2273"/>
                  </a:lnTo>
                  <a:lnTo>
                    <a:pt x="20903" y="2273"/>
                  </a:lnTo>
                  <a:lnTo>
                    <a:pt x="21599" y="4168"/>
                  </a:lnTo>
                  <a:lnTo>
                    <a:pt x="20206" y="5684"/>
                  </a:lnTo>
                  <a:lnTo>
                    <a:pt x="18812" y="4926"/>
                  </a:lnTo>
                  <a:lnTo>
                    <a:pt x="16722" y="5684"/>
                  </a:lnTo>
                  <a:lnTo>
                    <a:pt x="17419" y="6442"/>
                  </a:lnTo>
                  <a:lnTo>
                    <a:pt x="16025" y="7578"/>
                  </a:lnTo>
                  <a:lnTo>
                    <a:pt x="19509" y="10231"/>
                  </a:lnTo>
                  <a:lnTo>
                    <a:pt x="16722" y="14400"/>
                  </a:lnTo>
                  <a:lnTo>
                    <a:pt x="18116" y="1591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AutoShape 28"/>
            <p:cNvSpPr/>
            <p:nvPr/>
          </p:nvSpPr>
          <p:spPr>
            <a:xfrm>
              <a:off x="6166080" y="3010680"/>
              <a:ext cx="723600" cy="126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7052"/>
                  </a:moveTo>
                  <a:lnTo>
                    <a:pt x="19980" y="17621"/>
                  </a:lnTo>
                  <a:lnTo>
                    <a:pt x="18900" y="17336"/>
                  </a:lnTo>
                  <a:lnTo>
                    <a:pt x="15120" y="17336"/>
                  </a:lnTo>
                  <a:lnTo>
                    <a:pt x="16200" y="18473"/>
                  </a:lnTo>
                  <a:lnTo>
                    <a:pt x="15120" y="19894"/>
                  </a:lnTo>
                  <a:lnTo>
                    <a:pt x="15660" y="21599"/>
                  </a:lnTo>
                  <a:lnTo>
                    <a:pt x="13500" y="21315"/>
                  </a:lnTo>
                  <a:lnTo>
                    <a:pt x="10259" y="20178"/>
                  </a:lnTo>
                  <a:lnTo>
                    <a:pt x="6479" y="19610"/>
                  </a:lnTo>
                  <a:lnTo>
                    <a:pt x="3779" y="18473"/>
                  </a:lnTo>
                  <a:lnTo>
                    <a:pt x="1079" y="18473"/>
                  </a:lnTo>
                  <a:lnTo>
                    <a:pt x="1079" y="18189"/>
                  </a:lnTo>
                  <a:lnTo>
                    <a:pt x="0" y="17905"/>
                  </a:lnTo>
                  <a:lnTo>
                    <a:pt x="539" y="17621"/>
                  </a:lnTo>
                  <a:lnTo>
                    <a:pt x="539" y="16768"/>
                  </a:lnTo>
                  <a:lnTo>
                    <a:pt x="0" y="16484"/>
                  </a:lnTo>
                  <a:lnTo>
                    <a:pt x="1079" y="16199"/>
                  </a:lnTo>
                  <a:lnTo>
                    <a:pt x="3239" y="16199"/>
                  </a:lnTo>
                  <a:lnTo>
                    <a:pt x="3239" y="12221"/>
                  </a:lnTo>
                  <a:lnTo>
                    <a:pt x="5939" y="12221"/>
                  </a:lnTo>
                  <a:lnTo>
                    <a:pt x="5939" y="12789"/>
                  </a:lnTo>
                  <a:lnTo>
                    <a:pt x="7559" y="12789"/>
                  </a:lnTo>
                  <a:lnTo>
                    <a:pt x="7559" y="11652"/>
                  </a:lnTo>
                  <a:lnTo>
                    <a:pt x="10800" y="11652"/>
                  </a:lnTo>
                  <a:lnTo>
                    <a:pt x="11340" y="9947"/>
                  </a:lnTo>
                  <a:lnTo>
                    <a:pt x="11340" y="8810"/>
                  </a:lnTo>
                  <a:lnTo>
                    <a:pt x="9719" y="8242"/>
                  </a:lnTo>
                  <a:lnTo>
                    <a:pt x="7559" y="7389"/>
                  </a:lnTo>
                  <a:lnTo>
                    <a:pt x="6479" y="6536"/>
                  </a:lnTo>
                  <a:lnTo>
                    <a:pt x="7019" y="5115"/>
                  </a:lnTo>
                  <a:lnTo>
                    <a:pt x="8099" y="4547"/>
                  </a:lnTo>
                  <a:lnTo>
                    <a:pt x="9719" y="5115"/>
                  </a:lnTo>
                  <a:lnTo>
                    <a:pt x="11880" y="5115"/>
                  </a:lnTo>
                  <a:lnTo>
                    <a:pt x="12420" y="4263"/>
                  </a:lnTo>
                  <a:lnTo>
                    <a:pt x="13500" y="4263"/>
                  </a:lnTo>
                  <a:lnTo>
                    <a:pt x="12960" y="3126"/>
                  </a:lnTo>
                  <a:lnTo>
                    <a:pt x="16740" y="1136"/>
                  </a:lnTo>
                  <a:lnTo>
                    <a:pt x="16740" y="568"/>
                  </a:lnTo>
                  <a:lnTo>
                    <a:pt x="18900" y="568"/>
                  </a:lnTo>
                  <a:lnTo>
                    <a:pt x="19440" y="852"/>
                  </a:lnTo>
                  <a:lnTo>
                    <a:pt x="19980" y="284"/>
                  </a:lnTo>
                  <a:lnTo>
                    <a:pt x="20520" y="0"/>
                  </a:lnTo>
                  <a:lnTo>
                    <a:pt x="21600" y="852"/>
                  </a:lnTo>
                  <a:lnTo>
                    <a:pt x="21600" y="1136"/>
                  </a:lnTo>
                  <a:lnTo>
                    <a:pt x="18900" y="3978"/>
                  </a:lnTo>
                  <a:lnTo>
                    <a:pt x="19980" y="4547"/>
                  </a:lnTo>
                  <a:lnTo>
                    <a:pt x="18900" y="6536"/>
                  </a:lnTo>
                  <a:lnTo>
                    <a:pt x="18360" y="8810"/>
                  </a:lnTo>
                  <a:lnTo>
                    <a:pt x="19440" y="10231"/>
                  </a:lnTo>
                  <a:lnTo>
                    <a:pt x="17820" y="12789"/>
                  </a:lnTo>
                  <a:lnTo>
                    <a:pt x="18360" y="13357"/>
                  </a:lnTo>
                  <a:lnTo>
                    <a:pt x="19440" y="15347"/>
                  </a:lnTo>
                  <a:lnTo>
                    <a:pt x="21600" y="17052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AutoShape 29"/>
            <p:cNvSpPr/>
            <p:nvPr/>
          </p:nvSpPr>
          <p:spPr>
            <a:xfrm>
              <a:off x="6030720" y="3027600"/>
              <a:ext cx="394200" cy="65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8307"/>
                  </a:moveTo>
                  <a:lnTo>
                    <a:pt x="19636" y="7199"/>
                  </a:lnTo>
                  <a:lnTo>
                    <a:pt x="14727" y="6092"/>
                  </a:lnTo>
                  <a:lnTo>
                    <a:pt x="16690" y="2215"/>
                  </a:lnTo>
                  <a:lnTo>
                    <a:pt x="15709" y="0"/>
                  </a:lnTo>
                  <a:lnTo>
                    <a:pt x="8836" y="3876"/>
                  </a:lnTo>
                  <a:lnTo>
                    <a:pt x="7854" y="7753"/>
                  </a:lnTo>
                  <a:lnTo>
                    <a:pt x="4909" y="8307"/>
                  </a:lnTo>
                  <a:lnTo>
                    <a:pt x="981" y="9969"/>
                  </a:lnTo>
                  <a:lnTo>
                    <a:pt x="0" y="11630"/>
                  </a:lnTo>
                  <a:lnTo>
                    <a:pt x="4909" y="13292"/>
                  </a:lnTo>
                  <a:lnTo>
                    <a:pt x="4909" y="15507"/>
                  </a:lnTo>
                  <a:lnTo>
                    <a:pt x="5890" y="16615"/>
                  </a:lnTo>
                  <a:lnTo>
                    <a:pt x="4909" y="18276"/>
                  </a:lnTo>
                  <a:lnTo>
                    <a:pt x="5890" y="19384"/>
                  </a:lnTo>
                  <a:lnTo>
                    <a:pt x="11781" y="21600"/>
                  </a:lnTo>
                  <a:lnTo>
                    <a:pt x="13745" y="21600"/>
                  </a:lnTo>
                  <a:lnTo>
                    <a:pt x="13745" y="20492"/>
                  </a:lnTo>
                  <a:lnTo>
                    <a:pt x="15709" y="18830"/>
                  </a:lnTo>
                  <a:lnTo>
                    <a:pt x="14727" y="16615"/>
                  </a:lnTo>
                  <a:lnTo>
                    <a:pt x="13745" y="16615"/>
                  </a:lnTo>
                  <a:lnTo>
                    <a:pt x="12763" y="14400"/>
                  </a:lnTo>
                  <a:lnTo>
                    <a:pt x="14727" y="14400"/>
                  </a:lnTo>
                  <a:lnTo>
                    <a:pt x="14727" y="12184"/>
                  </a:lnTo>
                  <a:lnTo>
                    <a:pt x="16690" y="12184"/>
                  </a:lnTo>
                  <a:lnTo>
                    <a:pt x="18654" y="12738"/>
                  </a:lnTo>
                  <a:lnTo>
                    <a:pt x="19636" y="9415"/>
                  </a:lnTo>
                  <a:lnTo>
                    <a:pt x="21600" y="8307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AutoShape 30"/>
            <p:cNvSpPr/>
            <p:nvPr/>
          </p:nvSpPr>
          <p:spPr>
            <a:xfrm>
              <a:off x="4610880" y="2379240"/>
              <a:ext cx="1934640" cy="1747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149" y="11725"/>
                  </a:moveTo>
                  <a:lnTo>
                    <a:pt x="15947" y="12342"/>
                  </a:lnTo>
                  <a:lnTo>
                    <a:pt x="17158" y="12960"/>
                  </a:lnTo>
                  <a:lnTo>
                    <a:pt x="16957" y="13782"/>
                  </a:lnTo>
                  <a:lnTo>
                    <a:pt x="17158" y="13988"/>
                  </a:lnTo>
                  <a:lnTo>
                    <a:pt x="16957" y="14605"/>
                  </a:lnTo>
                  <a:lnTo>
                    <a:pt x="17158" y="15222"/>
                  </a:lnTo>
                  <a:lnTo>
                    <a:pt x="18571" y="16045"/>
                  </a:lnTo>
                  <a:lnTo>
                    <a:pt x="18773" y="16045"/>
                  </a:lnTo>
                  <a:lnTo>
                    <a:pt x="18773" y="15428"/>
                  </a:lnTo>
                  <a:lnTo>
                    <a:pt x="19177" y="15017"/>
                  </a:lnTo>
                  <a:lnTo>
                    <a:pt x="18975" y="14194"/>
                  </a:lnTo>
                  <a:lnTo>
                    <a:pt x="18571" y="13988"/>
                  </a:lnTo>
                  <a:lnTo>
                    <a:pt x="18571" y="13371"/>
                  </a:lnTo>
                  <a:lnTo>
                    <a:pt x="18975" y="13371"/>
                  </a:lnTo>
                  <a:lnTo>
                    <a:pt x="18975" y="12548"/>
                  </a:lnTo>
                  <a:lnTo>
                    <a:pt x="19783" y="12754"/>
                  </a:lnTo>
                  <a:lnTo>
                    <a:pt x="20186" y="13165"/>
                  </a:lnTo>
                  <a:lnTo>
                    <a:pt x="21196" y="13782"/>
                  </a:lnTo>
                  <a:lnTo>
                    <a:pt x="21600" y="14194"/>
                  </a:lnTo>
                  <a:lnTo>
                    <a:pt x="21398" y="16251"/>
                  </a:lnTo>
                  <a:lnTo>
                    <a:pt x="20186" y="16251"/>
                  </a:lnTo>
                  <a:lnTo>
                    <a:pt x="20186" y="17074"/>
                  </a:lnTo>
                  <a:lnTo>
                    <a:pt x="19581" y="17074"/>
                  </a:lnTo>
                  <a:lnTo>
                    <a:pt x="19581" y="16662"/>
                  </a:lnTo>
                  <a:lnTo>
                    <a:pt x="18571" y="16662"/>
                  </a:lnTo>
                  <a:lnTo>
                    <a:pt x="18571" y="19542"/>
                  </a:lnTo>
                  <a:lnTo>
                    <a:pt x="17764" y="19337"/>
                  </a:lnTo>
                  <a:lnTo>
                    <a:pt x="17360" y="19748"/>
                  </a:lnTo>
                  <a:lnTo>
                    <a:pt x="17562" y="19954"/>
                  </a:lnTo>
                  <a:lnTo>
                    <a:pt x="17764" y="20571"/>
                  </a:lnTo>
                  <a:lnTo>
                    <a:pt x="17360" y="20777"/>
                  </a:lnTo>
                  <a:lnTo>
                    <a:pt x="16755" y="21600"/>
                  </a:lnTo>
                  <a:lnTo>
                    <a:pt x="15947" y="21600"/>
                  </a:lnTo>
                  <a:lnTo>
                    <a:pt x="15342" y="20982"/>
                  </a:lnTo>
                  <a:lnTo>
                    <a:pt x="14938" y="19542"/>
                  </a:lnTo>
                  <a:lnTo>
                    <a:pt x="14938" y="19337"/>
                  </a:lnTo>
                  <a:lnTo>
                    <a:pt x="14534" y="19337"/>
                  </a:lnTo>
                  <a:lnTo>
                    <a:pt x="13727" y="18925"/>
                  </a:lnTo>
                  <a:lnTo>
                    <a:pt x="13323" y="17897"/>
                  </a:lnTo>
                  <a:lnTo>
                    <a:pt x="12515" y="18308"/>
                  </a:lnTo>
                  <a:lnTo>
                    <a:pt x="12314" y="18308"/>
                  </a:lnTo>
                  <a:lnTo>
                    <a:pt x="12314" y="18720"/>
                  </a:lnTo>
                  <a:lnTo>
                    <a:pt x="12515" y="19337"/>
                  </a:lnTo>
                  <a:lnTo>
                    <a:pt x="12112" y="19954"/>
                  </a:lnTo>
                  <a:lnTo>
                    <a:pt x="11304" y="19748"/>
                  </a:lnTo>
                  <a:lnTo>
                    <a:pt x="11708" y="19131"/>
                  </a:lnTo>
                  <a:lnTo>
                    <a:pt x="11304" y="18925"/>
                  </a:lnTo>
                  <a:lnTo>
                    <a:pt x="10497" y="18720"/>
                  </a:lnTo>
                  <a:lnTo>
                    <a:pt x="10093" y="18102"/>
                  </a:lnTo>
                  <a:lnTo>
                    <a:pt x="10295" y="17691"/>
                  </a:lnTo>
                  <a:lnTo>
                    <a:pt x="10699" y="17691"/>
                  </a:lnTo>
                  <a:lnTo>
                    <a:pt x="11506" y="17897"/>
                  </a:lnTo>
                  <a:lnTo>
                    <a:pt x="12112" y="17485"/>
                  </a:lnTo>
                  <a:lnTo>
                    <a:pt x="12314" y="17280"/>
                  </a:lnTo>
                  <a:lnTo>
                    <a:pt x="11708" y="17074"/>
                  </a:lnTo>
                  <a:lnTo>
                    <a:pt x="11708" y="16457"/>
                  </a:lnTo>
                  <a:lnTo>
                    <a:pt x="12515" y="16251"/>
                  </a:lnTo>
                  <a:lnTo>
                    <a:pt x="12717" y="15428"/>
                  </a:lnTo>
                  <a:lnTo>
                    <a:pt x="13323" y="15428"/>
                  </a:lnTo>
                  <a:lnTo>
                    <a:pt x="13525" y="14605"/>
                  </a:lnTo>
                  <a:lnTo>
                    <a:pt x="13121" y="12342"/>
                  </a:lnTo>
                  <a:lnTo>
                    <a:pt x="12112" y="10491"/>
                  </a:lnTo>
                  <a:lnTo>
                    <a:pt x="12112" y="11108"/>
                  </a:lnTo>
                  <a:lnTo>
                    <a:pt x="10295" y="9257"/>
                  </a:lnTo>
                  <a:lnTo>
                    <a:pt x="9891" y="9462"/>
                  </a:lnTo>
                  <a:lnTo>
                    <a:pt x="8680" y="8639"/>
                  </a:lnTo>
                  <a:lnTo>
                    <a:pt x="8478" y="7817"/>
                  </a:lnTo>
                  <a:lnTo>
                    <a:pt x="7065" y="8022"/>
                  </a:lnTo>
                  <a:lnTo>
                    <a:pt x="5652" y="7405"/>
                  </a:lnTo>
                  <a:lnTo>
                    <a:pt x="5248" y="8639"/>
                  </a:lnTo>
                  <a:lnTo>
                    <a:pt x="3431" y="7199"/>
                  </a:lnTo>
                  <a:lnTo>
                    <a:pt x="1211" y="6171"/>
                  </a:lnTo>
                  <a:lnTo>
                    <a:pt x="0" y="6377"/>
                  </a:lnTo>
                  <a:lnTo>
                    <a:pt x="201" y="4114"/>
                  </a:lnTo>
                  <a:lnTo>
                    <a:pt x="605" y="3702"/>
                  </a:lnTo>
                  <a:lnTo>
                    <a:pt x="1211" y="3908"/>
                  </a:lnTo>
                  <a:lnTo>
                    <a:pt x="1816" y="2879"/>
                  </a:lnTo>
                  <a:lnTo>
                    <a:pt x="2826" y="2468"/>
                  </a:lnTo>
                  <a:lnTo>
                    <a:pt x="3431" y="2057"/>
                  </a:lnTo>
                  <a:lnTo>
                    <a:pt x="3431" y="1645"/>
                  </a:lnTo>
                  <a:lnTo>
                    <a:pt x="5046" y="1645"/>
                  </a:lnTo>
                  <a:lnTo>
                    <a:pt x="5450" y="822"/>
                  </a:lnTo>
                  <a:lnTo>
                    <a:pt x="5450" y="205"/>
                  </a:lnTo>
                  <a:lnTo>
                    <a:pt x="5854" y="0"/>
                  </a:lnTo>
                  <a:lnTo>
                    <a:pt x="6863" y="205"/>
                  </a:lnTo>
                  <a:lnTo>
                    <a:pt x="7267" y="1851"/>
                  </a:lnTo>
                  <a:lnTo>
                    <a:pt x="7267" y="2674"/>
                  </a:lnTo>
                  <a:lnTo>
                    <a:pt x="7469" y="3291"/>
                  </a:lnTo>
                  <a:lnTo>
                    <a:pt x="7872" y="3908"/>
                  </a:lnTo>
                  <a:lnTo>
                    <a:pt x="7872" y="4525"/>
                  </a:lnTo>
                  <a:lnTo>
                    <a:pt x="8074" y="4937"/>
                  </a:lnTo>
                  <a:lnTo>
                    <a:pt x="8478" y="4937"/>
                  </a:lnTo>
                  <a:lnTo>
                    <a:pt x="8478" y="4319"/>
                  </a:lnTo>
                  <a:lnTo>
                    <a:pt x="10295" y="4525"/>
                  </a:lnTo>
                  <a:lnTo>
                    <a:pt x="10295" y="5554"/>
                  </a:lnTo>
                  <a:lnTo>
                    <a:pt x="9689" y="6171"/>
                  </a:lnTo>
                  <a:lnTo>
                    <a:pt x="9689" y="6582"/>
                  </a:lnTo>
                  <a:lnTo>
                    <a:pt x="10900" y="7817"/>
                  </a:lnTo>
                  <a:lnTo>
                    <a:pt x="10900" y="8434"/>
                  </a:lnTo>
                  <a:lnTo>
                    <a:pt x="12314" y="9051"/>
                  </a:lnTo>
                  <a:lnTo>
                    <a:pt x="12515" y="8845"/>
                  </a:lnTo>
                  <a:lnTo>
                    <a:pt x="12314" y="8022"/>
                  </a:lnTo>
                  <a:lnTo>
                    <a:pt x="13323" y="8228"/>
                  </a:lnTo>
                  <a:lnTo>
                    <a:pt x="14736" y="8228"/>
                  </a:lnTo>
                  <a:lnTo>
                    <a:pt x="15342" y="8022"/>
                  </a:lnTo>
                  <a:lnTo>
                    <a:pt x="15745" y="8639"/>
                  </a:lnTo>
                  <a:lnTo>
                    <a:pt x="14736" y="9462"/>
                  </a:lnTo>
                  <a:lnTo>
                    <a:pt x="14332" y="10697"/>
                  </a:lnTo>
                  <a:lnTo>
                    <a:pt x="15140" y="11725"/>
                  </a:lnTo>
                  <a:lnTo>
                    <a:pt x="16149" y="11725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AutoShape 31"/>
            <p:cNvSpPr/>
            <p:nvPr/>
          </p:nvSpPr>
          <p:spPr>
            <a:xfrm>
              <a:off x="5225760" y="762480"/>
              <a:ext cx="3215160" cy="258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3656"/>
                  </a:moveTo>
                  <a:lnTo>
                    <a:pt x="242" y="14771"/>
                  </a:lnTo>
                  <a:lnTo>
                    <a:pt x="242" y="15607"/>
                  </a:lnTo>
                  <a:lnTo>
                    <a:pt x="606" y="16165"/>
                  </a:lnTo>
                  <a:lnTo>
                    <a:pt x="728" y="16861"/>
                  </a:lnTo>
                  <a:lnTo>
                    <a:pt x="970" y="16861"/>
                  </a:lnTo>
                  <a:lnTo>
                    <a:pt x="970" y="16443"/>
                  </a:lnTo>
                  <a:lnTo>
                    <a:pt x="2062" y="16583"/>
                  </a:lnTo>
                  <a:lnTo>
                    <a:pt x="2062" y="17279"/>
                  </a:lnTo>
                  <a:lnTo>
                    <a:pt x="1698" y="17698"/>
                  </a:lnTo>
                  <a:lnTo>
                    <a:pt x="1698" y="17976"/>
                  </a:lnTo>
                  <a:lnTo>
                    <a:pt x="2426" y="18812"/>
                  </a:lnTo>
                  <a:lnTo>
                    <a:pt x="2426" y="19230"/>
                  </a:lnTo>
                  <a:lnTo>
                    <a:pt x="3276" y="19649"/>
                  </a:lnTo>
                  <a:lnTo>
                    <a:pt x="3397" y="19509"/>
                  </a:lnTo>
                  <a:lnTo>
                    <a:pt x="3276" y="18952"/>
                  </a:lnTo>
                  <a:lnTo>
                    <a:pt x="3883" y="19091"/>
                  </a:lnTo>
                  <a:lnTo>
                    <a:pt x="4004" y="19091"/>
                  </a:lnTo>
                  <a:lnTo>
                    <a:pt x="5096" y="18952"/>
                  </a:lnTo>
                  <a:lnTo>
                    <a:pt x="5339" y="19230"/>
                  </a:lnTo>
                  <a:lnTo>
                    <a:pt x="4732" y="19927"/>
                  </a:lnTo>
                  <a:lnTo>
                    <a:pt x="4489" y="20763"/>
                  </a:lnTo>
                  <a:lnTo>
                    <a:pt x="4975" y="21599"/>
                  </a:lnTo>
                  <a:lnTo>
                    <a:pt x="5703" y="21460"/>
                  </a:lnTo>
                  <a:lnTo>
                    <a:pt x="6067" y="21042"/>
                  </a:lnTo>
                  <a:lnTo>
                    <a:pt x="6431" y="20903"/>
                  </a:lnTo>
                  <a:lnTo>
                    <a:pt x="6552" y="19788"/>
                  </a:lnTo>
                  <a:lnTo>
                    <a:pt x="7402" y="18952"/>
                  </a:lnTo>
                  <a:lnTo>
                    <a:pt x="7523" y="19370"/>
                  </a:lnTo>
                  <a:lnTo>
                    <a:pt x="7280" y="20485"/>
                  </a:lnTo>
                  <a:lnTo>
                    <a:pt x="7887" y="20763"/>
                  </a:lnTo>
                  <a:lnTo>
                    <a:pt x="8494" y="21321"/>
                  </a:lnTo>
                  <a:lnTo>
                    <a:pt x="8979" y="21321"/>
                  </a:lnTo>
                  <a:lnTo>
                    <a:pt x="9101" y="20903"/>
                  </a:lnTo>
                  <a:lnTo>
                    <a:pt x="9343" y="20903"/>
                  </a:lnTo>
                  <a:lnTo>
                    <a:pt x="9222" y="20345"/>
                  </a:lnTo>
                  <a:lnTo>
                    <a:pt x="10071" y="19370"/>
                  </a:lnTo>
                  <a:lnTo>
                    <a:pt x="10071" y="19091"/>
                  </a:lnTo>
                  <a:lnTo>
                    <a:pt x="10678" y="19091"/>
                  </a:lnTo>
                  <a:lnTo>
                    <a:pt x="10800" y="18812"/>
                  </a:lnTo>
                  <a:lnTo>
                    <a:pt x="10921" y="18812"/>
                  </a:lnTo>
                  <a:lnTo>
                    <a:pt x="11164" y="19091"/>
                  </a:lnTo>
                  <a:lnTo>
                    <a:pt x="11164" y="18673"/>
                  </a:lnTo>
                  <a:lnTo>
                    <a:pt x="11528" y="18812"/>
                  </a:lnTo>
                  <a:lnTo>
                    <a:pt x="12134" y="17837"/>
                  </a:lnTo>
                  <a:lnTo>
                    <a:pt x="12620" y="17698"/>
                  </a:lnTo>
                  <a:lnTo>
                    <a:pt x="12862" y="17419"/>
                  </a:lnTo>
                  <a:lnTo>
                    <a:pt x="13105" y="17558"/>
                  </a:lnTo>
                  <a:lnTo>
                    <a:pt x="13591" y="17419"/>
                  </a:lnTo>
                  <a:lnTo>
                    <a:pt x="13226" y="16165"/>
                  </a:lnTo>
                  <a:lnTo>
                    <a:pt x="13591" y="16025"/>
                  </a:lnTo>
                  <a:lnTo>
                    <a:pt x="13591" y="15468"/>
                  </a:lnTo>
                  <a:lnTo>
                    <a:pt x="14076" y="15189"/>
                  </a:lnTo>
                  <a:lnTo>
                    <a:pt x="14319" y="15886"/>
                  </a:lnTo>
                  <a:lnTo>
                    <a:pt x="14925" y="15468"/>
                  </a:lnTo>
                  <a:lnTo>
                    <a:pt x="15168" y="15607"/>
                  </a:lnTo>
                  <a:lnTo>
                    <a:pt x="15289" y="15189"/>
                  </a:lnTo>
                  <a:lnTo>
                    <a:pt x="15775" y="15329"/>
                  </a:lnTo>
                  <a:lnTo>
                    <a:pt x="15775" y="14632"/>
                  </a:lnTo>
                  <a:lnTo>
                    <a:pt x="16503" y="14353"/>
                  </a:lnTo>
                  <a:lnTo>
                    <a:pt x="16867" y="15050"/>
                  </a:lnTo>
                  <a:lnTo>
                    <a:pt x="16867" y="15747"/>
                  </a:lnTo>
                  <a:lnTo>
                    <a:pt x="17110" y="16025"/>
                  </a:lnTo>
                  <a:lnTo>
                    <a:pt x="17595" y="15886"/>
                  </a:lnTo>
                  <a:lnTo>
                    <a:pt x="17838" y="15886"/>
                  </a:lnTo>
                  <a:lnTo>
                    <a:pt x="17838" y="15050"/>
                  </a:lnTo>
                  <a:lnTo>
                    <a:pt x="17595" y="14492"/>
                  </a:lnTo>
                  <a:lnTo>
                    <a:pt x="17838" y="14632"/>
                  </a:lnTo>
                  <a:lnTo>
                    <a:pt x="18202" y="15189"/>
                  </a:lnTo>
                  <a:lnTo>
                    <a:pt x="20143" y="13517"/>
                  </a:lnTo>
                  <a:lnTo>
                    <a:pt x="20507" y="13656"/>
                  </a:lnTo>
                  <a:lnTo>
                    <a:pt x="21114" y="13099"/>
                  </a:lnTo>
                  <a:lnTo>
                    <a:pt x="21114" y="12681"/>
                  </a:lnTo>
                  <a:lnTo>
                    <a:pt x="20871" y="12681"/>
                  </a:lnTo>
                  <a:lnTo>
                    <a:pt x="20871" y="11984"/>
                  </a:lnTo>
                  <a:lnTo>
                    <a:pt x="20507" y="11148"/>
                  </a:lnTo>
                  <a:lnTo>
                    <a:pt x="19901" y="11705"/>
                  </a:lnTo>
                  <a:lnTo>
                    <a:pt x="19537" y="10730"/>
                  </a:lnTo>
                  <a:lnTo>
                    <a:pt x="19658" y="10312"/>
                  </a:lnTo>
                  <a:lnTo>
                    <a:pt x="19173" y="9754"/>
                  </a:lnTo>
                  <a:lnTo>
                    <a:pt x="19294" y="9336"/>
                  </a:lnTo>
                  <a:lnTo>
                    <a:pt x="19901" y="9754"/>
                  </a:lnTo>
                  <a:lnTo>
                    <a:pt x="20265" y="9754"/>
                  </a:lnTo>
                  <a:lnTo>
                    <a:pt x="20143" y="8918"/>
                  </a:lnTo>
                  <a:lnTo>
                    <a:pt x="20143" y="8500"/>
                  </a:lnTo>
                  <a:lnTo>
                    <a:pt x="20507" y="8221"/>
                  </a:lnTo>
                  <a:lnTo>
                    <a:pt x="20507" y="7943"/>
                  </a:lnTo>
                  <a:lnTo>
                    <a:pt x="20022" y="8221"/>
                  </a:lnTo>
                  <a:lnTo>
                    <a:pt x="19658" y="7525"/>
                  </a:lnTo>
                  <a:lnTo>
                    <a:pt x="20750" y="5852"/>
                  </a:lnTo>
                  <a:lnTo>
                    <a:pt x="20993" y="6270"/>
                  </a:lnTo>
                  <a:lnTo>
                    <a:pt x="21114" y="5156"/>
                  </a:lnTo>
                  <a:lnTo>
                    <a:pt x="21357" y="4738"/>
                  </a:lnTo>
                  <a:lnTo>
                    <a:pt x="21235" y="3762"/>
                  </a:lnTo>
                  <a:lnTo>
                    <a:pt x="21600" y="2229"/>
                  </a:lnTo>
                  <a:lnTo>
                    <a:pt x="20993" y="1532"/>
                  </a:lnTo>
                  <a:lnTo>
                    <a:pt x="20629" y="2090"/>
                  </a:lnTo>
                  <a:lnTo>
                    <a:pt x="20386" y="2229"/>
                  </a:lnTo>
                  <a:lnTo>
                    <a:pt x="19658" y="2508"/>
                  </a:lnTo>
                  <a:lnTo>
                    <a:pt x="19415" y="2090"/>
                  </a:lnTo>
                  <a:lnTo>
                    <a:pt x="19173" y="1254"/>
                  </a:lnTo>
                  <a:lnTo>
                    <a:pt x="18808" y="975"/>
                  </a:lnTo>
                  <a:lnTo>
                    <a:pt x="18566" y="1254"/>
                  </a:lnTo>
                  <a:lnTo>
                    <a:pt x="18080" y="1114"/>
                  </a:lnTo>
                  <a:lnTo>
                    <a:pt x="18323" y="557"/>
                  </a:lnTo>
                  <a:lnTo>
                    <a:pt x="18202" y="0"/>
                  </a:lnTo>
                  <a:lnTo>
                    <a:pt x="17716" y="0"/>
                  </a:lnTo>
                  <a:lnTo>
                    <a:pt x="17110" y="696"/>
                  </a:lnTo>
                  <a:lnTo>
                    <a:pt x="17110" y="975"/>
                  </a:lnTo>
                  <a:lnTo>
                    <a:pt x="17595" y="1114"/>
                  </a:lnTo>
                  <a:lnTo>
                    <a:pt x="17716" y="1532"/>
                  </a:lnTo>
                  <a:lnTo>
                    <a:pt x="17231" y="2369"/>
                  </a:lnTo>
                  <a:lnTo>
                    <a:pt x="17110" y="2926"/>
                  </a:lnTo>
                  <a:lnTo>
                    <a:pt x="16867" y="3483"/>
                  </a:lnTo>
                  <a:lnTo>
                    <a:pt x="16867" y="4041"/>
                  </a:lnTo>
                  <a:lnTo>
                    <a:pt x="16988" y="4180"/>
                  </a:lnTo>
                  <a:lnTo>
                    <a:pt x="16017" y="5016"/>
                  </a:lnTo>
                  <a:lnTo>
                    <a:pt x="15411" y="4877"/>
                  </a:lnTo>
                  <a:lnTo>
                    <a:pt x="15047" y="4877"/>
                  </a:lnTo>
                  <a:lnTo>
                    <a:pt x="14319" y="7246"/>
                  </a:lnTo>
                  <a:lnTo>
                    <a:pt x="14561" y="7525"/>
                  </a:lnTo>
                  <a:lnTo>
                    <a:pt x="15653" y="7525"/>
                  </a:lnTo>
                  <a:lnTo>
                    <a:pt x="15775" y="7664"/>
                  </a:lnTo>
                  <a:lnTo>
                    <a:pt x="16017" y="7246"/>
                  </a:lnTo>
                  <a:lnTo>
                    <a:pt x="16382" y="7107"/>
                  </a:lnTo>
                  <a:lnTo>
                    <a:pt x="16746" y="7246"/>
                  </a:lnTo>
                  <a:lnTo>
                    <a:pt x="17231" y="7803"/>
                  </a:lnTo>
                  <a:lnTo>
                    <a:pt x="17595" y="8361"/>
                  </a:lnTo>
                  <a:lnTo>
                    <a:pt x="17595" y="8918"/>
                  </a:lnTo>
                  <a:lnTo>
                    <a:pt x="17231" y="8779"/>
                  </a:lnTo>
                  <a:lnTo>
                    <a:pt x="16503" y="9058"/>
                  </a:lnTo>
                  <a:lnTo>
                    <a:pt x="15896" y="9058"/>
                  </a:lnTo>
                  <a:lnTo>
                    <a:pt x="15775" y="9336"/>
                  </a:lnTo>
                  <a:lnTo>
                    <a:pt x="15411" y="9336"/>
                  </a:lnTo>
                  <a:lnTo>
                    <a:pt x="15047" y="9754"/>
                  </a:lnTo>
                  <a:lnTo>
                    <a:pt x="15047" y="10312"/>
                  </a:lnTo>
                  <a:lnTo>
                    <a:pt x="14683" y="10590"/>
                  </a:lnTo>
                  <a:lnTo>
                    <a:pt x="13833" y="10730"/>
                  </a:lnTo>
                  <a:lnTo>
                    <a:pt x="13105" y="11566"/>
                  </a:lnTo>
                  <a:lnTo>
                    <a:pt x="12134" y="11566"/>
                  </a:lnTo>
                  <a:lnTo>
                    <a:pt x="11892" y="11287"/>
                  </a:lnTo>
                  <a:lnTo>
                    <a:pt x="11528" y="11287"/>
                  </a:lnTo>
                  <a:lnTo>
                    <a:pt x="11406" y="11845"/>
                  </a:lnTo>
                  <a:lnTo>
                    <a:pt x="11042" y="12263"/>
                  </a:lnTo>
                  <a:lnTo>
                    <a:pt x="11649" y="13099"/>
                  </a:lnTo>
                  <a:lnTo>
                    <a:pt x="10921" y="13656"/>
                  </a:lnTo>
                  <a:lnTo>
                    <a:pt x="10557" y="14353"/>
                  </a:lnTo>
                  <a:lnTo>
                    <a:pt x="9707" y="14771"/>
                  </a:lnTo>
                  <a:lnTo>
                    <a:pt x="8494" y="14910"/>
                  </a:lnTo>
                  <a:lnTo>
                    <a:pt x="7523" y="15050"/>
                  </a:lnTo>
                  <a:lnTo>
                    <a:pt x="6916" y="15329"/>
                  </a:lnTo>
                  <a:lnTo>
                    <a:pt x="6188" y="15886"/>
                  </a:lnTo>
                  <a:lnTo>
                    <a:pt x="5824" y="15886"/>
                  </a:lnTo>
                  <a:lnTo>
                    <a:pt x="5339" y="15468"/>
                  </a:lnTo>
                  <a:lnTo>
                    <a:pt x="4732" y="15468"/>
                  </a:lnTo>
                  <a:lnTo>
                    <a:pt x="4247" y="15050"/>
                  </a:lnTo>
                  <a:lnTo>
                    <a:pt x="3761" y="15050"/>
                  </a:lnTo>
                  <a:lnTo>
                    <a:pt x="3397" y="14353"/>
                  </a:lnTo>
                  <a:lnTo>
                    <a:pt x="2426" y="14214"/>
                  </a:lnTo>
                  <a:lnTo>
                    <a:pt x="1456" y="14214"/>
                  </a:lnTo>
                  <a:lnTo>
                    <a:pt x="970" y="13796"/>
                  </a:lnTo>
                  <a:lnTo>
                    <a:pt x="0" y="13656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AutoShape 32"/>
            <p:cNvSpPr/>
            <p:nvPr/>
          </p:nvSpPr>
          <p:spPr>
            <a:xfrm>
              <a:off x="2262240" y="1197000"/>
              <a:ext cx="2872800" cy="21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99" y="11888"/>
                  </a:moveTo>
                  <a:lnTo>
                    <a:pt x="21328" y="12055"/>
                  </a:lnTo>
                  <a:lnTo>
                    <a:pt x="21328" y="12558"/>
                  </a:lnTo>
                  <a:lnTo>
                    <a:pt x="21056" y="13227"/>
                  </a:lnTo>
                  <a:lnTo>
                    <a:pt x="19969" y="13227"/>
                  </a:lnTo>
                  <a:lnTo>
                    <a:pt x="19969" y="13562"/>
                  </a:lnTo>
                  <a:lnTo>
                    <a:pt x="19562" y="13897"/>
                  </a:lnTo>
                  <a:lnTo>
                    <a:pt x="18883" y="14232"/>
                  </a:lnTo>
                  <a:lnTo>
                    <a:pt x="18339" y="15069"/>
                  </a:lnTo>
                  <a:lnTo>
                    <a:pt x="18067" y="14902"/>
                  </a:lnTo>
                  <a:lnTo>
                    <a:pt x="17796" y="15237"/>
                  </a:lnTo>
                  <a:lnTo>
                    <a:pt x="17660" y="17079"/>
                  </a:lnTo>
                  <a:lnTo>
                    <a:pt x="15894" y="17246"/>
                  </a:lnTo>
                  <a:lnTo>
                    <a:pt x="15079" y="17581"/>
                  </a:lnTo>
                  <a:lnTo>
                    <a:pt x="14943" y="18418"/>
                  </a:lnTo>
                  <a:lnTo>
                    <a:pt x="15622" y="19423"/>
                  </a:lnTo>
                  <a:lnTo>
                    <a:pt x="15622" y="19758"/>
                  </a:lnTo>
                  <a:lnTo>
                    <a:pt x="15079" y="20260"/>
                  </a:lnTo>
                  <a:lnTo>
                    <a:pt x="15079" y="20762"/>
                  </a:lnTo>
                  <a:lnTo>
                    <a:pt x="15215" y="20930"/>
                  </a:lnTo>
                  <a:lnTo>
                    <a:pt x="15215" y="21600"/>
                  </a:lnTo>
                  <a:lnTo>
                    <a:pt x="14264" y="21097"/>
                  </a:lnTo>
                  <a:lnTo>
                    <a:pt x="14264" y="21265"/>
                  </a:lnTo>
                  <a:lnTo>
                    <a:pt x="13856" y="21265"/>
                  </a:lnTo>
                  <a:lnTo>
                    <a:pt x="13720" y="20930"/>
                  </a:lnTo>
                  <a:lnTo>
                    <a:pt x="12905" y="20427"/>
                  </a:lnTo>
                  <a:lnTo>
                    <a:pt x="12498" y="20093"/>
                  </a:lnTo>
                  <a:lnTo>
                    <a:pt x="10596" y="20260"/>
                  </a:lnTo>
                  <a:lnTo>
                    <a:pt x="10188" y="20595"/>
                  </a:lnTo>
                  <a:lnTo>
                    <a:pt x="8966" y="20595"/>
                  </a:lnTo>
                  <a:lnTo>
                    <a:pt x="8694" y="20762"/>
                  </a:lnTo>
                  <a:lnTo>
                    <a:pt x="7471" y="20595"/>
                  </a:lnTo>
                  <a:lnTo>
                    <a:pt x="7335" y="19925"/>
                  </a:lnTo>
                  <a:lnTo>
                    <a:pt x="6520" y="19758"/>
                  </a:lnTo>
                  <a:lnTo>
                    <a:pt x="6249" y="20093"/>
                  </a:lnTo>
                  <a:lnTo>
                    <a:pt x="5026" y="19423"/>
                  </a:lnTo>
                  <a:lnTo>
                    <a:pt x="4618" y="19423"/>
                  </a:lnTo>
                  <a:lnTo>
                    <a:pt x="4211" y="20260"/>
                  </a:lnTo>
                  <a:lnTo>
                    <a:pt x="3667" y="20595"/>
                  </a:lnTo>
                  <a:lnTo>
                    <a:pt x="2988" y="20427"/>
                  </a:lnTo>
                  <a:lnTo>
                    <a:pt x="2581" y="19758"/>
                  </a:lnTo>
                  <a:lnTo>
                    <a:pt x="2581" y="18251"/>
                  </a:lnTo>
                  <a:lnTo>
                    <a:pt x="1766" y="18083"/>
                  </a:lnTo>
                  <a:lnTo>
                    <a:pt x="1222" y="17079"/>
                  </a:lnTo>
                  <a:lnTo>
                    <a:pt x="950" y="16744"/>
                  </a:lnTo>
                  <a:lnTo>
                    <a:pt x="815" y="16409"/>
                  </a:lnTo>
                  <a:lnTo>
                    <a:pt x="1086" y="16241"/>
                  </a:lnTo>
                  <a:lnTo>
                    <a:pt x="1086" y="15739"/>
                  </a:lnTo>
                  <a:lnTo>
                    <a:pt x="679" y="14902"/>
                  </a:lnTo>
                  <a:lnTo>
                    <a:pt x="271" y="14734"/>
                  </a:lnTo>
                  <a:lnTo>
                    <a:pt x="0" y="14400"/>
                  </a:lnTo>
                  <a:lnTo>
                    <a:pt x="271" y="14232"/>
                  </a:lnTo>
                  <a:lnTo>
                    <a:pt x="543" y="14400"/>
                  </a:lnTo>
                  <a:lnTo>
                    <a:pt x="679" y="14065"/>
                  </a:lnTo>
                  <a:lnTo>
                    <a:pt x="543" y="12893"/>
                  </a:lnTo>
                  <a:lnTo>
                    <a:pt x="815" y="12390"/>
                  </a:lnTo>
                  <a:lnTo>
                    <a:pt x="407" y="11888"/>
                  </a:lnTo>
                  <a:lnTo>
                    <a:pt x="0" y="11888"/>
                  </a:lnTo>
                  <a:lnTo>
                    <a:pt x="0" y="10883"/>
                  </a:lnTo>
                  <a:lnTo>
                    <a:pt x="815" y="9711"/>
                  </a:lnTo>
                  <a:lnTo>
                    <a:pt x="1494" y="9711"/>
                  </a:lnTo>
                  <a:lnTo>
                    <a:pt x="1901" y="9376"/>
                  </a:lnTo>
                  <a:lnTo>
                    <a:pt x="2309" y="9544"/>
                  </a:lnTo>
                  <a:lnTo>
                    <a:pt x="2445" y="9376"/>
                  </a:lnTo>
                  <a:lnTo>
                    <a:pt x="2581" y="10046"/>
                  </a:lnTo>
                  <a:lnTo>
                    <a:pt x="2852" y="9879"/>
                  </a:lnTo>
                  <a:lnTo>
                    <a:pt x="3396" y="10046"/>
                  </a:lnTo>
                  <a:lnTo>
                    <a:pt x="3532" y="9544"/>
                  </a:lnTo>
                  <a:lnTo>
                    <a:pt x="5162" y="9544"/>
                  </a:lnTo>
                  <a:lnTo>
                    <a:pt x="5433" y="9041"/>
                  </a:lnTo>
                  <a:lnTo>
                    <a:pt x="7064" y="8874"/>
                  </a:lnTo>
                  <a:lnTo>
                    <a:pt x="7200" y="8539"/>
                  </a:lnTo>
                  <a:lnTo>
                    <a:pt x="7200" y="7869"/>
                  </a:lnTo>
                  <a:lnTo>
                    <a:pt x="7879" y="7367"/>
                  </a:lnTo>
                  <a:lnTo>
                    <a:pt x="8015" y="4855"/>
                  </a:lnTo>
                  <a:lnTo>
                    <a:pt x="7743" y="4688"/>
                  </a:lnTo>
                  <a:lnTo>
                    <a:pt x="7743" y="4186"/>
                  </a:lnTo>
                  <a:lnTo>
                    <a:pt x="9781" y="4353"/>
                  </a:lnTo>
                  <a:lnTo>
                    <a:pt x="10052" y="4688"/>
                  </a:lnTo>
                  <a:lnTo>
                    <a:pt x="10324" y="3683"/>
                  </a:lnTo>
                  <a:lnTo>
                    <a:pt x="11275" y="2009"/>
                  </a:lnTo>
                  <a:lnTo>
                    <a:pt x="12633" y="2846"/>
                  </a:lnTo>
                  <a:lnTo>
                    <a:pt x="13313" y="2679"/>
                  </a:lnTo>
                  <a:lnTo>
                    <a:pt x="13449" y="2176"/>
                  </a:lnTo>
                  <a:lnTo>
                    <a:pt x="13313" y="1674"/>
                  </a:lnTo>
                  <a:lnTo>
                    <a:pt x="13856" y="1004"/>
                  </a:lnTo>
                  <a:lnTo>
                    <a:pt x="14264" y="837"/>
                  </a:lnTo>
                  <a:lnTo>
                    <a:pt x="14807" y="502"/>
                  </a:lnTo>
                  <a:lnTo>
                    <a:pt x="14943" y="0"/>
                  </a:lnTo>
                  <a:lnTo>
                    <a:pt x="15758" y="167"/>
                  </a:lnTo>
                  <a:lnTo>
                    <a:pt x="15758" y="334"/>
                  </a:lnTo>
                  <a:lnTo>
                    <a:pt x="15486" y="669"/>
                  </a:lnTo>
                  <a:lnTo>
                    <a:pt x="15758" y="1004"/>
                  </a:lnTo>
                  <a:lnTo>
                    <a:pt x="15894" y="1506"/>
                  </a:lnTo>
                  <a:lnTo>
                    <a:pt x="16301" y="2344"/>
                  </a:lnTo>
                  <a:lnTo>
                    <a:pt x="16709" y="2511"/>
                  </a:lnTo>
                  <a:lnTo>
                    <a:pt x="17388" y="3013"/>
                  </a:lnTo>
                  <a:lnTo>
                    <a:pt x="17388" y="4186"/>
                  </a:lnTo>
                  <a:lnTo>
                    <a:pt x="17660" y="5190"/>
                  </a:lnTo>
                  <a:lnTo>
                    <a:pt x="17116" y="6362"/>
                  </a:lnTo>
                  <a:lnTo>
                    <a:pt x="17252" y="7032"/>
                  </a:lnTo>
                  <a:lnTo>
                    <a:pt x="17796" y="7534"/>
                  </a:lnTo>
                  <a:lnTo>
                    <a:pt x="18883" y="7702"/>
                  </a:lnTo>
                  <a:lnTo>
                    <a:pt x="19698" y="8204"/>
                  </a:lnTo>
                  <a:lnTo>
                    <a:pt x="20513" y="9209"/>
                  </a:lnTo>
                  <a:lnTo>
                    <a:pt x="20920" y="9209"/>
                  </a:lnTo>
                  <a:lnTo>
                    <a:pt x="20920" y="10046"/>
                  </a:lnTo>
                  <a:lnTo>
                    <a:pt x="21192" y="10883"/>
                  </a:lnTo>
                  <a:lnTo>
                    <a:pt x="21599" y="11888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AutoShape 33"/>
            <p:cNvSpPr/>
            <p:nvPr/>
          </p:nvSpPr>
          <p:spPr>
            <a:xfrm>
              <a:off x="8245800" y="5144400"/>
              <a:ext cx="285480" cy="535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49" y="19574"/>
                  </a:moveTo>
                  <a:lnTo>
                    <a:pt x="5399" y="20924"/>
                  </a:lnTo>
                  <a:lnTo>
                    <a:pt x="9449" y="21599"/>
                  </a:lnTo>
                  <a:lnTo>
                    <a:pt x="10800" y="18899"/>
                  </a:lnTo>
                  <a:lnTo>
                    <a:pt x="17550" y="15524"/>
                  </a:lnTo>
                  <a:lnTo>
                    <a:pt x="17550" y="10800"/>
                  </a:lnTo>
                  <a:lnTo>
                    <a:pt x="20250" y="8100"/>
                  </a:lnTo>
                  <a:lnTo>
                    <a:pt x="21600" y="6075"/>
                  </a:lnTo>
                  <a:lnTo>
                    <a:pt x="18900" y="4725"/>
                  </a:lnTo>
                  <a:lnTo>
                    <a:pt x="17550" y="0"/>
                  </a:lnTo>
                  <a:lnTo>
                    <a:pt x="10800" y="2025"/>
                  </a:lnTo>
                  <a:lnTo>
                    <a:pt x="8099" y="2025"/>
                  </a:lnTo>
                  <a:lnTo>
                    <a:pt x="9449" y="3375"/>
                  </a:lnTo>
                  <a:lnTo>
                    <a:pt x="4049" y="6075"/>
                  </a:lnTo>
                  <a:lnTo>
                    <a:pt x="4049" y="9450"/>
                  </a:lnTo>
                  <a:lnTo>
                    <a:pt x="0" y="11474"/>
                  </a:lnTo>
                  <a:lnTo>
                    <a:pt x="1349" y="14174"/>
                  </a:lnTo>
                  <a:lnTo>
                    <a:pt x="2699" y="18899"/>
                  </a:lnTo>
                  <a:lnTo>
                    <a:pt x="4049" y="19574"/>
                  </a:lnTo>
                </a:path>
              </a:pathLst>
            </a:custGeom>
            <a:solidFill>
              <a:srgbClr val="ffffff">
                <a:alpha val="69000"/>
              </a:srgbClr>
            </a:solidFill>
            <a:ln w="324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4" name="AutoShape 34"/>
          <p:cNvSpPr/>
          <p:nvPr/>
        </p:nvSpPr>
        <p:spPr>
          <a:xfrm>
            <a:off x="6948360" y="329400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AutoShape 35"/>
          <p:cNvSpPr/>
          <p:nvPr/>
        </p:nvSpPr>
        <p:spPr>
          <a:xfrm>
            <a:off x="3962520" y="4278240"/>
            <a:ext cx="231480" cy="2304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AutoShape 36"/>
          <p:cNvSpPr/>
          <p:nvPr/>
        </p:nvSpPr>
        <p:spPr>
          <a:xfrm>
            <a:off x="7839000" y="5183280"/>
            <a:ext cx="231840" cy="231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AutoShape 37"/>
          <p:cNvSpPr/>
          <p:nvPr/>
        </p:nvSpPr>
        <p:spPr>
          <a:xfrm>
            <a:off x="3286080" y="5033880"/>
            <a:ext cx="1027080" cy="335160"/>
          </a:xfrm>
          <a:prstGeom prst="pie">
            <a:avLst/>
          </a:prstGeom>
          <a:solidFill>
            <a:srgbClr val="e9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AutoShape 38"/>
          <p:cNvSpPr/>
          <p:nvPr/>
        </p:nvSpPr>
        <p:spPr>
          <a:xfrm>
            <a:off x="7459560" y="5786280"/>
            <a:ext cx="1027080" cy="336600"/>
          </a:xfrm>
          <a:prstGeom prst="pie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AutoShape 39"/>
          <p:cNvSpPr/>
          <p:nvPr/>
        </p:nvSpPr>
        <p:spPr>
          <a:xfrm>
            <a:off x="8448840" y="3110040"/>
            <a:ext cx="1027080" cy="334800"/>
          </a:xfrm>
          <a:prstGeom prst="pie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869921193" presetSubtype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矩形 5"/>
          <p:cNvSpPr/>
          <p:nvPr/>
        </p:nvSpPr>
        <p:spPr>
          <a:xfrm>
            <a:off x="3510000" y="2630520"/>
            <a:ext cx="49482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观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直接连接符 6"/>
          <p:cNvSpPr/>
          <p:nvPr/>
        </p:nvSpPr>
        <p:spPr>
          <a:xfrm>
            <a:off x="3625920" y="3967200"/>
            <a:ext cx="46800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矩形 7"/>
          <p:cNvSpPr/>
          <p:nvPr/>
        </p:nvSpPr>
        <p:spPr>
          <a:xfrm>
            <a:off x="4219560" y="3290760"/>
            <a:ext cx="35290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 For 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平行四边形 8"/>
          <p:cNvSpPr/>
          <p:nvPr/>
        </p:nvSpPr>
        <p:spPr>
          <a:xfrm>
            <a:off x="5511960" y="1192320"/>
            <a:ext cx="1035000" cy="369720"/>
          </a:xfrm>
          <a:prstGeom prst="parallelogram">
            <a:avLst>
              <a:gd name="adj" fmla="val 0"/>
            </a:avLst>
          </a:prstGeom>
          <a:solidFill>
            <a:srgbClr val="534c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10"/>
          <p:cNvSpPr/>
          <p:nvPr/>
        </p:nvSpPr>
        <p:spPr>
          <a:xfrm>
            <a:off x="3529080" y="409428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个性潮流元素等场合演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1" descr=""/>
          <p:cNvPicPr/>
          <p:nvPr/>
        </p:nvPicPr>
        <p:blipFill>
          <a:blip r:embed="rId1"/>
          <a:stretch/>
        </p:blipFill>
        <p:spPr>
          <a:xfrm>
            <a:off x="6080040" y="-4680"/>
            <a:ext cx="6112080" cy="343836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2" descr=""/>
          <p:cNvPicPr/>
          <p:nvPr/>
        </p:nvPicPr>
        <p:blipFill>
          <a:blip r:embed="rId2"/>
          <a:stretch/>
        </p:blipFill>
        <p:spPr>
          <a:xfrm>
            <a:off x="915192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3" name="图片 3" descr=""/>
          <p:cNvPicPr/>
          <p:nvPr/>
        </p:nvPicPr>
        <p:blipFill>
          <a:blip r:embed="rId3"/>
          <a:stretch/>
        </p:blipFill>
        <p:spPr>
          <a:xfrm>
            <a:off x="0" y="342108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54" name="图片 4" descr=""/>
          <p:cNvPicPr/>
          <p:nvPr/>
        </p:nvPicPr>
        <p:blipFill>
          <a:blip r:embed="rId4"/>
          <a:stretch/>
        </p:blipFill>
        <p:spPr>
          <a:xfrm>
            <a:off x="302436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5" name="图片 5" descr=""/>
          <p:cNvPicPr/>
          <p:nvPr/>
        </p:nvPicPr>
        <p:blipFill>
          <a:blip r:embed="rId5"/>
          <a:stretch/>
        </p:blipFill>
        <p:spPr>
          <a:xfrm>
            <a:off x="6086520" y="3438360"/>
            <a:ext cx="3039840" cy="171000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6" descr=""/>
          <p:cNvPicPr/>
          <p:nvPr/>
        </p:nvPicPr>
        <p:blipFill>
          <a:blip r:embed="rId6"/>
          <a:stretch/>
        </p:blipFill>
        <p:spPr>
          <a:xfrm>
            <a:off x="9151920" y="3438360"/>
            <a:ext cx="3040200" cy="171000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7" descr=""/>
          <p:cNvPicPr/>
          <p:nvPr/>
        </p:nvPicPr>
        <p:blipFill>
          <a:blip r:embed="rId7"/>
          <a:stretch/>
        </p:blipFill>
        <p:spPr>
          <a:xfrm>
            <a:off x="0" y="5140440"/>
            <a:ext cx="3040200" cy="1711080"/>
          </a:xfrm>
          <a:prstGeom prst="rect">
            <a:avLst/>
          </a:prstGeom>
          <a:ln w="0">
            <a:noFill/>
          </a:ln>
        </p:spPr>
      </p:pic>
      <p:pic>
        <p:nvPicPr>
          <p:cNvPr id="458" name="图片 8" descr=""/>
          <p:cNvPicPr/>
          <p:nvPr/>
        </p:nvPicPr>
        <p:blipFill>
          <a:blip r:embed="rId8"/>
          <a:stretch/>
        </p:blipFill>
        <p:spPr>
          <a:xfrm>
            <a:off x="3040200" y="5148360"/>
            <a:ext cx="3039840" cy="1709640"/>
          </a:xfrm>
          <a:prstGeom prst="rect">
            <a:avLst/>
          </a:prstGeom>
          <a:ln w="0">
            <a:noFill/>
          </a:ln>
        </p:spPr>
      </p:pic>
      <p:pic>
        <p:nvPicPr>
          <p:cNvPr id="459" name="图片 9" descr=""/>
          <p:cNvPicPr/>
          <p:nvPr/>
        </p:nvPicPr>
        <p:blipFill>
          <a:blip r:embed="rId9"/>
          <a:stretch/>
        </p:blipFill>
        <p:spPr>
          <a:xfrm>
            <a:off x="6095880" y="5148360"/>
            <a:ext cx="3040200" cy="170964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10" descr=""/>
          <p:cNvPicPr/>
          <p:nvPr/>
        </p:nvPicPr>
        <p:blipFill>
          <a:blip r:embed="rId10"/>
          <a:stretch/>
        </p:blipFill>
        <p:spPr>
          <a:xfrm>
            <a:off x="0" y="0"/>
            <a:ext cx="6064200" cy="3411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平行四边形 18"/>
          <p:cNvSpPr/>
          <p:nvPr/>
        </p:nvSpPr>
        <p:spPr>
          <a:xfrm>
            <a:off x="6095880" y="1617840"/>
            <a:ext cx="665280" cy="541080"/>
          </a:xfrm>
          <a:prstGeom prst="parallelogram">
            <a:avLst>
              <a:gd name="adj" fmla="val 0"/>
            </a:avLst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平行四边形 20"/>
          <p:cNvSpPr/>
          <p:nvPr/>
        </p:nvSpPr>
        <p:spPr>
          <a:xfrm>
            <a:off x="6095880" y="2638440"/>
            <a:ext cx="665280" cy="539640"/>
          </a:xfrm>
          <a:prstGeom prst="parallelogram">
            <a:avLst>
              <a:gd name="adj" fmla="val 0"/>
            </a:avLst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平行四边形 21"/>
          <p:cNvSpPr/>
          <p:nvPr/>
        </p:nvSpPr>
        <p:spPr>
          <a:xfrm>
            <a:off x="6095880" y="3678120"/>
            <a:ext cx="663840" cy="540000"/>
          </a:xfrm>
          <a:prstGeom prst="parallelogram">
            <a:avLst>
              <a:gd name="adj" fmla="val 0"/>
            </a:avLst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平行四边形 22"/>
          <p:cNvSpPr/>
          <p:nvPr/>
        </p:nvSpPr>
        <p:spPr>
          <a:xfrm>
            <a:off x="6095880" y="4830840"/>
            <a:ext cx="663840" cy="541440"/>
          </a:xfrm>
          <a:prstGeom prst="parallelogram">
            <a:avLst>
              <a:gd name="adj" fmla="val 0"/>
            </a:avLst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AutoShape 1"/>
          <p:cNvSpPr/>
          <p:nvPr/>
        </p:nvSpPr>
        <p:spPr>
          <a:xfrm>
            <a:off x="6770520" y="155592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AutoShape 1"/>
          <p:cNvSpPr/>
          <p:nvPr/>
        </p:nvSpPr>
        <p:spPr>
          <a:xfrm>
            <a:off x="6770520" y="2514600"/>
            <a:ext cx="275760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AutoShape 1"/>
          <p:cNvSpPr/>
          <p:nvPr/>
        </p:nvSpPr>
        <p:spPr>
          <a:xfrm>
            <a:off x="6765840" y="3627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AutoShape 1"/>
          <p:cNvSpPr/>
          <p:nvPr/>
        </p:nvSpPr>
        <p:spPr>
          <a:xfrm>
            <a:off x="6765840" y="4770360"/>
            <a:ext cx="2757600" cy="69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13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0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AutoShape 1"/>
          <p:cNvSpPr/>
          <p:nvPr/>
        </p:nvSpPr>
        <p:spPr>
          <a:xfrm>
            <a:off x="1981080" y="54144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AutoShape 2"/>
          <p:cNvSpPr/>
          <p:nvPr/>
        </p:nvSpPr>
        <p:spPr>
          <a:xfrm>
            <a:off x="1981080" y="1373040"/>
            <a:ext cx="5499360" cy="287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25244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/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AutoShape 5"/>
          <p:cNvSpPr/>
          <p:nvPr/>
        </p:nvSpPr>
        <p:spPr>
          <a:xfrm>
            <a:off x="1650960" y="3446640"/>
            <a:ext cx="1932120" cy="10173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AutoShape 6"/>
          <p:cNvSpPr/>
          <p:nvPr/>
        </p:nvSpPr>
        <p:spPr>
          <a:xfrm>
            <a:off x="1353960" y="3862440"/>
            <a:ext cx="2527560" cy="1355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7576" y="540"/>
                </a:moveTo>
                <a:cubicBezTo>
                  <a:pt x="17588" y="844"/>
                  <a:pt x="17594" y="1150"/>
                  <a:pt x="17594" y="1456"/>
                </a:cubicBezTo>
                <a:cubicBezTo>
                  <a:pt x="17594" y="8454"/>
                  <a:pt x="14552" y="14128"/>
                  <a:pt x="10800" y="14128"/>
                </a:cubicBezTo>
                <a:cubicBezTo>
                  <a:pt x="7046" y="14128"/>
                  <a:pt x="4005" y="8454"/>
                  <a:pt x="4005" y="1456"/>
                </a:cubicBezTo>
                <a:cubicBezTo>
                  <a:pt x="4005" y="1150"/>
                  <a:pt x="4010" y="844"/>
                  <a:pt x="4022" y="540"/>
                </a:cubicBezTo>
                <a:lnTo>
                  <a:pt x="27" y="0"/>
                </a:lnTo>
                <a:cubicBezTo>
                  <a:pt x="8" y="484"/>
                  <a:pt x="0" y="969"/>
                  <a:pt x="0" y="1456"/>
                </a:cubicBezTo>
                <a:cubicBezTo>
                  <a:pt x="0" y="12580"/>
                  <a:pt x="4834" y="21599"/>
                  <a:pt x="10800" y="21599"/>
                </a:cubicBezTo>
                <a:cubicBezTo>
                  <a:pt x="16764" y="21599"/>
                  <a:pt x="21600" y="12580"/>
                  <a:pt x="21600" y="1456"/>
                </a:cubicBezTo>
                <a:cubicBezTo>
                  <a:pt x="21600" y="969"/>
                  <a:pt x="21590" y="484"/>
                  <a:pt x="21571" y="0"/>
                </a:cubicBezTo>
                <a:lnTo>
                  <a:pt x="17576" y="540"/>
                </a:lnTo>
                <a:close/>
              </a:path>
            </a:pathLst>
          </a:cu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491328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5313240" y="3444840"/>
            <a:ext cx="193068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5014800" y="2955960"/>
            <a:ext cx="2527560" cy="22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965" y="3543"/>
                </a:moveTo>
                <a:cubicBezTo>
                  <a:pt x="16617" y="4979"/>
                  <a:pt x="17584" y="7188"/>
                  <a:pt x="17584" y="9528"/>
                </a:cubicBezTo>
                <a:cubicBezTo>
                  <a:pt x="17584" y="13715"/>
                  <a:pt x="14546" y="17111"/>
                  <a:pt x="10800" y="17111"/>
                </a:cubicBezTo>
                <a:cubicBezTo>
                  <a:pt x="7052" y="17111"/>
                  <a:pt x="4015" y="13715"/>
                  <a:pt x="4015" y="9528"/>
                </a:cubicBezTo>
                <a:cubicBezTo>
                  <a:pt x="4015" y="7188"/>
                  <a:pt x="4981" y="4979"/>
                  <a:pt x="6633" y="3543"/>
                </a:cubicBezTo>
                <a:lnTo>
                  <a:pt x="4167" y="0"/>
                </a:lnTo>
                <a:cubicBezTo>
                  <a:pt x="1537" y="2286"/>
                  <a:pt x="0" y="5803"/>
                  <a:pt x="0" y="9528"/>
                </a:cubicBezTo>
                <a:cubicBezTo>
                  <a:pt x="0" y="16194"/>
                  <a:pt x="4834" y="21600"/>
                  <a:pt x="10800" y="21600"/>
                </a:cubicBezTo>
                <a:cubicBezTo>
                  <a:pt x="16764" y="21600"/>
                  <a:pt x="21600" y="16194"/>
                  <a:pt x="21600" y="9528"/>
                </a:cubicBezTo>
                <a:cubicBezTo>
                  <a:pt x="21600" y="5803"/>
                  <a:pt x="20061" y="2286"/>
                  <a:pt x="17431" y="0"/>
                </a:cubicBezTo>
                <a:lnTo>
                  <a:pt x="14965" y="3543"/>
                </a:lnTo>
                <a:close/>
              </a:path>
            </a:pathLst>
          </a:cu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12"/>
          <p:cNvSpPr/>
          <p:nvPr/>
        </p:nvSpPr>
        <p:spPr>
          <a:xfrm>
            <a:off x="8574120" y="2589120"/>
            <a:ext cx="2730600" cy="273060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f2f2f2">
              <a:alpha val="50000"/>
            </a:srgbClr>
          </a:solidFill>
          <a:ln w="255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3"/>
          <p:cNvSpPr/>
          <p:nvPr/>
        </p:nvSpPr>
        <p:spPr>
          <a:xfrm>
            <a:off x="8974080" y="3444840"/>
            <a:ext cx="1930320" cy="1019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Bodoni MT Black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4"/>
          <p:cNvSpPr/>
          <p:nvPr/>
        </p:nvSpPr>
        <p:spPr>
          <a:xfrm>
            <a:off x="8782200" y="4238640"/>
            <a:ext cx="2313000" cy="97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55" y="0"/>
                </a:moveTo>
                <a:cubicBezTo>
                  <a:pt x="15800" y="5682"/>
                  <a:pt x="13425" y="9351"/>
                  <a:pt x="10800" y="9351"/>
                </a:cubicBezTo>
                <a:cubicBezTo>
                  <a:pt x="8174" y="9351"/>
                  <a:pt x="5799" y="5682"/>
                  <a:pt x="4744" y="0"/>
                </a:cubicBezTo>
                <a:lnTo>
                  <a:pt x="0" y="4926"/>
                </a:lnTo>
                <a:cubicBezTo>
                  <a:pt x="1881" y="15057"/>
                  <a:pt x="6119" y="21599"/>
                  <a:pt x="10800" y="21599"/>
                </a:cubicBezTo>
                <a:cubicBezTo>
                  <a:pt x="15480" y="21599"/>
                  <a:pt x="19718" y="15057"/>
                  <a:pt x="21599" y="4926"/>
                </a:cubicBezTo>
                <a:lnTo>
                  <a:pt x="16855" y="0"/>
                </a:lnTo>
                <a:close/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矩形 1"/>
          <p:cNvSpPr/>
          <p:nvPr/>
        </p:nvSpPr>
        <p:spPr>
          <a:xfrm>
            <a:off x="3092400" y="3429000"/>
            <a:ext cx="3449520" cy="879480"/>
          </a:xfrm>
          <a:prstGeom prst="rect">
            <a:avLst/>
          </a:prstGeom>
          <a:solidFill>
            <a:srgbClr val="ec76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6541920" y="3429000"/>
            <a:ext cx="3451320" cy="879480"/>
          </a:xfrm>
          <a:prstGeom prst="rect">
            <a:avLst/>
          </a:prstGeom>
          <a:solidFill>
            <a:srgbClr val="f5b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3"/>
          <p:cNvSpPr/>
          <p:nvPr/>
        </p:nvSpPr>
        <p:spPr>
          <a:xfrm>
            <a:off x="3092400" y="4923000"/>
            <a:ext cx="2617920" cy="879480"/>
          </a:xfrm>
          <a:prstGeom prst="rect">
            <a:avLst/>
          </a:prstGeom>
          <a:solidFill>
            <a:srgbClr val="eb5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4"/>
          <p:cNvSpPr/>
          <p:nvPr/>
        </p:nvSpPr>
        <p:spPr>
          <a:xfrm>
            <a:off x="5710320" y="4923000"/>
            <a:ext cx="4282920" cy="879480"/>
          </a:xfrm>
          <a:prstGeom prst="rect">
            <a:avLst/>
          </a:pr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直接连接符 6"/>
          <p:cNvSpPr/>
          <p:nvPr/>
        </p:nvSpPr>
        <p:spPr>
          <a:xfrm>
            <a:off x="3092400" y="4308480"/>
            <a:ext cx="0" cy="612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直接连接符 7"/>
          <p:cNvSpPr/>
          <p:nvPr/>
        </p:nvSpPr>
        <p:spPr>
          <a:xfrm flipH="1">
            <a:off x="5710320" y="4308480"/>
            <a:ext cx="831600" cy="614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9"/>
          <p:cNvSpPr/>
          <p:nvPr/>
        </p:nvSpPr>
        <p:spPr>
          <a:xfrm>
            <a:off x="1901880" y="36846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10"/>
          <p:cNvSpPr/>
          <p:nvPr/>
        </p:nvSpPr>
        <p:spPr>
          <a:xfrm>
            <a:off x="1901880" y="5237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"/>
          <p:cNvSpPr/>
          <p:nvPr/>
        </p:nvSpPr>
        <p:spPr>
          <a:xfrm>
            <a:off x="1619280" y="1309680"/>
            <a:ext cx="4834080" cy="69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619280" y="21416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把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1174680" y="1876320"/>
            <a:ext cx="3227400" cy="3224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8a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AutoShape 3"/>
          <p:cNvSpPr/>
          <p:nvPr/>
        </p:nvSpPr>
        <p:spPr>
          <a:xfrm>
            <a:off x="1647720" y="2617920"/>
            <a:ext cx="2282760" cy="1741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5160960" y="4597560"/>
            <a:ext cx="976320" cy="976320"/>
            <a:chOff x="5160960" y="4597560"/>
            <a:chExt cx="976320" cy="976320"/>
          </a:xfrm>
        </p:grpSpPr>
        <p:sp>
          <p:nvSpPr>
            <p:cNvPr id="499" name="AutoShape 5"/>
            <p:cNvSpPr/>
            <p:nvPr/>
          </p:nvSpPr>
          <p:spPr>
            <a:xfrm>
              <a:off x="5160960" y="45975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c769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0" name="Group 6"/>
            <p:cNvGrpSpPr/>
            <p:nvPr/>
          </p:nvGrpSpPr>
          <p:grpSpPr>
            <a:xfrm>
              <a:off x="5254560" y="4671720"/>
              <a:ext cx="789120" cy="828000"/>
              <a:chOff x="5254560" y="4671720"/>
              <a:chExt cx="789120" cy="828000"/>
            </a:xfrm>
          </p:grpSpPr>
          <p:sp>
            <p:nvSpPr>
              <p:cNvPr id="501" name="AutoShape 7"/>
              <p:cNvSpPr/>
              <p:nvPr/>
            </p:nvSpPr>
            <p:spPr>
              <a:xfrm>
                <a:off x="5254560" y="46911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c7690"/>
              </a:solidFill>
              <a:ln w="12600">
                <a:solidFill>
                  <a:srgbClr val="ec769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AutoShape 8"/>
              <p:cNvSpPr/>
              <p:nvPr/>
            </p:nvSpPr>
            <p:spPr>
              <a:xfrm>
                <a:off x="5370120" y="46717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3" name="Group 9"/>
          <p:cNvGrpSpPr/>
          <p:nvPr/>
        </p:nvGrpSpPr>
        <p:grpSpPr>
          <a:xfrm>
            <a:off x="5160960" y="2949480"/>
            <a:ext cx="976320" cy="976320"/>
            <a:chOff x="5160960" y="2949480"/>
            <a:chExt cx="976320" cy="976320"/>
          </a:xfrm>
        </p:grpSpPr>
        <p:sp>
          <p:nvSpPr>
            <p:cNvPr id="504" name="AutoShape 10"/>
            <p:cNvSpPr/>
            <p:nvPr/>
          </p:nvSpPr>
          <p:spPr>
            <a:xfrm>
              <a:off x="5160960" y="294948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f5bd2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11"/>
            <p:cNvGrpSpPr/>
            <p:nvPr/>
          </p:nvGrpSpPr>
          <p:grpSpPr>
            <a:xfrm>
              <a:off x="5254560" y="3023640"/>
              <a:ext cx="789120" cy="828000"/>
              <a:chOff x="5254560" y="3023640"/>
              <a:chExt cx="789120" cy="828000"/>
            </a:xfrm>
          </p:grpSpPr>
          <p:sp>
            <p:nvSpPr>
              <p:cNvPr id="506" name="AutoShape 12"/>
              <p:cNvSpPr/>
              <p:nvPr/>
            </p:nvSpPr>
            <p:spPr>
              <a:xfrm>
                <a:off x="5254560" y="304308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f5bd23"/>
              </a:solidFill>
              <a:ln w="12600">
                <a:solidFill>
                  <a:srgbClr val="f5bd2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AutoShape 13"/>
              <p:cNvSpPr/>
              <p:nvPr/>
            </p:nvSpPr>
            <p:spPr>
              <a:xfrm>
                <a:off x="5370120" y="302364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08" name="Group 14"/>
          <p:cNvGrpSpPr/>
          <p:nvPr/>
        </p:nvGrpSpPr>
        <p:grpSpPr>
          <a:xfrm>
            <a:off x="5160960" y="1301760"/>
            <a:ext cx="976320" cy="976320"/>
            <a:chOff x="5160960" y="1301760"/>
            <a:chExt cx="976320" cy="976320"/>
          </a:xfrm>
        </p:grpSpPr>
        <p:sp>
          <p:nvSpPr>
            <p:cNvPr id="509" name="AutoShape 15"/>
            <p:cNvSpPr/>
            <p:nvPr/>
          </p:nvSpPr>
          <p:spPr>
            <a:xfrm>
              <a:off x="5160960" y="1301760"/>
              <a:ext cx="976320" cy="9763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9"/>
                    <a:pt x="6724" y="20639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solidFill>
              <a:srgbClr val="ffffff">
                <a:alpha val="69000"/>
              </a:srgbClr>
            </a:solidFill>
            <a:ln w="12600">
              <a:solidFill>
                <a:srgbClr val="eb5f5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0" name="Group 16"/>
            <p:cNvGrpSpPr/>
            <p:nvPr/>
          </p:nvGrpSpPr>
          <p:grpSpPr>
            <a:xfrm>
              <a:off x="5254560" y="1375920"/>
              <a:ext cx="789120" cy="828000"/>
              <a:chOff x="5254560" y="1375920"/>
              <a:chExt cx="789120" cy="828000"/>
            </a:xfrm>
          </p:grpSpPr>
          <p:sp>
            <p:nvSpPr>
              <p:cNvPr id="511" name="AutoShape 17"/>
              <p:cNvSpPr/>
              <p:nvPr/>
            </p:nvSpPr>
            <p:spPr>
              <a:xfrm>
                <a:off x="5254560" y="1395360"/>
                <a:ext cx="789120" cy="789120"/>
              </a:xfrm>
              <a:custGeom>
                <a:avLst/>
                <a:gdLst/>
                <a:ahLst/>
                <a:rect l="l" t="t" r="r" b="b"/>
                <a:pathLst>
                  <a:path w="19679" h="19679">
                    <a:moveTo>
                      <a:pt x="16796" y="2881"/>
                    </a:moveTo>
                    <a:cubicBezTo>
                      <a:pt x="20638" y="6724"/>
                      <a:pt x="20638" y="12953"/>
                      <a:pt x="16796" y="16796"/>
                    </a:cubicBezTo>
                    <a:cubicBezTo>
                      <a:pt x="12953" y="20638"/>
                      <a:pt x="6724" y="20638"/>
                      <a:pt x="2881" y="16796"/>
                    </a:cubicBezTo>
                    <a:cubicBezTo>
                      <a:pt x="-961" y="12953"/>
                      <a:pt x="-961" y="6724"/>
                      <a:pt x="2881" y="2881"/>
                    </a:cubicBezTo>
                    <a:cubicBezTo>
                      <a:pt x="6724" y="-961"/>
                      <a:pt x="12953" y="-961"/>
                      <a:pt x="16796" y="2881"/>
                    </a:cubicBezTo>
                  </a:path>
                </a:pathLst>
              </a:custGeom>
              <a:solidFill>
                <a:srgbClr val="eb5f52"/>
              </a:solidFill>
              <a:ln w="12600">
                <a:solidFill>
                  <a:srgbClr val="eb5f52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AutoShape 18"/>
              <p:cNvSpPr/>
              <p:nvPr/>
            </p:nvSpPr>
            <p:spPr>
              <a:xfrm>
                <a:off x="5370120" y="1375920"/>
                <a:ext cx="558000" cy="828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ffff"/>
                    </a:solidFill>
                    <a:latin typeface="Bodoni MT Black"/>
                    <a:ea typeface="宋体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3" name="Line 19"/>
          <p:cNvSpPr/>
          <p:nvPr/>
        </p:nvSpPr>
        <p:spPr>
          <a:xfrm>
            <a:off x="4784760" y="179064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478476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21"/>
          <p:cNvSpPr/>
          <p:nvPr/>
        </p:nvSpPr>
        <p:spPr>
          <a:xfrm>
            <a:off x="4784760" y="51022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22"/>
          <p:cNvSpPr/>
          <p:nvPr/>
        </p:nvSpPr>
        <p:spPr>
          <a:xfrm flipH="1">
            <a:off x="4782600" y="1790640"/>
            <a:ext cx="1800" cy="3311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23"/>
          <p:cNvSpPr/>
          <p:nvPr/>
        </p:nvSpPr>
        <p:spPr>
          <a:xfrm>
            <a:off x="4417920" y="3489480"/>
            <a:ext cx="376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AutoShape 24"/>
          <p:cNvSpPr/>
          <p:nvPr/>
        </p:nvSpPr>
        <p:spPr>
          <a:xfrm>
            <a:off x="6229440" y="14968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AutoShape 25"/>
          <p:cNvSpPr/>
          <p:nvPr/>
        </p:nvSpPr>
        <p:spPr>
          <a:xfrm>
            <a:off x="6229440" y="20210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26"/>
          <p:cNvSpPr/>
          <p:nvPr/>
        </p:nvSpPr>
        <p:spPr>
          <a:xfrm>
            <a:off x="6229440" y="304308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AutoShape 27"/>
          <p:cNvSpPr/>
          <p:nvPr/>
        </p:nvSpPr>
        <p:spPr>
          <a:xfrm>
            <a:off x="6229440" y="356724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AutoShape 28"/>
          <p:cNvSpPr/>
          <p:nvPr/>
        </p:nvSpPr>
        <p:spPr>
          <a:xfrm>
            <a:off x="6229440" y="4713120"/>
            <a:ext cx="3836880" cy="447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AutoShape 29"/>
          <p:cNvSpPr/>
          <p:nvPr/>
        </p:nvSpPr>
        <p:spPr>
          <a:xfrm>
            <a:off x="6229440" y="5235480"/>
            <a:ext cx="5499000" cy="28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备注信息吧标题补充的更加清楚一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9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平行四边形 2"/>
          <p:cNvSpPr/>
          <p:nvPr/>
        </p:nvSpPr>
        <p:spPr>
          <a:xfrm>
            <a:off x="5021280" y="2535120"/>
            <a:ext cx="6095880" cy="1076400"/>
          </a:xfrm>
          <a:prstGeom prst="parallelogram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10"/>
          <p:cNvSpPr/>
          <p:nvPr/>
        </p:nvSpPr>
        <p:spPr>
          <a:xfrm>
            <a:off x="5905440" y="3411360"/>
            <a:ext cx="51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b2b2b"/>
                </a:solidFill>
                <a:latin typeface="微软雅黑"/>
                <a:ea typeface="微软雅黑"/>
              </a:rPr>
              <a:t>点击添加副标题补充说明标题的具体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接连接符 15"/>
          <p:cNvSpPr/>
          <p:nvPr/>
        </p:nvSpPr>
        <p:spPr>
          <a:xfrm>
            <a:off x="5905440" y="3427560"/>
            <a:ext cx="48974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5"/>
          <p:cNvSpPr/>
          <p:nvPr/>
        </p:nvSpPr>
        <p:spPr>
          <a:xfrm>
            <a:off x="6531840" y="259704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椭圆 1"/>
          <p:cNvSpPr/>
          <p:nvPr/>
        </p:nvSpPr>
        <p:spPr>
          <a:xfrm>
            <a:off x="2293920" y="2065320"/>
            <a:ext cx="2478240" cy="2478240"/>
          </a:xfrm>
          <a:prstGeom prst="ellipse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54:42Z</dcterms:created>
  <dc:creator>向阳花儿</dc:creator>
  <dc:description/>
  <dc:language>en-US</dc:language>
  <cp:lastModifiedBy>Justin</cp:lastModifiedBy>
  <dcterms:modified xsi:type="dcterms:W3CDTF">2014-03-03T09:23:01Z</dcterms:modified>
  <cp:revision>78</cp:revision>
  <dc:subject/>
  <dc:title>PowerPoint 演示文稿</dc:title>
</cp:coreProperties>
</file>