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04D-6448-4242-BF2A-042C131B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216-B631-46C1-AA02-D53CC375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DFA-FD23-4B6B-8182-99CFEE46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1DB-4E63-4181-B797-C428CA9C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4D77-1960-4B6F-9F05-E36332EE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D509-4F9D-47EA-8668-1274077E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4C1-A5AF-4040-B719-D229EE8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60B-A3B5-4529-B96D-081DCB46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C78-8756-43E5-96A4-33E93156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514-CC4C-4EB2-A3E0-DBBC9BA5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355-0E51-499A-930D-F6DC80A3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B7D-7CDB-4BC5-B206-85EBB34A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273B2480-3E99-48BA-B9EE-B9DF9E4CD5FA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605400" y="3654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叶根友刀锋黑草"/>
                <a:ea typeface="叶根友刀锋黑草"/>
              </a:rPr>
              <a:t>写书法的六大好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6" descr=""/>
          <p:cNvPicPr/>
          <p:nvPr/>
        </p:nvPicPr>
        <p:blipFill>
          <a:blip r:embed="rId2"/>
          <a:stretch/>
        </p:blipFill>
        <p:spPr>
          <a:xfrm>
            <a:off x="2192400" y="630360"/>
            <a:ext cx="4956120" cy="2835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3805200" y="427500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— 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By:@</a:t>
            </a:r>
            <a:r>
              <a:rPr b="1" lang="zh-CN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花生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PPTer 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2959200" y="4275000"/>
            <a:ext cx="3327480" cy="308160"/>
          </a:xfrm>
          <a:prstGeom prst="rect">
            <a:avLst/>
          </a:prstGeom>
          <a:noFill/>
          <a:ln w="12600">
            <a:solidFill>
              <a:srgbClr val="9f0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7" name="五边形 23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"/>
          <p:cNvPicPr/>
          <p:nvPr/>
        </p:nvPicPr>
        <p:blipFill>
          <a:blip r:embed="rId3"/>
          <a:stretch/>
        </p:blipFill>
        <p:spPr>
          <a:xfrm>
            <a:off x="77472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"/>
          <p:cNvPicPr/>
          <p:nvPr/>
        </p:nvPicPr>
        <p:blipFill>
          <a:blip r:embed="rId4"/>
          <a:stretch/>
        </p:blipFill>
        <p:spPr>
          <a:xfrm>
            <a:off x="610704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2" descr=""/>
          <p:cNvPicPr/>
          <p:nvPr/>
        </p:nvPicPr>
        <p:blipFill>
          <a:blip r:embed="rId5"/>
          <a:stretch/>
        </p:blipFill>
        <p:spPr>
          <a:xfrm>
            <a:off x="3359160" y="1636560"/>
            <a:ext cx="2127240" cy="2081520"/>
          </a:xfrm>
          <a:prstGeom prst="rect">
            <a:avLst/>
          </a:prstGeom>
          <a:ln w="0">
            <a:noFill/>
          </a:ln>
        </p:spPr>
      </p:pic>
      <p:sp>
        <p:nvSpPr>
          <p:cNvPr id="52" name="矩形 24"/>
          <p:cNvSpPr/>
          <p:nvPr/>
        </p:nvSpPr>
        <p:spPr>
          <a:xfrm>
            <a:off x="766800" y="4603680"/>
            <a:ext cx="698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观察、分析点、横、竖、撇、捺、折的形状特点，书写方法，形式效果等，来完成每个字的书写过程。长此以往，书写者的观察能力、分析能力、表达能力必定得到发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2" descr=""/>
          <p:cNvPicPr/>
          <p:nvPr/>
        </p:nvPicPr>
        <p:blipFill>
          <a:blip r:embed="rId6"/>
          <a:srcRect l="0" t="0" r="0" b="4664"/>
          <a:stretch/>
        </p:blipFill>
        <p:spPr>
          <a:xfrm>
            <a:off x="-2720880" y="1260360"/>
            <a:ext cx="182880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1033560" y="6652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6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7"/>
          <p:cNvSpPr/>
          <p:nvPr/>
        </p:nvSpPr>
        <p:spPr>
          <a:xfrm>
            <a:off x="405720" y="5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0" y="4654440"/>
            <a:ext cx="7668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3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31920" y="2013120"/>
            <a:ext cx="1378080" cy="1368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4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19600" y="2060640"/>
            <a:ext cx="137772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6580080" y="2023920"/>
            <a:ext cx="1378080" cy="1370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7"/>
          <p:cNvSpPr/>
          <p:nvPr/>
        </p:nvSpPr>
        <p:spPr>
          <a:xfrm>
            <a:off x="1648800" y="2228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4246200" y="22622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6995520" y="22384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2" descr=""/>
          <p:cNvPicPr/>
          <p:nvPr/>
        </p:nvPicPr>
        <p:blipFill>
          <a:blip r:embed="rId10"/>
          <a:srcRect l="25443" t="10866" r="51893" b="52867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689040" y="4619520"/>
            <a:ext cx="711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是一项十分精细的活动。要想把字写好，须得全神贯注，凝神静气，仔细观察字的结构，并要脑、眼、手相应，准确控制运笔的轻重缓急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五边形 7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033560" y="66528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能养成好品质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72" name="椭圆 10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1"/>
          <p:cNvSpPr/>
          <p:nvPr/>
        </p:nvSpPr>
        <p:spPr>
          <a:xfrm>
            <a:off x="4903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12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rcRect l="0" t="0" r="0" b="3111"/>
          <a:stretch/>
        </p:blipFill>
        <p:spPr>
          <a:xfrm>
            <a:off x="96192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4"/>
          <a:srcRect l="0" t="0" r="0" b="3111"/>
          <a:stretch/>
        </p:blipFill>
        <p:spPr>
          <a:xfrm>
            <a:off x="265104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5"/>
          <a:srcRect l="0" t="0" r="0" b="3111"/>
          <a:stretch/>
        </p:blipFill>
        <p:spPr>
          <a:xfrm>
            <a:off x="4397400" y="2076480"/>
            <a:ext cx="173052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"/>
          <p:cNvPicPr/>
          <p:nvPr/>
        </p:nvPicPr>
        <p:blipFill>
          <a:blip r:embed="rId6"/>
          <a:srcRect l="0" t="0" r="0" b="3111"/>
          <a:stretch/>
        </p:blipFill>
        <p:spPr>
          <a:xfrm>
            <a:off x="6157800" y="2100240"/>
            <a:ext cx="173196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椭圆 22"/>
          <p:cNvSpPr/>
          <p:nvPr/>
        </p:nvSpPr>
        <p:spPr>
          <a:xfrm>
            <a:off x="138276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23"/>
          <p:cNvSpPr/>
          <p:nvPr/>
        </p:nvSpPr>
        <p:spPr>
          <a:xfrm>
            <a:off x="306216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4"/>
          <p:cNvSpPr/>
          <p:nvPr/>
        </p:nvSpPr>
        <p:spPr>
          <a:xfrm>
            <a:off x="481500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5"/>
          <p:cNvSpPr/>
          <p:nvPr/>
        </p:nvSpPr>
        <p:spPr>
          <a:xfrm>
            <a:off x="660240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1442880" y="2451240"/>
            <a:ext cx="86076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12408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33"/>
          <p:cNvSpPr/>
          <p:nvPr/>
        </p:nvSpPr>
        <p:spPr>
          <a:xfrm>
            <a:off x="487980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34"/>
          <p:cNvSpPr/>
          <p:nvPr/>
        </p:nvSpPr>
        <p:spPr>
          <a:xfrm>
            <a:off x="6676920" y="2451240"/>
            <a:ext cx="86220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97080" y="2293920"/>
            <a:ext cx="1171440" cy="1165320"/>
          </a:xfrm>
          <a:prstGeom prst="rect">
            <a:avLst/>
          </a:prstGeom>
          <a:ln w="0">
            <a:noFill/>
          </a:ln>
        </p:spPr>
      </p:pic>
      <p:sp>
        <p:nvSpPr>
          <p:cNvPr id="90" name="矩形 27"/>
          <p:cNvSpPr/>
          <p:nvPr/>
        </p:nvSpPr>
        <p:spPr>
          <a:xfrm>
            <a:off x="1569600" y="26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37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4734000" y="2313000"/>
            <a:ext cx="1173240" cy="1165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8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2986200" y="2298600"/>
            <a:ext cx="117144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9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2298600"/>
            <a:ext cx="1173240" cy="1166760"/>
          </a:xfrm>
          <a:prstGeom prst="rect">
            <a:avLst/>
          </a:prstGeom>
          <a:ln w="0">
            <a:noFill/>
          </a:ln>
        </p:spPr>
      </p:pic>
      <p:sp>
        <p:nvSpPr>
          <p:cNvPr id="94" name="矩形 28"/>
          <p:cNvSpPr/>
          <p:nvPr/>
        </p:nvSpPr>
        <p:spPr>
          <a:xfrm>
            <a:off x="499932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3231720" y="261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沉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0"/>
          <p:cNvSpPr/>
          <p:nvPr/>
        </p:nvSpPr>
        <p:spPr>
          <a:xfrm>
            <a:off x="6793920" y="26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持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35" descr=""/>
          <p:cNvPicPr/>
          <p:nvPr/>
        </p:nvPicPr>
        <p:blipFill>
          <a:blip r:embed="rId11"/>
          <a:srcRect l="3849" t="9421" r="73493" b="54303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99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330960" y="4654440"/>
            <a:ext cx="28130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825480" y="1825560"/>
            <a:ext cx="688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汉字是由线条组成的、具有审美价值的方块文字。书法实际上是以结构的疏密、点画的轻重、运笔的疾缓来抒发情感和描写意境的。 在练习过程中，首先，要按正确的笔顺去写，注意笔画间呼应的规律，力求先将字写正确、规范、整洁，再是美观；进而，通过名贴欣赏和书法技能学习，逐步感受到汉字的形体美，树立正确的审美观，懂得什么是美的，怎样才能更美；最后，美感染了练习者，就会激发追求美、创造美的欲望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15" descr=""/>
          <p:cNvPicPr/>
          <p:nvPr/>
        </p:nvPicPr>
        <p:blipFill>
          <a:blip r:embed="rId3"/>
          <a:stretch/>
        </p:blipFill>
        <p:spPr>
          <a:xfrm>
            <a:off x="704880" y="4098960"/>
            <a:ext cx="998640" cy="1117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6" descr=""/>
          <p:cNvPicPr/>
          <p:nvPr/>
        </p:nvPicPr>
        <p:blipFill>
          <a:blip r:embed="rId4"/>
          <a:stretch/>
        </p:blipFill>
        <p:spPr>
          <a:xfrm>
            <a:off x="2873520" y="4098960"/>
            <a:ext cx="1047600" cy="11318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7" descr=""/>
          <p:cNvPicPr/>
          <p:nvPr/>
        </p:nvPicPr>
        <p:blipFill>
          <a:blip r:embed="rId5"/>
          <a:stretch/>
        </p:blipFill>
        <p:spPr>
          <a:xfrm>
            <a:off x="1787400" y="4098960"/>
            <a:ext cx="1001880" cy="11332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8" descr=""/>
          <p:cNvPicPr/>
          <p:nvPr/>
        </p:nvPicPr>
        <p:blipFill>
          <a:blip r:embed="rId6"/>
          <a:stretch/>
        </p:blipFill>
        <p:spPr>
          <a:xfrm>
            <a:off x="3981600" y="4098960"/>
            <a:ext cx="1123920" cy="11318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9" descr=""/>
          <p:cNvPicPr/>
          <p:nvPr/>
        </p:nvPicPr>
        <p:blipFill>
          <a:blip r:embed="rId7"/>
          <a:stretch/>
        </p:blipFill>
        <p:spPr>
          <a:xfrm>
            <a:off x="5164200" y="4098960"/>
            <a:ext cx="10191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4885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028880" y="67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22" descr=""/>
          <p:cNvPicPr/>
          <p:nvPr/>
        </p:nvPicPr>
        <p:blipFill>
          <a:blip r:embed="rId8"/>
          <a:srcRect l="46387" t="11348" r="30954" b="52385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15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0" y="4361040"/>
            <a:ext cx="61740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8085240" y="4361040"/>
            <a:ext cx="105876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49500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096920" y="655560"/>
            <a:ext cx="43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发展健康个性，勇于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706320" y="4361040"/>
            <a:ext cx="737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的生命在于个性，这一领域向来都有接纳各种美的雅量，学着去欣赏、接纳别人心目中的美的同时，人们可以根据自己的喜好，取长补短来滋长你心目中的美；其次，在这一领域推崇创新，追求个性化！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1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046240" y="221472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"/>
          <p:cNvPicPr/>
          <p:nvPr/>
        </p:nvPicPr>
        <p:blipFill>
          <a:blip r:embed="rId4"/>
          <a:srcRect l="0" t="9252" r="0" b="0"/>
          <a:stretch/>
        </p:blipFill>
        <p:spPr>
          <a:xfrm>
            <a:off x="1835280" y="2147760"/>
            <a:ext cx="188100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6"/>
          <p:cNvSpPr/>
          <p:nvPr/>
        </p:nvSpPr>
        <p:spPr>
          <a:xfrm>
            <a:off x="2425680" y="260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19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836960" y="228456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5" descr=""/>
          <p:cNvPicPr/>
          <p:nvPr/>
        </p:nvPicPr>
        <p:blipFill>
          <a:blip r:embed="rId6"/>
          <a:srcRect l="0" t="9252" r="0" b="0"/>
          <a:stretch/>
        </p:blipFill>
        <p:spPr>
          <a:xfrm rot="18636600">
            <a:off x="4655160" y="2148480"/>
            <a:ext cx="188136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7"/>
          <p:cNvSpPr/>
          <p:nvPr/>
        </p:nvSpPr>
        <p:spPr>
          <a:xfrm>
            <a:off x="519660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22" descr=""/>
          <p:cNvPicPr/>
          <p:nvPr/>
        </p:nvPicPr>
        <p:blipFill>
          <a:blip r:embed="rId7"/>
          <a:srcRect l="67654" t="12311" r="9682" b="51422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32" name="五边形 12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3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3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9"/>
          <p:cNvSpPr/>
          <p:nvPr/>
        </p:nvSpPr>
        <p:spPr>
          <a:xfrm>
            <a:off x="4910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对中华民族文化的热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1069920" y="2081160"/>
            <a:ext cx="6537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个汉字都积淀着中华民族几千年的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睿智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精髓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更凝聚着一种</a:t>
            </a:r>
            <a:r>
              <a:rPr b="1" lang="zh-CN" sz="3200" spc="-1" strike="noStrike">
                <a:solidFill>
                  <a:srgbClr val="9f0f16"/>
                </a:solidFill>
                <a:latin typeface="微软雅黑"/>
                <a:ea typeface="微软雅黑"/>
              </a:rPr>
              <a:t>民族精神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0" y="4654440"/>
            <a:ext cx="91440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14" descr=""/>
          <p:cNvPicPr/>
          <p:nvPr/>
        </p:nvPicPr>
        <p:blipFill>
          <a:blip r:embed="rId3"/>
          <a:srcRect l="31660" t="52256" r="45676" b="11478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42" name="五边形 15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6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4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9"/>
          <p:cNvSpPr/>
          <p:nvPr/>
        </p:nvSpPr>
        <p:spPr>
          <a:xfrm>
            <a:off x="4892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起到养生的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0" y="4654440"/>
            <a:ext cx="9936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3"/>
          <a:srcRect l="0" t="0" r="0" b="2986"/>
          <a:stretch/>
        </p:blipFill>
        <p:spPr>
          <a:xfrm>
            <a:off x="919080" y="1508040"/>
            <a:ext cx="2746440" cy="258444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1019160" y="4602240"/>
            <a:ext cx="587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与气功有着密切的内在联系。中国书法也能起到促进身心健康，使人精力充沛，益寿延年的作用。练习书法与气功的“三调”非常相似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916680" y="4654440"/>
            <a:ext cx="222732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4802400" y="21081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身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792680" y="25988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神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入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4900320" y="3106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息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整呼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片 17" descr=""/>
          <p:cNvPicPr/>
          <p:nvPr/>
        </p:nvPicPr>
        <p:blipFill>
          <a:blip r:embed="rId4"/>
          <a:srcRect l="73216" t="50329" r="4120" b="13404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6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" descr=""/>
          <p:cNvPicPr/>
          <p:nvPr/>
        </p:nvPicPr>
        <p:blipFill>
          <a:blip r:embed="rId2"/>
          <a:srcRect l="0" t="0" r="39029" b="5276"/>
          <a:stretch/>
        </p:blipFill>
        <p:spPr>
          <a:xfrm>
            <a:off x="0" y="0"/>
            <a:ext cx="735804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3"/>
          <p:cNvSpPr/>
          <p:nvPr/>
        </p:nvSpPr>
        <p:spPr>
          <a:xfrm>
            <a:off x="1658880" y="2878200"/>
            <a:ext cx="479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总之，书法能释古通今，陶冶情操，好似知识大都市中的一派田园风光，自然、质朴、宁静，给人无限的美好空间。</a:t>
            </a:r>
            <a:br>
              <a:rPr sz="2000"/>
            </a:b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9" descr=""/>
          <p:cNvPicPr/>
          <p:nvPr/>
        </p:nvPicPr>
        <p:blipFill>
          <a:blip r:embed="rId3"/>
          <a:srcRect l="53770" t="50329" r="25392" b="13404"/>
          <a:stretch/>
        </p:blipFill>
        <p:spPr>
          <a:xfrm>
            <a:off x="7924680" y="293760"/>
            <a:ext cx="924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"/>
          <p:cNvPicPr/>
          <p:nvPr/>
        </p:nvPicPr>
        <p:blipFill>
          <a:blip r:embed="rId2"/>
          <a:srcRect l="0" t="0" r="0" b="3665"/>
          <a:stretch/>
        </p:blipFill>
        <p:spPr>
          <a:xfrm>
            <a:off x="3381480" y="782640"/>
            <a:ext cx="2668320" cy="2498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" descr=""/>
          <p:cNvPicPr/>
          <p:nvPr/>
        </p:nvPicPr>
        <p:blipFill>
          <a:blip r:embed="rId3"/>
          <a:stretch/>
        </p:blipFill>
        <p:spPr>
          <a:xfrm>
            <a:off x="4365720" y="4559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5"/>
          <p:cNvSpPr/>
          <p:nvPr/>
        </p:nvSpPr>
        <p:spPr>
          <a:xfrm>
            <a:off x="3884760" y="3341520"/>
            <a:ext cx="15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创意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分享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生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3:29:58Z</dcterms:created>
  <dc:creator>微软用户</dc:creator>
  <dc:description/>
  <dc:language>en-US</dc:language>
  <cp:lastModifiedBy>admin</cp:lastModifiedBy>
  <dcterms:modified xsi:type="dcterms:W3CDTF">2016-10-09T05:00:15Z</dcterms:modified>
  <cp:revision>16</cp:revision>
  <dc:subject/>
  <dc:title>PowerPoint 演示文稿</dc:title>
</cp:coreProperties>
</file>