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2C3-2304-4DDF-9B9D-D8618E74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BA4-297F-4B1F-AE06-9BAE5A9E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9A4-99FA-4064-B9BA-7394DD7F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2B8-9407-4901-A439-A4D16F95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DE32-20EC-4FEB-89A7-1C9089EA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EDD9-71FB-47FD-BB4A-B5C23DB8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C5D8-98D3-4B36-9F20-A16BA146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6D7B-B85C-43B0-92A1-4723944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5EF2-C973-4EC2-9450-DE712F38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0268-4DC2-4486-BEC0-F1C7978C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72BB-3262-48CD-BF32-641B9AB8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131-AA9E-4EF9-B392-89825581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6FE5-CAA9-4D18-A326-30020126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807D-A5C9-4895-8D21-1EE90942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591E-B82E-4B4D-B17C-D05AF45B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18BC-C488-4A96-9887-13BC4108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8DD4-3D5B-4C99-8BCF-45A09DF6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51C1-32B7-44D7-8465-712B6D06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1021-348E-4F33-8D53-9692BB9B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92C5-4B07-40A1-9665-82571B0C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3765-65C1-4BBC-83DE-4D7F09FA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E1E4-9AB5-4B28-ADE2-614D46D8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5E6-2FCD-4EF7-A68A-A851D99E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AE8D2-E241-4FB1-BFFB-5AF474AB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5DF05-BAF6-4569-913B-E78649B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038B-6135-4980-9AC5-E52906F6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35CE-C5FC-4061-8811-1ADAC2D8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A00DB-299D-4CAF-92A0-6755B56E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D992-B2A4-4A3B-9C91-738AD185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2413-253F-466E-93C2-715B912D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A25-84CD-4ABC-A90B-E1D5AA61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5F9-64ED-41E3-8F91-A579BE4D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CC8-7219-47AB-91F8-2CC40293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952-D973-489D-A89A-DFD5C3CC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867-BC44-48AD-B665-F1C8F629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A65-2748-43B5-851E-731C8C11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710D-A7FC-407B-BA5F-5554AC3D0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8421-84F6-4E42-ACF5-BF3C9FA9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EAB2-925C-4A7A-9ADD-4C3B465D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93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94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uzzle2"/>
              <p:cNvSpPr/>
              <p:nvPr/>
            </p:nvSpPr>
            <p:spPr>
              <a:xfrm>
                <a:off x="4043880" y="3446640"/>
                <a:ext cx="2772360" cy="21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Puzzle4"/>
              <p:cNvSpPr/>
              <p:nvPr/>
            </p:nvSpPr>
            <p:spPr>
              <a:xfrm>
                <a:off x="2972880" y="3420360"/>
                <a:ext cx="167472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406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411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 rot="14400000">
              <a:off x="492192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415" name="Freeform 15"/>
            <p:cNvSpPr/>
            <p:nvPr/>
          </p:nvSpPr>
          <p:spPr>
            <a:xfrm>
              <a:off x="262728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315144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2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2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4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4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4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81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87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90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93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37200" y="4929120"/>
            <a:ext cx="3182760" cy="1800"/>
            <a:chOff x="5137200" y="4929120"/>
            <a:chExt cx="3182760" cy="1800"/>
          </a:xfrm>
        </p:grpSpPr>
        <p:sp>
          <p:nvSpPr>
            <p:cNvPr id="497" name="Line 44"/>
            <p:cNvSpPr/>
            <p:nvPr/>
          </p:nvSpPr>
          <p:spPr>
            <a:xfrm>
              <a:off x="5137200" y="4929120"/>
              <a:ext cx="3182760" cy="180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round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137200" y="4929120"/>
              <a:ext cx="3182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1273320" y="1981080"/>
            <a:ext cx="4061880" cy="3858480"/>
            <a:chOff x="1273320" y="1981080"/>
            <a:chExt cx="4061880" cy="3858480"/>
          </a:xfrm>
        </p:grpSpPr>
        <p:sp>
          <p:nvSpPr>
            <p:cNvPr id="50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6"/>
            <p:cNvSpPr/>
            <p:nvPr/>
          </p:nvSpPr>
          <p:spPr>
            <a:xfrm rot="16200000">
              <a:off x="3193560" y="208332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rot="16200000">
              <a:off x="1842120" y="2084400"/>
              <a:ext cx="1558800" cy="1351800"/>
            </a:xfrm>
            <a:prstGeom prst="hexagon">
              <a:avLst>
                <a:gd name="adj" fmla="val 28828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rot="16200000">
              <a:off x="184248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51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51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2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2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2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5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7"/>
            <p:cNvGrpSpPr/>
            <p:nvPr/>
          </p:nvGrpSpPr>
          <p:grpSpPr>
            <a:xfrm>
              <a:off x="1233360" y="3166200"/>
              <a:ext cx="1648080" cy="656640"/>
              <a:chOff x="1233360" y="3166200"/>
              <a:chExt cx="1648080" cy="656640"/>
            </a:xfrm>
          </p:grpSpPr>
          <p:grpSp>
            <p:nvGrpSpPr>
              <p:cNvPr id="262" name="Group 8"/>
              <p:cNvGrpSpPr/>
              <p:nvPr/>
            </p:nvGrpSpPr>
            <p:grpSpPr>
              <a:xfrm>
                <a:off x="1521000" y="3166200"/>
                <a:ext cx="1360440" cy="616680"/>
                <a:chOff x="1521000" y="3166200"/>
                <a:chExt cx="1360440" cy="616680"/>
              </a:xfrm>
            </p:grpSpPr>
            <p:sp>
              <p:nvSpPr>
                <p:cNvPr id="263" name="AutoShape 9"/>
                <p:cNvSpPr/>
                <p:nvPr/>
              </p:nvSpPr>
              <p:spPr>
                <a:xfrm flipH="1" flipV="1" rot="3964800">
                  <a:off x="2262960" y="2979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10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1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2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3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268" name="AutoShape 14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15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6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7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Group 18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273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20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1280880" y="5522040"/>
              <a:ext cx="1648080" cy="656640"/>
              <a:chOff x="1280880" y="5522040"/>
              <a:chExt cx="1648080" cy="656640"/>
            </a:xfrm>
          </p:grpSpPr>
          <p:grpSp>
            <p:nvGrpSpPr>
              <p:cNvPr id="277" name="Group 23"/>
              <p:cNvGrpSpPr/>
              <p:nvPr/>
            </p:nvGrpSpPr>
            <p:grpSpPr>
              <a:xfrm>
                <a:off x="1568520" y="5522040"/>
                <a:ext cx="1360440" cy="616680"/>
                <a:chOff x="1568520" y="5522040"/>
                <a:chExt cx="1360440" cy="616680"/>
              </a:xfrm>
            </p:grpSpPr>
            <p:sp>
              <p:nvSpPr>
                <p:cNvPr id="278" name="AutoShape 24"/>
                <p:cNvSpPr/>
                <p:nvPr/>
              </p:nvSpPr>
              <p:spPr>
                <a:xfrm flipH="1" flipV="1" rot="3964800">
                  <a:off x="2310480" y="5335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25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26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27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8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283" name="AutoShape 29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30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31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32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88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2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296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 rot="16200000">
            <a:off x="2903400" y="480168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 rot="16200000">
            <a:off x="3469320" y="345276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 flipH="1" rot="16200000">
            <a:off x="2862000" y="2237760"/>
            <a:ext cx="1623960" cy="9680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4160" y="5862600"/>
            <a:ext cx="1854000" cy="1800"/>
            <a:chOff x="1154160" y="5862600"/>
            <a:chExt cx="1854000" cy="1800"/>
          </a:xfrm>
        </p:grpSpPr>
        <p:sp>
          <p:nvSpPr>
            <p:cNvPr id="313" name="Line 52"/>
            <p:cNvSpPr/>
            <p:nvPr/>
          </p:nvSpPr>
          <p:spPr>
            <a:xfrm flipH="1">
              <a:off x="1154160" y="5862600"/>
              <a:ext cx="18540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154160" y="5862600"/>
              <a:ext cx="185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153800" y="5051520"/>
            <a:ext cx="2392560" cy="1440"/>
            <a:chOff x="1153800" y="5051520"/>
            <a:chExt cx="2392560" cy="1440"/>
          </a:xfrm>
        </p:grpSpPr>
        <p:sp>
          <p:nvSpPr>
            <p:cNvPr id="316" name="Line 53"/>
            <p:cNvSpPr/>
            <p:nvPr/>
          </p:nvSpPr>
          <p:spPr>
            <a:xfrm flipH="1">
              <a:off x="1153800" y="505152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54160" y="505152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153800" y="4210200"/>
            <a:ext cx="2810160" cy="1440"/>
            <a:chOff x="1153800" y="4210200"/>
            <a:chExt cx="2810160" cy="1440"/>
          </a:xfrm>
        </p:grpSpPr>
        <p:sp>
          <p:nvSpPr>
            <p:cNvPr id="319" name="Line 54"/>
            <p:cNvSpPr/>
            <p:nvPr/>
          </p:nvSpPr>
          <p:spPr>
            <a:xfrm flipH="1">
              <a:off x="1153800" y="421020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154160" y="421020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160" y="3381480"/>
            <a:ext cx="3287520" cy="1440"/>
            <a:chOff x="1154160" y="3381480"/>
            <a:chExt cx="3287520" cy="1440"/>
          </a:xfrm>
        </p:grpSpPr>
        <p:sp>
          <p:nvSpPr>
            <p:cNvPr id="322" name="Line 55"/>
            <p:cNvSpPr/>
            <p:nvPr/>
          </p:nvSpPr>
          <p:spPr>
            <a:xfrm flipH="1">
              <a:off x="1154160" y="338148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154160" y="338148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154160" y="2548080"/>
            <a:ext cx="3765600" cy="1440"/>
            <a:chOff x="1154160" y="2548080"/>
            <a:chExt cx="3765600" cy="1440"/>
          </a:xfrm>
        </p:grpSpPr>
        <p:sp>
          <p:nvSpPr>
            <p:cNvPr id="325" name="Line 56"/>
            <p:cNvSpPr/>
            <p:nvPr/>
          </p:nvSpPr>
          <p:spPr>
            <a:xfrm flipH="1">
              <a:off x="1154160" y="254808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154160" y="254808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154160" y="1836720"/>
            <a:ext cx="4184640" cy="1440"/>
            <a:chOff x="1154160" y="1836720"/>
            <a:chExt cx="4184640" cy="1440"/>
          </a:xfrm>
        </p:grpSpPr>
        <p:sp>
          <p:nvSpPr>
            <p:cNvPr id="328" name="Line 57"/>
            <p:cNvSpPr/>
            <p:nvPr/>
          </p:nvSpPr>
          <p:spPr>
            <a:xfrm flipH="1">
              <a:off x="1154160" y="183672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154160" y="183672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92120" y="1836720"/>
            <a:ext cx="1800" cy="711360"/>
            <a:chOff x="1392120" y="1836720"/>
            <a:chExt cx="1800" cy="711360"/>
          </a:xfrm>
        </p:grpSpPr>
        <p:sp>
          <p:nvSpPr>
            <p:cNvPr id="331" name="Line 58"/>
            <p:cNvSpPr/>
            <p:nvPr/>
          </p:nvSpPr>
          <p:spPr>
            <a:xfrm>
              <a:off x="1392120" y="183672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392120" y="183672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392120" y="2548080"/>
            <a:ext cx="1800" cy="841320"/>
            <a:chOff x="1392120" y="2548080"/>
            <a:chExt cx="1800" cy="841320"/>
          </a:xfrm>
        </p:grpSpPr>
        <p:sp>
          <p:nvSpPr>
            <p:cNvPr id="334" name="Line 59"/>
            <p:cNvSpPr/>
            <p:nvPr/>
          </p:nvSpPr>
          <p:spPr>
            <a:xfrm>
              <a:off x="1392120" y="25480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2120" y="25480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92120" y="3389400"/>
            <a:ext cx="1800" cy="841320"/>
            <a:chOff x="1392120" y="3389400"/>
            <a:chExt cx="1800" cy="841320"/>
          </a:xfrm>
        </p:grpSpPr>
        <p:sp>
          <p:nvSpPr>
            <p:cNvPr id="337" name="Line 60"/>
            <p:cNvSpPr/>
            <p:nvPr/>
          </p:nvSpPr>
          <p:spPr>
            <a:xfrm>
              <a:off x="1392120" y="33894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392120" y="33894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92120" y="4230720"/>
            <a:ext cx="1800" cy="841320"/>
            <a:chOff x="1392120" y="4230720"/>
            <a:chExt cx="1800" cy="841320"/>
          </a:xfrm>
        </p:grpSpPr>
        <p:sp>
          <p:nvSpPr>
            <p:cNvPr id="340" name="Line 61"/>
            <p:cNvSpPr/>
            <p:nvPr/>
          </p:nvSpPr>
          <p:spPr>
            <a:xfrm>
              <a:off x="1392120" y="423072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392120" y="423072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92120" y="5072040"/>
            <a:ext cx="1800" cy="776160"/>
            <a:chOff x="1392120" y="5072040"/>
            <a:chExt cx="1800" cy="776160"/>
          </a:xfrm>
        </p:grpSpPr>
        <p:sp>
          <p:nvSpPr>
            <p:cNvPr id="343" name="Line 62"/>
            <p:cNvSpPr/>
            <p:nvPr/>
          </p:nvSpPr>
          <p:spPr>
            <a:xfrm>
              <a:off x="1392120" y="507204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1392120" y="507204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76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80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83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dc:language>en-US</dc:language>
  <cp:lastModifiedBy>Administrator</cp:lastModifiedBy>
  <dcterms:modified xsi:type="dcterms:W3CDTF">2016-03-25T04:54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