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3E7-DBD8-4152-91BD-29278BE1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95A-A7AA-4636-B830-2718638C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8CE-CF9C-4002-8455-8CAB458E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B62-26DD-41BF-BBDB-78709876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D40-8AB5-4401-A46B-AE67DC54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4D8-7847-4305-A0B8-8DB1DB51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DFE-F152-4F52-8267-FEA32860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F7B-6645-41B6-BE7F-DBAA91D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2B8-891F-4542-A3DA-1451123E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7FD-F6E1-47F8-A59A-E94D5F38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D1A-6AB9-44B9-9A0C-E14C3A63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DA7-AD02-4BE6-A7BD-511C431E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ED38-C2EA-46C3-8236-41342CB1D2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192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情人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357280" y="4473720"/>
            <a:ext cx="521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七日，一年一度的七夕就要来了，人们称这天为“乞巧节”或“少女节”、“女儿节”。七夕节是我国传统节日中最具有浪漫色彩的一个节日，也是过去姑娘最为重视的日子。中国的情人节，浪漫古典之最浓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8120" y="28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1200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132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31000" y="33577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1380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783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069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997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8549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854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911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783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7-24T03:19:58Z</dcterms:modified>
  <cp:revision>52</cp:revision>
  <dc:subject/>
  <dc:title>幻灯片 1</dc:title>
</cp:coreProperties>
</file>