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047-5D53-48DB-AA98-C67C507B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630-FDA5-4EE7-90AA-BF146C9E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F81-22BD-4AA1-A906-071FE78E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1D5-0113-421A-A9B9-197F8AC7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6D28-0EE3-4A15-A151-1711415B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FB68-7895-4180-AA07-B2438F0B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45D-3C00-4940-9546-E86DCDB8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5C1C-5023-43DE-8D3A-B40A97E9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9F7C-9936-43ED-822A-626BD82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CC06-B1F1-4A0D-8C1B-2D09EEE4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3F91-EDC8-4885-ADC6-BA626463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811-CFA7-411B-A724-A5E2586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B91-33A9-41A9-B3A4-BE85BB9B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2DA-3039-4174-93DF-899CDFC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CD9F-1A79-4331-BC79-0698126C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C64F-9F39-4B3D-A8B6-B3DA2112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4410-7697-46F7-AFDE-C7B83B6A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148-046D-4439-B447-F200202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55B-3128-4586-9155-5DAE9931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361-1B6F-4381-B1EA-417C284A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EBD-5D64-4FDD-9115-5DF5D9A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ECB-DD1E-4EE7-988D-D297883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506-994D-413C-A3DC-4630227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B98-474B-4D90-808F-BB9FAA6C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41C1-2EB1-4289-8F84-F376076B861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886-701D-4F95-83F5-37C7E41B1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over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40" y="1484280"/>
            <a:ext cx="91425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nt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>
              <a:gd name="textAreaLeft" fmla="*/ 0 w 114480"/>
              <a:gd name="textAreaRight" fmla="*/ 114840 w 1144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ransition p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>
              <a:gd name="textAreaLeft" fmla="*/ 0 w 68400"/>
              <a:gd name="textAreaRight" fmla="*/ 68760 w 684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>
              <a:gd name="textAreaLeft" fmla="*/ 0 w 68040"/>
              <a:gd name="textAreaRight" fmla="*/ 68400 w 680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>
              <a:gd name="textAreaLeft" fmla="*/ 0 w 68040"/>
              <a:gd name="textAreaRight" fmla="*/ 68400 w 6804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>
              <a:gd name="textAreaLeft" fmla="*/ 0 w 68040"/>
              <a:gd name="textAreaRight" fmla="*/ 68400 w 68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Transition p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94240" y="4240080"/>
            <a:ext cx="324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sus</dc:creator>
  <dc:description/>
  <dc:language>en-US</dc:language>
  <cp:lastModifiedBy>Administrator</cp:lastModifiedBy>
  <dcterms:modified xsi:type="dcterms:W3CDTF">2016-03-12T02:33:44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