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131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.png" ContentType="image/png"/>
  <Override PartName="/ppt/media/image39.jpeg" ContentType="image/jpeg"/>
  <Override PartName="/ppt/media/image127.png" ContentType="image/png"/>
  <Override PartName="/ppt/media/image35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23.jpeg" ContentType="image/jpe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91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49.png" ContentType="image/png"/>
  <Override PartName="/ppt/media/image100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B00-92A7-441B-A6E6-DB04C4DC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CDF-4942-4D3B-B118-D4D88CD0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5109C-0578-4C6F-B93A-321D772B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85BBC-80D9-4AAE-A237-9D8D9D28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7B615-7260-4406-9162-EC3128B6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7D3E0-F502-467B-A500-E5D78567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CBAFC-0D68-41B3-AB7C-9C984596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C2EA5-CA27-4A1F-8A93-DC78B60F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40CEC-18E6-4F41-B8FF-6EFDF16B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38FE7-F1A0-40D2-B2F7-73697C67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9C8B2-5A7A-4C05-92BE-51BBF9B2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FC722-179C-449E-8B76-1259920C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FAC-6481-4521-94C7-08973B09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9312A-AB06-4C7D-B4BE-CC669AF3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5CA41-D221-428A-A91D-6E02B4CC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E4A83-87D5-48B4-8ECD-79C5EE41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AEEA4-9949-4DA7-908E-8E60DAAB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E2F69-F734-4389-A925-5589EC89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A8546-42FB-4175-AC0B-CC8C14FC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129A0-1AE7-4899-9A79-45568AD1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DA11B-7C06-4242-AEF6-9B783EEF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62A91-A5DF-4C94-9FDA-861D32E4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BF722-6680-47BD-9983-89CA1577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DFB-E545-480C-913B-3FEAFAFB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1F21F-9187-4C44-8315-0D81E786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4F07D-DD4F-491D-B839-4B17008C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A82AE-7615-48C4-A158-FBFA1B67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7974B-D0DD-4159-AB9C-4BFD307A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8F97E-B6F3-460F-860C-234DC626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A4C25-3EB1-4613-871B-774F839D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71EAC-D5F2-4118-A06D-B5649826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C836C-6E29-44A9-AF58-2AB0B4F3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54354-E542-40CA-8CE1-F2BF18F1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4D83D-9AC8-4EF0-952E-A11CE351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08E2-80D5-4D0F-AEB9-06279543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4A6E6-83D5-4015-8081-0C6F109B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A5564-2898-4D48-8B04-07C6A60B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8B1A7-2F3D-4026-BF36-BEC69980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FC76F-38D2-4151-BC41-F3E77B1D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F6B99-BDE2-498B-94F3-C0645D52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03AC9-9995-4CB6-BB14-636FD151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EEF29-73A9-46B0-AA6C-0E90E835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17239-022C-46A4-9198-9223BBB5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58E4E-59E7-46E4-B4DE-299DD5F9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5426F-EB1B-4C7B-A208-2C3649EF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CF4D-486A-49F8-8EE4-B259F6D2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EBB71-D411-41F8-B716-9873F04A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9F7E4-4E30-4A99-BB22-1140243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FBB59-AA2F-485E-9B2E-7096DA75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497F4-697D-44CB-B999-B0121BA7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DC189-A188-4649-8F8F-9E404B99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B0695-57CC-4B9F-A66C-CFCF1FB7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DD42C-B077-4C10-AAB2-88D2EF3B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D720B-78AD-4223-89DE-E32D8EBD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A11A5-994C-4960-AEBA-72AF5F8E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E7223-9338-4283-86E5-887DE452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2704-0E18-48BE-A787-5ADCB1E7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022C4-2A99-4FBD-9134-C6CB198C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52A4A-0AE3-4E30-982F-7B9386EF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7F643-5621-4C3E-92B1-A4291273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4FCF4-78E1-4C83-9E57-CF0AFFF1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36565-6278-41BD-8575-47820B6E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4F0AC-24C1-4306-BA9A-7814A015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E0345-C50A-4D42-8814-CA93FD39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8F379-2F87-4178-BC5C-305C2B93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C5814-D7D4-4F87-AB64-5A689F98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1ECD9-6DB1-4DB2-8687-BCE23489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BAB1-814D-4A38-B313-3FC7B313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DA6A8-92A5-4A50-903F-36A58646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0B174-7AEF-4A15-AE16-BF5E997D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602C0-1A21-4DC9-9984-E8E2E28C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9AF3E-95CF-4D40-83B2-991EEA72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21C51-FC2A-4BE0-96D9-916CD9D3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D10A7-D1C4-45ED-B21A-BFA4477C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365AF-E827-435F-9A37-5A99C16D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96963-D79B-4C33-85F5-47CD7812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B0FA4-6916-410D-80A7-2FE5146E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8427-0E04-4A39-A9BF-E3590871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FA52-85DC-43C6-B368-F3D4D54F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5DA4-D196-4D56-BCED-94E715B8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CA7-2B33-43B8-BE72-8344538F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2EDE-EDE4-4D32-88AB-DAB5DABD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EFA9-C20B-4154-8633-3077DDBC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5E60-B05C-4D37-82CE-FBFB8C8C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661F-E136-4BE1-8EC0-4F9DDF53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8E19-995E-4E28-94B2-092E23E3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ECD70-E88A-4F8F-B58E-FF232B09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82347-F13B-429E-8E6F-882159C7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5165-196D-4820-84E2-1EEE9DE1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AA35-057D-4B3B-9EBE-AB42820E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E4E9-BFA2-4B10-8D5C-A8BEA56E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AF7-5E03-432A-8149-7248D7D3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6636-B4C6-47E1-BD82-28EEE839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0695A-3B20-4E6A-9D85-2FC14386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12825-B2C2-45C1-96C5-7D0649A8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340EE-7975-4379-AD9A-F4500BAB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B3B1-7E77-418B-A4D1-4D4CBF66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973A-956B-480F-BDD3-3B755F70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B453-A8B7-4EC1-9B7E-B6CB6E66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FFC0B-8956-4058-85AA-08A5444C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49CE3-C01B-4248-B5B3-C4E5FF2D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D3D99-684F-4D67-8B57-02C3302A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7EF-15FE-4D3B-A420-A9EC0BEB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2EE83-2887-471B-A9C1-34D24A83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6D46-A0D2-4ACE-B907-6F8E2FD4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B3482-C966-4847-8D96-780E301E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42EBE-BAED-4289-96DF-ECBB0B0F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411BF-1469-48FC-8E0D-6743CB21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3E181-B405-4BE0-81ED-5BB9FC55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4774-4273-4AAF-BA92-BCFB00DF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E4718-7ED8-430D-A59D-6D0D4046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34A4E-A285-42F4-AB82-84CEE73B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D674B-75F8-46EE-9143-F45448C5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BC3-D636-4C51-9568-1D9FFDAC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5781B-97D7-45DC-8105-59FF6B81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565A8-7D43-4695-99E9-F5123D9B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769B8-658D-4AD7-A807-8B481B97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54EF6-316F-4D8B-A7AC-6B7D2F04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2E79C-9E15-44DE-BAF0-2596D1F7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77614-DC14-49BA-9678-994F2AB5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0DBBC-87FF-4A76-83A5-DB8030F8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45142-DD3B-49AA-B37C-F0615F7A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77E5A-A75D-4C8E-AC57-1128AA4F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B6D1E-7F06-43C2-B7D5-C739C489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370-CA42-4446-84C5-3A5AD08E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D0309-3ED4-42ED-BAAF-1F9F9597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383E4-2FBD-4F01-9605-1568A404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9BF37-2DA7-4A5D-BC51-9C06250A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02804-1A58-47D9-845B-375B26E4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29878-3710-4DC3-B083-5000FFE9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33A48-D3F6-4745-BBC9-BB1D1721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0DC76-08FA-471F-98E1-3D7F8A9B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26436-4D46-4435-97D7-8FBE59B7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26511-00BE-46AA-A4E4-CAFB8B23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694C9-5166-4F6F-8268-BE10E713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3AE-A0A4-4B12-82D4-E59D6F47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5496D-26E7-4C44-8193-A88796F9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67EAA-D8BA-4E4F-B4B7-6E2AEC05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3E1C9-F83D-4A4F-9298-DDD30630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FA0D7-733C-40EC-B975-01D82308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34045-080A-49B0-9284-CEC199A4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A38D9-C5A1-48C4-8FFA-AC74D97A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F0169-CB5A-447E-BA4A-08B9852C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AEA7E-C6FA-47D9-95FB-D8F2BEE8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9FBED-BA79-4C63-8B50-BE590ADC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F2F8C-D656-4D83-96DA-9333F874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274-D9BD-45D8-9489-C19E133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B42EE-170B-45AA-8BE3-AC3F4973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805AE-73E3-46BB-8E31-25AA2655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8F3E9-B696-4AEC-B193-8573FAEC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FFAFD-10D1-4AB9-856C-356E441A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C0886-A9BF-4304-B469-0052F1F7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5DD1C-6F45-427B-941B-60E5FF2F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0948C-A932-4CFD-B6C0-5F0A3BDF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603DF-34F6-427C-8C22-40C025D1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A5A27-A901-40A8-AE04-48A46DC6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80C27-5674-4DCA-B1F9-44DCF1E2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575-C85F-4168-83A9-1E0395D0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0263E-315B-4E32-8D91-1391677F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34F1D-72E7-4847-B627-28942B78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58209-6150-4493-95EB-889872FA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D56B1-6514-479F-8B3D-68D1BA6B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E2C96-CB30-4FF6-9545-07DB94B6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79793-C6CF-4EE9-A5AB-1D7C75CC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2BB07-F10F-4AAF-86DD-7FC1F754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84225-2F10-4C0A-9C31-AA6F7A3E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9A44C-E513-465B-B202-283FCE7A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927BE-4020-4974-B980-49108051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4493-D1DA-4187-A896-31F95D5D98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ABB1-6F34-4F1E-8B0A-24121EB67E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6DDB-CFF5-4093-AFAB-EB89657CB6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9F3F-744D-42F6-AD22-96CF03AFDC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4D29-8383-4BDC-97AC-CB08FFC730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A596-7110-4A00-8F1E-6A4B4E6794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A360-438C-474A-BF68-1E0DCC559D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57DB-5A8C-4126-B5B4-28A686BC9D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AA73-2A36-49B8-818A-1AAFC105A6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0BDF-BBE3-43CD-AD33-D8D8A42A8E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3623-44D6-454F-B2B0-0EE99C3565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B5B0-292F-4DC0-8348-63895E0D16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093A-242A-47DB-9B9D-C537000764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CF5F-411E-4461-8C64-B560B4575F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91.png"/><Relationship Id="rId49" Type="http://schemas.openxmlformats.org/officeDocument/2006/relationships/image" Target="../media/image92.png"/><Relationship Id="rId50" Type="http://schemas.openxmlformats.org/officeDocument/2006/relationships/image" Target="../media/image93.png"/><Relationship Id="rId51" Type="http://schemas.openxmlformats.org/officeDocument/2006/relationships/image" Target="../media/image94.png"/><Relationship Id="rId52" Type="http://schemas.openxmlformats.org/officeDocument/2006/relationships/image" Target="../media/image95.png"/><Relationship Id="rId53" Type="http://schemas.openxmlformats.org/officeDocument/2006/relationships/image" Target="../media/image96.png"/><Relationship Id="rId54" Type="http://schemas.openxmlformats.org/officeDocument/2006/relationships/image" Target="../media/image97.png"/><Relationship Id="rId55" Type="http://schemas.openxmlformats.org/officeDocument/2006/relationships/image" Target="../media/image98.png"/><Relationship Id="rId56" Type="http://schemas.openxmlformats.org/officeDocument/2006/relationships/image" Target="../media/image99.png"/><Relationship Id="rId57" Type="http://schemas.openxmlformats.org/officeDocument/2006/relationships/image" Target="../media/image100.png"/><Relationship Id="rId58" Type="http://schemas.openxmlformats.org/officeDocument/2006/relationships/image" Target="../media/image101.png"/><Relationship Id="rId59" Type="http://schemas.openxmlformats.org/officeDocument/2006/relationships/image" Target="../media/image102.png"/><Relationship Id="rId60" Type="http://schemas.openxmlformats.org/officeDocument/2006/relationships/image" Target="../media/image103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4.png"/><Relationship Id="rId72" Type="http://schemas.openxmlformats.org/officeDocument/2006/relationships/image" Target="../media/image115.png"/><Relationship Id="rId73" Type="http://schemas.openxmlformats.org/officeDocument/2006/relationships/image" Target="../media/image116.png"/><Relationship Id="rId74" Type="http://schemas.openxmlformats.org/officeDocument/2006/relationships/image" Target="../media/image117.png"/><Relationship Id="rId75" Type="http://schemas.openxmlformats.org/officeDocument/2006/relationships/image" Target="../media/image118.png"/><Relationship Id="rId76" Type="http://schemas.openxmlformats.org/officeDocument/2006/relationships/image" Target="../media/image119.png"/><Relationship Id="rId77" Type="http://schemas.openxmlformats.org/officeDocument/2006/relationships/image" Target="../media/image120.png"/><Relationship Id="rId78" Type="http://schemas.openxmlformats.org/officeDocument/2006/relationships/image" Target="../media/image121.png"/><Relationship Id="rId79" Type="http://schemas.openxmlformats.org/officeDocument/2006/relationships/image" Target="../media/image122.png"/><Relationship Id="rId80" Type="http://schemas.openxmlformats.org/officeDocument/2006/relationships/image" Target="../media/image123.png"/><Relationship Id="rId81" Type="http://schemas.openxmlformats.org/officeDocument/2006/relationships/image" Target="../media/image124.png"/><Relationship Id="rId82" Type="http://schemas.openxmlformats.org/officeDocument/2006/relationships/image" Target="../media/image125.png"/><Relationship Id="rId83" Type="http://schemas.openxmlformats.org/officeDocument/2006/relationships/image" Target="../media/image126.png"/><Relationship Id="rId84" Type="http://schemas.openxmlformats.org/officeDocument/2006/relationships/image" Target="../media/image127.png"/><Relationship Id="rId85" Type="http://schemas.openxmlformats.org/officeDocument/2006/relationships/image" Target="../media/image128.png"/><Relationship Id="rId86" Type="http://schemas.openxmlformats.org/officeDocument/2006/relationships/image" Target="../media/image129.png"/><Relationship Id="rId87" Type="http://schemas.openxmlformats.org/officeDocument/2006/relationships/image" Target="../media/image130.png"/><Relationship Id="rId88" Type="http://schemas.openxmlformats.org/officeDocument/2006/relationships/image" Target="../media/image131.png"/><Relationship Id="rId89" Type="http://schemas.openxmlformats.org/officeDocument/2006/relationships/image" Target="../media/image132.png"/><Relationship Id="rId90" Type="http://schemas.openxmlformats.org/officeDocument/2006/relationships/image" Target="../media/image133.png"/><Relationship Id="rId91" Type="http://schemas.openxmlformats.org/officeDocument/2006/relationships/image" Target="../media/image134.png"/><Relationship Id="rId92" Type="http://schemas.openxmlformats.org/officeDocument/2006/relationships/image" Target="../media/image135.png"/><Relationship Id="rId93" Type="http://schemas.openxmlformats.org/officeDocument/2006/relationships/image" Target="../media/image136.png"/><Relationship Id="rId94" Type="http://schemas.openxmlformats.org/officeDocument/2006/relationships/image" Target="../media/image137.png"/><Relationship Id="rId95" Type="http://schemas.openxmlformats.org/officeDocument/2006/relationships/image" Target="../media/image138.png"/><Relationship Id="rId96" Type="http://schemas.openxmlformats.org/officeDocument/2006/relationships/image" Target="../media/image139.png"/><Relationship Id="rId97" Type="http://schemas.openxmlformats.org/officeDocument/2006/relationships/image" Target="../media/image140.png"/><Relationship Id="rId98" Type="http://schemas.openxmlformats.org/officeDocument/2006/relationships/image" Target="../media/image141.png"/><Relationship Id="rId99" Type="http://schemas.openxmlformats.org/officeDocument/2006/relationships/image" Target="../media/image142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8784360" y="4273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接连接符 27"/>
          <p:cNvSpPr/>
          <p:nvPr/>
        </p:nvSpPr>
        <p:spPr>
          <a:xfrm>
            <a:off x="133668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32"/>
          <p:cNvSpPr/>
          <p:nvPr/>
        </p:nvSpPr>
        <p:spPr>
          <a:xfrm>
            <a:off x="146376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1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2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4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6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7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9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1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2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6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7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9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1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2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4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5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6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7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9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4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5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7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30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2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3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5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4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5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6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8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1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2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3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6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9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2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70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1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3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4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5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6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8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80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1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3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4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5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6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8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90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1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3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4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8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3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4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2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3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7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8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0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8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9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0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6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7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8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7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8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4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5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8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1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2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5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8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2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4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5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6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8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9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1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2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3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9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200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8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9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5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6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9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6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6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2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3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4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6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7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8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9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1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2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3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4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6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7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8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9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1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3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4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6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7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6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7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8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0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1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3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4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9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6" name="Shape 21"/>
          <p:cNvCxnSpPr>
            <a:stCxn id="1375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7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8" name="Shape 11"/>
          <p:cNvCxnSpPr>
            <a:stCxn id="1377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9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0" name="Shape 16"/>
          <p:cNvCxnSpPr>
            <a:stCxn id="1379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1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2" name="Shape 19"/>
          <p:cNvCxnSpPr>
            <a:stCxn id="1381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3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1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2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6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10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4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5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7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8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8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9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1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3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4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6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8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9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3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4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8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9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2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文本框 8"/>
          <p:cNvSpPr/>
          <p:nvPr/>
        </p:nvSpPr>
        <p:spPr>
          <a:xfrm>
            <a:off x="9415440" y="3876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直接连接符 27"/>
          <p:cNvSpPr/>
          <p:nvPr/>
        </p:nvSpPr>
        <p:spPr>
          <a:xfrm>
            <a:off x="36504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文本框 32"/>
          <p:cNvSpPr/>
          <p:nvPr/>
        </p:nvSpPr>
        <p:spPr>
          <a:xfrm>
            <a:off x="49212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7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0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4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5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9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60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2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3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4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9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0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1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2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5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6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7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8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9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1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2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5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6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91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2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3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4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6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7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8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3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4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9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10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11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2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3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4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9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20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21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2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4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5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7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31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2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6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8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9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40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1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2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3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4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9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50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51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3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8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9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60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1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3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4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5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6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7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8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0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71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2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3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4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5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6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7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9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80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81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5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6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0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91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2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3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8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9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4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5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6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7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80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2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6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7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8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9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7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8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8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9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2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5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7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8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7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9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800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2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2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3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6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7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3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4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哎呀小小草</dc:creator>
  <dc:description/>
  <cp:keywords/>
  <dc:language>en-US</dc:language>
  <cp:lastModifiedBy>my</cp:lastModifiedBy>
  <dcterms:modified xsi:type="dcterms:W3CDTF">2015-11-24T11:14:31Z</dcterms:modified>
  <cp:revision>118</cp:revision>
  <dc:subject/>
  <dc:title>PowerPoint 演示文稿</dc:title>
</cp:coreProperties>
</file>