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131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5.png" ContentType="image/png"/>
  <Override PartName="/ppt/media/image39.jpeg" ContentType="image/jpeg"/>
  <Override PartName="/ppt/media/image127.png" ContentType="image/png"/>
  <Override PartName="/ppt/media/image35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23.jpeg" ContentType="image/jpe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137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45.png" ContentType="image/png"/>
  <Override PartName="/ppt/media/image132.png" ContentType="image/png"/>
  <Override PartName="/ppt/media/image46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0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91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49.png" ContentType="image/png"/>
  <Override PartName="/ppt/media/image100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6.png" ContentType="image/png"/>
  <Override PartName="/ppt/media/image94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0CE8-978D-4FF2-BA14-B11863E5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1F5E-3841-4953-81FD-04C98D00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5A1D0-4C31-49CB-85D6-D5E1C403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A7DAA-998F-4BB0-835A-E966A435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E2333-4253-4519-B8C0-35CBA95E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615F2-FF45-4D9A-AA69-4284C282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425AB-9692-4F93-BC4D-8F38D9AC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C788C-C91D-407B-A3EC-E10862B3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4B59F-8E50-423E-839F-31338239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C4EE7-D6F0-4632-B435-0ED4C952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07A58-3E9A-4BF0-A822-25CB1497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AB8E6-E4B3-4A17-843D-29FDFE87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D9C-8A56-4316-91E3-42FA9A52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1D8C4-8811-4350-A9A7-1631C246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15C75-0E8E-46ED-84E1-DD6DFF2A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B9186-6904-4F9A-B0C4-6F135C82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204F1-5DBA-4A9B-8868-A52C0A70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CB6E4-4987-4390-8803-3CDD06F8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DBFCF-7D43-40B6-B8E7-F97C0980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F72C7-B802-4AF0-8071-7768D1FE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928BF-4FDB-4185-97A9-6AF153DE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F0AE6-F268-48A3-A228-91F9BC70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B8BD7-DD9E-46B7-8F46-6F6736AC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85B-5E58-4460-AABD-6A058DEF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27362-7431-4EEE-87EC-83E8257F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5D697-B76E-452D-B5AD-41908767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CC426-8CD3-4CC5-8B7D-0EA4B4FD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26304-B2EA-4F25-9F03-84E93CCF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ACE59-F8E4-4522-BB1E-2DDA48AE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D5972-0483-4CA5-876A-41B65FAB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8CFE1-D7A9-4570-AE15-FE12DDF7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CB916-68BF-4AE1-A437-61B2B45C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7854A-7D96-4254-959D-8DA6E9C8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067A1-C16D-477C-80F5-8E65C003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D658-D8CB-415B-BD3D-6FF4C008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834AA-667C-4AF9-A94A-B491A068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2795A-4445-45C8-9032-6C34D8D7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DF0A3-DD79-4475-91EE-E996953B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4BCD0-1869-4E80-A7B6-D266C3DB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EB118-FD9C-463E-B6E8-90008D86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CAEE5-E584-4CDB-A462-C0EDCA9E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4B475-2BAD-4EB0-A44A-B753026D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A1215-5E13-49BD-9782-5A8C82C2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34A98-ADF5-486B-9B87-7B5F1999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A89FC-91C5-4810-9883-6FC03E77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3741-732F-4EF7-92D5-62300F25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B9EE5-3067-486E-9EF5-C3D07591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D3E9C-537B-4A16-8B2C-DADB8489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67683-205F-4A75-BD38-D3F021AB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50BB6-5DF3-4C0E-BFBC-450A6574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42F47-83D4-4058-8272-84944607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AA2B6-92D7-4013-87F7-B898470A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FF010-69F8-4C96-B71A-D6A1B4AB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F96E2-2D39-42F4-AA72-0EB3D1A7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4FE20-5D6A-4C9A-87A1-DB6CB1E5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6FD86-28FD-44AF-8869-2DB89766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AECC-C8BF-4C6E-B635-F79D6B34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20711-4011-41B4-A727-29F87C87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D36BEE-FAA1-4E5F-8862-CE90B1E0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CA7DD-6771-44FF-A192-05846EBC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D956B-420E-4FDD-B175-DBA38F05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59A50-E08B-42AC-8A27-AC912539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E0C01-C1AE-4F36-9C04-D9D956E4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B140B-C8B7-4EAF-B3B3-A4A13EDE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AD6E84-8539-42CF-9098-6DCD2282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62439-EC6D-4B87-8C97-49A872BB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FF0977-B621-462B-BE8A-42A54C95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3AE6-76E1-4A73-9BF7-3CA3EC6E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FE501-1A27-4DDC-AA1A-D503B0A6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CD12F1-71FF-4DE6-867B-01041A55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D6ED4A-535B-4EC3-868B-1D00AC77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F77F3-280E-4233-9557-FEFEB99D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52F035-CEDC-4B5B-9AB1-35C86CD8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A603BF-7DB8-4E26-9A96-F924E1B0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12DED-2CAA-4D3C-81A0-C80A119B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9AC4B9-D7BD-429C-A0BD-11E91070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052CC5-82FE-4A1B-990A-D7138F3E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5B31-A6B8-47FC-8988-7AC6358D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D00C-24BD-4089-A779-8C921E92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7371-408B-4538-AABC-CA9EF87B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0D2-8CEE-4468-81AB-D9D86433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846B-F273-4321-9AA6-3BC74608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B7AC-FFBE-4963-A4BD-EBDB6B32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0F28-E40E-4BDF-91A0-34F97D75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4B19-D109-4FAA-8763-425F579A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B78A-2E04-4075-8998-E3AF213B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7128C-FB73-4F87-A2E5-FAD88578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17DF3-85A7-4C2D-B9A7-273A97A7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71C08-D8DE-4E49-A3EA-BCE609A4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06A56-2CD0-466C-AF9F-AE6B4601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6B4E3-CA51-4D26-B45B-FCBF8C28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E43-6CD2-47CE-B73D-323F59FD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778D3-5836-405F-8893-15714B3A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060F3-6D8C-4BF3-895A-CE857892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90FE-B511-4453-86B2-A21C8520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2EE4E-0FB7-42B2-808E-6E8FCA50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5E340-9CE7-4999-8299-A3D3175C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F1DEC-AC27-4D8D-913E-089573E2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FBD23-3DDC-40F0-9CAF-011677E3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78E04-7C34-40EE-BF7F-42B1261F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F4AFD-401A-430D-909B-4D5A0F54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F9798-4D0C-4560-8D3A-F9B7E08B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3A27-0640-4B2A-9436-F0FDD092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8AD9F-9942-4BFD-95A5-83E8F203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9C47F-E9BC-4649-9272-E0C881E2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3E2A3-5742-4D18-9533-5A3E5EB9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AC729-FCF5-4BFB-8E1B-A1BF971E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0A338-D259-47E1-8D4D-F9F24CEE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A73BA-FBAE-4377-8D53-295C215A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F30F9-61D1-4A27-9E4C-66E18294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4017C-4CD5-4901-AC3E-C8660408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6188F-FF9D-4951-8719-DCB21642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FAFFE-B1F7-4B24-BF76-8173B213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11D-D456-4418-B3F1-EB44DBD0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6A759-9BE6-42F6-B5BC-431226A4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5533F-0ADB-4823-9FA2-8FBFEF98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25449-99C8-4CE1-918E-5B936336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D1A16-4AA1-4B4A-B524-D576B01F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4D938-80C3-4BF8-86F4-13E2BB76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C0293-B91B-4F3E-BD28-0470A729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BB3BA-97F7-4132-9CEC-16201881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EEF00-B329-4CDA-AD8F-49E3635C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615F4-CD6D-45F6-AFC0-D12B1176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8842D-5686-47D6-8168-7E2979AC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58F-6ECA-4E09-A65E-EF6C5017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F39BE-C32B-4EEE-8265-2D052E08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10B90-C48F-4FF1-81E2-CF8E00BF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38261-7EBC-460A-9EB9-1CCEBD7B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2EFC0-858C-42CB-947D-206454EF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02C26-6107-4904-A197-33F78C1A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0C402-C233-4E90-967C-AB13538D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3CE01-7A73-440B-BF39-DA54352E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BBF58-17C8-470F-80F5-1D7E0EE0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4A264-11BA-4A0E-B6EB-2F106D93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D7809-3C37-4B89-BCBD-19A4F1B0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F27-27C7-451A-953C-B2E22EAD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76393-F638-4769-9601-D648CD92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E53AF-FC6B-4BD7-8191-374D4CEC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93D95-EF17-4C19-A41B-782E9694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87DF7-F3B4-4A3A-8FBD-92D24BBF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57C9B-5402-4893-B6F3-FDF11AE1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71361-BC3C-4009-A912-E4BE386E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25CB6-D098-41AE-A96B-27F66B2B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617F9-C71D-4A99-9737-5C366626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4978B-4E63-46F0-9275-E4A346B3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CF3BF-AB61-4D57-A2EC-5508672B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6C1-F050-4056-A420-3DC6AE58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A939B-42B1-4D7E-9AEF-1719F12E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58099-AB3D-4B1D-9938-5C139EF1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3FF31-1F4A-41DD-AF58-95D54C9D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9310F-DB5B-4663-9DDE-A2503691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6A66E-E43A-4C7E-9B2E-A6D3FB53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15E6C-63B6-4288-A4D1-2336D375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2B770-6328-4CFE-AEB0-F5B1C549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2D678-A351-4AE0-901D-C852D147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38317-E113-4A39-A22B-8058D9E8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878DF-31D3-4AC7-9473-B5B62F1B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D47-7E78-4AB2-8113-B001C215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31246-4A1D-4002-874E-892B39C9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11986-5C46-45D0-B5A8-7DD7A333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7BE2E-8841-47FD-A327-85E7FF5F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9AC86-22E6-4880-AF76-B3AFBEC1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DF483-F318-4F61-85AF-592F0A3A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32A47-6928-4053-BB2F-0EE2FC67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52E8E-4803-4525-98E1-2B32A623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A0FDE-E447-4777-AC04-E0D1BDD5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C1831-CBAA-4B85-A2C6-F544B34E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0D2D2-AD01-436F-856E-78BC2663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CFAC-9BCE-4253-B3A6-8A6A2F9D7C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1DDA-6D3E-4322-9A95-88B451BC2D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596E-0503-428B-8B60-A0A3348F12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615A-40C1-4708-AF52-074D1B9454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3806-ECFB-41EC-B0FB-CC29484CE7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576F-124B-4F53-BC90-C1686D58D9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8D98-C191-4738-A563-D746998DBC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9A29-29B0-4DBE-A9B3-A150D9E574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D5C7-4EA5-4B34-8B62-1EF6A48BF3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8AD3-8115-45B4-9A45-1D4397C867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D6A0-2CF3-4112-AC1D-621437DEE5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A5F7-0FA7-4EA5-B9BF-E40A365657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57F1-C4B1-4841-B900-5A8B58DB12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4B8C-BE6C-449B-B4D4-BF9B6628D1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1.png"/><Relationship Id="rId29" Type="http://schemas.openxmlformats.org/officeDocument/2006/relationships/image" Target="../media/image72.png"/><Relationship Id="rId30" Type="http://schemas.openxmlformats.org/officeDocument/2006/relationships/image" Target="../media/image73.png"/><Relationship Id="rId31" Type="http://schemas.openxmlformats.org/officeDocument/2006/relationships/image" Target="../media/image74.png"/><Relationship Id="rId32" Type="http://schemas.openxmlformats.org/officeDocument/2006/relationships/image" Target="../media/image75.png"/><Relationship Id="rId33" Type="http://schemas.openxmlformats.org/officeDocument/2006/relationships/image" Target="../media/image76.png"/><Relationship Id="rId34" Type="http://schemas.openxmlformats.org/officeDocument/2006/relationships/image" Target="../media/image77.png"/><Relationship Id="rId35" Type="http://schemas.openxmlformats.org/officeDocument/2006/relationships/image" Target="../media/image78.png"/><Relationship Id="rId36" Type="http://schemas.openxmlformats.org/officeDocument/2006/relationships/image" Target="../media/image79.png"/><Relationship Id="rId37" Type="http://schemas.openxmlformats.org/officeDocument/2006/relationships/image" Target="../media/image80.png"/><Relationship Id="rId38" Type="http://schemas.openxmlformats.org/officeDocument/2006/relationships/image" Target="../media/image81.png"/><Relationship Id="rId39" Type="http://schemas.openxmlformats.org/officeDocument/2006/relationships/image" Target="../media/image82.png"/><Relationship Id="rId40" Type="http://schemas.openxmlformats.org/officeDocument/2006/relationships/image" Target="../media/image83.png"/><Relationship Id="rId41" Type="http://schemas.openxmlformats.org/officeDocument/2006/relationships/image" Target="../media/image84.png"/><Relationship Id="rId42" Type="http://schemas.openxmlformats.org/officeDocument/2006/relationships/image" Target="../media/image85.png"/><Relationship Id="rId43" Type="http://schemas.openxmlformats.org/officeDocument/2006/relationships/image" Target="../media/image86.png"/><Relationship Id="rId44" Type="http://schemas.openxmlformats.org/officeDocument/2006/relationships/image" Target="../media/image87.png"/><Relationship Id="rId45" Type="http://schemas.openxmlformats.org/officeDocument/2006/relationships/image" Target="../media/image88.png"/><Relationship Id="rId46" Type="http://schemas.openxmlformats.org/officeDocument/2006/relationships/image" Target="../media/image89.png"/><Relationship Id="rId47" Type="http://schemas.openxmlformats.org/officeDocument/2006/relationships/image" Target="../media/image90.png"/><Relationship Id="rId48" Type="http://schemas.openxmlformats.org/officeDocument/2006/relationships/image" Target="../media/image91.png"/><Relationship Id="rId49" Type="http://schemas.openxmlformats.org/officeDocument/2006/relationships/image" Target="../media/image92.png"/><Relationship Id="rId50" Type="http://schemas.openxmlformats.org/officeDocument/2006/relationships/image" Target="../media/image93.png"/><Relationship Id="rId51" Type="http://schemas.openxmlformats.org/officeDocument/2006/relationships/image" Target="../media/image94.png"/><Relationship Id="rId52" Type="http://schemas.openxmlformats.org/officeDocument/2006/relationships/image" Target="../media/image95.png"/><Relationship Id="rId53" Type="http://schemas.openxmlformats.org/officeDocument/2006/relationships/image" Target="../media/image96.png"/><Relationship Id="rId54" Type="http://schemas.openxmlformats.org/officeDocument/2006/relationships/image" Target="../media/image97.png"/><Relationship Id="rId55" Type="http://schemas.openxmlformats.org/officeDocument/2006/relationships/image" Target="../media/image98.png"/><Relationship Id="rId56" Type="http://schemas.openxmlformats.org/officeDocument/2006/relationships/image" Target="../media/image99.png"/><Relationship Id="rId57" Type="http://schemas.openxmlformats.org/officeDocument/2006/relationships/image" Target="../media/image100.png"/><Relationship Id="rId58" Type="http://schemas.openxmlformats.org/officeDocument/2006/relationships/image" Target="../media/image101.png"/><Relationship Id="rId59" Type="http://schemas.openxmlformats.org/officeDocument/2006/relationships/image" Target="../media/image102.png"/><Relationship Id="rId60" Type="http://schemas.openxmlformats.org/officeDocument/2006/relationships/image" Target="../media/image103.png"/><Relationship Id="rId61" Type="http://schemas.openxmlformats.org/officeDocument/2006/relationships/image" Target="../media/image104.png"/><Relationship Id="rId62" Type="http://schemas.openxmlformats.org/officeDocument/2006/relationships/image" Target="../media/image105.png"/><Relationship Id="rId63" Type="http://schemas.openxmlformats.org/officeDocument/2006/relationships/image" Target="../media/image106.png"/><Relationship Id="rId64" Type="http://schemas.openxmlformats.org/officeDocument/2006/relationships/image" Target="../media/image107.png"/><Relationship Id="rId65" Type="http://schemas.openxmlformats.org/officeDocument/2006/relationships/image" Target="../media/image108.png"/><Relationship Id="rId66" Type="http://schemas.openxmlformats.org/officeDocument/2006/relationships/image" Target="../media/image109.png"/><Relationship Id="rId67" Type="http://schemas.openxmlformats.org/officeDocument/2006/relationships/image" Target="../media/image110.png"/><Relationship Id="rId68" Type="http://schemas.openxmlformats.org/officeDocument/2006/relationships/image" Target="../media/image111.png"/><Relationship Id="rId69" Type="http://schemas.openxmlformats.org/officeDocument/2006/relationships/image" Target="../media/image112.png"/><Relationship Id="rId70" Type="http://schemas.openxmlformats.org/officeDocument/2006/relationships/image" Target="../media/image113.png"/><Relationship Id="rId71" Type="http://schemas.openxmlformats.org/officeDocument/2006/relationships/image" Target="../media/image114.png"/><Relationship Id="rId72" Type="http://schemas.openxmlformats.org/officeDocument/2006/relationships/image" Target="../media/image115.png"/><Relationship Id="rId73" Type="http://schemas.openxmlformats.org/officeDocument/2006/relationships/image" Target="../media/image116.png"/><Relationship Id="rId74" Type="http://schemas.openxmlformats.org/officeDocument/2006/relationships/image" Target="../media/image117.png"/><Relationship Id="rId75" Type="http://schemas.openxmlformats.org/officeDocument/2006/relationships/image" Target="../media/image118.png"/><Relationship Id="rId76" Type="http://schemas.openxmlformats.org/officeDocument/2006/relationships/image" Target="../media/image119.png"/><Relationship Id="rId77" Type="http://schemas.openxmlformats.org/officeDocument/2006/relationships/image" Target="../media/image120.png"/><Relationship Id="rId78" Type="http://schemas.openxmlformats.org/officeDocument/2006/relationships/image" Target="../media/image121.png"/><Relationship Id="rId79" Type="http://schemas.openxmlformats.org/officeDocument/2006/relationships/image" Target="../media/image122.png"/><Relationship Id="rId80" Type="http://schemas.openxmlformats.org/officeDocument/2006/relationships/image" Target="../media/image123.png"/><Relationship Id="rId81" Type="http://schemas.openxmlformats.org/officeDocument/2006/relationships/image" Target="../media/image124.png"/><Relationship Id="rId82" Type="http://schemas.openxmlformats.org/officeDocument/2006/relationships/image" Target="../media/image125.png"/><Relationship Id="rId83" Type="http://schemas.openxmlformats.org/officeDocument/2006/relationships/image" Target="../media/image126.png"/><Relationship Id="rId84" Type="http://schemas.openxmlformats.org/officeDocument/2006/relationships/image" Target="../media/image127.png"/><Relationship Id="rId85" Type="http://schemas.openxmlformats.org/officeDocument/2006/relationships/image" Target="../media/image128.png"/><Relationship Id="rId86" Type="http://schemas.openxmlformats.org/officeDocument/2006/relationships/image" Target="../media/image129.png"/><Relationship Id="rId87" Type="http://schemas.openxmlformats.org/officeDocument/2006/relationships/image" Target="../media/image130.png"/><Relationship Id="rId88" Type="http://schemas.openxmlformats.org/officeDocument/2006/relationships/image" Target="../media/image131.png"/><Relationship Id="rId89" Type="http://schemas.openxmlformats.org/officeDocument/2006/relationships/image" Target="../media/image132.png"/><Relationship Id="rId90" Type="http://schemas.openxmlformats.org/officeDocument/2006/relationships/image" Target="../media/image133.png"/><Relationship Id="rId91" Type="http://schemas.openxmlformats.org/officeDocument/2006/relationships/image" Target="../media/image134.png"/><Relationship Id="rId92" Type="http://schemas.openxmlformats.org/officeDocument/2006/relationships/image" Target="../media/image135.png"/><Relationship Id="rId93" Type="http://schemas.openxmlformats.org/officeDocument/2006/relationships/image" Target="../media/image136.png"/><Relationship Id="rId94" Type="http://schemas.openxmlformats.org/officeDocument/2006/relationships/image" Target="../media/image137.png"/><Relationship Id="rId95" Type="http://schemas.openxmlformats.org/officeDocument/2006/relationships/image" Target="../media/image138.png"/><Relationship Id="rId96" Type="http://schemas.openxmlformats.org/officeDocument/2006/relationships/image" Target="../media/image139.png"/><Relationship Id="rId97" Type="http://schemas.openxmlformats.org/officeDocument/2006/relationships/image" Target="../media/image140.png"/><Relationship Id="rId98" Type="http://schemas.openxmlformats.org/officeDocument/2006/relationships/image" Target="../media/image141.png"/><Relationship Id="rId99" Type="http://schemas.openxmlformats.org/officeDocument/2006/relationships/image" Target="../media/image142.png"/><Relationship Id="rId100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8784360" y="42735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接连接符 27"/>
          <p:cNvSpPr/>
          <p:nvPr/>
        </p:nvSpPr>
        <p:spPr>
          <a:xfrm>
            <a:off x="133668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32"/>
          <p:cNvSpPr/>
          <p:nvPr/>
        </p:nvSpPr>
        <p:spPr>
          <a:xfrm>
            <a:off x="1463760" y="33660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841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842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4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5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846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847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9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851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852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4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856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857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9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861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862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4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885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886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5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7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898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899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1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912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4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25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7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928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930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2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73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5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4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005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6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8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7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38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0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041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2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053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056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059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2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4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9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70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71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3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4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75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76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8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9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80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81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3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4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85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86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8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9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90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91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3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4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8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9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0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1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2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3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114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2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123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124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7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38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0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8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49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0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6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7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8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7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8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0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584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585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588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591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592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4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595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598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1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602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4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605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606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8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609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1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612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613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5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6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7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198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199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200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8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09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0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5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236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59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4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275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276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277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5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86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2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93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94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6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7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98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99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1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2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303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304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6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7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308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309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1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2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313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314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6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7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6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337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338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0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1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3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354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35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8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69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6" name="Shape 21"/>
          <p:cNvCxnSpPr>
            <a:stCxn id="1375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7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8" name="Shape 11"/>
          <p:cNvCxnSpPr>
            <a:stCxn id="1377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9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0" name="Shape 16"/>
          <p:cNvCxnSpPr>
            <a:stCxn id="1379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1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2" name="Shape 19"/>
          <p:cNvCxnSpPr>
            <a:stCxn id="1381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3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1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92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4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6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410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4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15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7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8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628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629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1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2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633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634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6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638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639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1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643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644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6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648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649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1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2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文本框 8"/>
          <p:cNvSpPr/>
          <p:nvPr/>
        </p:nvSpPr>
        <p:spPr>
          <a:xfrm>
            <a:off x="9415440" y="3876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直接连接符 27"/>
          <p:cNvSpPr/>
          <p:nvPr/>
        </p:nvSpPr>
        <p:spPr>
          <a:xfrm>
            <a:off x="36504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文本框 32"/>
          <p:cNvSpPr/>
          <p:nvPr/>
        </p:nvSpPr>
        <p:spPr>
          <a:xfrm>
            <a:off x="492120" y="33660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447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0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451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2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1453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4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1455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456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1458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9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1460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2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463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1464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6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1467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8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1469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0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1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2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1473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4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1475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6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1477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78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1479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1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2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1483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4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1485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6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1487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8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9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90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91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92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1493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4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495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1496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1497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498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2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1503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4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1505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1506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07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1508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509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1510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1511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2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1513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1514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9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20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1521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1522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4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1525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7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1528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1529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530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1531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1532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533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4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535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6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1537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1538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1539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1540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1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1542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1543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1544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9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1550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1551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3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1554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1555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1556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1557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1558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1559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1560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1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1562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1563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1564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65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6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67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1568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0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1571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1572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3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1574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1575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1576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7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1578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1579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80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1581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5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586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1587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0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591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1592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1593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7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1598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9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600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601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1602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1603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1604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1605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1606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667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680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92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716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717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718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19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45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7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748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8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759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762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4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65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7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768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6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97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9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800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1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802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2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3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6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7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3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4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哎呀小小草</dc:creator>
  <dc:description/>
  <cp:keywords/>
  <dc:language>en-US</dc:language>
  <cp:lastModifiedBy>my</cp:lastModifiedBy>
  <dcterms:modified xsi:type="dcterms:W3CDTF">2015-11-24T11:14:31Z</dcterms:modified>
  <cp:revision>118</cp:revision>
  <dc:subject/>
  <dc:title>PowerPoint 演示文稿</dc:title>
</cp:coreProperties>
</file>