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0DE-3A84-497E-82F5-F46D5AD2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9C24-6910-4954-98A6-26E1D430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BDD-BAE2-4C0A-85A0-8A2E9376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BBC3-27D0-43A0-9861-3D92D10C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01C-3140-41D0-ACC6-FE860A4C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81B9-0DE0-4451-A0A8-7744205D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CE6-BB1F-450B-B905-1BC78963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159E-550A-4056-AF2D-E30ABE32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1F0-63E9-4BBA-859C-11EB56D9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07D1-593B-4F79-9033-4A4625AB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E88D-8328-49EB-A82D-2AE40790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DF35-2B3A-4701-A101-7C7F7013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543A-CD15-4242-88A5-772DDA7C6E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42908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29000" y="52642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500120" y="571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140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6569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1926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57837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6407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2926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497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61408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27118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5855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5855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7836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35690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140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42656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4267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426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36406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6569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09-02T09:58:40Z</dcterms:modified>
  <cp:revision>67</cp:revision>
  <dc:subject/>
  <dc:title>幻灯片 1</dc:title>
</cp:coreProperties>
</file>