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EDF1-2F62-4D97-AF6C-3C4CC7C20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B740-93FC-4907-B654-AB6F8B0B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EC31-7EB3-4754-8AB1-C85D491E9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7BA6-E9C5-40F9-A9E3-DC83174BD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8469-D4AA-4335-B8E7-D565A73C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68DF-BE00-490F-80A9-5391C784A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D463-F3AD-416F-ADE9-403DC392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7F72-073E-488A-A648-D642943C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164C-ABDC-4A92-ADE8-31B76CD2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F4D2-9A3E-42B5-AA59-B2B9F5DF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6AA9-CB7D-4C81-8947-A20BEDA9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DC00-2A13-4BD7-B5D7-45664156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4550-ED78-459B-ABF7-30156FBF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D0B6-492F-4837-8B26-B6374CD8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57DC-9D76-4F35-927E-5D9AA2EA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2DEE-8EBE-432E-8A27-F99DEA33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89B2-483A-439C-A90B-4424F25BC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C90A-966C-4F1C-B47B-D4F3500D5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739F-D0B4-40EE-853D-CBDF5E5F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6502-C439-4467-AD55-13C39997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AE30-2C74-40C4-B8BB-1E6319E2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CB89-25A4-4C7E-911D-F228F245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D83D-2C99-460A-B119-C954EF78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F223-798C-46D2-88F5-C9CB65C1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06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2a7f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dc5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1e2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A417-908D-471E-AF73-CC1F324C01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1066680"/>
            <a:ext cx="9144000" cy="730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50000">
                <a:srgbClr val="fdc529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2371680"/>
          <a:ext cx="9144000" cy="448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371680"/>
                    <a:ext cx="914400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380880" y="3049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1e2fb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3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50000">
                <a:srgbClr val="fdc529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93080" cy="72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c529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dc529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1e2f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6297-BE9E-426B-A759-96F5B18BF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925040" cy="101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c529"/>
                </a:solidFill>
                <a:latin typeface="Verdana"/>
              </a:rPr>
              <a:t>PowerPoint</a:t>
            </a:r>
            <a:r>
              <a:rPr b="1" lang="en-US" sz="4400" spc="-1" strike="noStrike">
                <a:solidFill>
                  <a:srgbClr val="fdc529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Template</a:t>
            </a:r>
            <a:endParaRPr b="1" lang="en-US" sz="4000" spc="-1" strike="noStrike">
              <a:solidFill>
                <a:srgbClr val="fdc529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90360" y="632448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PowerPoint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1636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fdc529"/>
              </a:gs>
              <a:gs pos="100000">
                <a:srgbClr val="fde5a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65164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72a7f6"/>
              </a:gs>
              <a:gs pos="100000">
                <a:srgbClr val="c2d8f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2a7f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72a7f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36912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d5a84"/>
              </a:gs>
              <a:gs pos="50000">
                <a:srgbClr val="72a7f6"/>
              </a:gs>
              <a:gs pos="100000">
                <a:srgbClr val="3d5a8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400800" y="24382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2a7f6">
                  <a:alpha val="0"/>
                </a:srgbClr>
              </a:gs>
              <a:gs pos="100000">
                <a:srgbClr val="48699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4706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a5a5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a5a5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96760" y="2421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85889"/>
              </a:gs>
              <a:gs pos="50000">
                <a:srgbClr val="a5a5ff"/>
              </a:gs>
              <a:gs pos="100000">
                <a:srgbClr val="5858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98560" y="24242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a5a5ff">
                  <a:alpha val="0"/>
                </a:srgbClr>
              </a:gs>
              <a:gs pos="100000">
                <a:srgbClr val="6868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90720" y="25146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017720" y="2540160"/>
            <a:ext cx="1636560" cy="1636560"/>
            <a:chOff x="1017720" y="2540160"/>
            <a:chExt cx="1636560" cy="1636560"/>
          </a:xfrm>
        </p:grpSpPr>
        <p:sp>
          <p:nvSpPr>
            <p:cNvPr id="315" name=""/>
            <p:cNvSpPr/>
            <p:nvPr/>
          </p:nvSpPr>
          <p:spPr>
            <a:xfrm>
              <a:off x="101772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3860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5552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14444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dc52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745a12"/>
              </a:gs>
              <a:gs pos="100000">
                <a:srgbClr val="fdc52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63384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886a16"/>
              </a:gs>
              <a:gs pos="50000">
                <a:srgbClr val="fdc529"/>
              </a:gs>
              <a:gs pos="100000">
                <a:srgbClr val="886a1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635280" y="2430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fdc529">
                  <a:alpha val="0"/>
                </a:srgbClr>
              </a:gs>
              <a:gs pos="100000">
                <a:srgbClr val="a07c1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274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754440" y="2540160"/>
            <a:ext cx="1636560" cy="1636560"/>
            <a:chOff x="3754440" y="2540160"/>
            <a:chExt cx="1636560" cy="1636560"/>
          </a:xfrm>
        </p:grpSpPr>
        <p:sp>
          <p:nvSpPr>
            <p:cNvPr id="325" name=""/>
            <p:cNvSpPr/>
            <p:nvPr/>
          </p:nvSpPr>
          <p:spPr>
            <a:xfrm>
              <a:off x="375444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7532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9224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8116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500880" y="2540160"/>
            <a:ext cx="1636560" cy="1636560"/>
            <a:chOff x="6500880" y="2540160"/>
            <a:chExt cx="1636560" cy="1636560"/>
          </a:xfrm>
        </p:grpSpPr>
        <p:sp>
          <p:nvSpPr>
            <p:cNvPr id="330" name=""/>
            <p:cNvSpPr/>
            <p:nvPr/>
          </p:nvSpPr>
          <p:spPr>
            <a:xfrm>
              <a:off x="650088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52176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3868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62760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8049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53844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913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4522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1954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9386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Unknown Shape"/>
          <p:cNvSpPr/>
          <p:nvPr/>
        </p:nvSpPr>
        <p:spPr>
          <a:xfrm>
            <a:off x="106668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0066cc"/>
              </a:gs>
              <a:gs pos="100000">
                <a:srgbClr val="72a7f6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3124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e2fb"/>
                </a:solidFill>
                <a:latin typeface="Arial"/>
              </a:rPr>
              <a:t>Add Your Title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20876400">
            <a:off x="3102120" y="507672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33720" y="385776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054240" y="386712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071880" y="388296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164040" y="3927600"/>
            <a:ext cx="140940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451320" y="44845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20826600">
            <a:off x="1273320" y="446688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1197000" y="3476520"/>
            <a:ext cx="1371240" cy="1441080"/>
            <a:chOff x="1197000" y="3476520"/>
            <a:chExt cx="1371240" cy="1441080"/>
          </a:xfrm>
        </p:grpSpPr>
        <p:sp>
          <p:nvSpPr>
            <p:cNvPr id="351" name=""/>
            <p:cNvSpPr/>
            <p:nvPr/>
          </p:nvSpPr>
          <p:spPr>
            <a:xfrm>
              <a:off x="1197000" y="347652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15000" y="348480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27960" y="349812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299600" y="353484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77440" y="39826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011240" y="271152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087560" y="210492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100160" y="21099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11320" y="2120760"/>
            <a:ext cx="95076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65320" y="214632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284480" y="24541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416320" y="218124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38360" y="164772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548080" y="165096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54200" y="1657440"/>
            <a:ext cx="63360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1676520"/>
            <a:ext cx="56340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608920" y="187164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17973000">
            <a:off x="4777560" y="245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3465600">
            <a:off x="4777200" y="46220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14368800">
            <a:off x="3557880" y="25336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7534800">
            <a:off x="3520080" y="45885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356080" y="35863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10800000">
            <a:off x="2945880" y="35798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692440" y="1817640"/>
            <a:ext cx="3743280" cy="3745080"/>
          </a:xfrm>
          <a:prstGeom prst="ellipse">
            <a:avLst/>
          </a:pr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429000" y="1876320"/>
            <a:ext cx="360360" cy="360360"/>
            <a:chOff x="3429000" y="1876320"/>
            <a:chExt cx="360360" cy="360360"/>
          </a:xfrm>
        </p:grpSpPr>
        <p:sp>
          <p:nvSpPr>
            <p:cNvPr id="377" name=""/>
            <p:cNvSpPr/>
            <p:nvPr/>
          </p:nvSpPr>
          <p:spPr>
            <a:xfrm>
              <a:off x="3429000" y="187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44840" y="190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2484360" y="3532320"/>
            <a:ext cx="360360" cy="360360"/>
            <a:chOff x="2484360" y="3532320"/>
            <a:chExt cx="360360" cy="360360"/>
          </a:xfrm>
        </p:grpSpPr>
        <p:sp>
          <p:nvSpPr>
            <p:cNvPr id="380" name=""/>
            <p:cNvSpPr/>
            <p:nvPr/>
          </p:nvSpPr>
          <p:spPr>
            <a:xfrm>
              <a:off x="24843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50020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348000" y="5075280"/>
            <a:ext cx="360360" cy="360360"/>
            <a:chOff x="3348000" y="5075280"/>
            <a:chExt cx="360360" cy="360360"/>
          </a:xfrm>
        </p:grpSpPr>
        <p:sp>
          <p:nvSpPr>
            <p:cNvPr id="383" name=""/>
            <p:cNvSpPr/>
            <p:nvPr/>
          </p:nvSpPr>
          <p:spPr>
            <a:xfrm>
              <a:off x="3348000" y="507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363840" y="510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5278320" y="1855800"/>
            <a:ext cx="360360" cy="360360"/>
            <a:chOff x="5278320" y="1855800"/>
            <a:chExt cx="360360" cy="360360"/>
          </a:xfrm>
        </p:grpSpPr>
        <p:sp>
          <p:nvSpPr>
            <p:cNvPr id="386" name=""/>
            <p:cNvSpPr/>
            <p:nvPr/>
          </p:nvSpPr>
          <p:spPr>
            <a:xfrm>
              <a:off x="527832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29416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6227640" y="3532320"/>
            <a:ext cx="360360" cy="360360"/>
            <a:chOff x="6227640" y="3532320"/>
            <a:chExt cx="360360" cy="360360"/>
          </a:xfrm>
        </p:grpSpPr>
        <p:sp>
          <p:nvSpPr>
            <p:cNvPr id="389" name=""/>
            <p:cNvSpPr/>
            <p:nvPr/>
          </p:nvSpPr>
          <p:spPr>
            <a:xfrm>
              <a:off x="622764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24348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5334120" y="5132520"/>
            <a:ext cx="360360" cy="360360"/>
            <a:chOff x="5334120" y="5132520"/>
            <a:chExt cx="360360" cy="360360"/>
          </a:xfrm>
        </p:grpSpPr>
        <p:sp>
          <p:nvSpPr>
            <p:cNvPr id="392" name=""/>
            <p:cNvSpPr/>
            <p:nvPr/>
          </p:nvSpPr>
          <p:spPr>
            <a:xfrm>
              <a:off x="533412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349960" y="5162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3581280" y="27734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2a7f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586320" y="2779560"/>
            <a:ext cx="1944360" cy="1944720"/>
          </a:xfrm>
          <a:prstGeom prst="ellipse">
            <a:avLst/>
          </a:prstGeom>
          <a:gradFill rotWithShape="0">
            <a:gsLst>
              <a:gs pos="0">
                <a:srgbClr val="344c71"/>
              </a:gs>
              <a:gs pos="100000">
                <a:srgbClr val="72a7f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08360" y="29005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3d5a84"/>
              </a:gs>
              <a:gs pos="50000">
                <a:srgbClr val="72a7f6"/>
              </a:gs>
              <a:gs pos="100000">
                <a:srgbClr val="3d5a8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691080" y="28735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72a7f6">
                  <a:alpha val="0"/>
                </a:srgbClr>
              </a:gs>
              <a:gs pos="100000">
                <a:srgbClr val="48699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3792600" y="2984400"/>
            <a:ext cx="1522440" cy="1522440"/>
            <a:chOff x="3792600" y="2984400"/>
            <a:chExt cx="1522440" cy="1522440"/>
          </a:xfrm>
        </p:grpSpPr>
        <p:sp>
          <p:nvSpPr>
            <p:cNvPr id="399" name=""/>
            <p:cNvSpPr/>
            <p:nvPr/>
          </p:nvSpPr>
          <p:spPr>
            <a:xfrm>
              <a:off x="3792600" y="29844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14920" y="300348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32200" y="30128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48040" y="30272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929040" y="30636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4121640" y="34732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71752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1700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3192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717520" y="515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00260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840680" y="509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143000" y="236520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76480" y="2373480"/>
            <a:ext cx="2098440" cy="280332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54">
                <a:moveTo>
                  <a:pt x="3600" y="0"/>
                </a:moveTo>
                <a:arcTo wR="3600" hR="3600" stAng="16200000" swAng="-5400000"/>
                <a:lnTo>
                  <a:pt x="0" y="25254"/>
                </a:lnTo>
                <a:arcTo wR="3600" hR="3600" stAng="10800000" swAng="-5400000"/>
                <a:lnTo>
                  <a:pt x="18000" y="288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193760" y="443700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acd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93760" y="239544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ddef5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149480" y="5222880"/>
            <a:ext cx="2163600" cy="79200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0066cc"/>
              </a:gs>
              <a:gs pos="100000">
                <a:srgbClr val="002a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193760" y="5246640"/>
            <a:ext cx="2070000" cy="70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2a7f6"/>
              </a:gs>
              <a:gs pos="100000">
                <a:srgbClr val="002a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1887480" y="2057400"/>
            <a:ext cx="642960" cy="642960"/>
            <a:chOff x="1887480" y="2057400"/>
            <a:chExt cx="642960" cy="642960"/>
          </a:xfrm>
        </p:grpSpPr>
        <p:sp>
          <p:nvSpPr>
            <p:cNvPr id="419" name=""/>
            <p:cNvSpPr/>
            <p:nvPr/>
          </p:nvSpPr>
          <p:spPr>
            <a:xfrm>
              <a:off x="1887480" y="2057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893960" y="2062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01880" y="206604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908360" y="2071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42200" y="2087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027520" y="214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19320" y="281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505320" y="236520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538440" y="237348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556080" y="443700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1f0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56080" y="239544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ff6d3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249800" y="205740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255920" y="2062080"/>
            <a:ext cx="622440" cy="6224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264200" y="2065320"/>
            <a:ext cx="607680" cy="6080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270320" y="2071800"/>
            <a:ext cx="577800" cy="5666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305240" y="2087640"/>
            <a:ext cx="513000" cy="460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389840" y="214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581280" y="281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508200" y="5222880"/>
            <a:ext cx="2163960" cy="79200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669900"/>
              </a:gs>
              <a:gs pos="100000">
                <a:srgbClr val="002f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552840" y="5246640"/>
            <a:ext cx="2070000" cy="773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002f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67280" y="2365200"/>
            <a:ext cx="2163960" cy="285768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3">
                <a:moveTo>
                  <a:pt x="3782" y="0"/>
                </a:moveTo>
                <a:arcTo wR="3782" hR="3782" stAng="16200000" swAng="-5400000"/>
                <a:lnTo>
                  <a:pt x="0" y="24741"/>
                </a:lnTo>
                <a:arcTo wR="3782" hR="3782" stAng="10800000" swAng="-5400000"/>
                <a:lnTo>
                  <a:pt x="17818" y="28523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900760" y="237348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918040" y="443700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1e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918040" y="239544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3ca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6611760" y="2057400"/>
            <a:ext cx="642960" cy="642960"/>
            <a:chOff x="6611760" y="2057400"/>
            <a:chExt cx="642960" cy="642960"/>
          </a:xfrm>
        </p:grpSpPr>
        <p:sp>
          <p:nvSpPr>
            <p:cNvPr id="444" name=""/>
            <p:cNvSpPr/>
            <p:nvPr/>
          </p:nvSpPr>
          <p:spPr>
            <a:xfrm>
              <a:off x="6611760" y="2057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18240" y="2062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626160" y="206604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32640" y="2071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66480" y="2087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6752160" y="214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943600" y="281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861160" y="5222880"/>
            <a:ext cx="2163600" cy="79200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a39446"/>
              </a:gs>
              <a:gs pos="100000">
                <a:srgbClr val="00329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905440" y="5246640"/>
            <a:ext cx="2070000" cy="773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00329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30304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3083040"/>
            <a:ext cx="9144000" cy="14292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609480" y="2286000"/>
            <a:ext cx="8159760" cy="3740760"/>
            <a:chOff x="609480" y="2286000"/>
            <a:chExt cx="8159760" cy="3740760"/>
          </a:xfrm>
        </p:grpSpPr>
        <p:grpSp>
          <p:nvGrpSpPr>
            <p:cNvPr id="457" name=""/>
            <p:cNvGrpSpPr/>
            <p:nvPr/>
          </p:nvGrpSpPr>
          <p:grpSpPr>
            <a:xfrm>
              <a:off x="4957920" y="3342240"/>
              <a:ext cx="1654920" cy="2612880"/>
              <a:chOff x="4957920" y="3342240"/>
              <a:chExt cx="1654920" cy="2612880"/>
            </a:xfrm>
          </p:grpSpPr>
          <p:grpSp>
            <p:nvGrpSpPr>
              <p:cNvPr id="458" name=""/>
              <p:cNvGrpSpPr/>
              <p:nvPr/>
            </p:nvGrpSpPr>
            <p:grpSpPr>
              <a:xfrm>
                <a:off x="4957920" y="3514680"/>
                <a:ext cx="1535040" cy="2440440"/>
                <a:chOff x="4957920" y="3514680"/>
                <a:chExt cx="1535040" cy="2440440"/>
              </a:xfrm>
            </p:grpSpPr>
            <p:sp>
              <p:nvSpPr>
                <p:cNvPr id="459" name="Unknown Shape"/>
                <p:cNvSpPr/>
                <p:nvPr/>
              </p:nvSpPr>
              <p:spPr>
                <a:xfrm rot="3876600">
                  <a:off x="4502520" y="4465440"/>
                  <a:ext cx="2445840" cy="5382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60" name="Unknown Shape"/>
                <p:cNvSpPr/>
                <p:nvPr/>
              </p:nvSpPr>
              <p:spPr>
                <a:xfrm rot="3876600">
                  <a:off x="5972400" y="5410800"/>
                  <a:ext cx="384480" cy="44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5435280" y="3342240"/>
                <a:ext cx="1177560" cy="1872360"/>
                <a:chOff x="5435280" y="3342240"/>
                <a:chExt cx="1177560" cy="1872360"/>
              </a:xfrm>
            </p:grpSpPr>
            <p:sp>
              <p:nvSpPr>
                <p:cNvPr id="462" name="Unknown Shape"/>
                <p:cNvSpPr/>
                <p:nvPr/>
              </p:nvSpPr>
              <p:spPr>
                <a:xfrm flipV="1" rot="3876600">
                  <a:off x="5085720" y="4071240"/>
                  <a:ext cx="1876680" cy="412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63" name="Unknown Shape"/>
                <p:cNvSpPr/>
                <p:nvPr/>
              </p:nvSpPr>
              <p:spPr>
                <a:xfrm flipV="1" rot="3876600">
                  <a:off x="6196680" y="4804560"/>
                  <a:ext cx="294840" cy="33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4" name=""/>
            <p:cNvGrpSpPr/>
            <p:nvPr/>
          </p:nvGrpSpPr>
          <p:grpSpPr>
            <a:xfrm>
              <a:off x="4502880" y="2440800"/>
              <a:ext cx="1390680" cy="1406880"/>
              <a:chOff x="4502880" y="2440800"/>
              <a:chExt cx="1390680" cy="1406880"/>
            </a:xfrm>
          </p:grpSpPr>
          <p:sp>
            <p:nvSpPr>
              <p:cNvPr id="465" name=""/>
              <p:cNvSpPr/>
              <p:nvPr/>
            </p:nvSpPr>
            <p:spPr>
              <a:xfrm>
                <a:off x="45028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5028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594680" y="253224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94680" y="253512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654800" y="2594160"/>
                <a:ext cx="108648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grpSp>
            <p:nvGrpSpPr>
              <p:cNvPr id="470" name=""/>
              <p:cNvGrpSpPr/>
              <p:nvPr/>
            </p:nvGrpSpPr>
            <p:grpSpPr>
              <a:xfrm>
                <a:off x="4671360" y="2611080"/>
                <a:ext cx="1053360" cy="1067040"/>
                <a:chOff x="4671360" y="2611080"/>
                <a:chExt cx="1053360" cy="10670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4671360" y="2611080"/>
                  <a:ext cx="1053360" cy="106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4684680" y="2616840"/>
                  <a:ext cx="1027800" cy="104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4695480" y="2627280"/>
                  <a:ext cx="977760" cy="97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4752720" y="2654280"/>
                  <a:ext cx="86904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5" name=""/>
            <p:cNvGrpSpPr/>
            <p:nvPr/>
          </p:nvGrpSpPr>
          <p:grpSpPr>
            <a:xfrm>
              <a:off x="7114320" y="3413880"/>
              <a:ext cx="1654920" cy="2612880"/>
              <a:chOff x="7114320" y="3413880"/>
              <a:chExt cx="1654920" cy="261288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7114320" y="3586320"/>
                <a:ext cx="1535040" cy="2440440"/>
                <a:chOff x="7114320" y="3586320"/>
                <a:chExt cx="1535040" cy="2440440"/>
              </a:xfrm>
            </p:grpSpPr>
            <p:sp>
              <p:nvSpPr>
                <p:cNvPr id="477" name="Unknown Shape"/>
                <p:cNvSpPr/>
                <p:nvPr/>
              </p:nvSpPr>
              <p:spPr>
                <a:xfrm rot="3876600">
                  <a:off x="6658920" y="4537080"/>
                  <a:ext cx="2445840" cy="5382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78" name="Unknown Shape"/>
                <p:cNvSpPr/>
                <p:nvPr/>
              </p:nvSpPr>
              <p:spPr>
                <a:xfrm rot="3876600">
                  <a:off x="8128800" y="5482440"/>
                  <a:ext cx="384480" cy="44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7591680" y="3413880"/>
                <a:ext cx="1177560" cy="1872360"/>
                <a:chOff x="7591680" y="3413880"/>
                <a:chExt cx="1177560" cy="1872360"/>
              </a:xfrm>
            </p:grpSpPr>
            <p:sp>
              <p:nvSpPr>
                <p:cNvPr id="480" name="Unknown Shape"/>
                <p:cNvSpPr/>
                <p:nvPr/>
              </p:nvSpPr>
              <p:spPr>
                <a:xfrm flipV="1" rot="3876600">
                  <a:off x="7242120" y="4142880"/>
                  <a:ext cx="1876680" cy="412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81" name="Unknown Shape"/>
                <p:cNvSpPr/>
                <p:nvPr/>
              </p:nvSpPr>
              <p:spPr>
                <a:xfrm flipV="1" rot="3876600">
                  <a:off x="8353080" y="4876200"/>
                  <a:ext cx="294840" cy="33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2" name=""/>
            <p:cNvSpPr/>
            <p:nvPr/>
          </p:nvSpPr>
          <p:spPr>
            <a:xfrm>
              <a:off x="6448680" y="2286000"/>
              <a:ext cx="167148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448680" y="2286000"/>
              <a:ext cx="167148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99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561000" y="2395800"/>
              <a:ext cx="1450800" cy="1465560"/>
            </a:xfrm>
            <a:prstGeom prst="ellipse">
              <a:avLst/>
            </a:prstGeom>
            <a:gradFill rotWithShape="0">
              <a:gsLst>
                <a:gs pos="0">
                  <a:srgbClr val="1b5289"/>
                </a:gs>
                <a:gs pos="50000">
                  <a:srgbClr val="3399ff"/>
                </a:gs>
                <a:gs pos="100000">
                  <a:srgbClr val="1b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562440" y="2399040"/>
              <a:ext cx="1450440" cy="146556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0"/>
                  </a:srgbClr>
                </a:gs>
                <a:gs pos="100000">
                  <a:srgbClr val="2060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632640" y="2470320"/>
              <a:ext cx="1306440" cy="1318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6653160" y="2490480"/>
              <a:ext cx="1266480" cy="1279440"/>
              <a:chOff x="6653160" y="2490480"/>
              <a:chExt cx="1266480" cy="1279440"/>
            </a:xfrm>
          </p:grpSpPr>
          <p:sp>
            <p:nvSpPr>
              <p:cNvPr id="488" name=""/>
              <p:cNvSpPr/>
              <p:nvPr/>
            </p:nvSpPr>
            <p:spPr>
              <a:xfrm>
                <a:off x="6653160" y="2490480"/>
                <a:ext cx="1266480" cy="1279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669360" y="2497320"/>
                <a:ext cx="1235880" cy="12477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682320" y="2509920"/>
                <a:ext cx="1175400" cy="11656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751080" y="2542320"/>
                <a:ext cx="1044720" cy="946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2979360" y="3342240"/>
              <a:ext cx="1655280" cy="2612880"/>
              <a:chOff x="2979360" y="3342240"/>
              <a:chExt cx="1655280" cy="2612880"/>
            </a:xfrm>
          </p:grpSpPr>
          <p:grpSp>
            <p:nvGrpSpPr>
              <p:cNvPr id="493" name=""/>
              <p:cNvGrpSpPr/>
              <p:nvPr/>
            </p:nvGrpSpPr>
            <p:grpSpPr>
              <a:xfrm>
                <a:off x="2979360" y="3514680"/>
                <a:ext cx="1535400" cy="2440440"/>
                <a:chOff x="2979360" y="3514680"/>
                <a:chExt cx="1535400" cy="2440440"/>
              </a:xfrm>
            </p:grpSpPr>
            <p:sp>
              <p:nvSpPr>
                <p:cNvPr id="494" name="Unknown Shape"/>
                <p:cNvSpPr/>
                <p:nvPr/>
              </p:nvSpPr>
              <p:spPr>
                <a:xfrm rot="3876600">
                  <a:off x="2523960" y="4465440"/>
                  <a:ext cx="2445840" cy="5385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95" name="Unknown Shape"/>
                <p:cNvSpPr/>
                <p:nvPr/>
              </p:nvSpPr>
              <p:spPr>
                <a:xfrm rot="3876600">
                  <a:off x="3993840" y="5410800"/>
                  <a:ext cx="384480" cy="4410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3457080" y="3342240"/>
                <a:ext cx="1177560" cy="1872360"/>
                <a:chOff x="3457080" y="3342240"/>
                <a:chExt cx="1177560" cy="1872360"/>
              </a:xfrm>
            </p:grpSpPr>
            <p:sp>
              <p:nvSpPr>
                <p:cNvPr id="497" name="Unknown Shape"/>
                <p:cNvSpPr/>
                <p:nvPr/>
              </p:nvSpPr>
              <p:spPr>
                <a:xfrm flipV="1" rot="3876600">
                  <a:off x="3107520" y="4071240"/>
                  <a:ext cx="1876680" cy="412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98" name="Unknown Shape"/>
                <p:cNvSpPr/>
                <p:nvPr/>
              </p:nvSpPr>
              <p:spPr>
                <a:xfrm flipV="1" rot="3876600">
                  <a:off x="4218480" y="4804560"/>
                  <a:ext cx="294840" cy="33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9" name=""/>
            <p:cNvGrpSpPr/>
            <p:nvPr/>
          </p:nvGrpSpPr>
          <p:grpSpPr>
            <a:xfrm>
              <a:off x="2524680" y="2440800"/>
              <a:ext cx="1390680" cy="1406880"/>
              <a:chOff x="2524680" y="2440800"/>
              <a:chExt cx="1390680" cy="1406880"/>
            </a:xfrm>
          </p:grpSpPr>
          <p:sp>
            <p:nvSpPr>
              <p:cNvPr id="500" name=""/>
              <p:cNvSpPr/>
              <p:nvPr/>
            </p:nvSpPr>
            <p:spPr>
              <a:xfrm>
                <a:off x="25246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5246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616480" y="253224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16480" y="253512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676600" y="2594160"/>
                <a:ext cx="108648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grpSp>
            <p:nvGrpSpPr>
              <p:cNvPr id="505" name=""/>
              <p:cNvGrpSpPr/>
              <p:nvPr/>
            </p:nvGrpSpPr>
            <p:grpSpPr>
              <a:xfrm>
                <a:off x="2693160" y="2611080"/>
                <a:ext cx="1053360" cy="1067040"/>
                <a:chOff x="2693160" y="2611080"/>
                <a:chExt cx="1053360" cy="106704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2693160" y="2611080"/>
                  <a:ext cx="1053360" cy="106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706480" y="2616840"/>
                  <a:ext cx="1027800" cy="104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717280" y="2627280"/>
                  <a:ext cx="977760" cy="97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774520" y="2654280"/>
                  <a:ext cx="86904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0" name=""/>
            <p:cNvGrpSpPr/>
            <p:nvPr/>
          </p:nvGrpSpPr>
          <p:grpSpPr>
            <a:xfrm>
              <a:off x="1064520" y="3342240"/>
              <a:ext cx="1654920" cy="2612880"/>
              <a:chOff x="1064520" y="3342240"/>
              <a:chExt cx="1654920" cy="2612880"/>
            </a:xfrm>
          </p:grpSpPr>
          <p:grpSp>
            <p:nvGrpSpPr>
              <p:cNvPr id="511" name=""/>
              <p:cNvGrpSpPr/>
              <p:nvPr/>
            </p:nvGrpSpPr>
            <p:grpSpPr>
              <a:xfrm>
                <a:off x="1064520" y="3514680"/>
                <a:ext cx="1535040" cy="2440440"/>
                <a:chOff x="1064520" y="3514680"/>
                <a:chExt cx="1535040" cy="2440440"/>
              </a:xfrm>
            </p:grpSpPr>
            <p:sp>
              <p:nvSpPr>
                <p:cNvPr id="512" name="Unknown Shape"/>
                <p:cNvSpPr/>
                <p:nvPr/>
              </p:nvSpPr>
              <p:spPr>
                <a:xfrm rot="3876600">
                  <a:off x="609120" y="4465440"/>
                  <a:ext cx="2445840" cy="5382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13" name="Unknown Shape"/>
                <p:cNvSpPr/>
                <p:nvPr/>
              </p:nvSpPr>
              <p:spPr>
                <a:xfrm rot="3876600">
                  <a:off x="2079000" y="5410800"/>
                  <a:ext cx="384480" cy="44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1541880" y="3342240"/>
                <a:ext cx="1177560" cy="1872360"/>
                <a:chOff x="1541880" y="3342240"/>
                <a:chExt cx="1177560" cy="1872360"/>
              </a:xfrm>
            </p:grpSpPr>
            <p:sp>
              <p:nvSpPr>
                <p:cNvPr id="515" name="Unknown Shape"/>
                <p:cNvSpPr/>
                <p:nvPr/>
              </p:nvSpPr>
              <p:spPr>
                <a:xfrm flipV="1" rot="3876600">
                  <a:off x="1192320" y="4071240"/>
                  <a:ext cx="1876680" cy="412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16" name="Unknown Shape"/>
                <p:cNvSpPr/>
                <p:nvPr/>
              </p:nvSpPr>
              <p:spPr>
                <a:xfrm flipV="1" rot="3876600">
                  <a:off x="2303280" y="4804560"/>
                  <a:ext cx="294840" cy="33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7" name=""/>
            <p:cNvGrpSpPr/>
            <p:nvPr/>
          </p:nvGrpSpPr>
          <p:grpSpPr>
            <a:xfrm>
              <a:off x="609480" y="2440800"/>
              <a:ext cx="1390680" cy="1406880"/>
              <a:chOff x="609480" y="2440800"/>
              <a:chExt cx="1390680" cy="1406880"/>
            </a:xfrm>
          </p:grpSpPr>
          <p:sp>
            <p:nvSpPr>
              <p:cNvPr id="518" name=""/>
              <p:cNvSpPr/>
              <p:nvPr/>
            </p:nvSpPr>
            <p:spPr>
              <a:xfrm>
                <a:off x="6094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094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01280" y="253224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01280" y="253512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61400" y="2594160"/>
                <a:ext cx="108648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grpSp>
            <p:nvGrpSpPr>
              <p:cNvPr id="523" name=""/>
              <p:cNvGrpSpPr/>
              <p:nvPr/>
            </p:nvGrpSpPr>
            <p:grpSpPr>
              <a:xfrm>
                <a:off x="777960" y="2611080"/>
                <a:ext cx="1053360" cy="1067040"/>
                <a:chOff x="777960" y="2611080"/>
                <a:chExt cx="1053360" cy="106704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777960" y="2611080"/>
                  <a:ext cx="1053360" cy="106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791280" y="2616840"/>
                  <a:ext cx="1027800" cy="104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802080" y="2627280"/>
                  <a:ext cx="977760" cy="97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859320" y="2654280"/>
                  <a:ext cx="86904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8" name=""/>
            <p:cNvSpPr/>
            <p:nvPr/>
          </p:nvSpPr>
          <p:spPr>
            <a:xfrm rot="3925800">
              <a:off x="1066320" y="43509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3925800">
              <a:off x="1560960" y="4066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3925800">
              <a:off x="2977200" y="4353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3925800">
              <a:off x="3472200" y="4066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3925800">
              <a:off x="4963320" y="43509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3925800">
              <a:off x="5457600" y="4066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3925800">
              <a:off x="7102440" y="45075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3925800">
              <a:off x="7596000" y="42202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77796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76840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74984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795000" y="1752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2fb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cxnSp>
        <p:nvCxnSpPr>
          <p:cNvPr id="540" name=""/>
          <p:cNvCxnSpPr>
            <a:stCxn id="536" idx="3"/>
            <a:endCxn id="537" idx="1"/>
          </p:cNvCxnSpPr>
          <p:nvPr/>
        </p:nvCxnSpPr>
        <p:spPr>
          <a:xfrm>
            <a:off x="1514160" y="1979280"/>
            <a:ext cx="1222920" cy="1080"/>
          </a:xfrm>
          <a:prstGeom prst="straightConnector1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</p:cxnSp>
      <p:cxnSp>
        <p:nvCxnSpPr>
          <p:cNvPr id="541" name=""/>
          <p:cNvCxnSpPr>
            <a:stCxn id="537" idx="3"/>
            <a:endCxn id="538" idx="1"/>
          </p:cNvCxnSpPr>
          <p:nvPr/>
        </p:nvCxnSpPr>
        <p:spPr>
          <a:xfrm>
            <a:off x="3504960" y="1979280"/>
            <a:ext cx="1213560" cy="1080"/>
          </a:xfrm>
          <a:prstGeom prst="straightConnector1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38" idx="3"/>
            <a:endCxn id="539" idx="1"/>
          </p:cNvCxnSpPr>
          <p:nvPr/>
        </p:nvCxnSpPr>
        <p:spPr>
          <a:xfrm>
            <a:off x="5486040" y="1979640"/>
            <a:ext cx="1220040" cy="2160"/>
          </a:xfrm>
          <a:prstGeom prst="straightConnector1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562720" y="2819520"/>
            <a:ext cx="2819160" cy="281916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52c828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352680" y="2819520"/>
            <a:ext cx="2819520" cy="28191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72a7f6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244520" y="2819520"/>
            <a:ext cx="2641680" cy="2819160"/>
          </a:xfrm>
          <a:custGeom>
            <a:avLst/>
            <a:gdLst>
              <a:gd name="textAreaLeft" fmla="*/ 0 w 2641680"/>
              <a:gd name="textAreaRight" fmla="*/ 2642040 w 264168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fdc529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39716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dc529"/>
              </a:gs>
              <a:gs pos="100000">
                <a:srgbClr val="745a12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69108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2a7f6"/>
              </a:gs>
              <a:gs pos="100000">
                <a:srgbClr val="344c71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94360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2c828"/>
              </a:gs>
              <a:gs pos="100000">
                <a:srgbClr val="255c12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838080" y="1981080"/>
          <a:ext cx="7391520" cy="3505320"/>
        </p:xfrm>
        <a:graphic>
          <a:graphicData uri="http://schemas.openxmlformats.org/drawingml/2006/table">
            <a:tbl>
              <a:tblPr/>
              <a:tblGrid>
                <a:gridCol w="995400"/>
                <a:gridCol w="1930320"/>
                <a:gridCol w="357120"/>
                <a:gridCol w="1952640"/>
                <a:gridCol w="341280"/>
                <a:gridCol w="1814760"/>
              </a:tblGrid>
              <a:tr h="41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b1e2fb"/>
                      </a:solidFill>
                    </a:lnR>
                    <a:lnT>
                      <a:noFill/>
                    </a:lnT>
                    <a:lnB w="5760">
                      <a:solidFill>
                        <a:srgbClr val="b1e2f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6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>
                        <a:alpha val="7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6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rot="13770000">
            <a:off x="4989240" y="3960720"/>
            <a:ext cx="960480" cy="19188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3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rot="20856000">
            <a:off x="2999880" y="3508200"/>
            <a:ext cx="1009800" cy="17316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61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3938760" y="2202120"/>
            <a:ext cx="1704600" cy="1836000"/>
            <a:chOff x="3938760" y="2202120"/>
            <a:chExt cx="1704600" cy="1836000"/>
          </a:xfrm>
        </p:grpSpPr>
        <p:sp>
          <p:nvSpPr>
            <p:cNvPr id="556" name=""/>
            <p:cNvSpPr/>
            <p:nvPr/>
          </p:nvSpPr>
          <p:spPr>
            <a:xfrm rot="18394200">
              <a:off x="5114520" y="2414880"/>
              <a:ext cx="596160" cy="1317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3938760" y="2448720"/>
              <a:ext cx="1609560" cy="1589400"/>
              <a:chOff x="3938760" y="2448720"/>
              <a:chExt cx="1609560" cy="1589400"/>
            </a:xfrm>
          </p:grpSpPr>
          <p:sp>
            <p:nvSpPr>
              <p:cNvPr id="558" name=""/>
              <p:cNvSpPr/>
              <p:nvPr/>
            </p:nvSpPr>
            <p:spPr>
              <a:xfrm>
                <a:off x="3938760" y="2448720"/>
                <a:ext cx="1609560" cy="158940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0c313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59" name="Unknown Shape"/>
              <p:cNvSpPr/>
              <p:nvPr/>
            </p:nvSpPr>
            <p:spPr>
              <a:xfrm>
                <a:off x="4122720" y="2475000"/>
                <a:ext cx="1241640" cy="599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4025520" y="314028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5348160" y="1519200"/>
            <a:ext cx="891720" cy="861840"/>
            <a:chOff x="5348160" y="1519200"/>
            <a:chExt cx="891720" cy="861840"/>
          </a:xfrm>
        </p:grpSpPr>
        <p:grpSp>
          <p:nvGrpSpPr>
            <p:cNvPr id="562" name=""/>
            <p:cNvGrpSpPr/>
            <p:nvPr/>
          </p:nvGrpSpPr>
          <p:grpSpPr>
            <a:xfrm>
              <a:off x="5348160" y="1519200"/>
              <a:ext cx="871560" cy="861840"/>
              <a:chOff x="5348160" y="1519200"/>
              <a:chExt cx="871560" cy="861840"/>
            </a:xfrm>
          </p:grpSpPr>
          <p:sp>
            <p:nvSpPr>
              <p:cNvPr id="563" name=""/>
              <p:cNvSpPr/>
              <p:nvPr/>
            </p:nvSpPr>
            <p:spPr>
              <a:xfrm>
                <a:off x="5348160" y="1519200"/>
                <a:ext cx="871560" cy="861840"/>
              </a:xfrm>
              <a:prstGeom prst="ellipse">
                <a:avLst/>
              </a:prstGeom>
              <a:gradFill rotWithShape="0">
                <a:gsLst>
                  <a:gs pos="0">
                    <a:srgbClr val="cccc00"/>
                  </a:gs>
                  <a:gs pos="100000">
                    <a:srgbClr val="3131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64" name="Unknown Shape"/>
              <p:cNvSpPr/>
              <p:nvPr/>
            </p:nvSpPr>
            <p:spPr>
              <a:xfrm>
                <a:off x="5447520" y="1533240"/>
                <a:ext cx="672480" cy="3250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65" name=""/>
            <p:cNvSpPr/>
            <p:nvPr/>
          </p:nvSpPr>
          <p:spPr>
            <a:xfrm>
              <a:off x="5368680" y="1851120"/>
              <a:ext cx="87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Concep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1523880" y="2844720"/>
            <a:ext cx="1744560" cy="1790640"/>
            <a:chOff x="1523880" y="2844720"/>
            <a:chExt cx="1744560" cy="1790640"/>
          </a:xfrm>
        </p:grpSpPr>
        <p:grpSp>
          <p:nvGrpSpPr>
            <p:cNvPr id="567" name=""/>
            <p:cNvGrpSpPr/>
            <p:nvPr/>
          </p:nvGrpSpPr>
          <p:grpSpPr>
            <a:xfrm>
              <a:off x="1523880" y="2844720"/>
              <a:ext cx="1744560" cy="1790640"/>
              <a:chOff x="1523880" y="2844720"/>
              <a:chExt cx="1744560" cy="179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1523880" y="2844720"/>
                <a:ext cx="1744560" cy="179064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3d311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69" name="Unknown Shape"/>
              <p:cNvSpPr/>
              <p:nvPr/>
            </p:nvSpPr>
            <p:spPr>
              <a:xfrm>
                <a:off x="1723320" y="2874240"/>
                <a:ext cx="1345680" cy="675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1618200" y="3639960"/>
              <a:ext cx="15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5280120" y="4105440"/>
            <a:ext cx="2012760" cy="1989000"/>
            <a:chOff x="5280120" y="4105440"/>
            <a:chExt cx="2012760" cy="1989000"/>
          </a:xfrm>
        </p:grpSpPr>
        <p:grpSp>
          <p:nvGrpSpPr>
            <p:cNvPr id="572" name=""/>
            <p:cNvGrpSpPr/>
            <p:nvPr/>
          </p:nvGrpSpPr>
          <p:grpSpPr>
            <a:xfrm>
              <a:off x="5280120" y="4105440"/>
              <a:ext cx="2012760" cy="1989000"/>
              <a:chOff x="5280120" y="4105440"/>
              <a:chExt cx="2012760" cy="1989000"/>
            </a:xfrm>
          </p:grpSpPr>
          <p:sp>
            <p:nvSpPr>
              <p:cNvPr id="573" name=""/>
              <p:cNvSpPr/>
              <p:nvPr/>
            </p:nvSpPr>
            <p:spPr>
              <a:xfrm>
                <a:off x="5280120" y="4105440"/>
                <a:ext cx="2012760" cy="1989000"/>
              </a:xfrm>
              <a:prstGeom prst="ellipse">
                <a:avLst/>
              </a:prstGeom>
              <a:gradFill rotWithShape="0">
                <a:gsLst>
                  <a:gs pos="0">
                    <a:srgbClr val="9942e0"/>
                  </a:gs>
                  <a:gs pos="100000">
                    <a:srgbClr val="461e6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74" name="Unknown Shape"/>
              <p:cNvSpPr/>
              <p:nvPr/>
            </p:nvSpPr>
            <p:spPr>
              <a:xfrm>
                <a:off x="5510160" y="4138200"/>
                <a:ext cx="1552680" cy="750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42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5568120" y="4967280"/>
              <a:ext cx="160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209680" y="4465800"/>
            <a:ext cx="5562720" cy="1325520"/>
          </a:xfrm>
          <a:prstGeom prst="ellipse">
            <a:avLst/>
          </a:prstGeom>
          <a:gradFill rotWithShape="0">
            <a:gsLst>
              <a:gs pos="0">
                <a:srgbClr val="002f8d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rot="20601600">
            <a:off x="1484280" y="235224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ad9e2"/>
              </a:gs>
              <a:gs pos="100000">
                <a:srgbClr val="2969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rot="20601600">
            <a:off x="1541160" y="2190240"/>
            <a:ext cx="5562720" cy="292284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18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rot="20601600">
            <a:off x="1455480" y="2176200"/>
            <a:ext cx="5701680" cy="292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 rot="20602200">
            <a:off x="1433520" y="2207160"/>
            <a:ext cx="5752440" cy="288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rot="20601600">
            <a:off x="1465200" y="2187360"/>
            <a:ext cx="56790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 rot="20602200">
            <a:off x="1447200" y="2195280"/>
            <a:ext cx="5699880" cy="282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rot="20601600">
            <a:off x="3002040" y="2905200"/>
            <a:ext cx="269532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317320" y="3127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222440" y="22129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2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898600" y="26701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3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8" name="Unknown Shape"/>
          <p:cNvSpPr/>
          <p:nvPr/>
        </p:nvSpPr>
        <p:spPr>
          <a:xfrm>
            <a:off x="6324480" y="3203640"/>
            <a:ext cx="1295640" cy="1711440"/>
          </a:xfrm>
          <a:custGeom>
            <a:avLst/>
            <a:gdLst/>
            <a:ahLst/>
            <a:rect l="l" t="t" r="r" b="b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b88a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rot="20539200">
            <a:off x="1459800" y="2205360"/>
            <a:ext cx="6257520" cy="2978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01" y="14046"/>
                </a:moveTo>
                <a:arcTo wR="10800" hR="10800" stAng="1049521" swAng="2830486"/>
                <a:lnTo>
                  <a:pt x="10800" y="10800"/>
                </a:lnTo>
                <a:close/>
              </a:path>
              <a:path fill="none" w="21600" h="21600">
                <a:moveTo>
                  <a:pt x="21101" y="14046"/>
                </a:moveTo>
                <a:arcTo wR="10800" hR="10800" stAng="1049521" swAng="2830486"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0" name="Unknown Shape"/>
          <p:cNvSpPr/>
          <p:nvPr/>
        </p:nvSpPr>
        <p:spPr>
          <a:xfrm>
            <a:off x="4624560" y="3684600"/>
            <a:ext cx="1758600" cy="1236600"/>
          </a:xfrm>
          <a:custGeom>
            <a:avLst/>
            <a:gdLst/>
            <a:ahLst/>
            <a:rect l="l" t="t" r="r" b="b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5007a1"/>
              </a:gs>
              <a:gs pos="100000">
                <a:srgbClr val="ae8dd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898600" y="36608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4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146120" y="44226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5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241000" y="4270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6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rot="20601600">
            <a:off x="3103560" y="315756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003399"/>
              </a:gs>
              <a:gs pos="100000">
                <a:srgbClr val="001746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5" name="Unknown Shape"/>
          <p:cNvSpPr/>
          <p:nvPr/>
        </p:nvSpPr>
        <p:spPr>
          <a:xfrm>
            <a:off x="4800600" y="4079880"/>
            <a:ext cx="1282680" cy="1028520"/>
          </a:xfrm>
          <a:custGeom>
            <a:avLst/>
            <a:gdLst/>
            <a:ahLst/>
            <a:rect l="l" t="t" r="r" b="b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3335400" y="4875120"/>
            <a:ext cx="5274720" cy="1308240"/>
            <a:chOff x="3335400" y="4875120"/>
            <a:chExt cx="5274720" cy="1308240"/>
          </a:xfrm>
        </p:grpSpPr>
        <p:sp>
          <p:nvSpPr>
            <p:cNvPr id="598" name="Unknown Shape"/>
            <p:cNvSpPr/>
            <p:nvPr/>
          </p:nvSpPr>
          <p:spPr>
            <a:xfrm>
              <a:off x="7679880" y="4875120"/>
              <a:ext cx="930240" cy="130680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4646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99" name="Unknown Shape"/>
            <p:cNvSpPr/>
            <p:nvPr/>
          </p:nvSpPr>
          <p:spPr>
            <a:xfrm>
              <a:off x="3756600" y="4875120"/>
              <a:ext cx="4335120" cy="55656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4040a1"/>
                </a:gs>
                <a:gs pos="100000">
                  <a:srgbClr val="66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00" name="Unknown Shape"/>
            <p:cNvSpPr/>
            <p:nvPr/>
          </p:nvSpPr>
          <p:spPr>
            <a:xfrm>
              <a:off x="3335400" y="5428800"/>
              <a:ext cx="4785120" cy="75456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9898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3849840" y="4092480"/>
            <a:ext cx="4179240" cy="1181160"/>
            <a:chOff x="3849840" y="4092480"/>
            <a:chExt cx="4179240" cy="1181160"/>
          </a:xfrm>
        </p:grpSpPr>
        <p:sp>
          <p:nvSpPr>
            <p:cNvPr id="602" name="Unknown Shape"/>
            <p:cNvSpPr/>
            <p:nvPr/>
          </p:nvSpPr>
          <p:spPr>
            <a:xfrm>
              <a:off x="7206840" y="4092480"/>
              <a:ext cx="822240" cy="118116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94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03" name="Unknown Shape"/>
            <p:cNvSpPr/>
            <p:nvPr/>
          </p:nvSpPr>
          <p:spPr>
            <a:xfrm>
              <a:off x="4261680" y="4092480"/>
              <a:ext cx="3256920" cy="41580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005a43"/>
                </a:gs>
                <a:gs pos="100000">
                  <a:srgbClr val="00cc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04" name="Unknown Shape"/>
            <p:cNvSpPr/>
            <p:nvPr/>
          </p:nvSpPr>
          <p:spPr>
            <a:xfrm>
              <a:off x="3849840" y="4506840"/>
              <a:ext cx="3781440" cy="76644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85e5c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4343400" y="3313080"/>
            <a:ext cx="3107880" cy="1027080"/>
            <a:chOff x="4343400" y="3313080"/>
            <a:chExt cx="3107880" cy="1027080"/>
          </a:xfrm>
        </p:grpSpPr>
        <p:sp>
          <p:nvSpPr>
            <p:cNvPr id="606" name="Unknown Shape"/>
            <p:cNvSpPr/>
            <p:nvPr/>
          </p:nvSpPr>
          <p:spPr>
            <a:xfrm>
              <a:off x="6731640" y="3313080"/>
              <a:ext cx="719640" cy="102708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b1790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07" name="Unknown Shape"/>
            <p:cNvSpPr/>
            <p:nvPr/>
          </p:nvSpPr>
          <p:spPr>
            <a:xfrm>
              <a:off x="4762080" y="3313080"/>
              <a:ext cx="2174760" cy="27720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734e05"/>
                </a:gs>
                <a:gs pos="100000">
                  <a:srgbClr val="f4a70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08" name="Unknown Shape"/>
            <p:cNvSpPr/>
            <p:nvPr/>
          </p:nvSpPr>
          <p:spPr>
            <a:xfrm>
              <a:off x="4343400" y="3588840"/>
              <a:ext cx="2813760" cy="75096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f8d4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4844880" y="2525760"/>
            <a:ext cx="2025360" cy="893880"/>
            <a:chOff x="4844880" y="2525760"/>
            <a:chExt cx="2025360" cy="893880"/>
          </a:xfrm>
        </p:grpSpPr>
        <p:sp>
          <p:nvSpPr>
            <p:cNvPr id="610" name="Unknown Shape"/>
            <p:cNvSpPr/>
            <p:nvPr/>
          </p:nvSpPr>
          <p:spPr>
            <a:xfrm>
              <a:off x="6250680" y="2525760"/>
              <a:ext cx="619560" cy="89388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9938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11" name="Unknown Shape"/>
            <p:cNvSpPr/>
            <p:nvPr/>
          </p:nvSpPr>
          <p:spPr>
            <a:xfrm>
              <a:off x="5271480" y="2525760"/>
              <a:ext cx="1084680" cy="1339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622481"/>
                </a:gs>
                <a:gs pos="100000">
                  <a:srgbClr val="c247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12" name="Unknown Shape"/>
            <p:cNvSpPr/>
            <p:nvPr/>
          </p:nvSpPr>
          <p:spPr>
            <a:xfrm>
              <a:off x="4844880" y="2658240"/>
              <a:ext cx="1831320" cy="76104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dfa2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5342040" y="1738440"/>
            <a:ext cx="948960" cy="757080"/>
            <a:chOff x="5342040" y="1738440"/>
            <a:chExt cx="948960" cy="757080"/>
          </a:xfrm>
        </p:grpSpPr>
        <p:sp>
          <p:nvSpPr>
            <p:cNvPr id="614" name="Unknown Shape"/>
            <p:cNvSpPr/>
            <p:nvPr/>
          </p:nvSpPr>
          <p:spPr>
            <a:xfrm>
              <a:off x="5766480" y="1738440"/>
              <a:ext cx="524520" cy="75708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50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15" name="Unknown Shape"/>
            <p:cNvSpPr/>
            <p:nvPr/>
          </p:nvSpPr>
          <p:spPr>
            <a:xfrm>
              <a:off x="5342040" y="1738440"/>
              <a:ext cx="850320" cy="75708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9dc4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1294920" y="1828800"/>
            <a:ext cx="4419720" cy="4328640"/>
            <a:chOff x="1294920" y="1828800"/>
            <a:chExt cx="4419720" cy="4328640"/>
          </a:xfrm>
        </p:grpSpPr>
        <p:sp>
          <p:nvSpPr>
            <p:cNvPr id="617" name=""/>
            <p:cNvSpPr/>
            <p:nvPr/>
          </p:nvSpPr>
          <p:spPr>
            <a:xfrm flipH="1">
              <a:off x="1295280" y="6156000"/>
              <a:ext cx="1957680" cy="144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1294920" y="5283360"/>
              <a:ext cx="2526840" cy="144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1294920" y="4378680"/>
              <a:ext cx="2966040" cy="144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1294920" y="3489480"/>
              <a:ext cx="3472200" cy="108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1294920" y="2593800"/>
              <a:ext cx="3976200" cy="144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1295280" y="1828800"/>
              <a:ext cx="4419360" cy="108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582560" y="1716120"/>
            <a:ext cx="1800" cy="75240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582560" y="2516040"/>
            <a:ext cx="1800" cy="88740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582560" y="3451320"/>
            <a:ext cx="1800" cy="88884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582560" y="4387680"/>
            <a:ext cx="1800" cy="88920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582560" y="5319720"/>
            <a:ext cx="1800" cy="82080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635840" y="19130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635840" y="28274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635840" y="3741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635840" y="46562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635840" y="55706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482440" y="21128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82440" y="2951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2440" y="3865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82440" y="47800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2440" y="56944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003400" y="2100240"/>
            <a:ext cx="5311800" cy="3295440"/>
            <a:chOff x="2003400" y="2100240"/>
            <a:chExt cx="5311800" cy="3295440"/>
          </a:xfrm>
        </p:grpSpPr>
        <p:grpSp>
          <p:nvGrpSpPr>
            <p:cNvPr id="131" name=""/>
            <p:cNvGrpSpPr/>
            <p:nvPr/>
          </p:nvGrpSpPr>
          <p:grpSpPr>
            <a:xfrm>
              <a:off x="2004840" y="2986200"/>
              <a:ext cx="609480" cy="609480"/>
              <a:chOff x="2004840" y="2986200"/>
              <a:chExt cx="609480" cy="609480"/>
            </a:xfrm>
          </p:grpSpPr>
          <p:sp>
            <p:nvSpPr>
              <p:cNvPr id="132" name=""/>
              <p:cNvSpPr/>
              <p:nvPr/>
            </p:nvSpPr>
            <p:spPr>
              <a:xfrm>
                <a:off x="2004840" y="29862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2c828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004840" y="29862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52c828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044440" y="30258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2c6b15"/>
                  </a:gs>
                  <a:gs pos="50000">
                    <a:srgbClr val="52c828"/>
                  </a:gs>
                  <a:gs pos="100000">
                    <a:srgbClr val="2c6b1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084040" y="30654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52c828">
                      <a:alpha val="0"/>
                    </a:srgbClr>
                  </a:gs>
                  <a:gs pos="100000">
                    <a:srgbClr val="337e1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073240" y="305280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081160" y="306072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87280" y="306396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092320" y="306720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116080" y="307980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2514600" y="354816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43200" y="301464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35520" y="3070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2023920" y="4786200"/>
              <a:ext cx="609480" cy="609480"/>
              <a:chOff x="2023920" y="4786200"/>
              <a:chExt cx="609480" cy="609480"/>
            </a:xfrm>
          </p:grpSpPr>
          <p:sp>
            <p:nvSpPr>
              <p:cNvPr id="145" name=""/>
              <p:cNvSpPr/>
              <p:nvPr/>
            </p:nvSpPr>
            <p:spPr>
              <a:xfrm>
                <a:off x="2023920" y="47862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2c828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023920" y="47862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52c828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063520" y="48258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2c6b15"/>
                  </a:gs>
                  <a:gs pos="50000">
                    <a:srgbClr val="52c828"/>
                  </a:gs>
                  <a:gs pos="100000">
                    <a:srgbClr val="2c6b1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103120" y="48654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52c828">
                      <a:alpha val="0"/>
                    </a:srgbClr>
                  </a:gs>
                  <a:gs pos="100000">
                    <a:srgbClr val="337e1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092320" y="485280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100240" y="486072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106360" y="486396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111400" y="486720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135160" y="487980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2514600" y="535464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43200" y="48211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63960" y="485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14600" y="444024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43200" y="39067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2022480" y="3868560"/>
              <a:ext cx="609480" cy="609480"/>
              <a:chOff x="2022480" y="3868560"/>
              <a:chExt cx="609480" cy="609480"/>
            </a:xfrm>
          </p:grpSpPr>
          <p:sp>
            <p:nvSpPr>
              <p:cNvPr id="160" name=""/>
              <p:cNvSpPr/>
              <p:nvPr/>
            </p:nvSpPr>
            <p:spPr>
              <a:xfrm>
                <a:off x="2148120" y="39448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022480" y="3868560"/>
                <a:ext cx="609480" cy="609480"/>
              </a:xfrm>
              <a:prstGeom prst="ellipse">
                <a:avLst/>
              </a:prstGeom>
              <a:solidFill>
                <a:srgbClr val="fdc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022480" y="386856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fdc529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062080" y="390816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886a16"/>
                  </a:gs>
                  <a:gs pos="50000">
                    <a:srgbClr val="fdc529"/>
                  </a:gs>
                  <a:gs pos="100000">
                    <a:srgbClr val="886a1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062080" y="390996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fdc529">
                      <a:alpha val="0"/>
                    </a:srgbClr>
                  </a:gs>
                  <a:gs pos="100000">
                    <a:srgbClr val="a07c1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090880" y="393516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098800" y="394308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104920" y="394632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109960" y="394956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133720" y="396216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2149920" y="3962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4600" y="263376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43200" y="210024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003400" y="2133720"/>
              <a:ext cx="609480" cy="609480"/>
              <a:chOff x="2003400" y="2133720"/>
              <a:chExt cx="609480" cy="609480"/>
            </a:xfrm>
          </p:grpSpPr>
          <p:sp>
            <p:nvSpPr>
              <p:cNvPr id="174" name=""/>
              <p:cNvSpPr/>
              <p:nvPr/>
            </p:nvSpPr>
            <p:spPr>
              <a:xfrm>
                <a:off x="2129040" y="2210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003400" y="2133720"/>
                <a:ext cx="609480" cy="609480"/>
              </a:xfrm>
              <a:prstGeom prst="ellipse">
                <a:avLst/>
              </a:prstGeom>
              <a:solidFill>
                <a:srgbClr val="fdc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003400" y="213372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fdc529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043000" y="217332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886a16"/>
                  </a:gs>
                  <a:gs pos="50000">
                    <a:srgbClr val="fdc529"/>
                  </a:gs>
                  <a:gs pos="100000">
                    <a:srgbClr val="886a1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043000" y="217512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fdc529">
                      <a:alpha val="0"/>
                    </a:srgbClr>
                  </a:gs>
                  <a:gs pos="100000">
                    <a:srgbClr val="a07c1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071800" y="220032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079720" y="220824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085840" y="221148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090880" y="221472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114640" y="222732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2130840" y="2227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038120" y="372276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dd your company sloga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581280" y="2819520"/>
            <a:ext cx="47246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dc529"/>
                    </a:gs>
                    <a:gs pos="100000">
                      <a:srgbClr val="72a7f6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dc529"/>
                  </a:gs>
                  <a:gs pos="100000">
                    <a:srgbClr val="72a7f6"/>
                  </a:gs>
                </a:gsLst>
                <a:lin ang="54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9999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42" name="TextBox 5"/>
          <p:cNvSpPr/>
          <p:nvPr/>
        </p:nvSpPr>
        <p:spPr>
          <a:xfrm>
            <a:off x="324000" y="4437000"/>
            <a:ext cx="47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Kingsoft Office</a:t>
            </a:r>
            <a:endParaRPr b="0" lang="en-US" sz="4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43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2a7f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e2fb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600" spc="-1" strike="noStrike">
              <a:solidFill>
                <a:srgbClr val="b1e2f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1e2f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dc5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2f0fe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2f0fe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38400" y="34765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1" name="Unknown Shape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dbddd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2" name="Unknown Shape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debba"/>
              </a:gs>
              <a:gs pos="100000">
                <a:srgbClr val="fdc5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048120" y="1552680"/>
            <a:ext cx="2998440" cy="1601280"/>
            <a:chOff x="3048120" y="1552680"/>
            <a:chExt cx="2998440" cy="1601280"/>
          </a:xfrm>
        </p:grpSpPr>
        <p:grpSp>
          <p:nvGrpSpPr>
            <p:cNvPr id="194" name=""/>
            <p:cNvGrpSpPr/>
            <p:nvPr/>
          </p:nvGrpSpPr>
          <p:grpSpPr>
            <a:xfrm>
              <a:off x="3048120" y="1695600"/>
              <a:ext cx="2998440" cy="1458360"/>
              <a:chOff x="3048120" y="1695600"/>
              <a:chExt cx="2998440" cy="1458360"/>
            </a:xfrm>
          </p:grpSpPr>
          <p:sp>
            <p:nvSpPr>
              <p:cNvPr id="195" name=""/>
              <p:cNvSpPr/>
              <p:nvPr/>
            </p:nvSpPr>
            <p:spPr>
              <a:xfrm>
                <a:off x="3080880" y="174204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75077"/>
                  </a:gs>
                  <a:gs pos="100000">
                    <a:srgbClr val="72a7f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048120" y="169560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72a7f6"/>
                  </a:gs>
                  <a:gs pos="100000">
                    <a:srgbClr val="bfd7f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3189240" y="15526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fdc529"/>
                </a:gs>
                <a:gs pos="100000">
                  <a:srgbClr val="745a1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24160" y="156060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fde9b3"/>
                </a:gs>
                <a:gs pos="100000">
                  <a:srgbClr val="fdc529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51160" y="157320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fdc529">
                    <a:alpha val="48235"/>
                  </a:srgbClr>
                </a:gs>
                <a:gs pos="100000">
                  <a:srgbClr val="c79b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382920" y="160020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fdc529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882960" y="17524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34080" y="34290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Unknown Shape"/>
          <p:cNvSpPr/>
          <p:nvPr/>
        </p:nvSpPr>
        <p:spPr>
          <a:xfrm rot="20241600">
            <a:off x="1160280" y="2690640"/>
            <a:ext cx="685296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72a7f6"/>
              </a:gs>
              <a:gs pos="100000">
                <a:srgbClr val="f0f5fd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20056200">
            <a:off x="4571640" y="266652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20056200">
            <a:off x="7467120" y="2895120"/>
            <a:ext cx="106704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20056200">
            <a:off x="2971440" y="586692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20056200">
            <a:off x="5714640" y="525744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20056200">
            <a:off x="2057040" y="4190760"/>
            <a:ext cx="1066680" cy="30456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92680" y="182880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72a7f6"/>
              </a:gs>
              <a:gs pos="100000">
                <a:srgbClr val="2739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78080" y="335268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fdc529"/>
              </a:gs>
              <a:gs pos="100000">
                <a:srgbClr val="4f3d0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60440" y="5049720"/>
            <a:ext cx="1283040" cy="1274760"/>
          </a:xfrm>
          <a:prstGeom prst="ellipse">
            <a:avLst/>
          </a:prstGeom>
          <a:gradFill rotWithShape="0">
            <a:gsLst>
              <a:gs pos="0">
                <a:srgbClr val="52c828"/>
              </a:gs>
              <a:gs pos="100000">
                <a:srgbClr val="1d470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35680" y="441972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b1e2fb"/>
              </a:gs>
              <a:gs pos="100000">
                <a:srgbClr val="4a5f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64480" y="205740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a5a5ff"/>
              </a:gs>
              <a:gs pos="100000">
                <a:srgbClr val="38385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30440" y="38862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222080" y="22860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53920" y="25639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64360" y="48769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43400" y="55008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11440" y="381492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Arial"/>
              </a:rPr>
              <a:t>Cycle name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56000" y="2116080"/>
            <a:ext cx="1793880" cy="1617840"/>
          </a:xfrm>
          <a:prstGeom prst="line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cxnSp>
        <p:nvCxnSpPr>
          <p:cNvPr id="222" name=""/>
          <p:cNvCxnSpPr/>
          <p:nvPr/>
        </p:nvCxnSpPr>
        <p:spPr>
          <a:xfrm flipH="1">
            <a:off x="538920" y="2115720"/>
            <a:ext cx="2017080" cy="1080"/>
          </a:xfrm>
          <a:prstGeom prst="straightConnector1">
            <a:avLst/>
          </a:prstGeom>
          <a:ln w="9360">
            <a:solidFill>
              <a:srgbClr val="b1e2fb"/>
            </a:solidFill>
            <a:miter/>
          </a:ln>
        </p:spPr>
      </p:cxnSp>
      <p:sp>
        <p:nvSpPr>
          <p:cNvPr id="223" name=""/>
          <p:cNvSpPr/>
          <p:nvPr/>
        </p:nvSpPr>
        <p:spPr>
          <a:xfrm>
            <a:off x="617040" y="16765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57600" y="41911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57600" y="36576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31240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98680" y="3354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198680" y="38876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198680" y="44211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71800" y="289548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73aae2">
                  <a:alpha val="12156"/>
                </a:srgbClr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90720" y="23623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1e2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66680" y="259092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72200" y="23623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1e2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48520" y="259092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89640" y="289548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0066cc"/>
              </a:gs>
              <a:gs pos="100000">
                <a:srgbClr val="73aae2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95480" y="1752480"/>
            <a:ext cx="3048120" cy="60984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255c12"/>
              </a:gs>
              <a:gs pos="50000">
                <a:srgbClr val="52c828"/>
              </a:gs>
              <a:gs pos="100000">
                <a:srgbClr val="255c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24120" y="251460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0066cc"/>
              </a:gs>
              <a:gs pos="100000">
                <a:srgbClr val="73aae2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174920" y="19861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971800" y="548640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344c71"/>
              </a:gs>
              <a:gs pos="50000">
                <a:srgbClr val="72a7f6"/>
              </a:gs>
              <a:gs pos="100000">
                <a:srgbClr val="344c7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74920" y="57196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602160" y="4876920"/>
            <a:ext cx="1755720" cy="52524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73aae2">
                  <a:alpha val="12156"/>
                </a:srgbClr>
              </a:gs>
              <a:gs pos="100000">
                <a:srgbClr val="00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35812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55c12"/>
              </a:gs>
              <a:gs pos="50000">
                <a:srgbClr val="52c828"/>
              </a:gs>
              <a:gs pos="100000">
                <a:srgbClr val="255c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30481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55c12"/>
              </a:gs>
              <a:gs pos="50000">
                <a:srgbClr val="52c828"/>
              </a:gs>
              <a:gs pos="100000">
                <a:srgbClr val="255c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25146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55c12"/>
              </a:gs>
              <a:gs pos="50000">
                <a:srgbClr val="52c828"/>
              </a:gs>
              <a:gs pos="100000">
                <a:srgbClr val="255c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324480" y="35812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324480" y="30481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24480" y="25146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917800" y="1981080"/>
            <a:ext cx="3156840" cy="2841480"/>
            <a:chOff x="2917800" y="1981080"/>
            <a:chExt cx="3156840" cy="2841480"/>
          </a:xfrm>
        </p:grpSpPr>
        <p:sp>
          <p:nvSpPr>
            <p:cNvPr id="251" name=""/>
            <p:cNvSpPr/>
            <p:nvPr/>
          </p:nvSpPr>
          <p:spPr>
            <a:xfrm flipH="1" rot="16200000">
              <a:off x="2836080" y="3096360"/>
              <a:ext cx="49032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475b65"/>
                </a:gs>
                <a:gs pos="100000">
                  <a:srgbClr val="b1e2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rot="5400000">
              <a:off x="5665320" y="3042000"/>
              <a:ext cx="49032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475b65"/>
                </a:gs>
                <a:gs pos="100000">
                  <a:srgbClr val="b1e2fb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rot="10800000">
              <a:off x="4250160" y="4495680"/>
              <a:ext cx="4888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475b65"/>
                </a:gs>
                <a:gs pos="100000">
                  <a:srgbClr val="b1e2f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222720" y="1981080"/>
              <a:ext cx="256464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68520" y="2125440"/>
              <a:ext cx="227088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502080" y="2260440"/>
              <a:ext cx="200412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2a7f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02080" y="2260440"/>
              <a:ext cx="200412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633840" y="2392200"/>
              <a:ext cx="1740600" cy="1743120"/>
            </a:xfrm>
            <a:prstGeom prst="ellipse">
              <a:avLst/>
            </a:prstGeom>
            <a:gradFill rotWithShape="0">
              <a:gsLst>
                <a:gs pos="0">
                  <a:srgbClr val="3d5a84"/>
                </a:gs>
                <a:gs pos="50000">
                  <a:srgbClr val="72a7f6"/>
                </a:gs>
                <a:gs pos="100000">
                  <a:srgbClr val="3d5a8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633840" y="2392200"/>
              <a:ext cx="174060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12760" y="30477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2557440" y="50292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1746"/>
              </a:gs>
              <a:gs pos="50000">
                <a:srgbClr val="003399"/>
              </a:gs>
              <a:gs pos="100000">
                <a:srgbClr val="001746"/>
              </a:gs>
            </a:gsLst>
            <a:lin ang="10800000"/>
          </a:gradFill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730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730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730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926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9926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9926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Unknown Shape"/>
          <p:cNvSpPr/>
          <p:nvPr/>
        </p:nvSpPr>
        <p:spPr>
          <a:xfrm>
            <a:off x="7761240" y="1752480"/>
            <a:ext cx="614520" cy="98136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71d"/>
              </a:gs>
              <a:gs pos="50000">
                <a:srgbClr val="00563f"/>
              </a:gs>
              <a:gs pos="100000">
                <a:srgbClr val="00271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0" name="Unknown Shape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1" name="Unknown Shape"/>
          <p:cNvSpPr/>
          <p:nvPr/>
        </p:nvSpPr>
        <p:spPr>
          <a:xfrm>
            <a:off x="7143840" y="2727360"/>
            <a:ext cx="612720" cy="9745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20743"/>
              </a:gs>
              <a:gs pos="50000">
                <a:srgbClr val="4b1092"/>
              </a:gs>
              <a:gs pos="100000">
                <a:srgbClr val="22074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2" name="Unknown Shape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3" name="Unknown Shape"/>
          <p:cNvSpPr/>
          <p:nvPr/>
        </p:nvSpPr>
        <p:spPr>
          <a:xfrm>
            <a:off x="6524640" y="3691080"/>
            <a:ext cx="611280" cy="98100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21704"/>
              </a:gs>
              <a:gs pos="50000">
                <a:srgbClr val="90330a"/>
              </a:gs>
              <a:gs pos="100000">
                <a:srgbClr val="42170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4" name="Unknown Shape"/>
          <p:cNvSpPr/>
          <p:nvPr/>
        </p:nvSpPr>
        <p:spPr>
          <a:xfrm>
            <a:off x="5910120" y="4657680"/>
            <a:ext cx="61452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23106"/>
              </a:gs>
              <a:gs pos="50000">
                <a:srgbClr val="906b0e"/>
              </a:gs>
              <a:gs pos="100000">
                <a:srgbClr val="42310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5" name="Unknown Shape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5" name="Unknown Shape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008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906a"/>
              </a:gs>
              <a:gs pos="100000">
                <a:srgbClr val="00684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c2eb8"/>
              </a:gs>
              <a:gs pos="50000">
                <a:srgbClr val="8041ff"/>
              </a:gs>
              <a:gs pos="100000">
                <a:srgbClr val="5c2eb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8" name="Unknown Shape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9e5139"/>
              </a:gs>
              <a:gs pos="50000">
                <a:srgbClr val="dc7150"/>
              </a:gs>
              <a:gs pos="100000">
                <a:srgbClr val="9e513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67414"/>
              </a:gs>
              <a:gs pos="50000">
                <a:srgbClr val="d0a11c"/>
              </a:gs>
              <a:gs pos="100000">
                <a:srgbClr val="96741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1523880"/>
            <a:ext cx="6095880" cy="4496040"/>
          </a:xfrm>
          <a:prstGeom prst="rightArrow">
            <a:avLst>
              <a:gd name="adj1" fmla="val 79306"/>
              <a:gd name="adj2" fmla="val 33582"/>
            </a:avLst>
          </a:prstGeom>
          <a:gradFill rotWithShape="0">
            <a:gsLst>
              <a:gs pos="0">
                <a:srgbClr val="b1e2fb"/>
              </a:gs>
              <a:gs pos="100000">
                <a:srgbClr val="00257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2133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dc529"/>
              </a:gs>
              <a:gs pos="100000">
                <a:srgbClr val="745a1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3276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72a7f6"/>
              </a:gs>
              <a:gs pos="100000">
                <a:srgbClr val="344c7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4419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2c828"/>
              </a:gs>
              <a:gs pos="100000">
                <a:srgbClr val="255c1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94360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Sung Ha, Park</dc:creator>
  <dc:description/>
  <dc:language>en-US</dc:language>
  <cp:lastModifiedBy>Sung Ha, Park</cp:lastModifiedBy>
  <cp:lastPrinted>1899-12-30T00:00:00Z</cp:lastPrinted>
  <dcterms:modified xsi:type="dcterms:W3CDTF">2004-11-19T04:55:00Z</dcterms:modified>
  <cp:revision>21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