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2BC-6602-46F5-9079-13499F7A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412-7558-43D3-8A63-2604A041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51E-E776-4B64-B406-23F9FE65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0FE-1333-4F65-863C-A502DDD0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DF0-81FB-4AC1-AE04-6D0C423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D42D-AADA-4623-9DFB-B1CC0B55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94EA-1068-41E1-AE4B-BAF4AFB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93A6-8769-4EF7-B314-6B16104D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CC0A-645E-4EB3-A9A9-3ACE97EB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935D-D7C9-4334-A785-419C4A1E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6F3-FA18-4C51-9BB7-7C34695F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D374-7F5D-4816-8EA1-DD74ABCA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FB32-3943-47D1-8174-4C81177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101-B853-4268-971E-78122C9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1484-C637-41A3-BB17-5A0FE4D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3B31-88E1-4EE7-B7D9-81660A5B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40F-C8F9-4179-9C18-00C397FF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612B-A412-413C-AC93-AF77D8B3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5C8-CBC5-46CB-9100-E700A32A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A27-D210-4CF5-AAB2-13B3092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0FD-F9AE-49E5-9CEA-B7A26FF5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FA2-1C14-4B20-9BA8-3D3084DF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6D1-8B1A-45F7-B82E-8E9893D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D9C-3831-4C05-B452-C1E22231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6E6D-9510-4C1F-819D-5C8E5F607C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31D8-CF52-480A-97B1-6E7CE766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315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325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330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Unknown Shape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51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5000" y="34848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34981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99600" y="35348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77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80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83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86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89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92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99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4920" y="3003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2200" y="3012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48040" y="3027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29040" y="3063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419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188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44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626160" y="206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57" name=""/>
            <p:cNvGrpSpPr/>
            <p:nvPr/>
          </p:nvGrpSpPr>
          <p:grpSpPr>
            <a:xfrm>
              <a:off x="4957920" y="3342240"/>
              <a:ext cx="1654920" cy="2612880"/>
              <a:chOff x="4957920" y="3342240"/>
              <a:chExt cx="1654920" cy="26128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957920" y="3514680"/>
                <a:ext cx="1535040" cy="2440440"/>
                <a:chOff x="4957920" y="3514680"/>
                <a:chExt cx="1535040" cy="2440440"/>
              </a:xfrm>
            </p:grpSpPr>
            <p:sp>
              <p:nvSpPr>
                <p:cNvPr id="459" name="Unknown Shape"/>
                <p:cNvSpPr/>
                <p:nvPr/>
              </p:nvSpPr>
              <p:spPr>
                <a:xfrm rot="3876600">
                  <a:off x="45025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0" name="Unknown Shape"/>
                <p:cNvSpPr/>
                <p:nvPr/>
              </p:nvSpPr>
              <p:spPr>
                <a:xfrm rot="3876600">
                  <a:off x="59724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435280" y="3342240"/>
                <a:ext cx="1177560" cy="1872360"/>
                <a:chOff x="5435280" y="3342240"/>
                <a:chExt cx="1177560" cy="1872360"/>
              </a:xfrm>
            </p:grpSpPr>
            <p:sp>
              <p:nvSpPr>
                <p:cNvPr id="462" name="Unknown Shape"/>
                <p:cNvSpPr/>
                <p:nvPr/>
              </p:nvSpPr>
              <p:spPr>
                <a:xfrm flipV="1" rot="3876600">
                  <a:off x="50857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3" name="Unknown Shape"/>
                <p:cNvSpPr/>
                <p:nvPr/>
              </p:nvSpPr>
              <p:spPr>
                <a:xfrm flipV="1" rot="3876600">
                  <a:off x="61966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4" name=""/>
            <p:cNvGrpSpPr/>
            <p:nvPr/>
          </p:nvGrpSpPr>
          <p:grpSpPr>
            <a:xfrm>
              <a:off x="4502880" y="2440800"/>
              <a:ext cx="1390680" cy="1406880"/>
              <a:chOff x="4502880" y="2440800"/>
              <a:chExt cx="1390680" cy="1406880"/>
            </a:xfrm>
          </p:grpSpPr>
          <p:sp>
            <p:nvSpPr>
              <p:cNvPr id="465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028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46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46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548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71360" y="2611080"/>
                <a:ext cx="1053360" cy="1067040"/>
                <a:chOff x="4671360" y="2611080"/>
                <a:chExt cx="1053360" cy="1067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6713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846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6954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7527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7114320" y="3413880"/>
              <a:ext cx="1654920" cy="2612880"/>
              <a:chOff x="7114320" y="3413880"/>
              <a:chExt cx="1654920" cy="261288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114320" y="3586320"/>
                <a:ext cx="1535040" cy="2440440"/>
                <a:chOff x="7114320" y="3586320"/>
                <a:chExt cx="1535040" cy="2440440"/>
              </a:xfrm>
            </p:grpSpPr>
            <p:sp>
              <p:nvSpPr>
                <p:cNvPr id="477" name="Unknown Shape"/>
                <p:cNvSpPr/>
                <p:nvPr/>
              </p:nvSpPr>
              <p:spPr>
                <a:xfrm rot="3876600">
                  <a:off x="6658920" y="453708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8" name="Unknown Shape"/>
                <p:cNvSpPr/>
                <p:nvPr/>
              </p:nvSpPr>
              <p:spPr>
                <a:xfrm rot="3876600">
                  <a:off x="8128800" y="548244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91680" y="3413880"/>
                <a:ext cx="1177560" cy="1872360"/>
                <a:chOff x="7591680" y="3413880"/>
                <a:chExt cx="1177560" cy="1872360"/>
              </a:xfrm>
            </p:grpSpPr>
            <p:sp>
              <p:nvSpPr>
                <p:cNvPr id="480" name="Unknown Shape"/>
                <p:cNvSpPr/>
                <p:nvPr/>
              </p:nvSpPr>
              <p:spPr>
                <a:xfrm flipV="1" rot="3876600">
                  <a:off x="7242120" y="414288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1" name="Unknown Shape"/>
                <p:cNvSpPr/>
                <p:nvPr/>
              </p:nvSpPr>
              <p:spPr>
                <a:xfrm flipV="1" rot="3876600">
                  <a:off x="8353080" y="487620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8680" y="2286000"/>
              <a:ext cx="167148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61000" y="2395800"/>
              <a:ext cx="1450800" cy="14655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62440" y="2399040"/>
              <a:ext cx="1450440" cy="146556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32640" y="2470320"/>
              <a:ext cx="1306440" cy="131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3160" y="2490480"/>
              <a:ext cx="1266480" cy="1279440"/>
              <a:chOff x="6653160" y="2490480"/>
              <a:chExt cx="1266480" cy="1279440"/>
            </a:xfrm>
          </p:grpSpPr>
          <p:sp>
            <p:nvSpPr>
              <p:cNvPr id="488" name=""/>
              <p:cNvSpPr/>
              <p:nvPr/>
            </p:nvSpPr>
            <p:spPr>
              <a:xfrm>
                <a:off x="6653160" y="2490480"/>
                <a:ext cx="1266480" cy="1279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69360" y="2497320"/>
                <a:ext cx="1235880" cy="124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2320" y="2509920"/>
                <a:ext cx="117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51080" y="2542320"/>
                <a:ext cx="1044720" cy="946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979360" y="3342240"/>
              <a:ext cx="1655280" cy="2612880"/>
              <a:chOff x="2979360" y="3342240"/>
              <a:chExt cx="1655280" cy="2612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979360" y="3514680"/>
                <a:ext cx="1535400" cy="2440440"/>
                <a:chOff x="2979360" y="3514680"/>
                <a:chExt cx="1535400" cy="2440440"/>
              </a:xfrm>
            </p:grpSpPr>
            <p:sp>
              <p:nvSpPr>
                <p:cNvPr id="494" name="Unknown Shape"/>
                <p:cNvSpPr/>
                <p:nvPr/>
              </p:nvSpPr>
              <p:spPr>
                <a:xfrm rot="3876600">
                  <a:off x="2523960" y="4465440"/>
                  <a:ext cx="244584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5" name="Unknown Shape"/>
                <p:cNvSpPr/>
                <p:nvPr/>
              </p:nvSpPr>
              <p:spPr>
                <a:xfrm rot="3876600">
                  <a:off x="3993840" y="541080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3457080" y="3342240"/>
                <a:ext cx="1177560" cy="1872360"/>
                <a:chOff x="3457080" y="3342240"/>
                <a:chExt cx="1177560" cy="1872360"/>
              </a:xfrm>
            </p:grpSpPr>
            <p:sp>
              <p:nvSpPr>
                <p:cNvPr id="497" name="Unknown Shape"/>
                <p:cNvSpPr/>
                <p:nvPr/>
              </p:nvSpPr>
              <p:spPr>
                <a:xfrm flipV="1" rot="3876600">
                  <a:off x="31075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98" name="Unknown Shape"/>
                <p:cNvSpPr/>
                <p:nvPr/>
              </p:nvSpPr>
              <p:spPr>
                <a:xfrm flipV="1" rot="3876600">
                  <a:off x="42184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"/>
            <p:cNvGrpSpPr/>
            <p:nvPr/>
          </p:nvGrpSpPr>
          <p:grpSpPr>
            <a:xfrm>
              <a:off x="2524680" y="2440800"/>
              <a:ext cx="1390680" cy="1406880"/>
              <a:chOff x="2524680" y="2440800"/>
              <a:chExt cx="1390680" cy="1406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5246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6164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164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766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693160" y="2611080"/>
                <a:ext cx="1053360" cy="1067040"/>
                <a:chOff x="2693160" y="2611080"/>
                <a:chExt cx="1053360" cy="106704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6931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7064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7172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745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1064520" y="3342240"/>
              <a:ext cx="1654920" cy="2612880"/>
              <a:chOff x="1064520" y="3342240"/>
              <a:chExt cx="1654920" cy="261288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1064520" y="3514680"/>
                <a:ext cx="1535040" cy="2440440"/>
                <a:chOff x="1064520" y="3514680"/>
                <a:chExt cx="1535040" cy="2440440"/>
              </a:xfrm>
            </p:grpSpPr>
            <p:sp>
              <p:nvSpPr>
                <p:cNvPr id="512" name="Unknown Shape"/>
                <p:cNvSpPr/>
                <p:nvPr/>
              </p:nvSpPr>
              <p:spPr>
                <a:xfrm rot="3876600">
                  <a:off x="609120" y="4465440"/>
                  <a:ext cx="2445840" cy="5382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3" name="Unknown Shape"/>
                <p:cNvSpPr/>
                <p:nvPr/>
              </p:nvSpPr>
              <p:spPr>
                <a:xfrm rot="3876600">
                  <a:off x="2079000" y="5410800"/>
                  <a:ext cx="38448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541880" y="3342240"/>
                <a:ext cx="1177560" cy="1872360"/>
                <a:chOff x="1541880" y="3342240"/>
                <a:chExt cx="1177560" cy="1872360"/>
              </a:xfrm>
            </p:grpSpPr>
            <p:sp>
              <p:nvSpPr>
                <p:cNvPr id="515" name="Unknown Shape"/>
                <p:cNvSpPr/>
                <p:nvPr/>
              </p:nvSpPr>
              <p:spPr>
                <a:xfrm flipV="1" rot="3876600">
                  <a:off x="1192320" y="4071240"/>
                  <a:ext cx="18766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16" name="Unknown Shape"/>
                <p:cNvSpPr/>
                <p:nvPr/>
              </p:nvSpPr>
              <p:spPr>
                <a:xfrm flipV="1" rot="3876600">
                  <a:off x="2303280" y="480456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609480" y="2440800"/>
              <a:ext cx="1390680" cy="1406880"/>
              <a:chOff x="609480" y="2440800"/>
              <a:chExt cx="1390680" cy="1406880"/>
            </a:xfrm>
          </p:grpSpPr>
          <p:sp>
            <p:nvSpPr>
              <p:cNvPr id="518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480" y="2440800"/>
                <a:ext cx="1390680" cy="1406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1280" y="253224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1280" y="2535120"/>
                <a:ext cx="1206360" cy="12222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1400" y="2594160"/>
                <a:ext cx="108648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777960" y="2611080"/>
                <a:ext cx="1053360" cy="1067040"/>
                <a:chOff x="777960" y="2611080"/>
                <a:chExt cx="1053360" cy="1067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77960" y="2611080"/>
                  <a:ext cx="1053360" cy="106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1280" y="2616840"/>
                  <a:ext cx="1027800" cy="104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02080" y="2627280"/>
                  <a:ext cx="977760" cy="972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59320" y="2654280"/>
                  <a:ext cx="86904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 rot="3925800">
              <a:off x="1066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3925800">
              <a:off x="156096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3925800">
              <a:off x="2977200" y="43531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3925800">
              <a:off x="34722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3925800">
              <a:off x="4963320" y="43509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3925800">
              <a:off x="5457600" y="4066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925800">
              <a:off x="7596000" y="4220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7" idx="3"/>
            <a:endCxn id="53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38" idx="3"/>
            <a:endCxn id="53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120"/>
                <a:gridCol w="1952640"/>
                <a:gridCol w="341280"/>
                <a:gridCol w="18147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938760" y="2202120"/>
            <a:ext cx="1704600" cy="1836000"/>
            <a:chOff x="3938760" y="2202120"/>
            <a:chExt cx="1704600" cy="1836000"/>
          </a:xfrm>
        </p:grpSpPr>
        <p:sp>
          <p:nvSpPr>
            <p:cNvPr id="556" name=""/>
            <p:cNvSpPr/>
            <p:nvPr/>
          </p:nvSpPr>
          <p:spPr>
            <a:xfrm rot="18394200">
              <a:off x="5114520" y="2414880"/>
              <a:ext cx="59616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38760" y="2448720"/>
              <a:ext cx="1609560" cy="1589400"/>
              <a:chOff x="3938760" y="2448720"/>
              <a:chExt cx="1609560" cy="15894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38760" y="2448720"/>
                <a:ext cx="1609560" cy="15894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59" name="Unknown Shape"/>
              <p:cNvSpPr/>
              <p:nvPr/>
            </p:nvSpPr>
            <p:spPr>
              <a:xfrm>
                <a:off x="4122720" y="2475000"/>
                <a:ext cx="1241640" cy="599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025520" y="31402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348160" y="1519200"/>
            <a:ext cx="891720" cy="861840"/>
            <a:chOff x="5348160" y="1519200"/>
            <a:chExt cx="891720" cy="861840"/>
          </a:xfrm>
        </p:grpSpPr>
        <p:grpSp>
          <p:nvGrpSpPr>
            <p:cNvPr id="562" name=""/>
            <p:cNvGrpSpPr/>
            <p:nvPr/>
          </p:nvGrpSpPr>
          <p:grpSpPr>
            <a:xfrm>
              <a:off x="5348160" y="1519200"/>
              <a:ext cx="871560" cy="861840"/>
              <a:chOff x="5348160" y="1519200"/>
              <a:chExt cx="871560" cy="861840"/>
            </a:xfrm>
          </p:grpSpPr>
          <p:sp>
            <p:nvSpPr>
              <p:cNvPr id="563" name=""/>
              <p:cNvSpPr/>
              <p:nvPr/>
            </p:nvSpPr>
            <p:spPr>
              <a:xfrm>
                <a:off x="534816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4" name="Unknown Shape"/>
              <p:cNvSpPr/>
              <p:nvPr/>
            </p:nvSpPr>
            <p:spPr>
              <a:xfrm>
                <a:off x="544752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67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69" name="Unknown Shape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161820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72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73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74" name="Unknown Shape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Unknown Shape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Unknown Shape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Unknown Shape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98" name="Unknown Shape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99" name="Unknown Shape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0" name="Unknown Shape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602" name="Unknown Shape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3" name="Unknown Shape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4" name="Unknown Shape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606" name="Unknown Shape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7" name="Unknown Shape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08" name="Unknown Shape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610" name="Unknown Shape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1" name="Unknown Shape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2" name="Unknown Shape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614" name="Unknown Shape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5" name="Unknown Shape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617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131" name=""/>
            <p:cNvGrpSpPr/>
            <p:nvPr/>
          </p:nvGrpSpPr>
          <p:grpSpPr>
            <a:xfrm>
              <a:off x="2004840" y="2986200"/>
              <a:ext cx="609480" cy="609480"/>
              <a:chOff x="2004840" y="29862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04840" y="29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44440" y="30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8404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8728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023920" y="4786200"/>
              <a:ext cx="609480" cy="609480"/>
              <a:chOff x="2023920" y="4786200"/>
              <a:chExt cx="609480" cy="609480"/>
            </a:xfrm>
          </p:grpSpPr>
          <p:sp>
            <p:nvSpPr>
              <p:cNvPr id="145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23920" y="47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63520" y="48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10312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0636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022480" y="3868560"/>
              <a:ext cx="609480" cy="609480"/>
              <a:chOff x="2022480" y="3868560"/>
              <a:chExt cx="609480" cy="609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22480" y="386856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62080" y="39081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90880" y="393516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8800" y="394308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04920" y="394632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09960" y="39495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33720" y="396216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74" name=""/>
              <p:cNvSpPr/>
              <p:nvPr/>
            </p:nvSpPr>
            <p:spPr>
              <a:xfrm>
                <a:off x="2129040" y="2210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043000" y="21733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43000" y="21751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71800" y="22003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79720" y="22082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085840" y="22114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090880" y="221472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14640" y="22273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99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2" name="TextBox 5"/>
          <p:cNvSpPr/>
          <p:nvPr/>
        </p:nvSpPr>
        <p:spPr>
          <a:xfrm>
            <a:off x="324000" y="4437000"/>
            <a:ext cx="47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Unknown Shape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Unknown Shape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94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Unknown Shape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251" name=""/>
            <p:cNvSpPr/>
            <p:nvPr/>
          </p:nvSpPr>
          <p:spPr>
            <a:xfrm flipH="1" rot="16200000">
              <a:off x="2836080" y="30963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5400000">
              <a:off x="5665320" y="304200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rot="10800000">
              <a:off x="4250160" y="449568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22720" y="1981080"/>
              <a:ext cx="256464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68520" y="2125440"/>
              <a:ext cx="227088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02080" y="2260440"/>
              <a:ext cx="20041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33840" y="239220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1276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Unknown Shape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Unknown Shape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Unknown Shape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Unknown Shape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3" name="Unknown Shape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4" name="Unknown Shape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5" name="Unknown Shape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5" name="Unknown Shape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8" name="Unknown Shape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cp:lastPrinted>1899-12-30T00:00:00Z</cp:lastPrinted>
  <dcterms:modified xsi:type="dcterms:W3CDTF">2004-11-19T04:55:00Z</dcterms:modified>
  <cp:revision>21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