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3333-B9E0-43D1-BC5B-FBF213627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82A1-577C-4C5A-BB3F-A1E5C3C6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CDEF-699F-4B9B-A203-FA985A05A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B87F-4ADA-41D4-B654-2DC04D31A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1A46-CCC9-46D6-9142-83A6A03A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F037-3A17-4226-9964-4A309D64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7C7F-9847-4B4A-BA08-CC844C0C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DA9F-B0DE-46BD-9B7E-F331A17C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C1AB-C58B-4453-8B05-1853C1C6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ECA6-16DB-4A7F-8348-5B3F8B6A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9C6F-9C87-4D05-95DC-415BEE81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1435-029E-4F18-B260-1866C068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80A5CD-2D39-4C83-AC06-89AC72F4134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7CB373-FA1F-4194-A2CE-AF4434AF5D9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9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7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0" descr=""/>
          <p:cNvPicPr/>
          <p:nvPr/>
        </p:nvPicPr>
        <p:blipFill>
          <a:blip r:embed="rId2"/>
          <a:stretch/>
        </p:blipFill>
        <p:spPr>
          <a:xfrm>
            <a:off x="0" y="2185920"/>
            <a:ext cx="9144000" cy="5907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1" descr=""/>
          <p:cNvPicPr/>
          <p:nvPr/>
        </p:nvPicPr>
        <p:blipFill>
          <a:blip r:embed="rId3"/>
          <a:stretch/>
        </p:blipFill>
        <p:spPr>
          <a:xfrm>
            <a:off x="5759280" y="1492200"/>
            <a:ext cx="3021120" cy="119556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12"/>
          <p:cNvSpPr/>
          <p:nvPr/>
        </p:nvSpPr>
        <p:spPr>
          <a:xfrm>
            <a:off x="1281600" y="1494000"/>
            <a:ext cx="34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Simple , Powerful and f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16"/>
          <p:cNvSpPr/>
          <p:nvPr/>
        </p:nvSpPr>
        <p:spPr>
          <a:xfrm>
            <a:off x="1467720" y="1827360"/>
            <a:ext cx="177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alibri"/>
                <a:ea typeface="微软雅黑"/>
              </a:rPr>
              <a:t>WPS office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, 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让办公更轻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7"/>
          <p:cNvSpPr/>
          <p:nvPr/>
        </p:nvSpPr>
        <p:spPr>
          <a:xfrm>
            <a:off x="1292400" y="2173320"/>
            <a:ext cx="42336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40M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轻巧体积，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分钟下载安装，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Windows\Linux\Mac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多平台支持，全面兼容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Microsoft Office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文档格式，并提供营养丰富的海量文档资源。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WPS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为您带来轻松愉悦的办公体验，每天已有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850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万人在使用它，你还不快试试？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8"/>
          <p:cNvSpPr/>
          <p:nvPr/>
        </p:nvSpPr>
        <p:spPr>
          <a:xfrm>
            <a:off x="450000" y="4559400"/>
            <a:ext cx="17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Calibri"/>
              </a:rPr>
              <a:t>更多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800" spc="-1" strike="noStrike">
                <a:solidFill>
                  <a:srgbClr val="ffffff"/>
                </a:solidFill>
                <a:latin typeface="Calibri"/>
              </a:rPr>
              <a:t>：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https://800sucai.taobao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shigaofeng@kingsof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9" descr=""/>
          <p:cNvPicPr/>
          <p:nvPr/>
        </p:nvPicPr>
        <p:blipFill>
          <a:blip r:embed="rId4"/>
          <a:stretch/>
        </p:blipFill>
        <p:spPr>
          <a:xfrm>
            <a:off x="7978680" y="4622760"/>
            <a:ext cx="798480" cy="29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4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50" name="图片 6" descr=""/>
          <p:cNvPicPr/>
          <p:nvPr/>
        </p:nvPicPr>
        <p:blipFill>
          <a:blip r:embed="rId2"/>
          <a:stretch/>
        </p:blipFill>
        <p:spPr>
          <a:xfrm>
            <a:off x="2101680" y="1373040"/>
            <a:ext cx="6537600" cy="100080"/>
          </a:xfrm>
          <a:prstGeom prst="rect">
            <a:avLst/>
          </a:prstGeom>
          <a:ln w="0">
            <a:noFill/>
          </a:ln>
        </p:spPr>
      </p:pic>
      <p:sp>
        <p:nvSpPr>
          <p:cNvPr id="51" name="矩形 8"/>
          <p:cNvSpPr/>
          <p:nvPr/>
        </p:nvSpPr>
        <p:spPr>
          <a:xfrm>
            <a:off x="3036960" y="1562040"/>
            <a:ext cx="357120" cy="365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3036960" y="2006640"/>
            <a:ext cx="357120" cy="365040"/>
          </a:xfrm>
          <a:prstGeom prst="rect">
            <a:avLst/>
          </a:prstGeom>
          <a:solidFill>
            <a:srgbClr val="093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3"/>
          <p:cNvSpPr/>
          <p:nvPr/>
        </p:nvSpPr>
        <p:spPr>
          <a:xfrm>
            <a:off x="3036960" y="2444760"/>
            <a:ext cx="357120" cy="36504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4"/>
          <p:cNvSpPr/>
          <p:nvPr/>
        </p:nvSpPr>
        <p:spPr>
          <a:xfrm>
            <a:off x="3036960" y="2897280"/>
            <a:ext cx="357120" cy="365040"/>
          </a:xfrm>
          <a:prstGeom prst="rect">
            <a:avLst/>
          </a:prstGeom>
          <a:solidFill>
            <a:srgbClr val="20d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5"/>
          <p:cNvSpPr/>
          <p:nvPr/>
        </p:nvSpPr>
        <p:spPr>
          <a:xfrm>
            <a:off x="5663880" y="9936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  <a:ea typeface="微软雅黑"/>
              </a:rPr>
              <a:t>Catalog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16" descr=""/>
          <p:cNvPicPr/>
          <p:nvPr/>
        </p:nvPicPr>
        <p:blipFill>
          <a:blip r:embed="rId3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57" name="五角星 17"/>
          <p:cNvSpPr/>
          <p:nvPr/>
        </p:nvSpPr>
        <p:spPr>
          <a:xfrm>
            <a:off x="3116160" y="1649520"/>
            <a:ext cx="190440" cy="190440"/>
          </a:xfrm>
          <a:custGeom>
            <a:avLst/>
            <a:gdLst/>
            <a:ahLst/>
            <a:rect l="l" t="t" r="r" b="b"/>
            <a:pathLst>
              <a:path w="190500" h="190500">
                <a:moveTo>
                  <a:pt x="0" y="72764"/>
                </a:moveTo>
                <a:lnTo>
                  <a:pt x="72765" y="72765"/>
                </a:lnTo>
                <a:lnTo>
                  <a:pt x="95250" y="0"/>
                </a:lnTo>
                <a:lnTo>
                  <a:pt x="117735" y="72765"/>
                </a:lnTo>
                <a:lnTo>
                  <a:pt x="190500" y="72764"/>
                </a:lnTo>
                <a:lnTo>
                  <a:pt x="131632" y="117735"/>
                </a:lnTo>
                <a:lnTo>
                  <a:pt x="154118" y="190500"/>
                </a:lnTo>
                <a:lnTo>
                  <a:pt x="95250" y="145528"/>
                </a:lnTo>
                <a:lnTo>
                  <a:pt x="36382" y="190500"/>
                </a:lnTo>
                <a:lnTo>
                  <a:pt x="58868" y="117735"/>
                </a:lnTo>
                <a:lnTo>
                  <a:pt x="0" y="727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19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20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21"/>
          <p:cNvSpPr/>
          <p:nvPr/>
        </p:nvSpPr>
        <p:spPr>
          <a:xfrm>
            <a:off x="2800080" y="14889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22"/>
          <p:cNvSpPr/>
          <p:nvPr/>
        </p:nvSpPr>
        <p:spPr>
          <a:xfrm>
            <a:off x="2800080" y="19270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23"/>
          <p:cNvSpPr/>
          <p:nvPr/>
        </p:nvSpPr>
        <p:spPr>
          <a:xfrm>
            <a:off x="2800080" y="23796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24"/>
          <p:cNvSpPr/>
          <p:nvPr/>
        </p:nvSpPr>
        <p:spPr>
          <a:xfrm>
            <a:off x="2800080" y="2816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25"/>
          <p:cNvSpPr/>
          <p:nvPr/>
        </p:nvSpPr>
        <p:spPr>
          <a:xfrm>
            <a:off x="3594960" y="1612800"/>
            <a:ext cx="192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WPS Office 2012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新功能介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6"/>
          <p:cNvSpPr/>
          <p:nvPr/>
        </p:nvSpPr>
        <p:spPr>
          <a:xfrm>
            <a:off x="3565800" y="2035080"/>
            <a:ext cx="88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Writer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7"/>
          <p:cNvSpPr/>
          <p:nvPr/>
        </p:nvSpPr>
        <p:spPr>
          <a:xfrm>
            <a:off x="3526920" y="2487600"/>
            <a:ext cx="136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resentation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28"/>
          <p:cNvSpPr/>
          <p:nvPr/>
        </p:nvSpPr>
        <p:spPr>
          <a:xfrm>
            <a:off x="3518280" y="2924280"/>
            <a:ext cx="136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Spreadsheet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表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3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69" name="图片 4" descr=""/>
          <p:cNvPicPr/>
          <p:nvPr/>
        </p:nvPicPr>
        <p:blipFill>
          <a:blip r:embed="rId2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70" name="文本框 5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6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1"/>
          <p:cNvSpPr/>
          <p:nvPr/>
        </p:nvSpPr>
        <p:spPr>
          <a:xfrm>
            <a:off x="5073480" y="1219320"/>
            <a:ext cx="879480" cy="8967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2"/>
          <p:cNvSpPr/>
          <p:nvPr/>
        </p:nvSpPr>
        <p:spPr>
          <a:xfrm>
            <a:off x="6058080" y="1219320"/>
            <a:ext cx="88236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3"/>
          <p:cNvSpPr/>
          <p:nvPr/>
        </p:nvSpPr>
        <p:spPr>
          <a:xfrm>
            <a:off x="7035840" y="1219320"/>
            <a:ext cx="88272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4"/>
          <p:cNvSpPr/>
          <p:nvPr/>
        </p:nvSpPr>
        <p:spPr>
          <a:xfrm>
            <a:off x="1125360" y="1219320"/>
            <a:ext cx="884520" cy="90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五角星 15"/>
          <p:cNvSpPr/>
          <p:nvPr/>
        </p:nvSpPr>
        <p:spPr>
          <a:xfrm>
            <a:off x="1246320" y="1314360"/>
            <a:ext cx="641160" cy="641520"/>
          </a:xfrm>
          <a:custGeom>
            <a:avLst/>
            <a:gdLst/>
            <a:ahLst/>
            <a:rect l="l" t="t" r="r" b="b"/>
            <a:pathLst>
              <a:path w="641350" h="641350">
                <a:moveTo>
                  <a:pt x="1" y="244973"/>
                </a:moveTo>
                <a:lnTo>
                  <a:pt x="244975" y="244975"/>
                </a:lnTo>
                <a:lnTo>
                  <a:pt x="320675" y="0"/>
                </a:lnTo>
                <a:lnTo>
                  <a:pt x="396375" y="244975"/>
                </a:lnTo>
                <a:lnTo>
                  <a:pt x="641349" y="244973"/>
                </a:lnTo>
                <a:lnTo>
                  <a:pt x="443160" y="396374"/>
                </a:lnTo>
                <a:lnTo>
                  <a:pt x="518863" y="641348"/>
                </a:lnTo>
                <a:lnTo>
                  <a:pt x="320675" y="489944"/>
                </a:lnTo>
                <a:lnTo>
                  <a:pt x="122487" y="641348"/>
                </a:lnTo>
                <a:lnTo>
                  <a:pt x="198190" y="396374"/>
                </a:lnTo>
                <a:lnTo>
                  <a:pt x="1" y="244973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16" descr=""/>
          <p:cNvPicPr/>
          <p:nvPr/>
        </p:nvPicPr>
        <p:blipFill>
          <a:blip r:embed="rId3"/>
          <a:stretch/>
        </p:blipFill>
        <p:spPr>
          <a:xfrm>
            <a:off x="2008080" y="1219320"/>
            <a:ext cx="2871720" cy="2809800"/>
          </a:xfrm>
          <a:prstGeom prst="rect">
            <a:avLst/>
          </a:prstGeom>
          <a:ln w="0">
            <a:noFill/>
          </a:ln>
        </p:spPr>
      </p:pic>
      <p:sp>
        <p:nvSpPr>
          <p:cNvPr id="78" name="文本框 17"/>
          <p:cNvSpPr/>
          <p:nvPr/>
        </p:nvSpPr>
        <p:spPr>
          <a:xfrm>
            <a:off x="2206080" y="1335240"/>
            <a:ext cx="235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WPS Office 2012 </a:t>
            </a: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新功能介绍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8"/>
          <p:cNvSpPr/>
          <p:nvPr/>
        </p:nvSpPr>
        <p:spPr>
          <a:xfrm>
            <a:off x="2100600" y="1596960"/>
            <a:ext cx="1213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bfbfbf"/>
                </a:solidFill>
                <a:latin typeface="Arial"/>
                <a:ea typeface="微软雅黑"/>
              </a:rPr>
              <a:t>New fun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9"/>
          <p:cNvSpPr/>
          <p:nvPr/>
        </p:nvSpPr>
        <p:spPr>
          <a:xfrm>
            <a:off x="2448360" y="2065320"/>
            <a:ext cx="125604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WPS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表格新引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文件保险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直接转换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DOC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格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高亮显示引用单元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在线设计模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多种界面配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支持文档并排窗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自定义快速访问工具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1"/>
          <p:cNvSpPr/>
          <p:nvPr/>
        </p:nvSpPr>
        <p:spPr>
          <a:xfrm>
            <a:off x="2266920" y="2228760"/>
            <a:ext cx="44640" cy="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2"/>
          <p:cNvSpPr/>
          <p:nvPr/>
        </p:nvSpPr>
        <p:spPr>
          <a:xfrm>
            <a:off x="2266920" y="244152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3"/>
          <p:cNvSpPr/>
          <p:nvPr/>
        </p:nvSpPr>
        <p:spPr>
          <a:xfrm>
            <a:off x="2266920" y="265428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4"/>
          <p:cNvSpPr/>
          <p:nvPr/>
        </p:nvSpPr>
        <p:spPr>
          <a:xfrm>
            <a:off x="2266920" y="286848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5"/>
          <p:cNvSpPr/>
          <p:nvPr/>
        </p:nvSpPr>
        <p:spPr>
          <a:xfrm>
            <a:off x="2266920" y="308124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6"/>
          <p:cNvSpPr/>
          <p:nvPr/>
        </p:nvSpPr>
        <p:spPr>
          <a:xfrm>
            <a:off x="2266920" y="3295800"/>
            <a:ext cx="44640" cy="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7"/>
          <p:cNvSpPr/>
          <p:nvPr/>
        </p:nvSpPr>
        <p:spPr>
          <a:xfrm>
            <a:off x="2266920" y="350820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8"/>
          <p:cNvSpPr/>
          <p:nvPr/>
        </p:nvSpPr>
        <p:spPr>
          <a:xfrm>
            <a:off x="2266920" y="372276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3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4" descr=""/>
          <p:cNvPicPr/>
          <p:nvPr/>
        </p:nvPicPr>
        <p:blipFill>
          <a:blip r:embed="rId2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5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6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6"/>
          <p:cNvGrpSpPr/>
          <p:nvPr/>
        </p:nvGrpSpPr>
        <p:grpSpPr>
          <a:xfrm>
            <a:off x="1125360" y="1219320"/>
            <a:ext cx="3754440" cy="2880360"/>
            <a:chOff x="1125360" y="1219320"/>
            <a:chExt cx="3754440" cy="2880360"/>
          </a:xfrm>
        </p:grpSpPr>
        <p:sp>
          <p:nvSpPr>
            <p:cNvPr id="94" name="矩形 7"/>
            <p:cNvSpPr/>
            <p:nvPr/>
          </p:nvSpPr>
          <p:spPr>
            <a:xfrm>
              <a:off x="1125360" y="1219320"/>
              <a:ext cx="883080" cy="90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五角星 8"/>
            <p:cNvSpPr/>
            <p:nvPr/>
          </p:nvSpPr>
          <p:spPr>
            <a:xfrm>
              <a:off x="1245600" y="1314000"/>
              <a:ext cx="642240" cy="641880"/>
            </a:xfrm>
            <a:custGeom>
              <a:avLst/>
              <a:gdLst/>
              <a:ahLst/>
              <a:rect l="l" t="t" r="r" b="b"/>
              <a:pathLst>
                <a:path w="642254" h="642254">
                  <a:moveTo>
                    <a:pt x="1" y="245319"/>
                  </a:moveTo>
                  <a:lnTo>
                    <a:pt x="245321" y="245320"/>
                  </a:lnTo>
                  <a:lnTo>
                    <a:pt x="321127" y="0"/>
                  </a:lnTo>
                  <a:lnTo>
                    <a:pt x="396933" y="245320"/>
                  </a:lnTo>
                  <a:lnTo>
                    <a:pt x="642253" y="245319"/>
                  </a:lnTo>
                  <a:lnTo>
                    <a:pt x="443784" y="396933"/>
                  </a:lnTo>
                  <a:lnTo>
                    <a:pt x="519594" y="642252"/>
                  </a:lnTo>
                  <a:lnTo>
                    <a:pt x="321127" y="490635"/>
                  </a:lnTo>
                  <a:lnTo>
                    <a:pt x="122660" y="642252"/>
                  </a:lnTo>
                  <a:lnTo>
                    <a:pt x="198470" y="396933"/>
                  </a:lnTo>
                  <a:lnTo>
                    <a:pt x="1" y="24531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图片 9" descr=""/>
            <p:cNvPicPr/>
            <p:nvPr/>
          </p:nvPicPr>
          <p:blipFill>
            <a:blip r:embed="rId3"/>
            <a:stretch/>
          </p:blipFill>
          <p:spPr>
            <a:xfrm>
              <a:off x="2008440" y="1219320"/>
              <a:ext cx="2871360" cy="28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文本框 10"/>
            <p:cNvSpPr/>
            <p:nvPr/>
          </p:nvSpPr>
          <p:spPr>
            <a:xfrm>
              <a:off x="2206800" y="1335240"/>
              <a:ext cx="235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 Office 2012 </a:t>
              </a:r>
              <a:r>
                <a:rPr b="1" lang="zh-CN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新功能介绍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11"/>
            <p:cNvSpPr/>
            <p:nvPr/>
          </p:nvSpPr>
          <p:spPr>
            <a:xfrm>
              <a:off x="2100600" y="1598040"/>
              <a:ext cx="1213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bfbfbf"/>
                  </a:solidFill>
                  <a:latin typeface="Arial"/>
                  <a:ea typeface="微软雅黑"/>
                </a:rPr>
                <a:t>New func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文本框 12"/>
            <p:cNvSpPr/>
            <p:nvPr/>
          </p:nvSpPr>
          <p:spPr>
            <a:xfrm>
              <a:off x="2448360" y="2064960"/>
              <a:ext cx="1256040" cy="20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表格新引擎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件保险箱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PT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直接转换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OC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格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高亮显示引用单元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在线设计模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多种界面配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支持文档并排窗口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自定义快速访问工具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13"/>
            <p:cNvSpPr/>
            <p:nvPr/>
          </p:nvSpPr>
          <p:spPr>
            <a:xfrm>
              <a:off x="2266200" y="222804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14"/>
            <p:cNvSpPr/>
            <p:nvPr/>
          </p:nvSpPr>
          <p:spPr>
            <a:xfrm>
              <a:off x="2266200" y="244152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15"/>
            <p:cNvSpPr/>
            <p:nvPr/>
          </p:nvSpPr>
          <p:spPr>
            <a:xfrm>
              <a:off x="2266200" y="265500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16"/>
            <p:cNvSpPr/>
            <p:nvPr/>
          </p:nvSpPr>
          <p:spPr>
            <a:xfrm>
              <a:off x="2266200" y="286848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矩形 17"/>
            <p:cNvSpPr/>
            <p:nvPr/>
          </p:nvSpPr>
          <p:spPr>
            <a:xfrm>
              <a:off x="2266200" y="308196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18"/>
            <p:cNvSpPr/>
            <p:nvPr/>
          </p:nvSpPr>
          <p:spPr>
            <a:xfrm>
              <a:off x="2266200" y="329544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 19"/>
            <p:cNvSpPr/>
            <p:nvPr/>
          </p:nvSpPr>
          <p:spPr>
            <a:xfrm>
              <a:off x="2266200" y="350892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 20"/>
            <p:cNvSpPr/>
            <p:nvPr/>
          </p:nvSpPr>
          <p:spPr>
            <a:xfrm>
              <a:off x="2266200" y="372240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文本框 23"/>
          <p:cNvSpPr/>
          <p:nvPr/>
        </p:nvSpPr>
        <p:spPr>
          <a:xfrm>
            <a:off x="930240" y="99684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2"/>
          <p:cNvGrpSpPr/>
          <p:nvPr/>
        </p:nvGrpSpPr>
        <p:grpSpPr>
          <a:xfrm>
            <a:off x="4006800" y="0"/>
            <a:ext cx="4772160" cy="5143680"/>
            <a:chOff x="4006800" y="0"/>
            <a:chExt cx="4772160" cy="5143680"/>
          </a:xfrm>
        </p:grpSpPr>
        <p:pic>
          <p:nvPicPr>
            <p:cNvPr id="110" name="图片 24" descr=""/>
            <p:cNvPicPr/>
            <p:nvPr/>
          </p:nvPicPr>
          <p:blipFill>
            <a:blip r:embed="rId4"/>
            <a:stretch/>
          </p:blipFill>
          <p:spPr>
            <a:xfrm>
              <a:off x="4006800" y="0"/>
              <a:ext cx="477216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图片 25" descr=""/>
            <p:cNvPicPr/>
            <p:nvPr/>
          </p:nvPicPr>
          <p:blipFill>
            <a:blip r:embed="rId5"/>
            <a:stretch/>
          </p:blipFill>
          <p:spPr>
            <a:xfrm>
              <a:off x="4792320" y="1792080"/>
              <a:ext cx="340560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文本框 26"/>
            <p:cNvSpPr/>
            <p:nvPr/>
          </p:nvSpPr>
          <p:spPr>
            <a:xfrm>
              <a:off x="4437720" y="234720"/>
              <a:ext cx="866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5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在线设计模板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文本框 27"/>
            <p:cNvSpPr/>
            <p:nvPr/>
          </p:nvSpPr>
          <p:spPr>
            <a:xfrm>
              <a:off x="5451840" y="56304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海量设计模板，喜欢它，一键替换吧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8271E-006 -1.43783E-006 L -0.12416 0.00648 E">
                                      <p:cBhvr>
                                        <p:cTn id="6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4"/>
          <p:cNvSpPr/>
          <p:nvPr/>
        </p:nvSpPr>
        <p:spPr>
          <a:xfrm>
            <a:off x="6058080" y="1219320"/>
            <a:ext cx="88236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5"/>
          <p:cNvSpPr/>
          <p:nvPr/>
        </p:nvSpPr>
        <p:spPr>
          <a:xfrm>
            <a:off x="7035840" y="1219320"/>
            <a:ext cx="88272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/>
          <p:cNvSpPr/>
          <p:nvPr/>
        </p:nvSpPr>
        <p:spPr>
          <a:xfrm>
            <a:off x="1125360" y="1219320"/>
            <a:ext cx="88452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7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8" descr=""/>
          <p:cNvPicPr/>
          <p:nvPr/>
        </p:nvPicPr>
        <p:blipFill>
          <a:blip r:embed="rId2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119" name="文本框 9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0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五角星 11"/>
          <p:cNvSpPr/>
          <p:nvPr/>
        </p:nvSpPr>
        <p:spPr>
          <a:xfrm>
            <a:off x="1246320" y="1314360"/>
            <a:ext cx="641160" cy="641520"/>
          </a:xfrm>
          <a:custGeom>
            <a:avLst/>
            <a:gdLst/>
            <a:ahLst/>
            <a:rect l="l" t="t" r="r" b="b"/>
            <a:pathLst>
              <a:path w="641350" h="641350">
                <a:moveTo>
                  <a:pt x="1" y="244973"/>
                </a:moveTo>
                <a:lnTo>
                  <a:pt x="244975" y="244975"/>
                </a:lnTo>
                <a:lnTo>
                  <a:pt x="320675" y="0"/>
                </a:lnTo>
                <a:lnTo>
                  <a:pt x="396375" y="244975"/>
                </a:lnTo>
                <a:lnTo>
                  <a:pt x="641349" y="244973"/>
                </a:lnTo>
                <a:lnTo>
                  <a:pt x="443160" y="396374"/>
                </a:lnTo>
                <a:lnTo>
                  <a:pt x="518863" y="641348"/>
                </a:lnTo>
                <a:lnTo>
                  <a:pt x="320675" y="489944"/>
                </a:lnTo>
                <a:lnTo>
                  <a:pt x="122487" y="641348"/>
                </a:lnTo>
                <a:lnTo>
                  <a:pt x="198190" y="396374"/>
                </a:lnTo>
                <a:lnTo>
                  <a:pt x="1" y="2449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0"/>
          <p:cNvGrpSpPr/>
          <p:nvPr/>
        </p:nvGrpSpPr>
        <p:grpSpPr>
          <a:xfrm>
            <a:off x="2127240" y="1212840"/>
            <a:ext cx="3746520" cy="2141640"/>
            <a:chOff x="2127240" y="1212840"/>
            <a:chExt cx="3746520" cy="2141640"/>
          </a:xfrm>
        </p:grpSpPr>
        <p:sp>
          <p:nvSpPr>
            <p:cNvPr id="123" name="矩形 3"/>
            <p:cNvSpPr/>
            <p:nvPr/>
          </p:nvSpPr>
          <p:spPr>
            <a:xfrm>
              <a:off x="2127240" y="1218240"/>
              <a:ext cx="880200" cy="89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W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图片 13" descr=""/>
            <p:cNvPicPr/>
            <p:nvPr/>
          </p:nvPicPr>
          <p:blipFill>
            <a:blip r:embed="rId4"/>
            <a:stretch/>
          </p:blipFill>
          <p:spPr>
            <a:xfrm>
              <a:off x="3001680" y="1212840"/>
              <a:ext cx="2872080" cy="21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文本框 14"/>
            <p:cNvSpPr/>
            <p:nvPr/>
          </p:nvSpPr>
          <p:spPr>
            <a:xfrm>
              <a:off x="3221640" y="1334520"/>
              <a:ext cx="1061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riter </a:t>
              </a:r>
              <a:r>
                <a:rPr b="1" lang="zh-CN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文本框 15"/>
            <p:cNvSpPr/>
            <p:nvPr/>
          </p:nvSpPr>
          <p:spPr>
            <a:xfrm>
              <a:off x="3192480" y="1597320"/>
              <a:ext cx="573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bfbfbf"/>
                  </a:solidFill>
                  <a:latin typeface="Arial"/>
                  <a:ea typeface="微软雅黑"/>
                </a:rPr>
                <a:t>wor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文本框 16"/>
            <p:cNvSpPr/>
            <p:nvPr/>
          </p:nvSpPr>
          <p:spPr>
            <a:xfrm>
              <a:off x="3661200" y="2064600"/>
              <a:ext cx="175032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任务栏实时查看文档字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 页面颜色支持跟随系统颜色设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PT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直接转换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OC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格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优化段落布局功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17"/>
            <p:cNvSpPr/>
            <p:nvPr/>
          </p:nvSpPr>
          <p:spPr>
            <a:xfrm>
              <a:off x="3199320" y="22276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矩形 18"/>
            <p:cNvSpPr/>
            <p:nvPr/>
          </p:nvSpPr>
          <p:spPr>
            <a:xfrm>
              <a:off x="3199320" y="244152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矩形 19"/>
            <p:cNvSpPr/>
            <p:nvPr/>
          </p:nvSpPr>
          <p:spPr>
            <a:xfrm>
              <a:off x="3199320" y="265500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20"/>
            <p:cNvSpPr/>
            <p:nvPr/>
          </p:nvSpPr>
          <p:spPr>
            <a:xfrm>
              <a:off x="3199320" y="28684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3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4" descr=""/>
          <p:cNvPicPr/>
          <p:nvPr/>
        </p:nvPicPr>
        <p:blipFill>
          <a:blip r:embed="rId2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134" name="文本框 5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6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6"/>
          <p:cNvGrpSpPr/>
          <p:nvPr/>
        </p:nvGrpSpPr>
        <p:grpSpPr>
          <a:xfrm>
            <a:off x="2127240" y="1212840"/>
            <a:ext cx="3746520" cy="2141640"/>
            <a:chOff x="2127240" y="1212840"/>
            <a:chExt cx="3746520" cy="2141640"/>
          </a:xfrm>
        </p:grpSpPr>
        <p:sp>
          <p:nvSpPr>
            <p:cNvPr id="137" name="矩形 8"/>
            <p:cNvSpPr/>
            <p:nvPr/>
          </p:nvSpPr>
          <p:spPr>
            <a:xfrm>
              <a:off x="2127240" y="1218240"/>
              <a:ext cx="880200" cy="89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W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图片 9" descr=""/>
            <p:cNvPicPr/>
            <p:nvPr/>
          </p:nvPicPr>
          <p:blipFill>
            <a:blip r:embed="rId4"/>
            <a:stretch/>
          </p:blipFill>
          <p:spPr>
            <a:xfrm>
              <a:off x="3001680" y="1212840"/>
              <a:ext cx="2872080" cy="21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文本框 10"/>
            <p:cNvSpPr/>
            <p:nvPr/>
          </p:nvSpPr>
          <p:spPr>
            <a:xfrm>
              <a:off x="3221640" y="1334520"/>
              <a:ext cx="1061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riter </a:t>
              </a:r>
              <a:r>
                <a:rPr b="1" lang="zh-CN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11"/>
            <p:cNvSpPr/>
            <p:nvPr/>
          </p:nvSpPr>
          <p:spPr>
            <a:xfrm>
              <a:off x="3192480" y="1597320"/>
              <a:ext cx="573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bfbfbf"/>
                  </a:solidFill>
                  <a:latin typeface="Arial"/>
                  <a:ea typeface="微软雅黑"/>
                </a:rPr>
                <a:t>wor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文本框 12"/>
            <p:cNvSpPr/>
            <p:nvPr/>
          </p:nvSpPr>
          <p:spPr>
            <a:xfrm>
              <a:off x="3661200" y="2064600"/>
              <a:ext cx="175032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任务栏实时查看文档字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 页面颜色支持跟随系统颜色设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PPT</a:t>
              </a:r>
              <a:r>
                <a:rPr b="1" lang="zh-CN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直接转换</a:t>
              </a:r>
              <a:r>
                <a:rPr b="1" lang="en-US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DOC</a:t>
              </a:r>
              <a:r>
                <a:rPr b="1" lang="zh-CN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格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优化段落布局功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13"/>
            <p:cNvSpPr/>
            <p:nvPr/>
          </p:nvSpPr>
          <p:spPr>
            <a:xfrm>
              <a:off x="3199320" y="22276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矩形 14"/>
            <p:cNvSpPr/>
            <p:nvPr/>
          </p:nvSpPr>
          <p:spPr>
            <a:xfrm>
              <a:off x="3199320" y="244152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15"/>
            <p:cNvSpPr/>
            <p:nvPr/>
          </p:nvSpPr>
          <p:spPr>
            <a:xfrm>
              <a:off x="3199320" y="265500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16"/>
            <p:cNvSpPr/>
            <p:nvPr/>
          </p:nvSpPr>
          <p:spPr>
            <a:xfrm>
              <a:off x="3199320" y="28684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6"/>
          <p:cNvGrpSpPr/>
          <p:nvPr/>
        </p:nvGrpSpPr>
        <p:grpSpPr>
          <a:xfrm>
            <a:off x="4006800" y="0"/>
            <a:ext cx="4772160" cy="5143680"/>
            <a:chOff x="4006800" y="0"/>
            <a:chExt cx="4772160" cy="5143680"/>
          </a:xfrm>
        </p:grpSpPr>
        <p:grpSp>
          <p:nvGrpSpPr>
            <p:cNvPr id="147" name="Group 17"/>
            <p:cNvGrpSpPr/>
            <p:nvPr/>
          </p:nvGrpSpPr>
          <p:grpSpPr>
            <a:xfrm>
              <a:off x="4006800" y="0"/>
              <a:ext cx="4772160" cy="5143680"/>
              <a:chOff x="4006800" y="0"/>
              <a:chExt cx="4772160" cy="5143680"/>
            </a:xfrm>
          </p:grpSpPr>
          <p:pic>
            <p:nvPicPr>
              <p:cNvPr id="148" name="图片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4006800" y="0"/>
                <a:ext cx="4772160" cy="514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文本框 20"/>
              <p:cNvSpPr/>
              <p:nvPr/>
            </p:nvSpPr>
            <p:spPr>
              <a:xfrm>
                <a:off x="4301280" y="234720"/>
                <a:ext cx="17935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PPT</a:t>
                </a:r>
                <a:r>
                  <a:rPr b="1" lang="zh-CN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直接转换</a:t>
                </a:r>
                <a:r>
                  <a:rPr b="1" lang="en-US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DOC</a:t>
                </a:r>
                <a:r>
                  <a:rPr b="1" lang="zh-CN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格式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文本框 21"/>
              <p:cNvSpPr/>
              <p:nvPr/>
            </p:nvSpPr>
            <p:spPr>
              <a:xfrm>
                <a:off x="4753440" y="563040"/>
                <a:ext cx="3260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WPS</a:t>
                </a:r>
                <a:r>
                  <a:rPr b="1" lang="zh-CN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演示支持将</a:t>
                </a: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PPT</a:t>
                </a:r>
                <a:r>
                  <a:rPr b="1" lang="zh-CN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幻灯片直接转换为</a:t>
                </a: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DOC</a:t>
                </a:r>
                <a:r>
                  <a:rPr b="1" lang="zh-CN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格式，进行文档资料保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1" name="图片 22" descr=""/>
            <p:cNvPicPr/>
            <p:nvPr/>
          </p:nvPicPr>
          <p:blipFill>
            <a:blip r:embed="rId6"/>
            <a:stretch/>
          </p:blipFill>
          <p:spPr>
            <a:xfrm>
              <a:off x="4243320" y="1401480"/>
              <a:ext cx="3985200" cy="3573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32679E-006 -2.19068E-007 L -0.23302 -2.19068E-007 E">
                                      <p:cBhvr>
                                        <p:cTn id="18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3" descr=""/>
          <p:cNvPicPr/>
          <p:nvPr/>
        </p:nvPicPr>
        <p:blipFill>
          <a:blip r:embed="rId1"/>
          <a:stretch/>
        </p:blipFill>
        <p:spPr>
          <a:xfrm>
            <a:off x="3208320" y="1971720"/>
            <a:ext cx="2703600" cy="117468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4" descr=""/>
          <p:cNvPicPr/>
          <p:nvPr/>
        </p:nvPicPr>
        <p:blipFill>
          <a:blip r:embed="rId2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sp>
        <p:nvSpPr>
          <p:cNvPr id="154" name="文本框 5"/>
          <p:cNvSpPr/>
          <p:nvPr/>
        </p:nvSpPr>
        <p:spPr>
          <a:xfrm>
            <a:off x="450000" y="4559400"/>
            <a:ext cx="17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Calibri"/>
              </a:rPr>
              <a:t>更多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800" spc="-1" strike="noStrike">
                <a:solidFill>
                  <a:srgbClr val="ffffff"/>
                </a:solidFill>
                <a:latin typeface="Calibri"/>
              </a:rPr>
              <a:t>：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https://800sucai.taobao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shigaofeng@kingsof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图片 6" descr=""/>
          <p:cNvPicPr/>
          <p:nvPr/>
        </p:nvPicPr>
        <p:blipFill>
          <a:blip r:embed="rId3"/>
          <a:stretch/>
        </p:blipFill>
        <p:spPr>
          <a:xfrm>
            <a:off x="7978680" y="4622760"/>
            <a:ext cx="798480" cy="29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42840"/>
            <a:ext cx="893736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5:12:00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19:54Z</dcterms:modified>
  <cp:revision>75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DE64AEEDD9B7A4D93545ACBE97D4615</vt:lpwstr>
  </property>
  <property fmtid="{D5CDD505-2E9C-101B-9397-08002B2CF9AE}" pid="3" name="KSOProductBuildVer">
    <vt:lpwstr>2052-10.1.0.5850</vt:lpwstr>
  </property>
</Properties>
</file>