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753-3093-40D5-8774-D5C901AB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4DD-E614-424D-A155-6BFBD17E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137-EC79-4FB5-A2B2-11DCC88B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FBF-7FF1-440A-9AAE-7E79C9F0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8BE-EEDE-475C-BA65-D3D22491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756-9485-46F6-A4EA-731D2524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3F6-AA80-4874-AD32-51114EA9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E89-F12E-4568-A346-26727535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522-3CF1-40CF-A574-F501FD0E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54A-74AD-4028-BAAC-146C596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61E-79C3-4DFC-9151-6080C34B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0DB-77B9-40F8-95B9-2929A095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48F0D-5D54-4145-9969-032CAD8674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39794-18FA-4AB9-B5A5-759DC7361C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7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4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五角星 8"/>
            <p:cNvSpPr/>
            <p:nvPr/>
          </p:nvSpPr>
          <p:spPr>
            <a:xfrm>
              <a:off x="1245600" y="1314000"/>
              <a:ext cx="642240" cy="641880"/>
            </a:xfrm>
            <a:custGeom>
              <a:avLst/>
              <a:gdLst/>
              <a:ahLst/>
              <a:rect l="l" t="t" r="r" b="b"/>
              <a:pathLst>
                <a:path w="642254" h="642254">
                  <a:moveTo>
                    <a:pt x="1" y="245319"/>
                  </a:moveTo>
                  <a:lnTo>
                    <a:pt x="245321" y="245320"/>
                  </a:lnTo>
                  <a:lnTo>
                    <a:pt x="321127" y="0"/>
                  </a:lnTo>
                  <a:lnTo>
                    <a:pt x="396933" y="245320"/>
                  </a:lnTo>
                  <a:lnTo>
                    <a:pt x="642253" y="245319"/>
                  </a:lnTo>
                  <a:lnTo>
                    <a:pt x="443784" y="396933"/>
                  </a:lnTo>
                  <a:lnTo>
                    <a:pt x="519594" y="642252"/>
                  </a:lnTo>
                  <a:lnTo>
                    <a:pt x="321127" y="490635"/>
                  </a:lnTo>
                  <a:lnTo>
                    <a:pt x="122660" y="642252"/>
                  </a:lnTo>
                  <a:lnTo>
                    <a:pt x="198470" y="396933"/>
                  </a:lnTo>
                  <a:lnTo>
                    <a:pt x="1" y="24531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0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3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37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47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48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5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54Z</dcterms:modified>
  <cp:revision>7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10.1.0.5850</vt:lpwstr>
  </property>
</Properties>
</file>