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3AB-80D1-4B31-9380-0D64C405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32A-F6EA-4930-9E25-4ACAC24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3FA-1FF9-4FBA-AAC7-F6427128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F00-E8AC-4B90-BE8C-48DE37BD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13ED-50BD-42FF-88AA-A809CD4E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632A-32E1-4D5C-A252-A2CCD82B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41E0-0D65-4E5B-BBF9-CD3F82B3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BEE1-BFDE-476A-AA46-6501A49B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2B21-BA17-49FB-B9DA-5FBD048C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0B89-32E2-46D0-95F4-7BFE31FC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344A-DCEA-468D-9A3D-5430BB37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DF5-6AE9-4A1F-AE15-52C763B5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C63F-8A05-47C3-8DF7-3CBBFB32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C0BA-4DC4-44A6-A192-F44556E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0763-B038-4A7D-B9E7-F4E109B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6D39-6668-445F-9AB6-CBF2DA38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FC23-A3C7-4792-BE62-F7845BFB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69C-0DAA-4C2A-A155-96AFE8DF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F40-FA53-4490-9A92-9E39B37D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5563-FC3D-49F5-9103-B2B8B762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5C4-B08B-41E1-93CF-E0A5BFEE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8B7-8814-4CDC-A591-5ADBE58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4F0-2F46-4864-B406-C3C5089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C01-A286-436F-A019-31379E75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4138-CED3-40B9-B12F-FB0BA1A17FB5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EEE-8BB8-4958-8902-E1110CEE4FED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/2.5/cn/legalcode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6" descr="594"/>
          <p:cNvPicPr/>
          <p:nvPr/>
        </p:nvPicPr>
        <p:blipFill>
          <a:blip r:embed="rId1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>
            <a:hlinkClick r:id="rId1"/>
          </p:cNvPr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Picture 8" descr="logocom新"/>
          <p:cNvPicPr/>
          <p:nvPr/>
        </p:nvPicPr>
        <p:blipFill>
          <a:blip r:embed="rId2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Freeform 28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bdd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a3e0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Freeform 30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bff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Freeform 31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bbff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1e1e1"/>
              </a:gs>
              <a:gs pos="100000">
                <a:srgbClr val="f5f5f5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2e2e2"/>
              </a:gs>
              <a:gs pos="100000">
                <a:srgbClr val="f5f5f5"/>
              </a:gs>
            </a:gsLst>
            <a:lin ang="10800000"/>
          </a:gradFill>
          <a:ln w="19080">
            <a:solidFill>
              <a:srgbClr val="e2e2e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1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2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3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Administrator</cp:lastModifiedBy>
  <dcterms:modified xsi:type="dcterms:W3CDTF">2016-08-22T03:11:13Z</dcterms:modified>
  <cp:revision>130</cp:revision>
  <dc:subject/>
  <dc:title>锐得PPT模板</dc:title>
</cp:coreProperties>
</file>