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035-3DCD-41E7-9DC5-B5A85DE5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65E-1FFC-4C07-B4FE-730E8825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176-DD4F-4BA2-A8D4-589AC17F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5E8-9C2C-4DEB-90A5-25492B2F0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FEC8-C6FC-4E9A-B3EE-EA72B039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FDAA-68A6-4A6A-9A0D-AB068B64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D953-7FFE-47E5-A7BB-3E62D89E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9133-298F-4E05-804B-1146B43F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BFA6-A9B6-462B-9F7D-746D697A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2F00-1091-4DFA-B5C8-B86329DD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1774-72C4-472E-A8E5-84056375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AABE-D2C0-4344-A648-9A641E19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BA19-9420-4274-9911-A0F9D06F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C15E-B13E-49C8-B2B8-50728346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E9C2-955B-4EA1-B525-04CBB1AE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F7A5-9B08-4B33-AAF2-A30EF24F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98F7-BEC7-4B9C-85EB-BE5FE0F6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49B-496E-4BAF-A4A1-76622F10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148-F66A-40DC-B7E6-E6E13E5A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D64-E529-4494-A0A5-9DB12117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524-75F8-4B8E-BD35-65262835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762-0339-4336-9766-77BFD12D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992-C02B-4FA7-BC77-85DC0863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D1B-1798-4D49-8948-462F7616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C432-41A4-4FDE-966B-1CD5124B77AC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4BE1-2716-4934-9135-92CB234F322D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/2.5/cn/legalcode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6" descr="594"/>
          <p:cNvPicPr/>
          <p:nvPr/>
        </p:nvPicPr>
        <p:blipFill>
          <a:blip r:embed="rId1"/>
          <a:srcRect l="9017" t="15973" r="9408" b="30123"/>
          <a:stretch/>
        </p:blipFill>
        <p:spPr>
          <a:xfrm>
            <a:off x="689040" y="1117440"/>
            <a:ext cx="7956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3">
            <a:hlinkClick r:id="rId1"/>
          </p:cNvPr>
          <p:cNvSpPr/>
          <p:nvPr/>
        </p:nvSpPr>
        <p:spPr>
          <a:xfrm>
            <a:off x="6822000" y="44359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本页可作为理念展示及书写地址联系方式等。</a:t>
            </a:r>
            <a:r>
              <a:rPr b="0" i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617840" y="28828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锐得精品 　幻演天下　　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74" name="Picture 8" descr="logocom新"/>
          <p:cNvPicPr/>
          <p:nvPr/>
        </p:nvPicPr>
        <p:blipFill>
          <a:blip r:embed="rId2"/>
          <a:srcRect l="8632" t="15681" r="15170" b="16457"/>
          <a:stretch/>
        </p:blipFill>
        <p:spPr>
          <a:xfrm>
            <a:off x="3138480" y="1224000"/>
            <a:ext cx="28414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4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5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6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09" name="Freeform 28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bbdd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0" name="Freeform 29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5a3e0"/>
                </a:gs>
                <a:gs pos="100000">
                  <a:srgbClr val="0066cc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1" name="Freeform 30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bbff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2" name="Freeform 31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5bbff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15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6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18" name="Picture 36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0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2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3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4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25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7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9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0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1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0066cc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2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34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36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7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38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66ff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9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0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1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43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4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5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d5cb0d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46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8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50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1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2" name="AutoShape 5"/>
            <p:cNvCxnSpPr>
              <a:stCxn id="153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4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</p:grpSp>
      <p:sp>
        <p:nvSpPr>
          <p:cNvPr id="155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3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59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0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1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2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3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4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5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d5cb0d"/>
            </a:solidFill>
            <a:ln w="12600">
              <a:solidFill>
                <a:srgbClr val="d5c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6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5cb0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7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8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79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0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1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3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5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2e2e2"/>
              </a:gs>
              <a:gs pos="100000">
                <a:srgbClr val="f5f5f5"/>
              </a:gs>
            </a:gsLst>
            <a:lin ang="10800000"/>
          </a:gradFill>
          <a:ln w="19080">
            <a:solidFill>
              <a:srgbClr val="e2e2e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8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2e2e2"/>
              </a:gs>
              <a:gs pos="100000">
                <a:srgbClr val="f5f5f5"/>
              </a:gs>
            </a:gsLst>
            <a:lin ang="10800000"/>
          </a:gradFill>
          <a:ln w="19080">
            <a:solidFill>
              <a:srgbClr val="e2e2e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0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2e2e2"/>
              </a:gs>
              <a:gs pos="100000">
                <a:srgbClr val="f5f5f5"/>
              </a:gs>
            </a:gsLst>
            <a:lin ang="10800000"/>
          </a:gradFill>
          <a:ln w="19080">
            <a:solidFill>
              <a:srgbClr val="e2e2e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93" name="Group 9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4" name="AutoShape 17"/>
            <p:cNvSpPr/>
            <p:nvPr/>
          </p:nvSpPr>
          <p:spPr>
            <a:xfrm>
              <a:off x="1495440" y="2425680"/>
              <a:ext cx="1258920" cy="1079640"/>
            </a:xfrm>
            <a:custGeom>
              <a:avLst/>
              <a:gdLst>
                <a:gd name="textAreaLeft" fmla="*/ 0 w 1258920"/>
                <a:gd name="textAreaRight" fmla="*/ 1259280 w 1258920"/>
                <a:gd name="textAreaTop" fmla="*/ 54000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99cc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5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196" name="图片 27" descr="无标题666.bmp"/>
          <p:cNvPicPr/>
          <p:nvPr/>
        </p:nvPicPr>
        <p:blipFill>
          <a:blip r:embed="rId1">
            <a:lum bright="48000"/>
          </a:blip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3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198" name="AutoShape 3"/>
            <p:cNvSpPr/>
            <p:nvPr/>
          </p:nvSpPr>
          <p:spPr>
            <a:xfrm>
              <a:off x="6348240" y="2425680"/>
              <a:ext cx="12589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9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00" name="Group 16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1" name="AutoShape 10"/>
            <p:cNvSpPr/>
            <p:nvPr/>
          </p:nvSpPr>
          <p:spPr>
            <a:xfrm>
              <a:off x="3890880" y="2425680"/>
              <a:ext cx="12607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203" name="图片 27" descr="无标题666.bmp"/>
          <p:cNvPicPr/>
          <p:nvPr/>
        </p:nvPicPr>
        <p:blipFill>
          <a:blip r:embed="rId2">
            <a:lum bright="48000"/>
          </a:blip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27" descr="无标题666.bmp"/>
          <p:cNvPicPr/>
          <p:nvPr/>
        </p:nvPicPr>
        <p:blipFill>
          <a:blip r:embed="rId3">
            <a:lum bright="48000"/>
          </a:blip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cfcfc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07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08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1506240" y="263520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0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1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5068800" y="2635200"/>
              <a:ext cx="243360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3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4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150624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6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7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8" name="Text Box 15"/>
            <p:cNvSpPr/>
            <p:nvPr/>
          </p:nvSpPr>
          <p:spPr>
            <a:xfrm>
              <a:off x="507816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9" name="Group 16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0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1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2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24" name="Group 21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5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6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8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36" name=" 3" descr=""/>
          <p:cNvPicPr/>
          <p:nvPr/>
        </p:nvPicPr>
        <p:blipFill>
          <a:blip r:embed="rId1"/>
          <a:stretch/>
        </p:blipFill>
        <p:spPr>
          <a:xfrm>
            <a:off x="3773520" y="3833640"/>
            <a:ext cx="2316240" cy="2281320"/>
          </a:xfrm>
          <a:prstGeom prst="rect">
            <a:avLst/>
          </a:prstGeom>
          <a:ln w="0">
            <a:noFill/>
          </a:ln>
        </p:spPr>
      </p:pic>
      <p:pic>
        <p:nvPicPr>
          <p:cNvPr id="237" name=" 3" descr=""/>
          <p:cNvPicPr/>
          <p:nvPr/>
        </p:nvPicPr>
        <p:blipFill>
          <a:blip r:embed="rId2"/>
          <a:stretch/>
        </p:blipFill>
        <p:spPr>
          <a:xfrm>
            <a:off x="2779560" y="2548080"/>
            <a:ext cx="1908360" cy="1877760"/>
          </a:xfrm>
          <a:prstGeom prst="rect">
            <a:avLst/>
          </a:prstGeom>
          <a:ln w="0">
            <a:noFill/>
          </a:ln>
        </p:spPr>
      </p:pic>
      <p:pic>
        <p:nvPicPr>
          <p:cNvPr id="238" name=" 3" descr=""/>
          <p:cNvPicPr/>
          <p:nvPr/>
        </p:nvPicPr>
        <p:blipFill>
          <a:blip r:embed="rId3"/>
          <a:stretch/>
        </p:blipFill>
        <p:spPr>
          <a:xfrm>
            <a:off x="3968640" y="1474920"/>
            <a:ext cx="1657440" cy="16333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40" name="Group 13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1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0099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2" name="Picture 37" descr="cir_lighteffect0"/>
            <p:cNvPicPr/>
            <p:nvPr/>
          </p:nvPicPr>
          <p:blipFill>
            <a:blip r:embed="rId4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4" name="Group 17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5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6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8" name="Group 21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49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99cc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50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AutoShape 3"/>
          <p:cNvSpPr/>
          <p:nvPr/>
        </p:nvSpPr>
        <p:spPr>
          <a:xfrm rot="18033600">
            <a:off x="1642680" y="1936440"/>
            <a:ext cx="5692680" cy="5629320"/>
          </a:xfrm>
          <a:custGeom>
            <a:avLst/>
            <a:gdLst>
              <a:gd name="textAreaLeft" fmla="*/ 987840 w 5692680"/>
              <a:gd name="textAreaRight" fmla="*/ 4704840 w 5692680"/>
              <a:gd name="textAreaTop" fmla="*/ 0 h 5629320"/>
              <a:gd name="textAreaBottom" fmla="*/ 2010960 h 5629320"/>
            </a:gdLst>
            <a:ahLst/>
            <a:rect l="textAreaLeft" t="textAreaTop" r="textAreaRight" b="textAreaBottom"/>
            <a:pathLst>
              <a:path w="21600" h="21600">
                <a:moveTo>
                  <a:pt x="8782" y="7264"/>
                </a:moveTo>
                <a:cubicBezTo>
                  <a:pt x="9396" y="6913"/>
                  <a:pt x="10092" y="6728"/>
                  <a:pt x="10800" y="6729"/>
                </a:cubicBezTo>
                <a:cubicBezTo>
                  <a:pt x="11507" y="6729"/>
                  <a:pt x="12203" y="6913"/>
                  <a:pt x="12817" y="7264"/>
                </a:cubicBezTo>
                <a:lnTo>
                  <a:pt x="16153" y="1420"/>
                </a:lnTo>
                <a:cubicBezTo>
                  <a:pt x="14522" y="489"/>
                  <a:pt x="12677" y="-1"/>
                  <a:pt x="10799" y="0"/>
                </a:cubicBezTo>
                <a:cubicBezTo>
                  <a:pt x="8922" y="0"/>
                  <a:pt x="7077" y="489"/>
                  <a:pt x="5446" y="1420"/>
                </a:cubicBezTo>
                <a:lnTo>
                  <a:pt x="8782" y="7264"/>
                </a:lnTo>
                <a:close/>
              </a:path>
            </a:pathLst>
          </a:cu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1663560" y="1916280"/>
            <a:ext cx="5631120" cy="5692680"/>
          </a:xfrm>
          <a:custGeom>
            <a:avLst/>
            <a:gdLst>
              <a:gd name="textAreaLeft" fmla="*/ 1002240 w 5631120"/>
              <a:gd name="textAreaRight" fmla="*/ 4628880 w 5631120"/>
              <a:gd name="textAreaTop" fmla="*/ 0 h 5692680"/>
              <a:gd name="textAreaBottom" fmla="*/ 2021400 h 5692680"/>
            </a:gdLst>
            <a:ahLst/>
            <a:rect l="textAreaLeft" t="textAreaTop" r="textAreaRight" b="textAreaBottom"/>
            <a:pathLst>
              <a:path w="21600" h="21600">
                <a:moveTo>
                  <a:pt x="8810" y="7225"/>
                </a:moveTo>
                <a:cubicBezTo>
                  <a:pt x="9418" y="6886"/>
                  <a:pt x="10103" y="6708"/>
                  <a:pt x="10800" y="6709"/>
                </a:cubicBezTo>
                <a:cubicBezTo>
                  <a:pt x="11496" y="6709"/>
                  <a:pt x="12181" y="6886"/>
                  <a:pt x="12789" y="7225"/>
                </a:cubicBezTo>
                <a:lnTo>
                  <a:pt x="16052" y="1363"/>
                </a:lnTo>
                <a:cubicBezTo>
                  <a:pt x="14446" y="469"/>
                  <a:pt x="12638" y="-1"/>
                  <a:pt x="10799" y="0"/>
                </a:cubicBezTo>
                <a:cubicBezTo>
                  <a:pt x="8961" y="0"/>
                  <a:pt x="7153" y="469"/>
                  <a:pt x="5547" y="1363"/>
                </a:cubicBezTo>
                <a:lnTo>
                  <a:pt x="8810" y="7225"/>
                </a:lnTo>
                <a:close/>
              </a:path>
            </a:pathLst>
          </a:cu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 rot="3543600">
            <a:off x="1652760" y="1958400"/>
            <a:ext cx="5693040" cy="5630760"/>
          </a:xfrm>
          <a:custGeom>
            <a:avLst/>
            <a:gdLst>
              <a:gd name="textAreaLeft" fmla="*/ 931680 w 5693040"/>
              <a:gd name="textAreaRight" fmla="*/ 4761360 w 5693040"/>
              <a:gd name="textAreaTop" fmla="*/ 0 h 5630760"/>
              <a:gd name="textAreaBottom" fmla="*/ 2023560 h 5630760"/>
            </a:gdLst>
            <a:ahLst/>
            <a:rect l="textAreaLeft" t="textAreaTop" r="textAreaRight" b="textAreaBottom"/>
            <a:pathLst>
              <a:path w="21600" h="21600">
                <a:moveTo>
                  <a:pt x="8680" y="7285"/>
                </a:moveTo>
                <a:cubicBezTo>
                  <a:pt x="9320" y="6899"/>
                  <a:pt x="10052" y="6695"/>
                  <a:pt x="10800" y="6696"/>
                </a:cubicBezTo>
                <a:cubicBezTo>
                  <a:pt x="11547" y="6696"/>
                  <a:pt x="12279" y="6899"/>
                  <a:pt x="12919" y="7285"/>
                </a:cubicBezTo>
                <a:lnTo>
                  <a:pt x="16377" y="1551"/>
                </a:lnTo>
                <a:cubicBezTo>
                  <a:pt x="14694" y="536"/>
                  <a:pt x="12765" y="-1"/>
                  <a:pt x="10799" y="0"/>
                </a:cubicBezTo>
                <a:cubicBezTo>
                  <a:pt x="8834" y="0"/>
                  <a:pt x="6905" y="536"/>
                  <a:pt x="5222" y="1551"/>
                </a:cubicBezTo>
                <a:lnTo>
                  <a:pt x="8680" y="7285"/>
                </a:lnTo>
                <a:close/>
              </a:path>
            </a:pathLst>
          </a:cu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3441600" y="3675240"/>
            <a:ext cx="2075040" cy="2001600"/>
          </a:xfrm>
          <a:custGeom>
            <a:avLst/>
            <a:gdLst>
              <a:gd name="textAreaLeft" fmla="*/ 352080 w 2075040"/>
              <a:gd name="textAreaRight" fmla="*/ 1722960 w 2075040"/>
              <a:gd name="textAreaTop" fmla="*/ 0 h 2001600"/>
              <a:gd name="textAreaBottom" fmla="*/ 330120 h 200160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 rot="18061200">
            <a:off x="3364560" y="3724920"/>
            <a:ext cx="2098800" cy="1979640"/>
          </a:xfrm>
          <a:custGeom>
            <a:avLst/>
            <a:gdLst>
              <a:gd name="textAreaLeft" fmla="*/ 356040 w 2098800"/>
              <a:gd name="textAreaRight" fmla="*/ 1742760 w 2098800"/>
              <a:gd name="textAreaTop" fmla="*/ 0 h 1979640"/>
              <a:gd name="textAreaBottom" fmla="*/ 326520 h 197964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 rot="3532200">
            <a:off x="3516840" y="3744000"/>
            <a:ext cx="2095560" cy="1979640"/>
          </a:xfrm>
          <a:custGeom>
            <a:avLst/>
            <a:gdLst>
              <a:gd name="textAreaLeft" fmla="*/ 341640 w 2095560"/>
              <a:gd name="textAreaRight" fmla="*/ 1753920 w 2095560"/>
              <a:gd name="textAreaTop" fmla="*/ 0 h 1979640"/>
              <a:gd name="textAreaBottom" fmla="*/ 330480 h 1979640"/>
            </a:gdLst>
            <a:ahLst/>
            <a:rect l="textAreaLeft" t="textAreaTop" r="textAreaRight" b="textAreaBottom"/>
            <a:pathLst>
              <a:path w="21600" h="21600">
                <a:moveTo>
                  <a:pt x="5759" y="2470"/>
                </a:moveTo>
                <a:cubicBezTo>
                  <a:pt x="7279" y="1550"/>
                  <a:pt x="9022" y="1063"/>
                  <a:pt x="10800" y="1064"/>
                </a:cubicBezTo>
                <a:cubicBezTo>
                  <a:pt x="12577" y="1064"/>
                  <a:pt x="14320" y="1550"/>
                  <a:pt x="15840" y="2470"/>
                </a:cubicBezTo>
                <a:lnTo>
                  <a:pt x="16391" y="1560"/>
                </a:lnTo>
                <a:cubicBezTo>
                  <a:pt x="14705" y="539"/>
                  <a:pt x="12771" y="-1"/>
                  <a:pt x="10799" y="0"/>
                </a:cubicBezTo>
                <a:cubicBezTo>
                  <a:pt x="8828" y="0"/>
                  <a:pt x="6894" y="539"/>
                  <a:pt x="5208" y="1560"/>
                </a:cubicBezTo>
                <a:lnTo>
                  <a:pt x="5759" y="2470"/>
                </a:lnTo>
                <a:close/>
              </a:path>
            </a:pathLst>
          </a:cu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6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67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3193920" y="2865600"/>
            <a:ext cx="2968920" cy="60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谢谢观赏！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0" name="WordArt 5"/>
          <p:cNvSpPr txBox="1"/>
          <p:nvPr/>
        </p:nvSpPr>
        <p:spPr>
          <a:xfrm>
            <a:off x="3814920" y="3627360"/>
            <a:ext cx="183672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Thanks!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北京锐得幻演广告有限公司</dc:creator>
  <dc:description/>
  <dc:language>en-US</dc:language>
  <cp:lastModifiedBy>Administrator</cp:lastModifiedBy>
  <dcterms:modified xsi:type="dcterms:W3CDTF">2016-08-22T03:11:13Z</dcterms:modified>
  <cp:revision>130</cp:revision>
  <dc:subject/>
  <dc:title>锐得PPT模板</dc:title>
</cp:coreProperties>
</file>